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04920"/>
            <a:ext cx="8382240" cy="6022800"/>
            <a:chOff x="380880" y="304920"/>
            <a:chExt cx="8382240" cy="6022800"/>
          </a:xfrm>
        </p:grpSpPr>
        <p:grpSp>
          <p:nvGrpSpPr>
            <p:cNvPr id="2" name=""/>
            <p:cNvGrpSpPr/>
            <p:nvPr/>
          </p:nvGrpSpPr>
          <p:grpSpPr>
            <a:xfrm>
              <a:off x="380880" y="1600200"/>
              <a:ext cx="8382240" cy="4727520"/>
              <a:chOff x="380880" y="1600200"/>
              <a:chExt cx="8382240" cy="4727520"/>
            </a:xfrm>
          </p:grpSpPr>
          <p:sp>
            <p:nvSpPr>
              <p:cNvPr id="3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600200"/>
                <a:ext cx="8363160" cy="4724640"/>
              </a:xfrm>
              <a:custGeom>
                <a:avLst/>
                <a:gdLst/>
                <a:ahLst/>
                <a:rect l="0" t="0" r="r" b="b"/>
                <a:pathLst>
                  <a:path fill="none" w="23231" h="13124">
                    <a:moveTo>
                      <a:pt x="23231" y="0"/>
                    </a:moveTo>
                    <a:lnTo>
                      <a:pt x="0" y="0"/>
                    </a:lnTo>
                    <a:lnTo>
                      <a:pt x="0" y="13124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9960" y="1600200"/>
                <a:ext cx="8363160" cy="4724640"/>
              </a:xfrm>
              <a:custGeom>
                <a:avLst/>
                <a:gdLst/>
                <a:ahLst/>
                <a:rect l="0" t="0" r="r" b="b"/>
                <a:pathLst>
                  <a:path fill="none" w="23231" h="13124">
                    <a:moveTo>
                      <a:pt x="23231" y="0"/>
                    </a:moveTo>
                    <a:lnTo>
                      <a:pt x="23231" y="13124"/>
                    </a:lnTo>
                    <a:lnTo>
                      <a:pt x="0" y="1312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3520" y="1751040"/>
              <a:ext cx="152640" cy="4421160"/>
              <a:chOff x="533520" y="1751040"/>
              <a:chExt cx="152640" cy="4421160"/>
            </a:xfrm>
          </p:grpSpPr>
          <p:sp>
            <p:nvSpPr>
              <p:cNvPr id="7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2640" cy="4420080"/>
              </a:xfrm>
              <a:custGeom>
                <a:avLst/>
                <a:gdLst/>
                <a:ahLst/>
                <a:rect l="0" t="0" r="r" b="b"/>
                <a:pathLst>
                  <a:path fill="none" w="424" h="12278">
                    <a:moveTo>
                      <a:pt x="0" y="12278"/>
                    </a:moveTo>
                    <a:lnTo>
                      <a:pt x="424" y="12278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520" y="1751040"/>
                <a:ext cx="152640" cy="4420080"/>
              </a:xfrm>
              <a:custGeom>
                <a:avLst/>
                <a:gdLst/>
                <a:ahLst/>
                <a:rect l="0" t="0" r="r" b="b"/>
                <a:pathLst>
                  <a:path fill="none" w="424" h="12278">
                    <a:moveTo>
                      <a:pt x="0" y="12278"/>
                    </a:moveTo>
                    <a:lnTo>
                      <a:pt x="0" y="0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380880" y="304920"/>
              <a:ext cx="305280" cy="1143360"/>
              <a:chOff x="380880" y="304920"/>
              <a:chExt cx="305280" cy="1143360"/>
            </a:xfrm>
          </p:grpSpPr>
          <p:sp>
            <p:nvSpPr>
              <p:cNvPr id="11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5280" cy="1143360"/>
              </a:xfrm>
              <a:custGeom>
                <a:avLst/>
                <a:gdLst/>
                <a:ahLst/>
                <a:rect l="0" t="0" r="r" b="b"/>
                <a:pathLst>
                  <a:path fill="none" w="848" h="3176">
                    <a:moveTo>
                      <a:pt x="848" y="0"/>
                    </a:moveTo>
                    <a:lnTo>
                      <a:pt x="0" y="0"/>
                    </a:lnTo>
                    <a:lnTo>
                      <a:pt x="0" y="3176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80880" y="304920"/>
                <a:ext cx="305280" cy="1143360"/>
              </a:xfrm>
              <a:custGeom>
                <a:avLst/>
                <a:gdLst/>
                <a:ahLst/>
                <a:rect l="0" t="0" r="r" b="b"/>
                <a:pathLst>
                  <a:path fill="none" w="848" h="3176">
                    <a:moveTo>
                      <a:pt x="848" y="0"/>
                    </a:moveTo>
                    <a:lnTo>
                      <a:pt x="848" y="3176"/>
                    </a:lnTo>
                    <a:lnTo>
                      <a:pt x="0" y="317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8410680" y="610236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8440560" y="6396120"/>
            <a:ext cx="507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8000" y="1676520"/>
            <a:ext cx="8388360" cy="4419720"/>
            <a:chOff x="378000" y="1676520"/>
            <a:chExt cx="8388360" cy="4419720"/>
          </a:xfrm>
        </p:grpSpPr>
        <p:grpSp>
          <p:nvGrpSpPr>
            <p:cNvPr id="56" name=""/>
            <p:cNvGrpSpPr/>
            <p:nvPr/>
          </p:nvGrpSpPr>
          <p:grpSpPr>
            <a:xfrm>
              <a:off x="378000" y="1676520"/>
              <a:ext cx="8388360" cy="2210040"/>
              <a:chOff x="378000" y="1676520"/>
              <a:chExt cx="8388360" cy="2210040"/>
            </a:xfrm>
          </p:grpSpPr>
          <p:sp>
            <p:nvSpPr>
              <p:cNvPr id="57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8000" y="1676520"/>
                <a:ext cx="8369640" cy="2210040"/>
              </a:xfrm>
              <a:custGeom>
                <a:avLst/>
                <a:gdLst/>
                <a:ahLst/>
                <a:rect l="0" t="0" r="r" b="b"/>
                <a:pathLst>
                  <a:path fill="none" w="23249" h="6139">
                    <a:moveTo>
                      <a:pt x="23249" y="0"/>
                    </a:moveTo>
                    <a:lnTo>
                      <a:pt x="0" y="0"/>
                    </a:lnTo>
                    <a:lnTo>
                      <a:pt x="0" y="6139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96720" y="1676520"/>
                <a:ext cx="8369640" cy="2210040"/>
              </a:xfrm>
              <a:custGeom>
                <a:avLst/>
                <a:gdLst/>
                <a:ahLst/>
                <a:rect l="0" t="0" r="r" b="b"/>
                <a:pathLst>
                  <a:path fill="none" w="23249" h="6139">
                    <a:moveTo>
                      <a:pt x="23249" y="0"/>
                    </a:moveTo>
                    <a:lnTo>
                      <a:pt x="23249" y="6139"/>
                    </a:lnTo>
                    <a:lnTo>
                      <a:pt x="0" y="613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80880" y="5943600"/>
              <a:ext cx="8382240" cy="152640"/>
              <a:chOff x="380880" y="5943600"/>
              <a:chExt cx="8382240" cy="152640"/>
            </a:xfrm>
          </p:grpSpPr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188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2240" cy="152640"/>
              </a:xfrm>
              <a:custGeom>
                <a:avLst/>
                <a:gdLst/>
                <a:ahLst/>
                <a:rect l="0" t="0" r="r" b="b"/>
                <a:pathLst>
                  <a:path fill="none" w="23284" h="424">
                    <a:moveTo>
                      <a:pt x="23284" y="0"/>
                    </a:moveTo>
                    <a:lnTo>
                      <a:pt x="0" y="0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0880" y="5943600"/>
                <a:ext cx="8382240" cy="152640"/>
              </a:xfrm>
              <a:custGeom>
                <a:avLst/>
                <a:gdLst/>
                <a:ahLst/>
                <a:rect l="0" t="0" r="r" b="b"/>
                <a:pathLst>
                  <a:path fill="none" w="23284" h="424">
                    <a:moveTo>
                      <a:pt x="23284" y="0"/>
                    </a:moveTo>
                    <a:lnTo>
                      <a:pt x="23284" y="424"/>
                    </a:lnTo>
                    <a:lnTo>
                      <a:pt x="0" y="424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36400" y="1905120"/>
              <a:ext cx="152640" cy="1752480"/>
              <a:chOff x="536400" y="1905120"/>
              <a:chExt cx="152640" cy="1752480"/>
            </a:xfrm>
          </p:grpSpPr>
          <p:sp>
            <p:nvSpPr>
              <p:cNvPr id="65" name=""/>
              <p:cNvSpPr/>
              <p:nvPr/>
            </p:nvSpPr>
            <p:spPr>
              <a:xfrm>
                <a:off x="536400" y="1906560"/>
                <a:ext cx="152280" cy="175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2640" cy="1751400"/>
              </a:xfrm>
              <a:custGeom>
                <a:avLst/>
                <a:gdLst/>
                <a:ahLst/>
                <a:rect l="0" t="0" r="r" b="b"/>
                <a:pathLst>
                  <a:path fill="none" w="424" h="4865">
                    <a:moveTo>
                      <a:pt x="0" y="4865"/>
                    </a:moveTo>
                    <a:lnTo>
                      <a:pt x="424" y="4865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6400" y="1905120"/>
                <a:ext cx="152640" cy="1751400"/>
              </a:xfrm>
              <a:custGeom>
                <a:avLst/>
                <a:gdLst/>
                <a:ahLst/>
                <a:rect l="0" t="0" r="r" b="b"/>
                <a:pathLst>
                  <a:path fill="none" w="424" h="4865">
                    <a:moveTo>
                      <a:pt x="0" y="4865"/>
                    </a:moveTo>
                    <a:lnTo>
                      <a:pt x="0" y="0"/>
                    </a:lnTo>
                    <a:lnTo>
                      <a:pt x="42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664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Font Support in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4038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Pack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Comput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The X Font Servic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apping of X font requests to XFS requ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server is allowed to change list of fonts dynam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quests for managing font licen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Fonts in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Center Pro is just an NT display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driver receives entire font for each rendering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name and encoding are not known to the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Font Names in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Center Pro fonts are not in any regular en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Center Pro can’t identify the f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Center Pro generates unique but meaningless font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D-&lt;IP address&gt;-&lt;Session ID&gt;-&lt;Font I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Font Protocol for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Center Pro doesn’t use all of the X Font Service function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cen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Fonts always returns empty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ld card ma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XLFD parsing or ma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Center Pro does provide a completely conformant font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ng NT Fonts to X 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onts presented only at text renderi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rasterizes entire font into shared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font to separate X Font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Font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automatically adds itself to the X server font path on lo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automatically removes itself from the X server font path on log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ut checks to see if X server has other sessions on same NT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ti-Threaded Font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font server is multi-threa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hread receiving new fo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hread listening for new font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hread per font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 database split per N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ortion protected by mut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sessions protected by mut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from driver sending X OpenFont request to font server receiving XFS OpenBitmapFont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 rasterizatio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transmits the X OpenFont request before beginning font raste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encou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Servers Cache Closed Fo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Font Server must always b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Servers transmit OpenBitmapFont request in two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iece waits for ACK from font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delays ACK waiting for pay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by sending KeepAlive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text runs at full X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y for loading new fonts is acceptable, but occasionally notic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pecific font servers are simpler than regular X font ser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threaded server applications are easier to write than single-threaded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WinCenter P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i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914400" y="2971800"/>
            <a:ext cx="754380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8587"/>
              </a:spcBef>
              <a:spcAft>
                <a:spcPts val="24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th 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587"/>
              </a:spcBef>
              <a:spcAft>
                <a:spcPts val="24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or Software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587"/>
              </a:spcBef>
              <a:spcAft>
                <a:spcPts val="24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pu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587"/>
              </a:spcBef>
              <a:spcAft>
                <a:spcPts val="24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thp@nc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 Support in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is Multi-user 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from Microsoft is single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Frame from Citrix extends NT to support multiple users u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extends WinFrame to support X bas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nother source of applications to enterprise desktop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Display of NT a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T applications displayed on any X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s NT session within a single X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X protocol for low bandwidth consumption and high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in a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4480" y="3897360"/>
            <a:ext cx="0" cy="741240"/>
          </a:xfrm>
          <a:prstGeom prst="line">
            <a:avLst/>
          </a:prstGeom>
          <a:ln w="381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36560" y="4678200"/>
            <a:ext cx="1057320" cy="1363680"/>
            <a:chOff x="1636560" y="4678200"/>
            <a:chExt cx="1057320" cy="1363680"/>
          </a:xfrm>
        </p:grpSpPr>
        <p:sp>
          <p:nvSpPr>
            <p:cNvPr id="117" name=""/>
            <p:cNvSpPr/>
            <p:nvPr/>
          </p:nvSpPr>
          <p:spPr>
            <a:xfrm>
              <a:off x="2182680" y="4678200"/>
              <a:ext cx="0" cy="420840"/>
            </a:xfrm>
            <a:prstGeom prst="line">
              <a:avLst/>
            </a:prstGeom>
            <a:ln w="2556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636560" y="5086440"/>
              <a:ext cx="1057320" cy="955440"/>
              <a:chOff x="1636560" y="5086440"/>
              <a:chExt cx="1057320" cy="9554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636560" y="5678640"/>
                <a:ext cx="329400" cy="167040"/>
                <a:chOff x="1636560" y="5678640"/>
                <a:chExt cx="329400" cy="1670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841400" y="5686560"/>
                  <a:ext cx="98640" cy="25920"/>
                </a:xfrm>
                <a:custGeom>
                  <a:avLst/>
                  <a:gdLst/>
                  <a:ahLst/>
                  <a:rect l="0" t="0" r="r" b="b"/>
                  <a:pathLst>
                    <a:path w="274" h="72">
                      <a:moveTo>
                        <a:pt x="265" y="0"/>
                      </a:moveTo>
                      <a:lnTo>
                        <a:pt x="256" y="4"/>
                      </a:lnTo>
                      <a:lnTo>
                        <a:pt x="252" y="8"/>
                      </a:lnTo>
                      <a:lnTo>
                        <a:pt x="243" y="13"/>
                      </a:lnTo>
                      <a:lnTo>
                        <a:pt x="234" y="17"/>
                      </a:lnTo>
                      <a:lnTo>
                        <a:pt x="230" y="23"/>
                      </a:lnTo>
                      <a:lnTo>
                        <a:pt x="221" y="23"/>
                      </a:lnTo>
                      <a:lnTo>
                        <a:pt x="212" y="23"/>
                      </a:lnTo>
                      <a:lnTo>
                        <a:pt x="203" y="27"/>
                      </a:lnTo>
                      <a:lnTo>
                        <a:pt x="195" y="27"/>
                      </a:lnTo>
                      <a:lnTo>
                        <a:pt x="186" y="27"/>
                      </a:lnTo>
                      <a:lnTo>
                        <a:pt x="177" y="27"/>
                      </a:lnTo>
                      <a:lnTo>
                        <a:pt x="168" y="31"/>
                      </a:lnTo>
                      <a:lnTo>
                        <a:pt x="159" y="31"/>
                      </a:lnTo>
                      <a:lnTo>
                        <a:pt x="150" y="31"/>
                      </a:lnTo>
                      <a:lnTo>
                        <a:pt x="142" y="31"/>
                      </a:lnTo>
                      <a:lnTo>
                        <a:pt x="132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31"/>
                      </a:lnTo>
                      <a:lnTo>
                        <a:pt x="88" y="36"/>
                      </a:lnTo>
                      <a:lnTo>
                        <a:pt x="79" y="36"/>
                      </a:lnTo>
                      <a:lnTo>
                        <a:pt x="70" y="36"/>
                      </a:lnTo>
                      <a:lnTo>
                        <a:pt x="61" y="36"/>
                      </a:lnTo>
                      <a:lnTo>
                        <a:pt x="52" y="40"/>
                      </a:lnTo>
                      <a:lnTo>
                        <a:pt x="44" y="40"/>
                      </a:lnTo>
                      <a:lnTo>
                        <a:pt x="39" y="45"/>
                      </a:lnTo>
                      <a:lnTo>
                        <a:pt x="30" y="45"/>
                      </a:lnTo>
                      <a:lnTo>
                        <a:pt x="22" y="49"/>
                      </a:lnTo>
                      <a:lnTo>
                        <a:pt x="13" y="53"/>
                      </a:lnTo>
                      <a:lnTo>
                        <a:pt x="8" y="59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4" y="6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8" y="72"/>
                      </a:lnTo>
                      <a:lnTo>
                        <a:pt x="8" y="72"/>
                      </a:lnTo>
                      <a:lnTo>
                        <a:pt x="17" y="68"/>
                      </a:lnTo>
                      <a:lnTo>
                        <a:pt x="22" y="63"/>
                      </a:lnTo>
                      <a:lnTo>
                        <a:pt x="30" y="59"/>
                      </a:lnTo>
                      <a:lnTo>
                        <a:pt x="39" y="53"/>
                      </a:lnTo>
                      <a:lnTo>
                        <a:pt x="48" y="53"/>
                      </a:lnTo>
                      <a:lnTo>
                        <a:pt x="57" y="49"/>
                      </a:lnTo>
                      <a:lnTo>
                        <a:pt x="61" y="49"/>
                      </a:lnTo>
                      <a:lnTo>
                        <a:pt x="70" y="45"/>
                      </a:lnTo>
                      <a:lnTo>
                        <a:pt x="79" y="45"/>
                      </a:lnTo>
                      <a:lnTo>
                        <a:pt x="88" y="45"/>
                      </a:lnTo>
                      <a:lnTo>
                        <a:pt x="97" y="45"/>
                      </a:lnTo>
                      <a:lnTo>
                        <a:pt x="105" y="45"/>
                      </a:lnTo>
                      <a:lnTo>
                        <a:pt x="114" y="45"/>
                      </a:lnTo>
                      <a:lnTo>
                        <a:pt x="123" y="40"/>
                      </a:lnTo>
                      <a:lnTo>
                        <a:pt x="132" y="40"/>
                      </a:lnTo>
                      <a:lnTo>
                        <a:pt x="142" y="40"/>
                      </a:lnTo>
                      <a:lnTo>
                        <a:pt x="150" y="40"/>
                      </a:lnTo>
                      <a:lnTo>
                        <a:pt x="159" y="40"/>
                      </a:lnTo>
                      <a:lnTo>
                        <a:pt x="168" y="40"/>
                      </a:lnTo>
                      <a:lnTo>
                        <a:pt x="177" y="40"/>
                      </a:lnTo>
                      <a:lnTo>
                        <a:pt x="186" y="40"/>
                      </a:lnTo>
                      <a:lnTo>
                        <a:pt x="195" y="36"/>
                      </a:lnTo>
                      <a:lnTo>
                        <a:pt x="203" y="36"/>
                      </a:lnTo>
                      <a:lnTo>
                        <a:pt x="212" y="36"/>
                      </a:lnTo>
                      <a:lnTo>
                        <a:pt x="221" y="36"/>
                      </a:lnTo>
                      <a:lnTo>
                        <a:pt x="230" y="31"/>
                      </a:lnTo>
                      <a:lnTo>
                        <a:pt x="234" y="27"/>
                      </a:lnTo>
                      <a:lnTo>
                        <a:pt x="243" y="27"/>
                      </a:lnTo>
                      <a:lnTo>
                        <a:pt x="252" y="23"/>
                      </a:lnTo>
                      <a:lnTo>
                        <a:pt x="261" y="17"/>
                      </a:lnTo>
                      <a:lnTo>
                        <a:pt x="269" y="13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69" y="8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65" y="4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841400" y="568656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8" y="67"/>
                      </a:lnTo>
                      <a:lnTo>
                        <a:pt x="13" y="61"/>
                      </a:lnTo>
                      <a:lnTo>
                        <a:pt x="22" y="56"/>
                      </a:lnTo>
                      <a:lnTo>
                        <a:pt x="30" y="49"/>
                      </a:lnTo>
                      <a:lnTo>
                        <a:pt x="35" y="49"/>
                      </a:lnTo>
                      <a:lnTo>
                        <a:pt x="44" y="44"/>
                      </a:lnTo>
                      <a:lnTo>
                        <a:pt x="52" y="44"/>
                      </a:lnTo>
                      <a:lnTo>
                        <a:pt x="61" y="38"/>
                      </a:lnTo>
                      <a:lnTo>
                        <a:pt x="70" y="38"/>
                      </a:lnTo>
                      <a:lnTo>
                        <a:pt x="79" y="38"/>
                      </a:lnTo>
                      <a:lnTo>
                        <a:pt x="83" y="38"/>
                      </a:lnTo>
                      <a:lnTo>
                        <a:pt x="97" y="38"/>
                      </a:lnTo>
                      <a:lnTo>
                        <a:pt x="101" y="38"/>
                      </a:lnTo>
                      <a:lnTo>
                        <a:pt x="114" y="33"/>
                      </a:lnTo>
                      <a:lnTo>
                        <a:pt x="119" y="33"/>
                      </a:lnTo>
                      <a:lnTo>
                        <a:pt x="133" y="33"/>
                      </a:lnTo>
                      <a:lnTo>
                        <a:pt x="137" y="33"/>
                      </a:lnTo>
                      <a:lnTo>
                        <a:pt x="146" y="33"/>
                      </a:lnTo>
                      <a:lnTo>
                        <a:pt x="155" y="33"/>
                      </a:lnTo>
                      <a:lnTo>
                        <a:pt x="164" y="33"/>
                      </a:lnTo>
                      <a:lnTo>
                        <a:pt x="172" y="33"/>
                      </a:lnTo>
                      <a:lnTo>
                        <a:pt x="181" y="33"/>
                      </a:lnTo>
                      <a:lnTo>
                        <a:pt x="190" y="33"/>
                      </a:lnTo>
                      <a:lnTo>
                        <a:pt x="199" y="28"/>
                      </a:lnTo>
                      <a:lnTo>
                        <a:pt x="208" y="28"/>
                      </a:lnTo>
                      <a:lnTo>
                        <a:pt x="212" y="28"/>
                      </a:lnTo>
                      <a:lnTo>
                        <a:pt x="225" y="22"/>
                      </a:lnTo>
                      <a:lnTo>
                        <a:pt x="230" y="22"/>
                      </a:lnTo>
                      <a:lnTo>
                        <a:pt x="239" y="16"/>
                      </a:lnTo>
                      <a:lnTo>
                        <a:pt x="243" y="10"/>
                      </a:lnTo>
                      <a:lnTo>
                        <a:pt x="252" y="5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52" y="5"/>
                      </a:lnTo>
                      <a:lnTo>
                        <a:pt x="243" y="10"/>
                      </a:lnTo>
                      <a:lnTo>
                        <a:pt x="239" y="16"/>
                      </a:lnTo>
                      <a:lnTo>
                        <a:pt x="230" y="22"/>
                      </a:lnTo>
                      <a:lnTo>
                        <a:pt x="225" y="22"/>
                      </a:lnTo>
                      <a:lnTo>
                        <a:pt x="217" y="28"/>
                      </a:lnTo>
                      <a:lnTo>
                        <a:pt x="208" y="28"/>
                      </a:lnTo>
                      <a:lnTo>
                        <a:pt x="199" y="33"/>
                      </a:lnTo>
                      <a:lnTo>
                        <a:pt x="190" y="33"/>
                      </a:lnTo>
                      <a:lnTo>
                        <a:pt x="181" y="33"/>
                      </a:lnTo>
                      <a:lnTo>
                        <a:pt x="172" y="33"/>
                      </a:lnTo>
                      <a:lnTo>
                        <a:pt x="164" y="33"/>
                      </a:lnTo>
                      <a:lnTo>
                        <a:pt x="155" y="33"/>
                      </a:lnTo>
                      <a:lnTo>
                        <a:pt x="146" y="33"/>
                      </a:lnTo>
                      <a:lnTo>
                        <a:pt x="137" y="38"/>
                      </a:lnTo>
                      <a:lnTo>
                        <a:pt x="133" y="38"/>
                      </a:lnTo>
                      <a:lnTo>
                        <a:pt x="119" y="38"/>
                      </a:lnTo>
                      <a:lnTo>
                        <a:pt x="114" y="38"/>
                      </a:lnTo>
                      <a:lnTo>
                        <a:pt x="101" y="38"/>
                      </a:lnTo>
                      <a:lnTo>
                        <a:pt x="97" y="38"/>
                      </a:lnTo>
                      <a:lnTo>
                        <a:pt x="83" y="38"/>
                      </a:lnTo>
                      <a:lnTo>
                        <a:pt x="79" y="38"/>
                      </a:lnTo>
                      <a:lnTo>
                        <a:pt x="70" y="38"/>
                      </a:lnTo>
                      <a:lnTo>
                        <a:pt x="61" y="44"/>
                      </a:lnTo>
                      <a:lnTo>
                        <a:pt x="52" y="44"/>
                      </a:lnTo>
                      <a:lnTo>
                        <a:pt x="44" y="44"/>
                      </a:lnTo>
                      <a:lnTo>
                        <a:pt x="35" y="49"/>
                      </a:lnTo>
                      <a:lnTo>
                        <a:pt x="30" y="49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8" y="6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836720" y="5711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48" y="72"/>
                      </a:lnTo>
                      <a:lnTo>
                        <a:pt x="48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36"/>
                      </a:lnTo>
                      <a:lnTo>
                        <a:pt x="48" y="36"/>
                      </a:lnTo>
                      <a:lnTo>
                        <a:pt x="48" y="36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44640" y="5692680"/>
                  <a:ext cx="95760" cy="25920"/>
                </a:xfrm>
                <a:custGeom>
                  <a:avLst/>
                  <a:gdLst/>
                  <a:ahLst/>
                  <a:rect l="0" t="0" r="r" b="b"/>
                  <a:pathLst>
                    <a:path w="266" h="72">
                      <a:moveTo>
                        <a:pt x="266" y="0"/>
                      </a:moveTo>
                      <a:lnTo>
                        <a:pt x="266" y="0"/>
                      </a:lnTo>
                      <a:lnTo>
                        <a:pt x="262" y="5"/>
                      </a:lnTo>
                      <a:lnTo>
                        <a:pt x="253" y="11"/>
                      </a:lnTo>
                      <a:lnTo>
                        <a:pt x="244" y="17"/>
                      </a:lnTo>
                      <a:lnTo>
                        <a:pt x="235" y="17"/>
                      </a:lnTo>
                      <a:lnTo>
                        <a:pt x="231" y="24"/>
                      </a:lnTo>
                      <a:lnTo>
                        <a:pt x="222" y="24"/>
                      </a:lnTo>
                      <a:lnTo>
                        <a:pt x="213" y="30"/>
                      </a:lnTo>
                      <a:lnTo>
                        <a:pt x="204" y="30"/>
                      </a:lnTo>
                      <a:lnTo>
                        <a:pt x="195" y="30"/>
                      </a:lnTo>
                      <a:lnTo>
                        <a:pt x="186" y="36"/>
                      </a:lnTo>
                      <a:lnTo>
                        <a:pt x="177" y="36"/>
                      </a:lnTo>
                      <a:lnTo>
                        <a:pt x="168" y="36"/>
                      </a:lnTo>
                      <a:lnTo>
                        <a:pt x="159" y="36"/>
                      </a:lnTo>
                      <a:lnTo>
                        <a:pt x="150" y="36"/>
                      </a:lnTo>
                      <a:lnTo>
                        <a:pt x="142" y="36"/>
                      </a:lnTo>
                      <a:lnTo>
                        <a:pt x="133" y="36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06" y="36"/>
                      </a:lnTo>
                      <a:lnTo>
                        <a:pt x="98" y="36"/>
                      </a:lnTo>
                      <a:lnTo>
                        <a:pt x="89" y="42"/>
                      </a:lnTo>
                      <a:lnTo>
                        <a:pt x="80" y="42"/>
                      </a:lnTo>
                      <a:lnTo>
                        <a:pt x="71" y="42"/>
                      </a:lnTo>
                      <a:lnTo>
                        <a:pt x="61" y="42"/>
                      </a:lnTo>
                      <a:lnTo>
                        <a:pt x="52" y="42"/>
                      </a:lnTo>
                      <a:lnTo>
                        <a:pt x="44" y="48"/>
                      </a:lnTo>
                      <a:lnTo>
                        <a:pt x="39" y="48"/>
                      </a:lnTo>
                      <a:lnTo>
                        <a:pt x="30" y="53"/>
                      </a:lnTo>
                      <a:lnTo>
                        <a:pt x="22" y="60"/>
                      </a:lnTo>
                      <a:lnTo>
                        <a:pt x="13" y="60"/>
                      </a:lnTo>
                      <a:lnTo>
                        <a:pt x="8" y="66"/>
                      </a:lnTo>
                      <a:lnTo>
                        <a:pt x="0" y="72"/>
                      </a:lnTo>
                      <a:lnTo>
                        <a:pt x="4" y="66"/>
                      </a:lnTo>
                      <a:lnTo>
                        <a:pt x="13" y="60"/>
                      </a:lnTo>
                      <a:lnTo>
                        <a:pt x="22" y="53"/>
                      </a:lnTo>
                      <a:lnTo>
                        <a:pt x="30" y="53"/>
                      </a:lnTo>
                      <a:lnTo>
                        <a:pt x="39" y="48"/>
                      </a:lnTo>
                      <a:lnTo>
                        <a:pt x="44" y="48"/>
                      </a:lnTo>
                      <a:lnTo>
                        <a:pt x="52" y="42"/>
                      </a:lnTo>
                      <a:lnTo>
                        <a:pt x="61" y="42"/>
                      </a:lnTo>
                      <a:lnTo>
                        <a:pt x="71" y="42"/>
                      </a:lnTo>
                      <a:lnTo>
                        <a:pt x="80" y="36"/>
                      </a:lnTo>
                      <a:lnTo>
                        <a:pt x="89" y="36"/>
                      </a:lnTo>
                      <a:lnTo>
                        <a:pt x="98" y="36"/>
                      </a:lnTo>
                      <a:lnTo>
                        <a:pt x="106" y="36"/>
                      </a:lnTo>
                      <a:lnTo>
                        <a:pt x="115" y="36"/>
                      </a:lnTo>
                      <a:lnTo>
                        <a:pt x="124" y="36"/>
                      </a:lnTo>
                      <a:lnTo>
                        <a:pt x="133" y="3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59" y="36"/>
                      </a:lnTo>
                      <a:lnTo>
                        <a:pt x="168" y="36"/>
                      </a:lnTo>
                      <a:lnTo>
                        <a:pt x="177" y="30"/>
                      </a:lnTo>
                      <a:lnTo>
                        <a:pt x="186" y="30"/>
                      </a:lnTo>
                      <a:lnTo>
                        <a:pt x="195" y="30"/>
                      </a:lnTo>
                      <a:lnTo>
                        <a:pt x="204" y="30"/>
                      </a:lnTo>
                      <a:lnTo>
                        <a:pt x="213" y="30"/>
                      </a:lnTo>
                      <a:lnTo>
                        <a:pt x="222" y="24"/>
                      </a:lnTo>
                      <a:lnTo>
                        <a:pt x="226" y="24"/>
                      </a:lnTo>
                      <a:lnTo>
                        <a:pt x="235" y="17"/>
                      </a:lnTo>
                      <a:lnTo>
                        <a:pt x="244" y="11"/>
                      </a:lnTo>
                      <a:lnTo>
                        <a:pt x="253" y="11"/>
                      </a:lnTo>
                      <a:lnTo>
                        <a:pt x="257" y="5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40040" y="568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641600" y="5678640"/>
                  <a:ext cx="225720" cy="141480"/>
                </a:xfrm>
                <a:custGeom>
                  <a:avLst/>
                  <a:gdLst/>
                  <a:ahLst/>
                  <a:rect l="0" t="0" r="r" b="b"/>
                  <a:pathLst>
                    <a:path w="627" h="393">
                      <a:moveTo>
                        <a:pt x="622" y="189"/>
                      </a:moveTo>
                      <a:lnTo>
                        <a:pt x="224" y="389"/>
                      </a:lnTo>
                      <a:lnTo>
                        <a:pt x="224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16" y="393"/>
                      </a:lnTo>
                      <a:lnTo>
                        <a:pt x="216" y="393"/>
                      </a:lnTo>
                      <a:lnTo>
                        <a:pt x="211" y="393"/>
                      </a:lnTo>
                      <a:lnTo>
                        <a:pt x="211" y="393"/>
                      </a:lnTo>
                      <a:lnTo>
                        <a:pt x="207" y="393"/>
                      </a:lnTo>
                      <a:lnTo>
                        <a:pt x="207" y="393"/>
                      </a:lnTo>
                      <a:lnTo>
                        <a:pt x="202" y="393"/>
                      </a:lnTo>
                      <a:lnTo>
                        <a:pt x="202" y="393"/>
                      </a:lnTo>
                      <a:lnTo>
                        <a:pt x="198" y="393"/>
                      </a:lnTo>
                      <a:lnTo>
                        <a:pt x="198" y="389"/>
                      </a:lnTo>
                      <a:lnTo>
                        <a:pt x="4" y="217"/>
                      </a:lnTo>
                      <a:lnTo>
                        <a:pt x="0" y="203"/>
                      </a:lnTo>
                      <a:lnTo>
                        <a:pt x="13" y="132"/>
                      </a:lnTo>
                      <a:lnTo>
                        <a:pt x="44" y="97"/>
                      </a:lnTo>
                      <a:lnTo>
                        <a:pt x="233" y="22"/>
                      </a:lnTo>
                      <a:lnTo>
                        <a:pt x="238" y="22"/>
                      </a:lnTo>
                      <a:lnTo>
                        <a:pt x="242" y="22"/>
                      </a:lnTo>
                      <a:lnTo>
                        <a:pt x="251" y="22"/>
                      </a:lnTo>
                      <a:lnTo>
                        <a:pt x="251" y="22"/>
                      </a:lnTo>
                      <a:lnTo>
                        <a:pt x="260" y="22"/>
                      </a:lnTo>
                      <a:lnTo>
                        <a:pt x="264" y="22"/>
                      </a:lnTo>
                      <a:lnTo>
                        <a:pt x="268" y="22"/>
                      </a:lnTo>
                      <a:lnTo>
                        <a:pt x="277" y="22"/>
                      </a:lnTo>
                      <a:lnTo>
                        <a:pt x="282" y="22"/>
                      </a:lnTo>
                      <a:lnTo>
                        <a:pt x="286" y="22"/>
                      </a:lnTo>
                      <a:lnTo>
                        <a:pt x="291" y="17"/>
                      </a:lnTo>
                      <a:lnTo>
                        <a:pt x="299" y="17"/>
                      </a:lnTo>
                      <a:lnTo>
                        <a:pt x="304" y="17"/>
                      </a:lnTo>
                      <a:lnTo>
                        <a:pt x="308" y="17"/>
                      </a:lnTo>
                      <a:lnTo>
                        <a:pt x="314" y="17"/>
                      </a:lnTo>
                      <a:lnTo>
                        <a:pt x="318" y="13"/>
                      </a:lnTo>
                      <a:lnTo>
                        <a:pt x="327" y="13"/>
                      </a:lnTo>
                      <a:lnTo>
                        <a:pt x="331" y="13"/>
                      </a:lnTo>
                      <a:lnTo>
                        <a:pt x="336" y="13"/>
                      </a:lnTo>
                      <a:lnTo>
                        <a:pt x="344" y="13"/>
                      </a:lnTo>
                      <a:lnTo>
                        <a:pt x="349" y="8"/>
                      </a:lnTo>
                      <a:lnTo>
                        <a:pt x="353" y="8"/>
                      </a:lnTo>
                      <a:lnTo>
                        <a:pt x="358" y="8"/>
                      </a:lnTo>
                      <a:lnTo>
                        <a:pt x="362" y="8"/>
                      </a:lnTo>
                      <a:lnTo>
                        <a:pt x="371" y="4"/>
                      </a:lnTo>
                      <a:lnTo>
                        <a:pt x="375" y="4"/>
                      </a:lnTo>
                      <a:lnTo>
                        <a:pt x="380" y="4"/>
                      </a:lnTo>
                      <a:lnTo>
                        <a:pt x="384" y="4"/>
                      </a:lnTo>
                      <a:lnTo>
                        <a:pt x="389" y="0"/>
                      </a:lnTo>
                      <a:lnTo>
                        <a:pt x="397" y="0"/>
                      </a:lnTo>
                      <a:lnTo>
                        <a:pt x="402" y="0"/>
                      </a:lnTo>
                      <a:lnTo>
                        <a:pt x="406" y="0"/>
                      </a:lnTo>
                      <a:lnTo>
                        <a:pt x="600" y="132"/>
                      </a:lnTo>
                      <a:lnTo>
                        <a:pt x="622" y="154"/>
                      </a:lnTo>
                      <a:lnTo>
                        <a:pt x="627" y="176"/>
                      </a:lnTo>
                      <a:lnTo>
                        <a:pt x="622" y="189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725480" y="574992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716120" y="5819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644480" y="576108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36560" y="575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639800" y="5727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64772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57440" y="568800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728720" y="567864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792440" y="567864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66960" y="572760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66960" y="5737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66960" y="57420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41600" y="5746680"/>
                  <a:ext cx="225720" cy="73440"/>
                </a:xfrm>
                <a:custGeom>
                  <a:avLst/>
                  <a:gdLst/>
                  <a:ahLst/>
                  <a:rect l="0" t="0" r="r" b="b"/>
                  <a:pathLst>
                    <a:path w="627" h="204">
                      <a:moveTo>
                        <a:pt x="0" y="26"/>
                      </a:moveTo>
                      <a:lnTo>
                        <a:pt x="198" y="187"/>
                      </a:lnTo>
                      <a:lnTo>
                        <a:pt x="202" y="187"/>
                      </a:lnTo>
                      <a:lnTo>
                        <a:pt x="202" y="191"/>
                      </a:lnTo>
                      <a:lnTo>
                        <a:pt x="202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11" y="191"/>
                      </a:lnTo>
                      <a:lnTo>
                        <a:pt x="211" y="191"/>
                      </a:lnTo>
                      <a:lnTo>
                        <a:pt x="216" y="191"/>
                      </a:lnTo>
                      <a:lnTo>
                        <a:pt x="216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4" y="187"/>
                      </a:lnTo>
                      <a:lnTo>
                        <a:pt x="224" y="187"/>
                      </a:lnTo>
                      <a:lnTo>
                        <a:pt x="627" y="0"/>
                      </a:lnTo>
                      <a:lnTo>
                        <a:pt x="622" y="13"/>
                      </a:lnTo>
                      <a:lnTo>
                        <a:pt x="224" y="200"/>
                      </a:lnTo>
                      <a:lnTo>
                        <a:pt x="224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16" y="204"/>
                      </a:lnTo>
                      <a:lnTo>
                        <a:pt x="216" y="204"/>
                      </a:lnTo>
                      <a:lnTo>
                        <a:pt x="211" y="204"/>
                      </a:lnTo>
                      <a:lnTo>
                        <a:pt x="211" y="204"/>
                      </a:lnTo>
                      <a:lnTo>
                        <a:pt x="207" y="204"/>
                      </a:lnTo>
                      <a:lnTo>
                        <a:pt x="207" y="204"/>
                      </a:lnTo>
                      <a:lnTo>
                        <a:pt x="202" y="204"/>
                      </a:lnTo>
                      <a:lnTo>
                        <a:pt x="202" y="204"/>
                      </a:lnTo>
                      <a:lnTo>
                        <a:pt x="198" y="204"/>
                      </a:lnTo>
                      <a:lnTo>
                        <a:pt x="198" y="200"/>
                      </a:lnTo>
                      <a:lnTo>
                        <a:pt x="4" y="39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641600" y="5756400"/>
                  <a:ext cx="66960" cy="57600"/>
                </a:xfrm>
                <a:custGeom>
                  <a:avLst/>
                  <a:gdLst/>
                  <a:ahLst/>
                  <a:rect l="0" t="0" r="r" b="b"/>
                  <a:pathLst>
                    <a:path w="186" h="160">
                      <a:moveTo>
                        <a:pt x="186" y="160"/>
                      </a:moveTo>
                      <a:lnTo>
                        <a:pt x="186" y="160"/>
                      </a:lnTo>
                      <a:lnTo>
                        <a:pt x="0" y="0"/>
                      </a:lnTo>
                      <a:lnTo>
                        <a:pt x="18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16120" y="5815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27280" y="5746680"/>
                  <a:ext cx="140040" cy="66960"/>
                </a:xfrm>
                <a:custGeom>
                  <a:avLst/>
                  <a:gdLst/>
                  <a:ahLst/>
                  <a:rect l="0" t="0" r="r" b="b"/>
                  <a:pathLst>
                    <a:path w="389" h="186">
                      <a:moveTo>
                        <a:pt x="389" y="0"/>
                      </a:moveTo>
                      <a:lnTo>
                        <a:pt x="389" y="0"/>
                      </a:lnTo>
                      <a:lnTo>
                        <a:pt x="0" y="186"/>
                      </a:lnTo>
                      <a:lnTo>
                        <a:pt x="3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66960" y="57420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25480" y="574992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16120" y="5819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644480" y="5762520"/>
                  <a:ext cx="62280" cy="57600"/>
                </a:xfrm>
                <a:custGeom>
                  <a:avLst/>
                  <a:gdLst/>
                  <a:ahLst/>
                  <a:rect l="0" t="0" r="r" b="b"/>
                  <a:pathLst>
                    <a:path w="173" h="16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0"/>
                      </a:lnTo>
                      <a:lnTo>
                        <a:pt x="173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636560" y="575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7720" y="5716440"/>
                  <a:ext cx="219600" cy="68760"/>
                </a:xfrm>
                <a:custGeom>
                  <a:avLst/>
                  <a:gdLst/>
                  <a:ahLst/>
                  <a:rect l="0" t="0" r="r" b="b"/>
                  <a:pathLst>
                    <a:path w="610" h="191">
                      <a:moveTo>
                        <a:pt x="610" y="53"/>
                      </a:moveTo>
                      <a:lnTo>
                        <a:pt x="217" y="191"/>
                      </a:lnTo>
                      <a:lnTo>
                        <a:pt x="212" y="191"/>
                      </a:lnTo>
                      <a:lnTo>
                        <a:pt x="212" y="191"/>
                      </a:lnTo>
                      <a:lnTo>
                        <a:pt x="208" y="191"/>
                      </a:lnTo>
                      <a:lnTo>
                        <a:pt x="208" y="191"/>
                      </a:lnTo>
                      <a:lnTo>
                        <a:pt x="203" y="191"/>
                      </a:lnTo>
                      <a:lnTo>
                        <a:pt x="203" y="191"/>
                      </a:lnTo>
                      <a:lnTo>
                        <a:pt x="199" y="191"/>
                      </a:lnTo>
                      <a:lnTo>
                        <a:pt x="0" y="30"/>
                      </a:lnTo>
                      <a:lnTo>
                        <a:pt x="30" y="0"/>
                      </a:lnTo>
                      <a:lnTo>
                        <a:pt x="221" y="142"/>
                      </a:lnTo>
                      <a:lnTo>
                        <a:pt x="411" y="67"/>
                      </a:lnTo>
                      <a:lnTo>
                        <a:pt x="415" y="67"/>
                      </a:lnTo>
                      <a:lnTo>
                        <a:pt x="419" y="67"/>
                      </a:lnTo>
                      <a:lnTo>
                        <a:pt x="428" y="67"/>
                      </a:lnTo>
                      <a:lnTo>
                        <a:pt x="433" y="62"/>
                      </a:lnTo>
                      <a:lnTo>
                        <a:pt x="441" y="62"/>
                      </a:lnTo>
                      <a:lnTo>
                        <a:pt x="446" y="62"/>
                      </a:lnTo>
                      <a:lnTo>
                        <a:pt x="450" y="62"/>
                      </a:lnTo>
                      <a:lnTo>
                        <a:pt x="455" y="62"/>
                      </a:lnTo>
                      <a:lnTo>
                        <a:pt x="460" y="62"/>
                      </a:lnTo>
                      <a:lnTo>
                        <a:pt x="469" y="62"/>
                      </a:lnTo>
                      <a:lnTo>
                        <a:pt x="473" y="58"/>
                      </a:lnTo>
                      <a:lnTo>
                        <a:pt x="478" y="58"/>
                      </a:lnTo>
                      <a:lnTo>
                        <a:pt x="482" y="58"/>
                      </a:lnTo>
                      <a:lnTo>
                        <a:pt x="491" y="53"/>
                      </a:lnTo>
                      <a:lnTo>
                        <a:pt x="495" y="53"/>
                      </a:lnTo>
                      <a:lnTo>
                        <a:pt x="500" y="53"/>
                      </a:lnTo>
                      <a:lnTo>
                        <a:pt x="509" y="49"/>
                      </a:lnTo>
                      <a:lnTo>
                        <a:pt x="513" y="49"/>
                      </a:lnTo>
                      <a:lnTo>
                        <a:pt x="517" y="49"/>
                      </a:lnTo>
                      <a:lnTo>
                        <a:pt x="522" y="49"/>
                      </a:lnTo>
                      <a:lnTo>
                        <a:pt x="531" y="49"/>
                      </a:lnTo>
                      <a:lnTo>
                        <a:pt x="535" y="44"/>
                      </a:lnTo>
                      <a:lnTo>
                        <a:pt x="539" y="44"/>
                      </a:lnTo>
                      <a:lnTo>
                        <a:pt x="544" y="44"/>
                      </a:lnTo>
                      <a:lnTo>
                        <a:pt x="548" y="39"/>
                      </a:lnTo>
                      <a:lnTo>
                        <a:pt x="557" y="39"/>
                      </a:lnTo>
                      <a:lnTo>
                        <a:pt x="562" y="39"/>
                      </a:lnTo>
                      <a:lnTo>
                        <a:pt x="566" y="39"/>
                      </a:lnTo>
                      <a:lnTo>
                        <a:pt x="575" y="35"/>
                      </a:lnTo>
                      <a:lnTo>
                        <a:pt x="579" y="35"/>
                      </a:lnTo>
                      <a:lnTo>
                        <a:pt x="584" y="35"/>
                      </a:lnTo>
                      <a:lnTo>
                        <a:pt x="588" y="30"/>
                      </a:lnTo>
                      <a:lnTo>
                        <a:pt x="610" y="5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7440" y="5678640"/>
                  <a:ext cx="200520" cy="87840"/>
                </a:xfrm>
                <a:custGeom>
                  <a:avLst/>
                  <a:gdLst/>
                  <a:ahLst/>
                  <a:rect l="0" t="0" r="r" b="b"/>
                  <a:pathLst>
                    <a:path w="557" h="244">
                      <a:moveTo>
                        <a:pt x="0" y="98"/>
                      </a:moveTo>
                      <a:lnTo>
                        <a:pt x="190" y="244"/>
                      </a:lnTo>
                      <a:lnTo>
                        <a:pt x="380" y="164"/>
                      </a:lnTo>
                      <a:lnTo>
                        <a:pt x="384" y="164"/>
                      </a:lnTo>
                      <a:lnTo>
                        <a:pt x="389" y="164"/>
                      </a:lnTo>
                      <a:lnTo>
                        <a:pt x="397" y="164"/>
                      </a:lnTo>
                      <a:lnTo>
                        <a:pt x="402" y="164"/>
                      </a:lnTo>
                      <a:lnTo>
                        <a:pt x="406" y="164"/>
                      </a:lnTo>
                      <a:lnTo>
                        <a:pt x="411" y="164"/>
                      </a:lnTo>
                      <a:lnTo>
                        <a:pt x="420" y="159"/>
                      </a:lnTo>
                      <a:lnTo>
                        <a:pt x="425" y="159"/>
                      </a:lnTo>
                      <a:lnTo>
                        <a:pt x="429" y="159"/>
                      </a:lnTo>
                      <a:lnTo>
                        <a:pt x="438" y="159"/>
                      </a:lnTo>
                      <a:lnTo>
                        <a:pt x="442" y="155"/>
                      </a:lnTo>
                      <a:lnTo>
                        <a:pt x="447" y="155"/>
                      </a:lnTo>
                      <a:lnTo>
                        <a:pt x="451" y="155"/>
                      </a:lnTo>
                      <a:lnTo>
                        <a:pt x="460" y="155"/>
                      </a:lnTo>
                      <a:lnTo>
                        <a:pt x="465" y="150"/>
                      </a:lnTo>
                      <a:lnTo>
                        <a:pt x="469" y="150"/>
                      </a:lnTo>
                      <a:lnTo>
                        <a:pt x="473" y="150"/>
                      </a:lnTo>
                      <a:lnTo>
                        <a:pt x="482" y="146"/>
                      </a:lnTo>
                      <a:lnTo>
                        <a:pt x="487" y="146"/>
                      </a:lnTo>
                      <a:lnTo>
                        <a:pt x="491" y="146"/>
                      </a:lnTo>
                      <a:lnTo>
                        <a:pt x="500" y="146"/>
                      </a:lnTo>
                      <a:lnTo>
                        <a:pt x="504" y="142"/>
                      </a:lnTo>
                      <a:lnTo>
                        <a:pt x="509" y="142"/>
                      </a:lnTo>
                      <a:lnTo>
                        <a:pt x="513" y="142"/>
                      </a:lnTo>
                      <a:lnTo>
                        <a:pt x="522" y="137"/>
                      </a:lnTo>
                      <a:lnTo>
                        <a:pt x="526" y="137"/>
                      </a:lnTo>
                      <a:lnTo>
                        <a:pt x="531" y="137"/>
                      </a:lnTo>
                      <a:lnTo>
                        <a:pt x="535" y="133"/>
                      </a:lnTo>
                      <a:lnTo>
                        <a:pt x="539" y="133"/>
                      </a:lnTo>
                      <a:lnTo>
                        <a:pt x="548" y="128"/>
                      </a:lnTo>
                      <a:lnTo>
                        <a:pt x="553" y="128"/>
                      </a:lnTo>
                      <a:lnTo>
                        <a:pt x="557" y="128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3" y="0"/>
                      </a:lnTo>
                      <a:lnTo>
                        <a:pt x="344" y="0"/>
                      </a:lnTo>
                      <a:lnTo>
                        <a:pt x="340" y="4"/>
                      </a:lnTo>
                      <a:lnTo>
                        <a:pt x="336" y="4"/>
                      </a:lnTo>
                      <a:lnTo>
                        <a:pt x="327" y="4"/>
                      </a:lnTo>
                      <a:lnTo>
                        <a:pt x="322" y="4"/>
                      </a:lnTo>
                      <a:lnTo>
                        <a:pt x="318" y="8"/>
                      </a:lnTo>
                      <a:lnTo>
                        <a:pt x="314" y="8"/>
                      </a:lnTo>
                      <a:lnTo>
                        <a:pt x="309" y="8"/>
                      </a:lnTo>
                      <a:lnTo>
                        <a:pt x="300" y="8"/>
                      </a:lnTo>
                      <a:lnTo>
                        <a:pt x="296" y="13"/>
                      </a:lnTo>
                      <a:lnTo>
                        <a:pt x="292" y="13"/>
                      </a:lnTo>
                      <a:lnTo>
                        <a:pt x="287" y="13"/>
                      </a:lnTo>
                      <a:lnTo>
                        <a:pt x="283" y="13"/>
                      </a:lnTo>
                      <a:lnTo>
                        <a:pt x="274" y="13"/>
                      </a:lnTo>
                      <a:lnTo>
                        <a:pt x="269" y="17"/>
                      </a:lnTo>
                      <a:lnTo>
                        <a:pt x="265" y="17"/>
                      </a:lnTo>
                      <a:lnTo>
                        <a:pt x="261" y="17"/>
                      </a:lnTo>
                      <a:lnTo>
                        <a:pt x="256" y="17"/>
                      </a:lnTo>
                      <a:lnTo>
                        <a:pt x="247" y="17"/>
                      </a:lnTo>
                      <a:lnTo>
                        <a:pt x="243" y="17"/>
                      </a:lnTo>
                      <a:lnTo>
                        <a:pt x="239" y="17"/>
                      </a:lnTo>
                      <a:lnTo>
                        <a:pt x="234" y="17"/>
                      </a:lnTo>
                      <a:lnTo>
                        <a:pt x="230" y="22"/>
                      </a:lnTo>
                      <a:lnTo>
                        <a:pt x="221" y="22"/>
                      </a:lnTo>
                      <a:lnTo>
                        <a:pt x="217" y="22"/>
                      </a:lnTo>
                      <a:lnTo>
                        <a:pt x="212" y="22"/>
                      </a:lnTo>
                      <a:lnTo>
                        <a:pt x="203" y="22"/>
                      </a:lnTo>
                      <a:lnTo>
                        <a:pt x="199" y="22"/>
                      </a:lnTo>
                      <a:lnTo>
                        <a:pt x="195" y="22"/>
                      </a:lnTo>
                      <a:lnTo>
                        <a:pt x="190" y="22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725480" y="574992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16120" y="5819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44480" y="576108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636560" y="575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639800" y="5727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4772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57440" y="568800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28720" y="567864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792440" y="567864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66960" y="572760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866960" y="5737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866960" y="57420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51040" y="5678640"/>
                  <a:ext cx="90720" cy="49680"/>
                </a:xfrm>
                <a:custGeom>
                  <a:avLst/>
                  <a:gdLst/>
                  <a:ahLst/>
                  <a:rect l="0" t="0" r="r" b="b"/>
                  <a:pathLst>
                    <a:path w="252" h="138">
                      <a:moveTo>
                        <a:pt x="252" y="116"/>
                      </a:moveTo>
                      <a:lnTo>
                        <a:pt x="155" y="138"/>
                      </a:lnTo>
                      <a:lnTo>
                        <a:pt x="105" y="102"/>
                      </a:lnTo>
                      <a:lnTo>
                        <a:pt x="110" y="102"/>
                      </a:lnTo>
                      <a:lnTo>
                        <a:pt x="110" y="98"/>
                      </a:lnTo>
                      <a:lnTo>
                        <a:pt x="101" y="102"/>
                      </a:lnTo>
                      <a:lnTo>
                        <a:pt x="52" y="67"/>
                      </a:lnTo>
                      <a:lnTo>
                        <a:pt x="57" y="67"/>
                      </a:lnTo>
                      <a:lnTo>
                        <a:pt x="57" y="62"/>
                      </a:lnTo>
                      <a:lnTo>
                        <a:pt x="48" y="67"/>
                      </a:lnTo>
                      <a:lnTo>
                        <a:pt x="0" y="30"/>
                      </a:lnTo>
                      <a:lnTo>
                        <a:pt x="4" y="30"/>
                      </a:lnTo>
                      <a:lnTo>
                        <a:pt x="4" y="26"/>
                      </a:lnTo>
                      <a:lnTo>
                        <a:pt x="61" y="13"/>
                      </a:lnTo>
                      <a:lnTo>
                        <a:pt x="92" y="0"/>
                      </a:lnTo>
                      <a:lnTo>
                        <a:pt x="137" y="2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95" y="62"/>
                      </a:lnTo>
                      <a:lnTo>
                        <a:pt x="195" y="75"/>
                      </a:lnTo>
                      <a:lnTo>
                        <a:pt x="203" y="71"/>
                      </a:lnTo>
                      <a:lnTo>
                        <a:pt x="247" y="102"/>
                      </a:lnTo>
                      <a:lnTo>
                        <a:pt x="252" y="112"/>
                      </a:lnTo>
                      <a:lnTo>
                        <a:pt x="25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11160" y="5727600"/>
                  <a:ext cx="29880" cy="0"/>
                </a:xfrm>
                <a:custGeom>
                  <a:avLst/>
                  <a:gdLst/>
                  <a:ahLst/>
                  <a:rect l="0" t="0" r="r" b="b"/>
                  <a:pathLst>
                    <a:path w="8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7906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85960" y="5713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48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85960" y="5713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48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85960" y="5713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24" y="48"/>
                      </a:moveTo>
                      <a:lnTo>
                        <a:pt x="0" y="48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0" y="72"/>
                      </a:lnTo>
                      <a:lnTo>
                        <a:pt x="2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771560" y="5705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765440" y="5699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53" y="0"/>
                      </a:ln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65440" y="5699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765440" y="5699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510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46360" y="568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46360" y="568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54280" y="568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74800" y="56786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78740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0036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36" y="72"/>
                      </a:moveTo>
                      <a:lnTo>
                        <a:pt x="36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0036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0828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2088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2232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83024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84140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41400" y="571824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754280" y="5678640"/>
                  <a:ext cx="86040" cy="46440"/>
                </a:xfrm>
                <a:custGeom>
                  <a:avLst/>
                  <a:gdLst/>
                  <a:ahLst/>
                  <a:rect l="0" t="0" r="r" b="b"/>
                  <a:pathLst>
                    <a:path w="239" h="129">
                      <a:moveTo>
                        <a:pt x="133" y="26"/>
                      </a:moveTo>
                      <a:lnTo>
                        <a:pt x="101" y="45"/>
                      </a:lnTo>
                      <a:lnTo>
                        <a:pt x="44" y="58"/>
                      </a:lnTo>
                      <a:lnTo>
                        <a:pt x="0" y="26"/>
                      </a:lnTo>
                      <a:lnTo>
                        <a:pt x="57" y="13"/>
                      </a:lnTo>
                      <a:lnTo>
                        <a:pt x="88" y="0"/>
                      </a:lnTo>
                      <a:lnTo>
                        <a:pt x="133" y="26"/>
                      </a:lnTo>
                      <a:lnTo>
                        <a:pt x="186" y="62"/>
                      </a:lnTo>
                      <a:lnTo>
                        <a:pt x="150" y="80"/>
                      </a:lnTo>
                      <a:lnTo>
                        <a:pt x="97" y="93"/>
                      </a:lnTo>
                      <a:lnTo>
                        <a:pt x="52" y="62"/>
                      </a:lnTo>
                      <a:lnTo>
                        <a:pt x="105" y="49"/>
                      </a:lnTo>
                      <a:lnTo>
                        <a:pt x="142" y="36"/>
                      </a:lnTo>
                      <a:lnTo>
                        <a:pt x="186" y="62"/>
                      </a:lnTo>
                      <a:lnTo>
                        <a:pt x="239" y="99"/>
                      </a:lnTo>
                      <a:lnTo>
                        <a:pt x="208" y="116"/>
                      </a:lnTo>
                      <a:lnTo>
                        <a:pt x="150" y="129"/>
                      </a:lnTo>
                      <a:lnTo>
                        <a:pt x="105" y="99"/>
                      </a:lnTo>
                      <a:lnTo>
                        <a:pt x="164" y="84"/>
                      </a:lnTo>
                      <a:lnTo>
                        <a:pt x="195" y="71"/>
                      </a:lnTo>
                      <a:lnTo>
                        <a:pt x="239" y="99"/>
                      </a:lnTo>
                      <a:lnTo>
                        <a:pt x="133" y="2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79244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7012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75428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754280" y="568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74800" y="56786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8740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98560" y="569268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12960" y="57056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90640" y="5710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73360" y="5705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77336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95320" y="569268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80828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17640" y="5705640"/>
                  <a:ext cx="1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35280" y="571968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12960" y="5724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95320" y="5718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95320" y="5711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17640" y="5705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3024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7480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9712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817640" y="57150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816200" y="5086440"/>
                <a:ext cx="709920" cy="673560"/>
                <a:chOff x="1816200" y="5086440"/>
                <a:chExt cx="709920" cy="6735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816200" y="5087880"/>
                  <a:ext cx="702000" cy="671760"/>
                </a:xfrm>
                <a:custGeom>
                  <a:avLst/>
                  <a:gdLst/>
                  <a:ahLst/>
                  <a:rect l="0" t="0" r="r" b="b"/>
                  <a:pathLst>
                    <a:path w="1950" h="1866">
                      <a:moveTo>
                        <a:pt x="229" y="1756"/>
                      </a:moveTo>
                      <a:lnTo>
                        <a:pt x="1420" y="1866"/>
                      </a:lnTo>
                      <a:lnTo>
                        <a:pt x="1606" y="1707"/>
                      </a:lnTo>
                      <a:lnTo>
                        <a:pt x="1606" y="1641"/>
                      </a:lnTo>
                      <a:lnTo>
                        <a:pt x="1262" y="1610"/>
                      </a:lnTo>
                      <a:lnTo>
                        <a:pt x="1244" y="1579"/>
                      </a:lnTo>
                      <a:lnTo>
                        <a:pt x="1248" y="1579"/>
                      </a:lnTo>
                      <a:lnTo>
                        <a:pt x="1253" y="1575"/>
                      </a:lnTo>
                      <a:lnTo>
                        <a:pt x="1257" y="1575"/>
                      </a:lnTo>
                      <a:lnTo>
                        <a:pt x="1257" y="1570"/>
                      </a:lnTo>
                      <a:lnTo>
                        <a:pt x="1262" y="1570"/>
                      </a:lnTo>
                      <a:lnTo>
                        <a:pt x="1266" y="1566"/>
                      </a:lnTo>
                      <a:lnTo>
                        <a:pt x="1271" y="1562"/>
                      </a:lnTo>
                      <a:lnTo>
                        <a:pt x="1275" y="1557"/>
                      </a:lnTo>
                      <a:lnTo>
                        <a:pt x="1275" y="1557"/>
                      </a:lnTo>
                      <a:lnTo>
                        <a:pt x="1279" y="1553"/>
                      </a:lnTo>
                      <a:lnTo>
                        <a:pt x="1284" y="1553"/>
                      </a:lnTo>
                      <a:lnTo>
                        <a:pt x="1284" y="1548"/>
                      </a:lnTo>
                      <a:lnTo>
                        <a:pt x="1288" y="1544"/>
                      </a:lnTo>
                      <a:lnTo>
                        <a:pt x="1293" y="1544"/>
                      </a:lnTo>
                      <a:lnTo>
                        <a:pt x="1297" y="1535"/>
                      </a:lnTo>
                      <a:lnTo>
                        <a:pt x="1297" y="1535"/>
                      </a:lnTo>
                      <a:lnTo>
                        <a:pt x="1606" y="1548"/>
                      </a:lnTo>
                      <a:lnTo>
                        <a:pt x="1795" y="1513"/>
                      </a:lnTo>
                      <a:lnTo>
                        <a:pt x="1800" y="1513"/>
                      </a:lnTo>
                      <a:lnTo>
                        <a:pt x="1804" y="1509"/>
                      </a:lnTo>
                      <a:lnTo>
                        <a:pt x="1808" y="1509"/>
                      </a:lnTo>
                      <a:lnTo>
                        <a:pt x="1813" y="1504"/>
                      </a:lnTo>
                      <a:lnTo>
                        <a:pt x="1813" y="1504"/>
                      </a:lnTo>
                      <a:lnTo>
                        <a:pt x="1817" y="1500"/>
                      </a:lnTo>
                      <a:lnTo>
                        <a:pt x="1817" y="1495"/>
                      </a:lnTo>
                      <a:lnTo>
                        <a:pt x="1822" y="1491"/>
                      </a:lnTo>
                      <a:lnTo>
                        <a:pt x="1822" y="1487"/>
                      </a:lnTo>
                      <a:lnTo>
                        <a:pt x="1822" y="1482"/>
                      </a:lnTo>
                      <a:lnTo>
                        <a:pt x="1826" y="1478"/>
                      </a:lnTo>
                      <a:lnTo>
                        <a:pt x="1831" y="1478"/>
                      </a:lnTo>
                      <a:lnTo>
                        <a:pt x="1831" y="1469"/>
                      </a:lnTo>
                      <a:lnTo>
                        <a:pt x="1831" y="1465"/>
                      </a:lnTo>
                      <a:lnTo>
                        <a:pt x="1831" y="1460"/>
                      </a:lnTo>
                      <a:lnTo>
                        <a:pt x="1831" y="1451"/>
                      </a:lnTo>
                      <a:lnTo>
                        <a:pt x="1831" y="1385"/>
                      </a:lnTo>
                      <a:lnTo>
                        <a:pt x="1835" y="1385"/>
                      </a:lnTo>
                      <a:lnTo>
                        <a:pt x="1835" y="1381"/>
                      </a:lnTo>
                      <a:lnTo>
                        <a:pt x="1839" y="1381"/>
                      </a:lnTo>
                      <a:lnTo>
                        <a:pt x="1844" y="1376"/>
                      </a:lnTo>
                      <a:lnTo>
                        <a:pt x="1848" y="1376"/>
                      </a:lnTo>
                      <a:lnTo>
                        <a:pt x="1853" y="1376"/>
                      </a:lnTo>
                      <a:lnTo>
                        <a:pt x="1857" y="1372"/>
                      </a:lnTo>
                      <a:lnTo>
                        <a:pt x="1861" y="1372"/>
                      </a:lnTo>
                      <a:lnTo>
                        <a:pt x="1861" y="1372"/>
                      </a:lnTo>
                      <a:lnTo>
                        <a:pt x="1870" y="1368"/>
                      </a:lnTo>
                      <a:lnTo>
                        <a:pt x="1870" y="1363"/>
                      </a:lnTo>
                      <a:lnTo>
                        <a:pt x="1875" y="1363"/>
                      </a:lnTo>
                      <a:lnTo>
                        <a:pt x="1875" y="1359"/>
                      </a:lnTo>
                      <a:lnTo>
                        <a:pt x="1879" y="1354"/>
                      </a:lnTo>
                      <a:lnTo>
                        <a:pt x="1879" y="1350"/>
                      </a:lnTo>
                      <a:lnTo>
                        <a:pt x="1879" y="1341"/>
                      </a:lnTo>
                      <a:lnTo>
                        <a:pt x="1950" y="551"/>
                      </a:lnTo>
                      <a:lnTo>
                        <a:pt x="1950" y="546"/>
                      </a:lnTo>
                      <a:lnTo>
                        <a:pt x="1950" y="546"/>
                      </a:lnTo>
                      <a:lnTo>
                        <a:pt x="1950" y="537"/>
                      </a:lnTo>
                      <a:lnTo>
                        <a:pt x="1950" y="533"/>
                      </a:lnTo>
                      <a:lnTo>
                        <a:pt x="1950" y="533"/>
                      </a:lnTo>
                      <a:lnTo>
                        <a:pt x="1945" y="529"/>
                      </a:lnTo>
                      <a:lnTo>
                        <a:pt x="1945" y="524"/>
                      </a:lnTo>
                      <a:lnTo>
                        <a:pt x="1945" y="520"/>
                      </a:lnTo>
                      <a:lnTo>
                        <a:pt x="1945" y="515"/>
                      </a:lnTo>
                      <a:lnTo>
                        <a:pt x="1945" y="511"/>
                      </a:lnTo>
                      <a:lnTo>
                        <a:pt x="1941" y="511"/>
                      </a:lnTo>
                      <a:lnTo>
                        <a:pt x="1941" y="507"/>
                      </a:lnTo>
                      <a:lnTo>
                        <a:pt x="1936" y="502"/>
                      </a:lnTo>
                      <a:lnTo>
                        <a:pt x="1936" y="502"/>
                      </a:lnTo>
                      <a:lnTo>
                        <a:pt x="1936" y="493"/>
                      </a:lnTo>
                      <a:lnTo>
                        <a:pt x="1932" y="493"/>
                      </a:lnTo>
                      <a:lnTo>
                        <a:pt x="1848" y="388"/>
                      </a:lnTo>
                      <a:lnTo>
                        <a:pt x="1839" y="321"/>
                      </a:lnTo>
                      <a:lnTo>
                        <a:pt x="1839" y="229"/>
                      </a:lnTo>
                      <a:lnTo>
                        <a:pt x="1839" y="224"/>
                      </a:lnTo>
                      <a:lnTo>
                        <a:pt x="1835" y="216"/>
                      </a:lnTo>
                      <a:lnTo>
                        <a:pt x="1835" y="211"/>
                      </a:lnTo>
                      <a:lnTo>
                        <a:pt x="1831" y="207"/>
                      </a:lnTo>
                      <a:lnTo>
                        <a:pt x="1831" y="202"/>
                      </a:lnTo>
                      <a:lnTo>
                        <a:pt x="1822" y="198"/>
                      </a:lnTo>
                      <a:lnTo>
                        <a:pt x="1817" y="189"/>
                      </a:lnTo>
                      <a:lnTo>
                        <a:pt x="1813" y="185"/>
                      </a:lnTo>
                      <a:lnTo>
                        <a:pt x="1659" y="92"/>
                      </a:lnTo>
                      <a:lnTo>
                        <a:pt x="1614" y="83"/>
                      </a:lnTo>
                      <a:lnTo>
                        <a:pt x="1570" y="79"/>
                      </a:lnTo>
                      <a:lnTo>
                        <a:pt x="1522" y="74"/>
                      </a:lnTo>
                      <a:lnTo>
                        <a:pt x="1478" y="66"/>
                      </a:lnTo>
                      <a:lnTo>
                        <a:pt x="1434" y="61"/>
                      </a:lnTo>
                      <a:lnTo>
                        <a:pt x="1385" y="57"/>
                      </a:lnTo>
                      <a:lnTo>
                        <a:pt x="1337" y="52"/>
                      </a:lnTo>
                      <a:lnTo>
                        <a:pt x="1293" y="48"/>
                      </a:lnTo>
                      <a:lnTo>
                        <a:pt x="1244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3" y="30"/>
                      </a:lnTo>
                      <a:lnTo>
                        <a:pt x="1054" y="26"/>
                      </a:lnTo>
                      <a:lnTo>
                        <a:pt x="1010" y="26"/>
                      </a:lnTo>
                      <a:lnTo>
                        <a:pt x="961" y="17"/>
                      </a:lnTo>
                      <a:lnTo>
                        <a:pt x="912" y="17"/>
                      </a:lnTo>
                      <a:lnTo>
                        <a:pt x="864" y="13"/>
                      </a:lnTo>
                      <a:lnTo>
                        <a:pt x="820" y="13"/>
                      </a:lnTo>
                      <a:lnTo>
                        <a:pt x="771" y="13"/>
                      </a:lnTo>
                      <a:lnTo>
                        <a:pt x="723" y="8"/>
                      </a:lnTo>
                      <a:lnTo>
                        <a:pt x="674" y="8"/>
                      </a:lnTo>
                      <a:lnTo>
                        <a:pt x="630" y="8"/>
                      </a:lnTo>
                      <a:lnTo>
                        <a:pt x="582" y="4"/>
                      </a:lnTo>
                      <a:lnTo>
                        <a:pt x="533" y="4"/>
                      </a:lnTo>
                      <a:lnTo>
                        <a:pt x="485" y="4"/>
                      </a:lnTo>
                      <a:lnTo>
                        <a:pt x="440" y="4"/>
                      </a:lnTo>
                      <a:lnTo>
                        <a:pt x="396" y="4"/>
                      </a:lnTo>
                      <a:lnTo>
                        <a:pt x="348" y="0"/>
                      </a:lnTo>
                      <a:lnTo>
                        <a:pt x="299" y="0"/>
                      </a:lnTo>
                      <a:lnTo>
                        <a:pt x="255" y="0"/>
                      </a:lnTo>
                      <a:lnTo>
                        <a:pt x="207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9" y="0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7" y="8"/>
                      </a:lnTo>
                      <a:lnTo>
                        <a:pt x="123" y="8"/>
                      </a:lnTo>
                      <a:lnTo>
                        <a:pt x="119" y="13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26"/>
                      </a:lnTo>
                      <a:lnTo>
                        <a:pt x="105" y="30"/>
                      </a:lnTo>
                      <a:lnTo>
                        <a:pt x="105" y="35"/>
                      </a:lnTo>
                      <a:lnTo>
                        <a:pt x="101" y="35"/>
                      </a:lnTo>
                      <a:lnTo>
                        <a:pt x="101" y="39"/>
                      </a:lnTo>
                      <a:lnTo>
                        <a:pt x="97" y="79"/>
                      </a:lnTo>
                      <a:lnTo>
                        <a:pt x="88" y="119"/>
                      </a:lnTo>
                      <a:lnTo>
                        <a:pt x="79" y="158"/>
                      </a:lnTo>
                      <a:lnTo>
                        <a:pt x="74" y="198"/>
                      </a:lnTo>
                      <a:lnTo>
                        <a:pt x="70" y="238"/>
                      </a:lnTo>
                      <a:lnTo>
                        <a:pt x="61" y="273"/>
                      </a:lnTo>
                      <a:lnTo>
                        <a:pt x="57" y="313"/>
                      </a:lnTo>
                      <a:lnTo>
                        <a:pt x="52" y="352"/>
                      </a:lnTo>
                      <a:lnTo>
                        <a:pt x="48" y="388"/>
                      </a:lnTo>
                      <a:lnTo>
                        <a:pt x="44" y="427"/>
                      </a:lnTo>
                      <a:lnTo>
                        <a:pt x="39" y="467"/>
                      </a:lnTo>
                      <a:lnTo>
                        <a:pt x="35" y="507"/>
                      </a:lnTo>
                      <a:lnTo>
                        <a:pt x="30" y="542"/>
                      </a:lnTo>
                      <a:lnTo>
                        <a:pt x="26" y="582"/>
                      </a:lnTo>
                      <a:lnTo>
                        <a:pt x="26" y="621"/>
                      </a:lnTo>
                      <a:lnTo>
                        <a:pt x="22" y="657"/>
                      </a:lnTo>
                      <a:lnTo>
                        <a:pt x="17" y="696"/>
                      </a:lnTo>
                      <a:lnTo>
                        <a:pt x="17" y="732"/>
                      </a:lnTo>
                      <a:lnTo>
                        <a:pt x="13" y="771"/>
                      </a:lnTo>
                      <a:lnTo>
                        <a:pt x="13" y="811"/>
                      </a:lnTo>
                      <a:lnTo>
                        <a:pt x="13" y="846"/>
                      </a:lnTo>
                      <a:lnTo>
                        <a:pt x="8" y="886"/>
                      </a:lnTo>
                      <a:lnTo>
                        <a:pt x="8" y="921"/>
                      </a:lnTo>
                      <a:lnTo>
                        <a:pt x="8" y="962"/>
                      </a:lnTo>
                      <a:lnTo>
                        <a:pt x="8" y="1002"/>
                      </a:lnTo>
                      <a:lnTo>
                        <a:pt x="4" y="1037"/>
                      </a:lnTo>
                      <a:lnTo>
                        <a:pt x="4" y="1076"/>
                      </a:lnTo>
                      <a:lnTo>
                        <a:pt x="4" y="1116"/>
                      </a:lnTo>
                      <a:lnTo>
                        <a:pt x="4" y="1151"/>
                      </a:lnTo>
                      <a:lnTo>
                        <a:pt x="4" y="1191"/>
                      </a:lnTo>
                      <a:lnTo>
                        <a:pt x="0" y="1226"/>
                      </a:lnTo>
                      <a:lnTo>
                        <a:pt x="0" y="1266"/>
                      </a:lnTo>
                      <a:lnTo>
                        <a:pt x="0" y="1271"/>
                      </a:lnTo>
                      <a:lnTo>
                        <a:pt x="0" y="1275"/>
                      </a:lnTo>
                      <a:lnTo>
                        <a:pt x="0" y="1284"/>
                      </a:lnTo>
                      <a:lnTo>
                        <a:pt x="4" y="1284"/>
                      </a:lnTo>
                      <a:lnTo>
                        <a:pt x="4" y="1288"/>
                      </a:lnTo>
                      <a:lnTo>
                        <a:pt x="4" y="1293"/>
                      </a:lnTo>
                      <a:lnTo>
                        <a:pt x="4" y="1297"/>
                      </a:lnTo>
                      <a:lnTo>
                        <a:pt x="8" y="1297"/>
                      </a:lnTo>
                      <a:lnTo>
                        <a:pt x="8" y="1306"/>
                      </a:lnTo>
                      <a:lnTo>
                        <a:pt x="13" y="1306"/>
                      </a:lnTo>
                      <a:lnTo>
                        <a:pt x="13" y="1310"/>
                      </a:lnTo>
                      <a:lnTo>
                        <a:pt x="17" y="1315"/>
                      </a:lnTo>
                      <a:lnTo>
                        <a:pt x="22" y="1315"/>
                      </a:lnTo>
                      <a:lnTo>
                        <a:pt x="26" y="1319"/>
                      </a:lnTo>
                      <a:lnTo>
                        <a:pt x="30" y="1323"/>
                      </a:lnTo>
                      <a:lnTo>
                        <a:pt x="35" y="1328"/>
                      </a:lnTo>
                      <a:lnTo>
                        <a:pt x="158" y="1416"/>
                      </a:lnTo>
                      <a:lnTo>
                        <a:pt x="551" y="1460"/>
                      </a:lnTo>
                      <a:lnTo>
                        <a:pt x="555" y="1469"/>
                      </a:lnTo>
                      <a:lnTo>
                        <a:pt x="560" y="1473"/>
                      </a:lnTo>
                      <a:lnTo>
                        <a:pt x="564" y="1482"/>
                      </a:lnTo>
                      <a:lnTo>
                        <a:pt x="568" y="1487"/>
                      </a:lnTo>
                      <a:lnTo>
                        <a:pt x="577" y="1491"/>
                      </a:lnTo>
                      <a:lnTo>
                        <a:pt x="582" y="1500"/>
                      </a:lnTo>
                      <a:lnTo>
                        <a:pt x="590" y="1504"/>
                      </a:lnTo>
                      <a:lnTo>
                        <a:pt x="595" y="1509"/>
                      </a:lnTo>
                      <a:lnTo>
                        <a:pt x="604" y="1513"/>
                      </a:lnTo>
                      <a:lnTo>
                        <a:pt x="608" y="1522"/>
                      </a:lnTo>
                      <a:lnTo>
                        <a:pt x="617" y="1526"/>
                      </a:lnTo>
                      <a:lnTo>
                        <a:pt x="621" y="1531"/>
                      </a:lnTo>
                      <a:lnTo>
                        <a:pt x="630" y="1535"/>
                      </a:lnTo>
                      <a:lnTo>
                        <a:pt x="635" y="1544"/>
                      </a:lnTo>
                      <a:lnTo>
                        <a:pt x="643" y="1548"/>
                      </a:lnTo>
                      <a:lnTo>
                        <a:pt x="652" y="1553"/>
                      </a:lnTo>
                      <a:lnTo>
                        <a:pt x="529" y="1539"/>
                      </a:lnTo>
                      <a:lnTo>
                        <a:pt x="229" y="1698"/>
                      </a:lnTo>
                      <a:lnTo>
                        <a:pt x="229" y="175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898640" y="5727600"/>
                  <a:ext cx="425880" cy="32040"/>
                </a:xfrm>
                <a:custGeom>
                  <a:avLst/>
                  <a:gdLst/>
                  <a:ahLst/>
                  <a:rect l="0" t="0" r="r" b="b"/>
                  <a:pathLst>
                    <a:path w="1183" h="89">
                      <a:moveTo>
                        <a:pt x="1179" y="84"/>
                      </a:moveTo>
                      <a:lnTo>
                        <a:pt x="1179" y="84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83" y="89"/>
                      </a:lnTo>
                      <a:lnTo>
                        <a:pt x="1183" y="84"/>
                      </a:lnTo>
                      <a:lnTo>
                        <a:pt x="1179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32080" y="5710320"/>
                  <a:ext cx="62280" cy="49680"/>
                </a:xfrm>
                <a:custGeom>
                  <a:avLst/>
                  <a:gdLst/>
                  <a:ahLst/>
                  <a:rect l="0" t="0" r="r" b="b"/>
                  <a:pathLst>
                    <a:path w="173" h="138">
                      <a:moveTo>
                        <a:pt x="169" y="0"/>
                      </a:moveTo>
                      <a:lnTo>
                        <a:pt x="169" y="0"/>
                      </a:lnTo>
                      <a:lnTo>
                        <a:pt x="0" y="134"/>
                      </a:lnTo>
                      <a:lnTo>
                        <a:pt x="4" y="138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394000" y="5683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6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273400" y="5673600"/>
                  <a:ext cx="119520" cy="25920"/>
                </a:xfrm>
                <a:custGeom>
                  <a:avLst/>
                  <a:gdLst/>
                  <a:ahLst/>
                  <a:rect l="0" t="0" r="r" b="b"/>
                  <a:pathLst>
                    <a:path w="332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332" y="72"/>
                      </a:lnTo>
                      <a:lnTo>
                        <a:pt x="332" y="48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266920" y="5664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8360" y="5646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3" y="0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45" y="11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27" y="36"/>
                      </a:lnTo>
                      <a:lnTo>
                        <a:pt x="27" y="3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60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27" y="60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36" y="36"/>
                      </a:lnTo>
                      <a:lnTo>
                        <a:pt x="45" y="36"/>
                      </a:lnTo>
                      <a:lnTo>
                        <a:pt x="45" y="36"/>
                      </a:lnTo>
                      <a:lnTo>
                        <a:pt x="53" y="36"/>
                      </a:lnTo>
                      <a:lnTo>
                        <a:pt x="53" y="24"/>
                      </a:lnTo>
                      <a:lnTo>
                        <a:pt x="53" y="24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289240" y="564372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287" y="36"/>
                      </a:moveTo>
                      <a:lnTo>
                        <a:pt x="287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92" y="0"/>
                      </a:lnTo>
                      <a:lnTo>
                        <a:pt x="28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01920" y="5638680"/>
                  <a:ext cx="60840" cy="25920"/>
                </a:xfrm>
                <a:custGeom>
                  <a:avLst/>
                  <a:gdLst/>
                  <a:ahLst/>
                  <a:rect l="0" t="0" r="r" b="b"/>
                  <a:pathLst>
                    <a:path w="169" h="72">
                      <a:moveTo>
                        <a:pt x="165" y="0"/>
                      </a:moveTo>
                      <a:lnTo>
                        <a:pt x="165" y="0"/>
                      </a:lnTo>
                      <a:lnTo>
                        <a:pt x="0" y="48"/>
                      </a:lnTo>
                      <a:lnTo>
                        <a:pt x="0" y="72"/>
                      </a:lnTo>
                      <a:lnTo>
                        <a:pt x="169" y="24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8520" y="5616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8" y="29"/>
                      </a:lnTo>
                      <a:lnTo>
                        <a:pt x="48" y="36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50"/>
                      </a:lnTo>
                      <a:lnTo>
                        <a:pt x="24" y="50"/>
                      </a:lnTo>
                      <a:lnTo>
                        <a:pt x="24" y="58"/>
                      </a:lnTo>
                      <a:lnTo>
                        <a:pt x="24" y="58"/>
                      </a:lnTo>
                      <a:lnTo>
                        <a:pt x="24" y="65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72"/>
                      </a:lnTo>
                      <a:lnTo>
                        <a:pt x="24" y="72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48" y="58"/>
                      </a:lnTo>
                      <a:lnTo>
                        <a:pt x="48" y="58"/>
                      </a:lnTo>
                      <a:lnTo>
                        <a:pt x="48" y="50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36"/>
                      </a:lnTo>
                      <a:lnTo>
                        <a:pt x="72" y="29"/>
                      </a:lnTo>
                      <a:lnTo>
                        <a:pt x="72" y="29"/>
                      </a:lnTo>
                      <a:lnTo>
                        <a:pt x="72" y="22"/>
                      </a:lnTo>
                      <a:lnTo>
                        <a:pt x="72" y="14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73200" y="5592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7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"/>
                      </a:lnTo>
                      <a:lnTo>
                        <a:pt x="24" y="7"/>
                      </a:lnTo>
                      <a:lnTo>
                        <a:pt x="0" y="7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72" y="7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82920" y="5576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43"/>
                      </a:lnTo>
                      <a:lnTo>
                        <a:pt x="41" y="43"/>
                      </a:lnTo>
                      <a:lnTo>
                        <a:pt x="41" y="4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1" y="43"/>
                      </a:lnTo>
                      <a:lnTo>
                        <a:pt x="21" y="58"/>
                      </a:lnTo>
                      <a:lnTo>
                        <a:pt x="10" y="58"/>
                      </a:lnTo>
                      <a:lnTo>
                        <a:pt x="10" y="58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31" y="58"/>
                      </a:lnTo>
                      <a:lnTo>
                        <a:pt x="41" y="58"/>
                      </a:lnTo>
                      <a:lnTo>
                        <a:pt x="41" y="58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72" y="1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500200" y="5288040"/>
                  <a:ext cx="25920" cy="281520"/>
                </a:xfrm>
                <a:custGeom>
                  <a:avLst/>
                  <a:gdLst/>
                  <a:ahLst/>
                  <a:rect l="0" t="0" r="r" b="b"/>
                  <a:pathLst>
                    <a:path w="72" h="782">
                      <a:moveTo>
                        <a:pt x="66" y="4"/>
                      </a:moveTo>
                      <a:lnTo>
                        <a:pt x="66" y="4"/>
                      </a:lnTo>
                      <a:lnTo>
                        <a:pt x="0" y="782"/>
                      </a:lnTo>
                      <a:lnTo>
                        <a:pt x="6" y="782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517840" y="52671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61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87600" y="522936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7" y="85"/>
                      </a:lnTo>
                      <a:lnTo>
                        <a:pt x="72" y="8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82920" y="5203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78240" y="517032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76"/>
                      </a:lnTo>
                      <a:lnTo>
                        <a:pt x="0" y="76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73200" y="515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24" y="14"/>
                      </a:lnTo>
                      <a:lnTo>
                        <a:pt x="24" y="29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58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8"/>
                      </a:lnTo>
                      <a:lnTo>
                        <a:pt x="72" y="43"/>
                      </a:lnTo>
                      <a:lnTo>
                        <a:pt x="72" y="43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14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419200" y="5121360"/>
                  <a:ext cx="47880" cy="27360"/>
                </a:xfrm>
                <a:custGeom>
                  <a:avLst/>
                  <a:gdLst/>
                  <a:ahLst/>
                  <a:rect l="0" t="0" r="r" b="b"/>
                  <a:pathLst>
                    <a:path w="133" h="7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3" y="76"/>
                      </a:lnTo>
                      <a:lnTo>
                        <a:pt x="133" y="7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874880" y="5086440"/>
                  <a:ext cx="536760" cy="27360"/>
                </a:xfrm>
                <a:custGeom>
                  <a:avLst/>
                  <a:gdLst/>
                  <a:ahLst/>
                  <a:rect l="0" t="0" r="r" b="b"/>
                  <a:pathLst>
                    <a:path w="149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8" y="4"/>
                      </a:lnTo>
                      <a:lnTo>
                        <a:pt x="97" y="4"/>
                      </a:lnTo>
                      <a:lnTo>
                        <a:pt x="141" y="4"/>
                      </a:lnTo>
                      <a:lnTo>
                        <a:pt x="189" y="4"/>
                      </a:lnTo>
                      <a:lnTo>
                        <a:pt x="233" y="4"/>
                      </a:lnTo>
                      <a:lnTo>
                        <a:pt x="277" y="4"/>
                      </a:lnTo>
                      <a:lnTo>
                        <a:pt x="326" y="8"/>
                      </a:lnTo>
                      <a:lnTo>
                        <a:pt x="374" y="8"/>
                      </a:lnTo>
                      <a:lnTo>
                        <a:pt x="423" y="8"/>
                      </a:lnTo>
                      <a:lnTo>
                        <a:pt x="467" y="8"/>
                      </a:lnTo>
                      <a:lnTo>
                        <a:pt x="515" y="13"/>
                      </a:lnTo>
                      <a:lnTo>
                        <a:pt x="560" y="13"/>
                      </a:lnTo>
                      <a:lnTo>
                        <a:pt x="608" y="13"/>
                      </a:lnTo>
                      <a:lnTo>
                        <a:pt x="657" y="13"/>
                      </a:lnTo>
                      <a:lnTo>
                        <a:pt x="705" y="17"/>
                      </a:lnTo>
                      <a:lnTo>
                        <a:pt x="750" y="17"/>
                      </a:lnTo>
                      <a:lnTo>
                        <a:pt x="799" y="23"/>
                      </a:lnTo>
                      <a:lnTo>
                        <a:pt x="847" y="23"/>
                      </a:lnTo>
                      <a:lnTo>
                        <a:pt x="891" y="27"/>
                      </a:lnTo>
                      <a:lnTo>
                        <a:pt x="940" y="27"/>
                      </a:lnTo>
                      <a:lnTo>
                        <a:pt x="984" y="31"/>
                      </a:lnTo>
                      <a:lnTo>
                        <a:pt x="1032" y="36"/>
                      </a:lnTo>
                      <a:lnTo>
                        <a:pt x="1081" y="36"/>
                      </a:lnTo>
                      <a:lnTo>
                        <a:pt x="1125" y="40"/>
                      </a:lnTo>
                      <a:lnTo>
                        <a:pt x="1173" y="45"/>
                      </a:lnTo>
                      <a:lnTo>
                        <a:pt x="1218" y="49"/>
                      </a:lnTo>
                      <a:lnTo>
                        <a:pt x="1266" y="49"/>
                      </a:lnTo>
                      <a:lnTo>
                        <a:pt x="1310" y="59"/>
                      </a:lnTo>
                      <a:lnTo>
                        <a:pt x="1354" y="63"/>
                      </a:lnTo>
                      <a:lnTo>
                        <a:pt x="1398" y="68"/>
                      </a:lnTo>
                      <a:lnTo>
                        <a:pt x="1447" y="72"/>
                      </a:lnTo>
                      <a:lnTo>
                        <a:pt x="1491" y="76"/>
                      </a:lnTo>
                      <a:lnTo>
                        <a:pt x="1491" y="72"/>
                      </a:lnTo>
                      <a:lnTo>
                        <a:pt x="1447" y="68"/>
                      </a:lnTo>
                      <a:lnTo>
                        <a:pt x="1403" y="63"/>
                      </a:lnTo>
                      <a:lnTo>
                        <a:pt x="1354" y="59"/>
                      </a:lnTo>
                      <a:lnTo>
                        <a:pt x="1310" y="49"/>
                      </a:lnTo>
                      <a:lnTo>
                        <a:pt x="1266" y="49"/>
                      </a:lnTo>
                      <a:lnTo>
                        <a:pt x="1218" y="45"/>
                      </a:lnTo>
                      <a:lnTo>
                        <a:pt x="1173" y="40"/>
                      </a:lnTo>
                      <a:lnTo>
                        <a:pt x="1125" y="36"/>
                      </a:lnTo>
                      <a:lnTo>
                        <a:pt x="1081" y="31"/>
                      </a:lnTo>
                      <a:lnTo>
                        <a:pt x="1032" y="27"/>
                      </a:lnTo>
                      <a:lnTo>
                        <a:pt x="984" y="27"/>
                      </a:lnTo>
                      <a:lnTo>
                        <a:pt x="940" y="23"/>
                      </a:lnTo>
                      <a:lnTo>
                        <a:pt x="891" y="23"/>
                      </a:lnTo>
                      <a:lnTo>
                        <a:pt x="847" y="17"/>
                      </a:lnTo>
                      <a:lnTo>
                        <a:pt x="799" y="13"/>
                      </a:lnTo>
                      <a:lnTo>
                        <a:pt x="750" y="13"/>
                      </a:lnTo>
                      <a:lnTo>
                        <a:pt x="705" y="13"/>
                      </a:lnTo>
                      <a:lnTo>
                        <a:pt x="657" y="8"/>
                      </a:lnTo>
                      <a:lnTo>
                        <a:pt x="608" y="8"/>
                      </a:lnTo>
                      <a:lnTo>
                        <a:pt x="560" y="4"/>
                      </a:lnTo>
                      <a:lnTo>
                        <a:pt x="515" y="4"/>
                      </a:lnTo>
                      <a:lnTo>
                        <a:pt x="467" y="4"/>
                      </a:lnTo>
                      <a:lnTo>
                        <a:pt x="423" y="4"/>
                      </a:lnTo>
                      <a:lnTo>
                        <a:pt x="374" y="0"/>
                      </a:lnTo>
                      <a:lnTo>
                        <a:pt x="326" y="0"/>
                      </a:lnTo>
                      <a:lnTo>
                        <a:pt x="277" y="0"/>
                      </a:lnTo>
                      <a:lnTo>
                        <a:pt x="233" y="0"/>
                      </a:lnTo>
                      <a:lnTo>
                        <a:pt x="189" y="0"/>
                      </a:lnTo>
                      <a:lnTo>
                        <a:pt x="141" y="0"/>
                      </a:lnTo>
                      <a:lnTo>
                        <a:pt x="97" y="0"/>
                      </a:lnTo>
                      <a:lnTo>
                        <a:pt x="4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52560" y="508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" y="72"/>
                      </a:moveTo>
                      <a:lnTo>
                        <a:pt x="7" y="72"/>
                      </a:lnTo>
                      <a:lnTo>
                        <a:pt x="7" y="60"/>
                      </a:lnTo>
                      <a:lnTo>
                        <a:pt x="7" y="60"/>
                      </a:lnTo>
                      <a:lnTo>
                        <a:pt x="15" y="48"/>
                      </a:lnTo>
                      <a:lnTo>
                        <a:pt x="15" y="48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11"/>
                      </a:ln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56" y="11"/>
                      </a:lnTo>
                      <a:lnTo>
                        <a:pt x="64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40" y="11"/>
                      </a:lnTo>
                      <a:lnTo>
                        <a:pt x="32" y="11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36"/>
                      </a:lnTo>
                      <a:lnTo>
                        <a:pt x="7" y="36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816200" y="5103720"/>
                  <a:ext cx="30600" cy="438480"/>
                </a:xfrm>
                <a:custGeom>
                  <a:avLst/>
                  <a:gdLst/>
                  <a:ahLst/>
                  <a:rect l="0" t="0" r="r" b="b"/>
                  <a:pathLst>
                    <a:path w="85" h="1218">
                      <a:moveTo>
                        <a:pt x="4" y="1213"/>
                      </a:moveTo>
                      <a:lnTo>
                        <a:pt x="4" y="1213"/>
                      </a:lnTo>
                      <a:lnTo>
                        <a:pt x="4" y="1178"/>
                      </a:lnTo>
                      <a:lnTo>
                        <a:pt x="4" y="1138"/>
                      </a:lnTo>
                      <a:lnTo>
                        <a:pt x="4" y="1103"/>
                      </a:lnTo>
                      <a:lnTo>
                        <a:pt x="8" y="1063"/>
                      </a:lnTo>
                      <a:lnTo>
                        <a:pt x="8" y="1024"/>
                      </a:lnTo>
                      <a:lnTo>
                        <a:pt x="8" y="988"/>
                      </a:lnTo>
                      <a:lnTo>
                        <a:pt x="8" y="949"/>
                      </a:lnTo>
                      <a:lnTo>
                        <a:pt x="8" y="913"/>
                      </a:lnTo>
                      <a:lnTo>
                        <a:pt x="13" y="874"/>
                      </a:lnTo>
                      <a:lnTo>
                        <a:pt x="13" y="838"/>
                      </a:lnTo>
                      <a:lnTo>
                        <a:pt x="13" y="799"/>
                      </a:lnTo>
                      <a:lnTo>
                        <a:pt x="13" y="763"/>
                      </a:lnTo>
                      <a:lnTo>
                        <a:pt x="17" y="724"/>
                      </a:lnTo>
                      <a:lnTo>
                        <a:pt x="17" y="688"/>
                      </a:lnTo>
                      <a:lnTo>
                        <a:pt x="17" y="649"/>
                      </a:lnTo>
                      <a:lnTo>
                        <a:pt x="23" y="613"/>
                      </a:lnTo>
                      <a:lnTo>
                        <a:pt x="23" y="573"/>
                      </a:lnTo>
                      <a:lnTo>
                        <a:pt x="27" y="533"/>
                      </a:lnTo>
                      <a:lnTo>
                        <a:pt x="27" y="498"/>
                      </a:lnTo>
                      <a:lnTo>
                        <a:pt x="31" y="458"/>
                      </a:lnTo>
                      <a:lnTo>
                        <a:pt x="36" y="418"/>
                      </a:lnTo>
                      <a:lnTo>
                        <a:pt x="40" y="383"/>
                      </a:lnTo>
                      <a:lnTo>
                        <a:pt x="40" y="343"/>
                      </a:lnTo>
                      <a:lnTo>
                        <a:pt x="45" y="308"/>
                      </a:lnTo>
                      <a:lnTo>
                        <a:pt x="49" y="268"/>
                      </a:lnTo>
                      <a:lnTo>
                        <a:pt x="53" y="229"/>
                      </a:lnTo>
                      <a:lnTo>
                        <a:pt x="58" y="194"/>
                      </a:lnTo>
                      <a:lnTo>
                        <a:pt x="62" y="154"/>
                      </a:lnTo>
                      <a:lnTo>
                        <a:pt x="68" y="114"/>
                      </a:lnTo>
                      <a:lnTo>
                        <a:pt x="72" y="79"/>
                      </a:lnTo>
                      <a:lnTo>
                        <a:pt x="81" y="39"/>
                      </a:lnTo>
                      <a:lnTo>
                        <a:pt x="85" y="4"/>
                      </a:lnTo>
                      <a:lnTo>
                        <a:pt x="81" y="0"/>
                      </a:lnTo>
                      <a:lnTo>
                        <a:pt x="72" y="39"/>
                      </a:lnTo>
                      <a:lnTo>
                        <a:pt x="68" y="79"/>
                      </a:lnTo>
                      <a:lnTo>
                        <a:pt x="62" y="114"/>
                      </a:lnTo>
                      <a:lnTo>
                        <a:pt x="58" y="154"/>
                      </a:lnTo>
                      <a:lnTo>
                        <a:pt x="53" y="194"/>
                      </a:lnTo>
                      <a:lnTo>
                        <a:pt x="49" y="229"/>
                      </a:lnTo>
                      <a:lnTo>
                        <a:pt x="45" y="268"/>
                      </a:lnTo>
                      <a:lnTo>
                        <a:pt x="40" y="308"/>
                      </a:lnTo>
                      <a:lnTo>
                        <a:pt x="36" y="343"/>
                      </a:lnTo>
                      <a:lnTo>
                        <a:pt x="31" y="383"/>
                      </a:lnTo>
                      <a:lnTo>
                        <a:pt x="27" y="418"/>
                      </a:lnTo>
                      <a:lnTo>
                        <a:pt x="27" y="458"/>
                      </a:lnTo>
                      <a:lnTo>
                        <a:pt x="23" y="498"/>
                      </a:lnTo>
                      <a:lnTo>
                        <a:pt x="23" y="533"/>
                      </a:lnTo>
                      <a:lnTo>
                        <a:pt x="17" y="573"/>
                      </a:lnTo>
                      <a:lnTo>
                        <a:pt x="17" y="613"/>
                      </a:lnTo>
                      <a:lnTo>
                        <a:pt x="13" y="649"/>
                      </a:lnTo>
                      <a:lnTo>
                        <a:pt x="13" y="688"/>
                      </a:lnTo>
                      <a:lnTo>
                        <a:pt x="13" y="724"/>
                      </a:lnTo>
                      <a:lnTo>
                        <a:pt x="8" y="763"/>
                      </a:lnTo>
                      <a:lnTo>
                        <a:pt x="8" y="799"/>
                      </a:lnTo>
                      <a:lnTo>
                        <a:pt x="8" y="838"/>
                      </a:lnTo>
                      <a:lnTo>
                        <a:pt x="4" y="874"/>
                      </a:lnTo>
                      <a:lnTo>
                        <a:pt x="4" y="913"/>
                      </a:lnTo>
                      <a:lnTo>
                        <a:pt x="4" y="949"/>
                      </a:lnTo>
                      <a:lnTo>
                        <a:pt x="4" y="988"/>
                      </a:lnTo>
                      <a:lnTo>
                        <a:pt x="0" y="1024"/>
                      </a:lnTo>
                      <a:lnTo>
                        <a:pt x="0" y="1063"/>
                      </a:lnTo>
                      <a:lnTo>
                        <a:pt x="0" y="1103"/>
                      </a:lnTo>
                      <a:lnTo>
                        <a:pt x="0" y="1138"/>
                      </a:lnTo>
                      <a:lnTo>
                        <a:pt x="0" y="1178"/>
                      </a:lnTo>
                      <a:lnTo>
                        <a:pt x="0" y="1213"/>
                      </a:lnTo>
                      <a:lnTo>
                        <a:pt x="0" y="1218"/>
                      </a:lnTo>
                      <a:lnTo>
                        <a:pt x="0" y="1218"/>
                      </a:lnTo>
                      <a:lnTo>
                        <a:pt x="4" y="1218"/>
                      </a:lnTo>
                      <a:lnTo>
                        <a:pt x="4" y="1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816200" y="5549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4"/>
                      </a:move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64"/>
                      </a:lnTo>
                      <a:lnTo>
                        <a:pt x="48" y="64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827360" y="5570640"/>
                  <a:ext cx="39960" cy="25920"/>
                </a:xfrm>
                <a:custGeom>
                  <a:avLst/>
                  <a:gdLst/>
                  <a:ahLst/>
                  <a:rect l="0" t="0" r="r" b="b"/>
                  <a:pathLst>
                    <a:path w="111" h="72">
                      <a:moveTo>
                        <a:pt x="111" y="68"/>
                      </a:moveTo>
                      <a:lnTo>
                        <a:pt x="11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06" y="72"/>
                      </a:lnTo>
                      <a:lnTo>
                        <a:pt x="111" y="72"/>
                      </a:lnTo>
                      <a:lnTo>
                        <a:pt x="111" y="72"/>
                      </a:lnTo>
                      <a:lnTo>
                        <a:pt x="11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874880" y="5602320"/>
                  <a:ext cx="135360" cy="25920"/>
                </a:xfrm>
                <a:custGeom>
                  <a:avLst/>
                  <a:gdLst/>
                  <a:ahLst/>
                  <a:rect l="0" t="0" r="r" b="b"/>
                  <a:pathLst>
                    <a:path w="376" h="72">
                      <a:moveTo>
                        <a:pt x="376" y="62"/>
                      </a:moveTo>
                      <a:lnTo>
                        <a:pt x="372" y="62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372" y="72"/>
                      </a:lnTo>
                      <a:lnTo>
                        <a:pt x="368" y="72"/>
                      </a:lnTo>
                      <a:lnTo>
                        <a:pt x="372" y="72"/>
                      </a:lnTo>
                      <a:lnTo>
                        <a:pt x="372" y="72"/>
                      </a:lnTo>
                      <a:lnTo>
                        <a:pt x="376" y="72"/>
                      </a:lnTo>
                      <a:lnTo>
                        <a:pt x="376" y="62"/>
                      </a:lnTo>
                      <a:lnTo>
                        <a:pt x="372" y="62"/>
                      </a:lnTo>
                      <a:lnTo>
                        <a:pt x="37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016000" y="562140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72"/>
                      </a:moveTo>
                      <a:lnTo>
                        <a:pt x="80" y="67"/>
                      </a:lnTo>
                      <a:lnTo>
                        <a:pt x="75" y="63"/>
                      </a:lnTo>
                      <a:lnTo>
                        <a:pt x="67" y="63"/>
                      </a:lnTo>
                      <a:lnTo>
                        <a:pt x="62" y="58"/>
                      </a:lnTo>
                      <a:lnTo>
                        <a:pt x="58" y="52"/>
                      </a:lnTo>
                      <a:lnTo>
                        <a:pt x="53" y="48"/>
                      </a:lnTo>
                      <a:lnTo>
                        <a:pt x="49" y="43"/>
                      </a:lnTo>
                      <a:lnTo>
                        <a:pt x="45" y="38"/>
                      </a:lnTo>
                      <a:lnTo>
                        <a:pt x="35" y="38"/>
                      </a:lnTo>
                      <a:lnTo>
                        <a:pt x="35" y="33"/>
                      </a:lnTo>
                      <a:lnTo>
                        <a:pt x="26" y="29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8" y="9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30" y="38"/>
                      </a:lnTo>
                      <a:lnTo>
                        <a:pt x="35" y="38"/>
                      </a:lnTo>
                      <a:lnTo>
                        <a:pt x="39" y="43"/>
                      </a:lnTo>
                      <a:lnTo>
                        <a:pt x="45" y="48"/>
                      </a:lnTo>
                      <a:lnTo>
                        <a:pt x="49" y="52"/>
                      </a:lnTo>
                      <a:lnTo>
                        <a:pt x="58" y="58"/>
                      </a:lnTo>
                      <a:lnTo>
                        <a:pt x="58" y="63"/>
                      </a:lnTo>
                      <a:lnTo>
                        <a:pt x="67" y="63"/>
                      </a:lnTo>
                      <a:lnTo>
                        <a:pt x="71" y="67"/>
                      </a:lnTo>
                      <a:lnTo>
                        <a:pt x="75" y="72"/>
                      </a:lnTo>
                      <a:lnTo>
                        <a:pt x="80" y="67"/>
                      </a:lnTo>
                      <a:lnTo>
                        <a:pt x="75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67"/>
                      </a:lnTo>
                      <a:lnTo>
                        <a:pt x="8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008080" y="5645160"/>
                  <a:ext cx="36720" cy="25920"/>
                </a:xfrm>
                <a:custGeom>
                  <a:avLst/>
                  <a:gdLst/>
                  <a:ahLst/>
                  <a:rect l="0" t="0" r="r" b="b"/>
                  <a:pathLst>
                    <a:path w="10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102" y="0"/>
                      </a:lnTo>
                      <a:lnTo>
                        <a:pt x="102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898640" y="5648400"/>
                  <a:ext cx="101880" cy="51120"/>
                </a:xfrm>
                <a:custGeom>
                  <a:avLst/>
                  <a:gdLst/>
                  <a:ahLst/>
                  <a:rect l="0" t="0" r="r" b="b"/>
                  <a:pathLst>
                    <a:path w="283" h="142">
                      <a:moveTo>
                        <a:pt x="8" y="142"/>
                      </a:moveTo>
                      <a:lnTo>
                        <a:pt x="4" y="142"/>
                      </a:lnTo>
                      <a:lnTo>
                        <a:pt x="283" y="4"/>
                      </a:lnTo>
                      <a:lnTo>
                        <a:pt x="278" y="0"/>
                      </a:lnTo>
                      <a:lnTo>
                        <a:pt x="4" y="137"/>
                      </a:lnTo>
                      <a:lnTo>
                        <a:pt x="0" y="142"/>
                      </a:lnTo>
                      <a:lnTo>
                        <a:pt x="4" y="137"/>
                      </a:lnTo>
                      <a:lnTo>
                        <a:pt x="0" y="137"/>
                      </a:lnTo>
                      <a:lnTo>
                        <a:pt x="0" y="142"/>
                      </a:lnTo>
                      <a:lnTo>
                        <a:pt x="4" y="142"/>
                      </a:lnTo>
                      <a:lnTo>
                        <a:pt x="4" y="142"/>
                      </a:lnTo>
                      <a:lnTo>
                        <a:pt x="8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92160" y="5705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7" y="64"/>
                      </a:move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17" y="72"/>
                      </a:lnTo>
                      <a:lnTo>
                        <a:pt x="0" y="72"/>
                      </a:lnTo>
                      <a:lnTo>
                        <a:pt x="17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816200" y="5087880"/>
                  <a:ext cx="608400" cy="508320"/>
                </a:xfrm>
                <a:custGeom>
                  <a:avLst/>
                  <a:gdLst/>
                  <a:ahLst/>
                  <a:rect l="0" t="0" r="r" b="b"/>
                  <a:pathLst>
                    <a:path w="1690" h="1412">
                      <a:moveTo>
                        <a:pt x="26" y="1271"/>
                      </a:moveTo>
                      <a:lnTo>
                        <a:pt x="1563" y="1412"/>
                      </a:lnTo>
                      <a:lnTo>
                        <a:pt x="1571" y="1376"/>
                      </a:lnTo>
                      <a:lnTo>
                        <a:pt x="1576" y="1337"/>
                      </a:lnTo>
                      <a:lnTo>
                        <a:pt x="1580" y="1301"/>
                      </a:lnTo>
                      <a:lnTo>
                        <a:pt x="1589" y="1262"/>
                      </a:lnTo>
                      <a:lnTo>
                        <a:pt x="1593" y="1222"/>
                      </a:lnTo>
                      <a:lnTo>
                        <a:pt x="1598" y="1187"/>
                      </a:lnTo>
                      <a:lnTo>
                        <a:pt x="1602" y="1147"/>
                      </a:lnTo>
                      <a:lnTo>
                        <a:pt x="1611" y="1107"/>
                      </a:lnTo>
                      <a:lnTo>
                        <a:pt x="1615" y="1068"/>
                      </a:lnTo>
                      <a:lnTo>
                        <a:pt x="1620" y="1028"/>
                      </a:lnTo>
                      <a:lnTo>
                        <a:pt x="1624" y="988"/>
                      </a:lnTo>
                      <a:lnTo>
                        <a:pt x="1633" y="949"/>
                      </a:lnTo>
                      <a:lnTo>
                        <a:pt x="1638" y="913"/>
                      </a:lnTo>
                      <a:lnTo>
                        <a:pt x="1642" y="869"/>
                      </a:lnTo>
                      <a:lnTo>
                        <a:pt x="1642" y="830"/>
                      </a:lnTo>
                      <a:lnTo>
                        <a:pt x="1651" y="790"/>
                      </a:lnTo>
                      <a:lnTo>
                        <a:pt x="1655" y="750"/>
                      </a:lnTo>
                      <a:lnTo>
                        <a:pt x="1655" y="710"/>
                      </a:lnTo>
                      <a:lnTo>
                        <a:pt x="1660" y="670"/>
                      </a:lnTo>
                      <a:lnTo>
                        <a:pt x="1664" y="626"/>
                      </a:lnTo>
                      <a:lnTo>
                        <a:pt x="1668" y="586"/>
                      </a:lnTo>
                      <a:lnTo>
                        <a:pt x="1673" y="546"/>
                      </a:lnTo>
                      <a:lnTo>
                        <a:pt x="1673" y="507"/>
                      </a:lnTo>
                      <a:lnTo>
                        <a:pt x="1677" y="463"/>
                      </a:lnTo>
                      <a:lnTo>
                        <a:pt x="1677" y="423"/>
                      </a:lnTo>
                      <a:lnTo>
                        <a:pt x="1682" y="383"/>
                      </a:lnTo>
                      <a:lnTo>
                        <a:pt x="1682" y="343"/>
                      </a:lnTo>
                      <a:lnTo>
                        <a:pt x="1686" y="299"/>
                      </a:lnTo>
                      <a:lnTo>
                        <a:pt x="1686" y="260"/>
                      </a:lnTo>
                      <a:lnTo>
                        <a:pt x="1686" y="216"/>
                      </a:lnTo>
                      <a:lnTo>
                        <a:pt x="1690" y="176"/>
                      </a:lnTo>
                      <a:lnTo>
                        <a:pt x="1690" y="132"/>
                      </a:lnTo>
                      <a:lnTo>
                        <a:pt x="1690" y="127"/>
                      </a:lnTo>
                      <a:lnTo>
                        <a:pt x="1686" y="119"/>
                      </a:lnTo>
                      <a:lnTo>
                        <a:pt x="1686" y="114"/>
                      </a:lnTo>
                      <a:lnTo>
                        <a:pt x="1682" y="110"/>
                      </a:lnTo>
                      <a:lnTo>
                        <a:pt x="1677" y="105"/>
                      </a:lnTo>
                      <a:lnTo>
                        <a:pt x="1668" y="101"/>
                      </a:lnTo>
                      <a:lnTo>
                        <a:pt x="1664" y="97"/>
                      </a:lnTo>
                      <a:lnTo>
                        <a:pt x="1655" y="92"/>
                      </a:lnTo>
                      <a:lnTo>
                        <a:pt x="1607" y="83"/>
                      </a:lnTo>
                      <a:lnTo>
                        <a:pt x="1558" y="79"/>
                      </a:lnTo>
                      <a:lnTo>
                        <a:pt x="1514" y="74"/>
                      </a:lnTo>
                      <a:lnTo>
                        <a:pt x="1470" y="66"/>
                      </a:lnTo>
                      <a:lnTo>
                        <a:pt x="1421" y="61"/>
                      </a:lnTo>
                      <a:lnTo>
                        <a:pt x="1377" y="57"/>
                      </a:lnTo>
                      <a:lnTo>
                        <a:pt x="1329" y="52"/>
                      </a:lnTo>
                      <a:lnTo>
                        <a:pt x="1285" y="48"/>
                      </a:lnTo>
                      <a:lnTo>
                        <a:pt x="1240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7" y="30"/>
                      </a:lnTo>
                      <a:lnTo>
                        <a:pt x="1059" y="26"/>
                      </a:lnTo>
                      <a:lnTo>
                        <a:pt x="1015" y="26"/>
                      </a:lnTo>
                      <a:lnTo>
                        <a:pt x="971" y="17"/>
                      </a:lnTo>
                      <a:lnTo>
                        <a:pt x="927" y="17"/>
                      </a:lnTo>
                      <a:lnTo>
                        <a:pt x="882" y="13"/>
                      </a:lnTo>
                      <a:lnTo>
                        <a:pt x="838" y="13"/>
                      </a:lnTo>
                      <a:lnTo>
                        <a:pt x="794" y="13"/>
                      </a:lnTo>
                      <a:lnTo>
                        <a:pt x="746" y="8"/>
                      </a:lnTo>
                      <a:lnTo>
                        <a:pt x="702" y="8"/>
                      </a:lnTo>
                      <a:lnTo>
                        <a:pt x="658" y="8"/>
                      </a:lnTo>
                      <a:lnTo>
                        <a:pt x="613" y="4"/>
                      </a:lnTo>
                      <a:lnTo>
                        <a:pt x="565" y="4"/>
                      </a:lnTo>
                      <a:lnTo>
                        <a:pt x="521" y="4"/>
                      </a:lnTo>
                      <a:lnTo>
                        <a:pt x="477" y="4"/>
                      </a:lnTo>
                      <a:lnTo>
                        <a:pt x="433" y="4"/>
                      </a:lnTo>
                      <a:lnTo>
                        <a:pt x="383" y="0"/>
                      </a:lnTo>
                      <a:lnTo>
                        <a:pt x="335" y="0"/>
                      </a:lnTo>
                      <a:lnTo>
                        <a:pt x="291" y="0"/>
                      </a:lnTo>
                      <a:lnTo>
                        <a:pt x="242" y="0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6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8"/>
                      </a:lnTo>
                      <a:lnTo>
                        <a:pt x="119" y="8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30"/>
                      </a:lnTo>
                      <a:lnTo>
                        <a:pt x="105" y="35"/>
                      </a:lnTo>
                      <a:lnTo>
                        <a:pt x="101" y="39"/>
                      </a:lnTo>
                      <a:lnTo>
                        <a:pt x="97" y="61"/>
                      </a:lnTo>
                      <a:lnTo>
                        <a:pt x="92" y="83"/>
                      </a:lnTo>
                      <a:lnTo>
                        <a:pt x="92" y="105"/>
                      </a:lnTo>
                      <a:lnTo>
                        <a:pt x="88" y="123"/>
                      </a:lnTo>
                      <a:lnTo>
                        <a:pt x="83" y="145"/>
                      </a:lnTo>
                      <a:lnTo>
                        <a:pt x="79" y="167"/>
                      </a:lnTo>
                      <a:lnTo>
                        <a:pt x="74" y="185"/>
                      </a:lnTo>
                      <a:lnTo>
                        <a:pt x="70" y="207"/>
                      </a:lnTo>
                      <a:lnTo>
                        <a:pt x="70" y="224"/>
                      </a:lnTo>
                      <a:lnTo>
                        <a:pt x="66" y="246"/>
                      </a:lnTo>
                      <a:lnTo>
                        <a:pt x="61" y="268"/>
                      </a:lnTo>
                      <a:lnTo>
                        <a:pt x="57" y="286"/>
                      </a:lnTo>
                      <a:lnTo>
                        <a:pt x="57" y="308"/>
                      </a:lnTo>
                      <a:lnTo>
                        <a:pt x="52" y="330"/>
                      </a:lnTo>
                      <a:lnTo>
                        <a:pt x="52" y="352"/>
                      </a:lnTo>
                      <a:lnTo>
                        <a:pt x="48" y="370"/>
                      </a:lnTo>
                      <a:lnTo>
                        <a:pt x="48" y="392"/>
                      </a:lnTo>
                      <a:lnTo>
                        <a:pt x="44" y="414"/>
                      </a:lnTo>
                      <a:lnTo>
                        <a:pt x="39" y="432"/>
                      </a:lnTo>
                      <a:lnTo>
                        <a:pt x="39" y="454"/>
                      </a:lnTo>
                      <a:lnTo>
                        <a:pt x="35" y="471"/>
                      </a:lnTo>
                      <a:lnTo>
                        <a:pt x="35" y="493"/>
                      </a:lnTo>
                      <a:lnTo>
                        <a:pt x="30" y="515"/>
                      </a:lnTo>
                      <a:lnTo>
                        <a:pt x="30" y="533"/>
                      </a:lnTo>
                      <a:lnTo>
                        <a:pt x="30" y="555"/>
                      </a:lnTo>
                      <a:lnTo>
                        <a:pt x="26" y="577"/>
                      </a:lnTo>
                      <a:lnTo>
                        <a:pt x="26" y="599"/>
                      </a:lnTo>
                      <a:lnTo>
                        <a:pt x="26" y="617"/>
                      </a:lnTo>
                      <a:lnTo>
                        <a:pt x="22" y="635"/>
                      </a:lnTo>
                      <a:lnTo>
                        <a:pt x="17" y="657"/>
                      </a:lnTo>
                      <a:lnTo>
                        <a:pt x="17" y="679"/>
                      </a:lnTo>
                      <a:lnTo>
                        <a:pt x="17" y="701"/>
                      </a:lnTo>
                      <a:lnTo>
                        <a:pt x="17" y="715"/>
                      </a:lnTo>
                      <a:lnTo>
                        <a:pt x="17" y="733"/>
                      </a:lnTo>
                      <a:lnTo>
                        <a:pt x="13" y="750"/>
                      </a:lnTo>
                      <a:lnTo>
                        <a:pt x="13" y="768"/>
                      </a:lnTo>
                      <a:lnTo>
                        <a:pt x="13" y="781"/>
                      </a:lnTo>
                      <a:lnTo>
                        <a:pt x="13" y="799"/>
                      </a:lnTo>
                      <a:lnTo>
                        <a:pt x="13" y="816"/>
                      </a:lnTo>
                      <a:lnTo>
                        <a:pt x="13" y="830"/>
                      </a:lnTo>
                      <a:lnTo>
                        <a:pt x="8" y="847"/>
                      </a:lnTo>
                      <a:lnTo>
                        <a:pt x="8" y="865"/>
                      </a:lnTo>
                      <a:lnTo>
                        <a:pt x="8" y="882"/>
                      </a:lnTo>
                      <a:lnTo>
                        <a:pt x="8" y="896"/>
                      </a:lnTo>
                      <a:lnTo>
                        <a:pt x="8" y="913"/>
                      </a:lnTo>
                      <a:lnTo>
                        <a:pt x="8" y="931"/>
                      </a:lnTo>
                      <a:lnTo>
                        <a:pt x="8" y="944"/>
                      </a:lnTo>
                      <a:lnTo>
                        <a:pt x="8" y="962"/>
                      </a:lnTo>
                      <a:lnTo>
                        <a:pt x="8" y="979"/>
                      </a:lnTo>
                      <a:lnTo>
                        <a:pt x="4" y="997"/>
                      </a:lnTo>
                      <a:lnTo>
                        <a:pt x="4" y="1010"/>
                      </a:lnTo>
                      <a:lnTo>
                        <a:pt x="4" y="1028"/>
                      </a:lnTo>
                      <a:lnTo>
                        <a:pt x="4" y="1046"/>
                      </a:lnTo>
                      <a:lnTo>
                        <a:pt x="4" y="1063"/>
                      </a:lnTo>
                      <a:lnTo>
                        <a:pt x="4" y="1076"/>
                      </a:lnTo>
                      <a:lnTo>
                        <a:pt x="4" y="1094"/>
                      </a:lnTo>
                      <a:lnTo>
                        <a:pt x="4" y="1112"/>
                      </a:lnTo>
                      <a:lnTo>
                        <a:pt x="4" y="1125"/>
                      </a:lnTo>
                      <a:lnTo>
                        <a:pt x="4" y="1143"/>
                      </a:lnTo>
                      <a:lnTo>
                        <a:pt x="4" y="1160"/>
                      </a:lnTo>
                      <a:lnTo>
                        <a:pt x="0" y="1178"/>
                      </a:lnTo>
                      <a:lnTo>
                        <a:pt x="0" y="1196"/>
                      </a:lnTo>
                      <a:lnTo>
                        <a:pt x="0" y="1209"/>
                      </a:lnTo>
                      <a:lnTo>
                        <a:pt x="0" y="1226"/>
                      </a:lnTo>
                      <a:lnTo>
                        <a:pt x="0" y="1235"/>
                      </a:lnTo>
                      <a:lnTo>
                        <a:pt x="0" y="1244"/>
                      </a:lnTo>
                      <a:lnTo>
                        <a:pt x="4" y="1248"/>
                      </a:lnTo>
                      <a:lnTo>
                        <a:pt x="4" y="1257"/>
                      </a:lnTo>
                      <a:lnTo>
                        <a:pt x="8" y="1262"/>
                      </a:lnTo>
                      <a:lnTo>
                        <a:pt x="13" y="1266"/>
                      </a:lnTo>
                      <a:lnTo>
                        <a:pt x="17" y="1266"/>
                      </a:lnTo>
                      <a:lnTo>
                        <a:pt x="26" y="1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825560" y="5551560"/>
                  <a:ext cx="552960" cy="47880"/>
                </a:xfrm>
                <a:custGeom>
                  <a:avLst/>
                  <a:gdLst/>
                  <a:ahLst/>
                  <a:rect l="0" t="0" r="r" b="b"/>
                  <a:pathLst>
                    <a:path w="1536" h="133">
                      <a:moveTo>
                        <a:pt x="1532" y="128"/>
                      </a:moveTo>
                      <a:lnTo>
                        <a:pt x="1532" y="12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6" y="128"/>
                      </a:lnTo>
                      <a:lnTo>
                        <a:pt x="1532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84280" y="5135400"/>
                  <a:ext cx="39960" cy="462240"/>
                </a:xfrm>
                <a:custGeom>
                  <a:avLst/>
                  <a:gdLst/>
                  <a:ahLst/>
                  <a:rect l="0" t="0" r="r" b="b"/>
                  <a:pathLst>
                    <a:path w="111" h="1284">
                      <a:moveTo>
                        <a:pt x="106" y="4"/>
                      </a:moveTo>
                      <a:lnTo>
                        <a:pt x="106" y="4"/>
                      </a:lnTo>
                      <a:lnTo>
                        <a:pt x="106" y="44"/>
                      </a:lnTo>
                      <a:lnTo>
                        <a:pt x="106" y="83"/>
                      </a:lnTo>
                      <a:lnTo>
                        <a:pt x="102" y="127"/>
                      </a:lnTo>
                      <a:lnTo>
                        <a:pt x="102" y="167"/>
                      </a:lnTo>
                      <a:lnTo>
                        <a:pt x="102" y="211"/>
                      </a:lnTo>
                      <a:lnTo>
                        <a:pt x="98" y="251"/>
                      </a:lnTo>
                      <a:lnTo>
                        <a:pt x="98" y="291"/>
                      </a:lnTo>
                      <a:lnTo>
                        <a:pt x="93" y="330"/>
                      </a:lnTo>
                      <a:lnTo>
                        <a:pt x="93" y="374"/>
                      </a:lnTo>
                      <a:lnTo>
                        <a:pt x="89" y="414"/>
                      </a:lnTo>
                      <a:lnTo>
                        <a:pt x="84" y="454"/>
                      </a:lnTo>
                      <a:lnTo>
                        <a:pt x="84" y="498"/>
                      </a:lnTo>
                      <a:lnTo>
                        <a:pt x="84" y="537"/>
                      </a:lnTo>
                      <a:lnTo>
                        <a:pt x="80" y="577"/>
                      </a:lnTo>
                      <a:lnTo>
                        <a:pt x="75" y="617"/>
                      </a:lnTo>
                      <a:lnTo>
                        <a:pt x="71" y="658"/>
                      </a:lnTo>
                      <a:lnTo>
                        <a:pt x="67" y="702"/>
                      </a:lnTo>
                      <a:lnTo>
                        <a:pt x="62" y="737"/>
                      </a:lnTo>
                      <a:lnTo>
                        <a:pt x="58" y="777"/>
                      </a:lnTo>
                      <a:lnTo>
                        <a:pt x="58" y="821"/>
                      </a:lnTo>
                      <a:lnTo>
                        <a:pt x="52" y="860"/>
                      </a:lnTo>
                      <a:lnTo>
                        <a:pt x="48" y="896"/>
                      </a:lnTo>
                      <a:lnTo>
                        <a:pt x="44" y="935"/>
                      </a:lnTo>
                      <a:lnTo>
                        <a:pt x="39" y="975"/>
                      </a:lnTo>
                      <a:lnTo>
                        <a:pt x="35" y="1015"/>
                      </a:lnTo>
                      <a:lnTo>
                        <a:pt x="30" y="1054"/>
                      </a:lnTo>
                      <a:lnTo>
                        <a:pt x="26" y="1094"/>
                      </a:lnTo>
                      <a:lnTo>
                        <a:pt x="22" y="1129"/>
                      </a:lnTo>
                      <a:lnTo>
                        <a:pt x="13" y="1169"/>
                      </a:lnTo>
                      <a:lnTo>
                        <a:pt x="8" y="1204"/>
                      </a:lnTo>
                      <a:lnTo>
                        <a:pt x="4" y="1244"/>
                      </a:lnTo>
                      <a:lnTo>
                        <a:pt x="0" y="1279"/>
                      </a:lnTo>
                      <a:lnTo>
                        <a:pt x="4" y="1284"/>
                      </a:lnTo>
                      <a:lnTo>
                        <a:pt x="8" y="1244"/>
                      </a:lnTo>
                      <a:lnTo>
                        <a:pt x="13" y="1209"/>
                      </a:lnTo>
                      <a:lnTo>
                        <a:pt x="22" y="1169"/>
                      </a:lnTo>
                      <a:lnTo>
                        <a:pt x="26" y="1134"/>
                      </a:lnTo>
                      <a:lnTo>
                        <a:pt x="30" y="1094"/>
                      </a:lnTo>
                      <a:lnTo>
                        <a:pt x="35" y="1054"/>
                      </a:lnTo>
                      <a:lnTo>
                        <a:pt x="39" y="1019"/>
                      </a:lnTo>
                      <a:lnTo>
                        <a:pt x="44" y="979"/>
                      </a:lnTo>
                      <a:lnTo>
                        <a:pt x="48" y="940"/>
                      </a:lnTo>
                      <a:lnTo>
                        <a:pt x="52" y="896"/>
                      </a:lnTo>
                      <a:lnTo>
                        <a:pt x="58" y="860"/>
                      </a:lnTo>
                      <a:lnTo>
                        <a:pt x="62" y="821"/>
                      </a:lnTo>
                      <a:lnTo>
                        <a:pt x="67" y="781"/>
                      </a:lnTo>
                      <a:lnTo>
                        <a:pt x="71" y="737"/>
                      </a:lnTo>
                      <a:lnTo>
                        <a:pt x="75" y="702"/>
                      </a:lnTo>
                      <a:lnTo>
                        <a:pt x="75" y="658"/>
                      </a:lnTo>
                      <a:lnTo>
                        <a:pt x="80" y="617"/>
                      </a:lnTo>
                      <a:lnTo>
                        <a:pt x="84" y="577"/>
                      </a:lnTo>
                      <a:lnTo>
                        <a:pt x="84" y="537"/>
                      </a:lnTo>
                      <a:lnTo>
                        <a:pt x="89" y="498"/>
                      </a:lnTo>
                      <a:lnTo>
                        <a:pt x="93" y="454"/>
                      </a:lnTo>
                      <a:lnTo>
                        <a:pt x="93" y="414"/>
                      </a:lnTo>
                      <a:lnTo>
                        <a:pt x="98" y="374"/>
                      </a:lnTo>
                      <a:lnTo>
                        <a:pt x="102" y="330"/>
                      </a:lnTo>
                      <a:lnTo>
                        <a:pt x="102" y="291"/>
                      </a:lnTo>
                      <a:lnTo>
                        <a:pt x="106" y="251"/>
                      </a:lnTo>
                      <a:lnTo>
                        <a:pt x="106" y="211"/>
                      </a:lnTo>
                      <a:lnTo>
                        <a:pt x="106" y="167"/>
                      </a:lnTo>
                      <a:lnTo>
                        <a:pt x="111" y="127"/>
                      </a:lnTo>
                      <a:lnTo>
                        <a:pt x="111" y="83"/>
                      </a:lnTo>
                      <a:lnTo>
                        <a:pt x="111" y="44"/>
                      </a:lnTo>
                      <a:lnTo>
                        <a:pt x="111" y="4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06" y="0"/>
                      </a:lnTo>
                      <a:lnTo>
                        <a:pt x="10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417760" y="5121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" y="17"/>
                      </a:lnTo>
                      <a:lnTo>
                        <a:pt x="36" y="17"/>
                      </a:lnTo>
                      <a:lnTo>
                        <a:pt x="36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lnTo>
                        <a:pt x="53" y="53"/>
                      </a:lnTo>
                      <a:lnTo>
                        <a:pt x="53" y="53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3"/>
                      </a:lnTo>
                      <a:lnTo>
                        <a:pt x="72" y="53"/>
                      </a:lnTo>
                      <a:lnTo>
                        <a:pt x="72" y="36"/>
                      </a:lnTo>
                      <a:lnTo>
                        <a:pt x="53" y="36"/>
                      </a:lnTo>
                      <a:lnTo>
                        <a:pt x="53" y="17"/>
                      </a:lnTo>
                      <a:lnTo>
                        <a:pt x="36" y="17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886040" y="5086440"/>
                  <a:ext cx="525960" cy="27360"/>
                </a:xfrm>
                <a:custGeom>
                  <a:avLst/>
                  <a:gdLst/>
                  <a:ahLst/>
                  <a:rect l="0" t="0" r="r" b="b"/>
                  <a:pathLst>
                    <a:path w="146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52" y="4"/>
                      </a:lnTo>
                      <a:lnTo>
                        <a:pt x="97" y="4"/>
                      </a:lnTo>
                      <a:lnTo>
                        <a:pt x="145" y="4"/>
                      </a:lnTo>
                      <a:lnTo>
                        <a:pt x="189" y="4"/>
                      </a:lnTo>
                      <a:lnTo>
                        <a:pt x="238" y="4"/>
                      </a:lnTo>
                      <a:lnTo>
                        <a:pt x="282" y="4"/>
                      </a:lnTo>
                      <a:lnTo>
                        <a:pt x="330" y="8"/>
                      </a:lnTo>
                      <a:lnTo>
                        <a:pt x="375" y="8"/>
                      </a:lnTo>
                      <a:lnTo>
                        <a:pt x="419" y="8"/>
                      </a:lnTo>
                      <a:lnTo>
                        <a:pt x="464" y="8"/>
                      </a:lnTo>
                      <a:lnTo>
                        <a:pt x="508" y="13"/>
                      </a:lnTo>
                      <a:lnTo>
                        <a:pt x="552" y="13"/>
                      </a:lnTo>
                      <a:lnTo>
                        <a:pt x="600" y="13"/>
                      </a:lnTo>
                      <a:lnTo>
                        <a:pt x="644" y="13"/>
                      </a:lnTo>
                      <a:lnTo>
                        <a:pt x="688" y="17"/>
                      </a:lnTo>
                      <a:lnTo>
                        <a:pt x="733" y="17"/>
                      </a:lnTo>
                      <a:lnTo>
                        <a:pt x="777" y="23"/>
                      </a:lnTo>
                      <a:lnTo>
                        <a:pt x="821" y="23"/>
                      </a:lnTo>
                      <a:lnTo>
                        <a:pt x="865" y="27"/>
                      </a:lnTo>
                      <a:lnTo>
                        <a:pt x="913" y="27"/>
                      </a:lnTo>
                      <a:lnTo>
                        <a:pt x="957" y="31"/>
                      </a:lnTo>
                      <a:lnTo>
                        <a:pt x="1002" y="36"/>
                      </a:lnTo>
                      <a:lnTo>
                        <a:pt x="1046" y="36"/>
                      </a:lnTo>
                      <a:lnTo>
                        <a:pt x="1090" y="40"/>
                      </a:lnTo>
                      <a:lnTo>
                        <a:pt x="1135" y="45"/>
                      </a:lnTo>
                      <a:lnTo>
                        <a:pt x="1179" y="49"/>
                      </a:lnTo>
                      <a:lnTo>
                        <a:pt x="1227" y="49"/>
                      </a:lnTo>
                      <a:lnTo>
                        <a:pt x="1276" y="59"/>
                      </a:lnTo>
                      <a:lnTo>
                        <a:pt x="1320" y="63"/>
                      </a:lnTo>
                      <a:lnTo>
                        <a:pt x="1364" y="68"/>
                      </a:lnTo>
                      <a:lnTo>
                        <a:pt x="1413" y="72"/>
                      </a:lnTo>
                      <a:lnTo>
                        <a:pt x="1457" y="76"/>
                      </a:lnTo>
                      <a:lnTo>
                        <a:pt x="1461" y="72"/>
                      </a:lnTo>
                      <a:lnTo>
                        <a:pt x="1413" y="68"/>
                      </a:lnTo>
                      <a:lnTo>
                        <a:pt x="1369" y="63"/>
                      </a:lnTo>
                      <a:lnTo>
                        <a:pt x="1320" y="59"/>
                      </a:lnTo>
                      <a:lnTo>
                        <a:pt x="1276" y="49"/>
                      </a:lnTo>
                      <a:lnTo>
                        <a:pt x="1227" y="49"/>
                      </a:lnTo>
                      <a:lnTo>
                        <a:pt x="1183" y="45"/>
                      </a:lnTo>
                      <a:lnTo>
                        <a:pt x="1135" y="40"/>
                      </a:lnTo>
                      <a:lnTo>
                        <a:pt x="1090" y="36"/>
                      </a:lnTo>
                      <a:lnTo>
                        <a:pt x="1046" y="31"/>
                      </a:lnTo>
                      <a:lnTo>
                        <a:pt x="1002" y="27"/>
                      </a:lnTo>
                      <a:lnTo>
                        <a:pt x="957" y="27"/>
                      </a:lnTo>
                      <a:lnTo>
                        <a:pt x="913" y="23"/>
                      </a:lnTo>
                      <a:lnTo>
                        <a:pt x="869" y="23"/>
                      </a:lnTo>
                      <a:lnTo>
                        <a:pt x="821" y="17"/>
                      </a:lnTo>
                      <a:lnTo>
                        <a:pt x="777" y="13"/>
                      </a:lnTo>
                      <a:lnTo>
                        <a:pt x="733" y="13"/>
                      </a:lnTo>
                      <a:lnTo>
                        <a:pt x="688" y="13"/>
                      </a:lnTo>
                      <a:lnTo>
                        <a:pt x="644" y="8"/>
                      </a:lnTo>
                      <a:lnTo>
                        <a:pt x="600" y="8"/>
                      </a:lnTo>
                      <a:lnTo>
                        <a:pt x="552" y="8"/>
                      </a:lnTo>
                      <a:lnTo>
                        <a:pt x="508" y="4"/>
                      </a:lnTo>
                      <a:lnTo>
                        <a:pt x="464" y="4"/>
                      </a:lnTo>
                      <a:lnTo>
                        <a:pt x="419" y="4"/>
                      </a:lnTo>
                      <a:lnTo>
                        <a:pt x="375" y="0"/>
                      </a:lnTo>
                      <a:lnTo>
                        <a:pt x="330" y="0"/>
                      </a:lnTo>
                      <a:lnTo>
                        <a:pt x="282" y="0"/>
                      </a:lnTo>
                      <a:lnTo>
                        <a:pt x="238" y="0"/>
                      </a:lnTo>
                      <a:lnTo>
                        <a:pt x="189" y="0"/>
                      </a:lnTo>
                      <a:lnTo>
                        <a:pt x="145" y="0"/>
                      </a:lnTo>
                      <a:lnTo>
                        <a:pt x="97" y="0"/>
                      </a:lnTo>
                      <a:lnTo>
                        <a:pt x="5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852560" y="508644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8" y="58"/>
                      </a:lnTo>
                      <a:lnTo>
                        <a:pt x="8" y="43"/>
                      </a:lnTo>
                      <a:lnTo>
                        <a:pt x="13" y="43"/>
                      </a:lnTo>
                      <a:lnTo>
                        <a:pt x="13" y="29"/>
                      </a:lnTo>
                      <a:lnTo>
                        <a:pt x="13" y="29"/>
                      </a:lnTo>
                      <a:lnTo>
                        <a:pt x="17" y="29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40" y="14"/>
                      </a:lnTo>
                      <a:lnTo>
                        <a:pt x="45" y="14"/>
                      </a:lnTo>
                      <a:lnTo>
                        <a:pt x="49" y="14"/>
                      </a:lnTo>
                      <a:lnTo>
                        <a:pt x="59" y="14"/>
                      </a:lnTo>
                      <a:lnTo>
                        <a:pt x="68" y="14"/>
                      </a:lnTo>
                      <a:lnTo>
                        <a:pt x="76" y="14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9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3" y="14"/>
                      </a:lnTo>
                      <a:lnTo>
                        <a:pt x="13" y="29"/>
                      </a:lnTo>
                      <a:lnTo>
                        <a:pt x="8" y="29"/>
                      </a:lnTo>
                      <a:lnTo>
                        <a:pt x="8" y="43"/>
                      </a:lnTo>
                      <a:lnTo>
                        <a:pt x="4" y="43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22320" y="5103720"/>
                  <a:ext cx="25920" cy="233640"/>
                </a:xfrm>
                <a:custGeom>
                  <a:avLst/>
                  <a:gdLst/>
                  <a:ahLst/>
                  <a:rect l="0" t="0" r="r" b="b"/>
                  <a:pathLst>
                    <a:path w="72" h="649">
                      <a:moveTo>
                        <a:pt x="4" y="644"/>
                      </a:moveTo>
                      <a:lnTo>
                        <a:pt x="4" y="644"/>
                      </a:lnTo>
                      <a:lnTo>
                        <a:pt x="4" y="627"/>
                      </a:lnTo>
                      <a:lnTo>
                        <a:pt x="9" y="605"/>
                      </a:lnTo>
                      <a:lnTo>
                        <a:pt x="9" y="583"/>
                      </a:lnTo>
                      <a:lnTo>
                        <a:pt x="9" y="565"/>
                      </a:lnTo>
                      <a:lnTo>
                        <a:pt x="9" y="547"/>
                      </a:lnTo>
                      <a:lnTo>
                        <a:pt x="9" y="525"/>
                      </a:lnTo>
                      <a:lnTo>
                        <a:pt x="14" y="503"/>
                      </a:lnTo>
                      <a:lnTo>
                        <a:pt x="14" y="486"/>
                      </a:lnTo>
                      <a:lnTo>
                        <a:pt x="19" y="464"/>
                      </a:lnTo>
                      <a:lnTo>
                        <a:pt x="19" y="446"/>
                      </a:lnTo>
                      <a:lnTo>
                        <a:pt x="19" y="424"/>
                      </a:lnTo>
                      <a:lnTo>
                        <a:pt x="19" y="406"/>
                      </a:lnTo>
                      <a:lnTo>
                        <a:pt x="24" y="384"/>
                      </a:lnTo>
                      <a:lnTo>
                        <a:pt x="24" y="362"/>
                      </a:lnTo>
                      <a:lnTo>
                        <a:pt x="29" y="344"/>
                      </a:lnTo>
                      <a:lnTo>
                        <a:pt x="29" y="321"/>
                      </a:lnTo>
                      <a:lnTo>
                        <a:pt x="29" y="304"/>
                      </a:lnTo>
                      <a:lnTo>
                        <a:pt x="33" y="286"/>
                      </a:lnTo>
                      <a:lnTo>
                        <a:pt x="33" y="264"/>
                      </a:lnTo>
                      <a:lnTo>
                        <a:pt x="38" y="242"/>
                      </a:lnTo>
                      <a:lnTo>
                        <a:pt x="43" y="220"/>
                      </a:lnTo>
                      <a:lnTo>
                        <a:pt x="43" y="202"/>
                      </a:lnTo>
                      <a:lnTo>
                        <a:pt x="43" y="180"/>
                      </a:lnTo>
                      <a:lnTo>
                        <a:pt x="48" y="163"/>
                      </a:lnTo>
                      <a:lnTo>
                        <a:pt x="52" y="145"/>
                      </a:lnTo>
                      <a:lnTo>
                        <a:pt x="52" y="123"/>
                      </a:lnTo>
                      <a:lnTo>
                        <a:pt x="58" y="101"/>
                      </a:lnTo>
                      <a:lnTo>
                        <a:pt x="58" y="79"/>
                      </a:lnTo>
                      <a:lnTo>
                        <a:pt x="63" y="61"/>
                      </a:lnTo>
                      <a:lnTo>
                        <a:pt x="67" y="39"/>
                      </a:lnTo>
                      <a:lnTo>
                        <a:pt x="67" y="22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2"/>
                      </a:lnTo>
                      <a:lnTo>
                        <a:pt x="63" y="39"/>
                      </a:lnTo>
                      <a:lnTo>
                        <a:pt x="58" y="61"/>
                      </a:lnTo>
                      <a:lnTo>
                        <a:pt x="52" y="79"/>
                      </a:lnTo>
                      <a:lnTo>
                        <a:pt x="52" y="101"/>
                      </a:lnTo>
                      <a:lnTo>
                        <a:pt x="48" y="123"/>
                      </a:lnTo>
                      <a:lnTo>
                        <a:pt x="43" y="141"/>
                      </a:lnTo>
                      <a:lnTo>
                        <a:pt x="43" y="163"/>
                      </a:lnTo>
                      <a:lnTo>
                        <a:pt x="43" y="180"/>
                      </a:lnTo>
                      <a:lnTo>
                        <a:pt x="38" y="202"/>
                      </a:lnTo>
                      <a:lnTo>
                        <a:pt x="33" y="220"/>
                      </a:lnTo>
                      <a:lnTo>
                        <a:pt x="33" y="242"/>
                      </a:lnTo>
                      <a:lnTo>
                        <a:pt x="29" y="264"/>
                      </a:lnTo>
                      <a:lnTo>
                        <a:pt x="29" y="282"/>
                      </a:lnTo>
                      <a:lnTo>
                        <a:pt x="29" y="304"/>
                      </a:lnTo>
                      <a:lnTo>
                        <a:pt x="24" y="321"/>
                      </a:lnTo>
                      <a:lnTo>
                        <a:pt x="24" y="344"/>
                      </a:lnTo>
                      <a:lnTo>
                        <a:pt x="19" y="362"/>
                      </a:lnTo>
                      <a:lnTo>
                        <a:pt x="19" y="384"/>
                      </a:lnTo>
                      <a:lnTo>
                        <a:pt x="19" y="406"/>
                      </a:lnTo>
                      <a:lnTo>
                        <a:pt x="14" y="424"/>
                      </a:lnTo>
                      <a:lnTo>
                        <a:pt x="14" y="446"/>
                      </a:lnTo>
                      <a:lnTo>
                        <a:pt x="9" y="464"/>
                      </a:lnTo>
                      <a:lnTo>
                        <a:pt x="9" y="486"/>
                      </a:lnTo>
                      <a:lnTo>
                        <a:pt x="9" y="503"/>
                      </a:lnTo>
                      <a:lnTo>
                        <a:pt x="9" y="525"/>
                      </a:lnTo>
                      <a:lnTo>
                        <a:pt x="4" y="547"/>
                      </a:lnTo>
                      <a:lnTo>
                        <a:pt x="4" y="565"/>
                      </a:lnTo>
                      <a:lnTo>
                        <a:pt x="4" y="583"/>
                      </a:lnTo>
                      <a:lnTo>
                        <a:pt x="0" y="605"/>
                      </a:lnTo>
                      <a:lnTo>
                        <a:pt x="0" y="627"/>
                      </a:lnTo>
                      <a:lnTo>
                        <a:pt x="0" y="644"/>
                      </a:lnTo>
                      <a:lnTo>
                        <a:pt x="0" y="644"/>
                      </a:lnTo>
                      <a:lnTo>
                        <a:pt x="0" y="649"/>
                      </a:lnTo>
                      <a:lnTo>
                        <a:pt x="4" y="649"/>
                      </a:lnTo>
                      <a:lnTo>
                        <a:pt x="4" y="6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16200" y="5345280"/>
                  <a:ext cx="0" cy="182520"/>
                </a:xfrm>
                <a:custGeom>
                  <a:avLst/>
                  <a:gdLst/>
                  <a:ahLst/>
                  <a:rect l="0" t="0" r="r" b="b"/>
                  <a:pathLst>
                    <a:path w="0" h="507">
                      <a:moveTo>
                        <a:pt x="0" y="502"/>
                      </a:moveTo>
                      <a:lnTo>
                        <a:pt x="0" y="502"/>
                      </a:lnTo>
                      <a:lnTo>
                        <a:pt x="0" y="489"/>
                      </a:lnTo>
                      <a:lnTo>
                        <a:pt x="0" y="476"/>
                      </a:lnTo>
                      <a:lnTo>
                        <a:pt x="0" y="458"/>
                      </a:lnTo>
                      <a:lnTo>
                        <a:pt x="0" y="440"/>
                      </a:lnTo>
                      <a:lnTo>
                        <a:pt x="0" y="423"/>
                      </a:lnTo>
                      <a:lnTo>
                        <a:pt x="0" y="410"/>
                      </a:lnTo>
                      <a:lnTo>
                        <a:pt x="0" y="396"/>
                      </a:lnTo>
                      <a:lnTo>
                        <a:pt x="0" y="379"/>
                      </a:lnTo>
                      <a:lnTo>
                        <a:pt x="0" y="361"/>
                      </a:lnTo>
                      <a:lnTo>
                        <a:pt x="0" y="348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0" y="299"/>
                      </a:lnTo>
                      <a:lnTo>
                        <a:pt x="0" y="286"/>
                      </a:lnTo>
                      <a:lnTo>
                        <a:pt x="0" y="268"/>
                      </a:lnTo>
                      <a:lnTo>
                        <a:pt x="0" y="251"/>
                      </a:lnTo>
                      <a:lnTo>
                        <a:pt x="0" y="238"/>
                      </a:lnTo>
                      <a:lnTo>
                        <a:pt x="0" y="220"/>
                      </a:lnTo>
                      <a:lnTo>
                        <a:pt x="0" y="207"/>
                      </a:lnTo>
                      <a:lnTo>
                        <a:pt x="0" y="189"/>
                      </a:lnTo>
                      <a:lnTo>
                        <a:pt x="0" y="176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127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79"/>
                      </a:lnTo>
                      <a:lnTo>
                        <a:pt x="0" y="66"/>
                      </a:lnTo>
                      <a:lnTo>
                        <a:pt x="0" y="48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0" y="66"/>
                      </a:lnTo>
                      <a:lnTo>
                        <a:pt x="0" y="79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7"/>
                      </a:lnTo>
                      <a:lnTo>
                        <a:pt x="0" y="141"/>
                      </a:lnTo>
                      <a:lnTo>
                        <a:pt x="0" y="158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0" y="220"/>
                      </a:lnTo>
                      <a:lnTo>
                        <a:pt x="0" y="238"/>
                      </a:lnTo>
                      <a:lnTo>
                        <a:pt x="0" y="251"/>
                      </a:lnTo>
                      <a:lnTo>
                        <a:pt x="0" y="268"/>
                      </a:lnTo>
                      <a:lnTo>
                        <a:pt x="0" y="286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0" y="330"/>
                      </a:lnTo>
                      <a:lnTo>
                        <a:pt x="0" y="348"/>
                      </a:lnTo>
                      <a:lnTo>
                        <a:pt x="0" y="361"/>
                      </a:lnTo>
                      <a:lnTo>
                        <a:pt x="0" y="379"/>
                      </a:lnTo>
                      <a:lnTo>
                        <a:pt x="0" y="396"/>
                      </a:lnTo>
                      <a:lnTo>
                        <a:pt x="0" y="410"/>
                      </a:lnTo>
                      <a:lnTo>
                        <a:pt x="0" y="423"/>
                      </a:lnTo>
                      <a:lnTo>
                        <a:pt x="0" y="440"/>
                      </a:lnTo>
                      <a:lnTo>
                        <a:pt x="0" y="458"/>
                      </a:lnTo>
                      <a:lnTo>
                        <a:pt x="0" y="476"/>
                      </a:lnTo>
                      <a:lnTo>
                        <a:pt x="0" y="489"/>
                      </a:lnTo>
                      <a:lnTo>
                        <a:pt x="0" y="502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16200" y="5535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0"/>
                      </a:move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36"/>
                      </a:lnTo>
                      <a:lnTo>
                        <a:pt x="0" y="2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24"/>
                      </a:lnTo>
                      <a:lnTo>
                        <a:pt x="0" y="36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63720" y="5146560"/>
                  <a:ext cx="498960" cy="394200"/>
                </a:xfrm>
                <a:custGeom>
                  <a:avLst/>
                  <a:gdLst/>
                  <a:ahLst/>
                  <a:rect l="0" t="0" r="r" b="b"/>
                  <a:pathLst>
                    <a:path w="1386" h="1095">
                      <a:moveTo>
                        <a:pt x="83" y="35"/>
                      </a:moveTo>
                      <a:lnTo>
                        <a:pt x="79" y="61"/>
                      </a:lnTo>
                      <a:lnTo>
                        <a:pt x="79" y="88"/>
                      </a:lnTo>
                      <a:lnTo>
                        <a:pt x="74" y="114"/>
                      </a:lnTo>
                      <a:lnTo>
                        <a:pt x="70" y="141"/>
                      </a:lnTo>
                      <a:lnTo>
                        <a:pt x="70" y="167"/>
                      </a:lnTo>
                      <a:lnTo>
                        <a:pt x="66" y="198"/>
                      </a:lnTo>
                      <a:lnTo>
                        <a:pt x="61" y="224"/>
                      </a:lnTo>
                      <a:lnTo>
                        <a:pt x="57" y="251"/>
                      </a:lnTo>
                      <a:lnTo>
                        <a:pt x="57" y="283"/>
                      </a:lnTo>
                      <a:lnTo>
                        <a:pt x="52" y="309"/>
                      </a:lnTo>
                      <a:lnTo>
                        <a:pt x="48" y="336"/>
                      </a:lnTo>
                      <a:lnTo>
                        <a:pt x="44" y="362"/>
                      </a:lnTo>
                      <a:lnTo>
                        <a:pt x="39" y="393"/>
                      </a:lnTo>
                      <a:lnTo>
                        <a:pt x="39" y="419"/>
                      </a:lnTo>
                      <a:lnTo>
                        <a:pt x="35" y="446"/>
                      </a:lnTo>
                      <a:lnTo>
                        <a:pt x="30" y="477"/>
                      </a:lnTo>
                      <a:lnTo>
                        <a:pt x="30" y="503"/>
                      </a:lnTo>
                      <a:lnTo>
                        <a:pt x="26" y="530"/>
                      </a:lnTo>
                      <a:lnTo>
                        <a:pt x="26" y="561"/>
                      </a:lnTo>
                      <a:lnTo>
                        <a:pt x="22" y="591"/>
                      </a:lnTo>
                      <a:lnTo>
                        <a:pt x="17" y="618"/>
                      </a:lnTo>
                      <a:lnTo>
                        <a:pt x="17" y="644"/>
                      </a:lnTo>
                      <a:lnTo>
                        <a:pt x="13" y="675"/>
                      </a:lnTo>
                      <a:lnTo>
                        <a:pt x="13" y="702"/>
                      </a:lnTo>
                      <a:lnTo>
                        <a:pt x="8" y="733"/>
                      </a:lnTo>
                      <a:lnTo>
                        <a:pt x="8" y="763"/>
                      </a:lnTo>
                      <a:lnTo>
                        <a:pt x="8" y="790"/>
                      </a:lnTo>
                      <a:lnTo>
                        <a:pt x="4" y="816"/>
                      </a:lnTo>
                      <a:lnTo>
                        <a:pt x="4" y="848"/>
                      </a:lnTo>
                      <a:lnTo>
                        <a:pt x="4" y="879"/>
                      </a:lnTo>
                      <a:lnTo>
                        <a:pt x="0" y="905"/>
                      </a:lnTo>
                      <a:lnTo>
                        <a:pt x="0" y="936"/>
                      </a:lnTo>
                      <a:lnTo>
                        <a:pt x="0" y="941"/>
                      </a:lnTo>
                      <a:lnTo>
                        <a:pt x="0" y="950"/>
                      </a:lnTo>
                      <a:lnTo>
                        <a:pt x="4" y="958"/>
                      </a:lnTo>
                      <a:lnTo>
                        <a:pt x="4" y="963"/>
                      </a:lnTo>
                      <a:lnTo>
                        <a:pt x="4" y="967"/>
                      </a:lnTo>
                      <a:lnTo>
                        <a:pt x="4" y="976"/>
                      </a:lnTo>
                      <a:lnTo>
                        <a:pt x="8" y="980"/>
                      </a:lnTo>
                      <a:lnTo>
                        <a:pt x="8" y="985"/>
                      </a:lnTo>
                      <a:lnTo>
                        <a:pt x="13" y="985"/>
                      </a:lnTo>
                      <a:lnTo>
                        <a:pt x="13" y="989"/>
                      </a:lnTo>
                      <a:lnTo>
                        <a:pt x="17" y="994"/>
                      </a:lnTo>
                      <a:lnTo>
                        <a:pt x="22" y="994"/>
                      </a:lnTo>
                      <a:lnTo>
                        <a:pt x="26" y="998"/>
                      </a:lnTo>
                      <a:lnTo>
                        <a:pt x="30" y="1003"/>
                      </a:lnTo>
                      <a:lnTo>
                        <a:pt x="35" y="1003"/>
                      </a:lnTo>
                      <a:lnTo>
                        <a:pt x="39" y="1003"/>
                      </a:lnTo>
                      <a:lnTo>
                        <a:pt x="1232" y="1095"/>
                      </a:lnTo>
                      <a:lnTo>
                        <a:pt x="1241" y="1095"/>
                      </a:lnTo>
                      <a:lnTo>
                        <a:pt x="1249" y="1095"/>
                      </a:lnTo>
                      <a:lnTo>
                        <a:pt x="1258" y="1091"/>
                      </a:lnTo>
                      <a:lnTo>
                        <a:pt x="1263" y="1091"/>
                      </a:lnTo>
                      <a:lnTo>
                        <a:pt x="1272" y="1086"/>
                      </a:lnTo>
                      <a:lnTo>
                        <a:pt x="1276" y="1082"/>
                      </a:lnTo>
                      <a:lnTo>
                        <a:pt x="1280" y="1077"/>
                      </a:lnTo>
                      <a:lnTo>
                        <a:pt x="1285" y="1073"/>
                      </a:lnTo>
                      <a:lnTo>
                        <a:pt x="1289" y="1069"/>
                      </a:lnTo>
                      <a:lnTo>
                        <a:pt x="1294" y="1060"/>
                      </a:lnTo>
                      <a:lnTo>
                        <a:pt x="1298" y="1055"/>
                      </a:lnTo>
                      <a:lnTo>
                        <a:pt x="1302" y="1051"/>
                      </a:lnTo>
                      <a:lnTo>
                        <a:pt x="1302" y="1042"/>
                      </a:lnTo>
                      <a:lnTo>
                        <a:pt x="1307" y="1033"/>
                      </a:lnTo>
                      <a:lnTo>
                        <a:pt x="1307" y="1029"/>
                      </a:lnTo>
                      <a:lnTo>
                        <a:pt x="1311" y="1020"/>
                      </a:lnTo>
                      <a:lnTo>
                        <a:pt x="1386" y="154"/>
                      </a:lnTo>
                      <a:lnTo>
                        <a:pt x="1386" y="145"/>
                      </a:lnTo>
                      <a:lnTo>
                        <a:pt x="1386" y="136"/>
                      </a:lnTo>
                      <a:lnTo>
                        <a:pt x="1386" y="127"/>
                      </a:lnTo>
                      <a:lnTo>
                        <a:pt x="1386" y="119"/>
                      </a:lnTo>
                      <a:lnTo>
                        <a:pt x="1386" y="114"/>
                      </a:lnTo>
                      <a:lnTo>
                        <a:pt x="1386" y="110"/>
                      </a:lnTo>
                      <a:lnTo>
                        <a:pt x="1382" y="101"/>
                      </a:lnTo>
                      <a:lnTo>
                        <a:pt x="1382" y="97"/>
                      </a:lnTo>
                      <a:lnTo>
                        <a:pt x="1382" y="92"/>
                      </a:lnTo>
                      <a:lnTo>
                        <a:pt x="1377" y="88"/>
                      </a:lnTo>
                      <a:lnTo>
                        <a:pt x="1377" y="83"/>
                      </a:lnTo>
                      <a:lnTo>
                        <a:pt x="1373" y="79"/>
                      </a:lnTo>
                      <a:lnTo>
                        <a:pt x="1369" y="74"/>
                      </a:lnTo>
                      <a:lnTo>
                        <a:pt x="1364" y="70"/>
                      </a:lnTo>
                      <a:lnTo>
                        <a:pt x="1355" y="70"/>
                      </a:lnTo>
                      <a:lnTo>
                        <a:pt x="1351" y="66"/>
                      </a:lnTo>
                      <a:lnTo>
                        <a:pt x="1316" y="61"/>
                      </a:lnTo>
                      <a:lnTo>
                        <a:pt x="1280" y="57"/>
                      </a:lnTo>
                      <a:lnTo>
                        <a:pt x="1245" y="52"/>
                      </a:lnTo>
                      <a:lnTo>
                        <a:pt x="1210" y="48"/>
                      </a:lnTo>
                      <a:lnTo>
                        <a:pt x="1174" y="44"/>
                      </a:lnTo>
                      <a:lnTo>
                        <a:pt x="1135" y="39"/>
                      </a:lnTo>
                      <a:lnTo>
                        <a:pt x="1104" y="35"/>
                      </a:lnTo>
                      <a:lnTo>
                        <a:pt x="1064" y="30"/>
                      </a:lnTo>
                      <a:lnTo>
                        <a:pt x="1028" y="30"/>
                      </a:lnTo>
                      <a:lnTo>
                        <a:pt x="993" y="26"/>
                      </a:lnTo>
                      <a:lnTo>
                        <a:pt x="953" y="22"/>
                      </a:lnTo>
                      <a:lnTo>
                        <a:pt x="913" y="17"/>
                      </a:lnTo>
                      <a:lnTo>
                        <a:pt x="878" y="17"/>
                      </a:lnTo>
                      <a:lnTo>
                        <a:pt x="843" y="13"/>
                      </a:lnTo>
                      <a:lnTo>
                        <a:pt x="803" y="13"/>
                      </a:lnTo>
                      <a:lnTo>
                        <a:pt x="763" y="8"/>
                      </a:lnTo>
                      <a:lnTo>
                        <a:pt x="728" y="8"/>
                      </a:lnTo>
                      <a:lnTo>
                        <a:pt x="693" y="8"/>
                      </a:lnTo>
                      <a:lnTo>
                        <a:pt x="653" y="4"/>
                      </a:lnTo>
                      <a:lnTo>
                        <a:pt x="613" y="4"/>
                      </a:lnTo>
                      <a:lnTo>
                        <a:pt x="578" y="4"/>
                      </a:lnTo>
                      <a:lnTo>
                        <a:pt x="538" y="4"/>
                      </a:lnTo>
                      <a:lnTo>
                        <a:pt x="499" y="4"/>
                      </a:lnTo>
                      <a:lnTo>
                        <a:pt x="464" y="0"/>
                      </a:lnTo>
                      <a:lnTo>
                        <a:pt x="424" y="0"/>
                      </a:lnTo>
                      <a:lnTo>
                        <a:pt x="389" y="0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73" y="0"/>
                      </a:lnTo>
                      <a:lnTo>
                        <a:pt x="233" y="0"/>
                      </a:lnTo>
                      <a:lnTo>
                        <a:pt x="198" y="4"/>
                      </a:lnTo>
                      <a:lnTo>
                        <a:pt x="163" y="4"/>
                      </a:lnTo>
                      <a:lnTo>
                        <a:pt x="154" y="4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8"/>
                      </a:lnTo>
                      <a:lnTo>
                        <a:pt x="105" y="8"/>
                      </a:lnTo>
                      <a:lnTo>
                        <a:pt x="105" y="8"/>
                      </a:lnTo>
                      <a:lnTo>
                        <a:pt x="101" y="13"/>
                      </a:lnTo>
                      <a:lnTo>
                        <a:pt x="97" y="17"/>
                      </a:lnTo>
                      <a:lnTo>
                        <a:pt x="92" y="17"/>
                      </a:lnTo>
                      <a:lnTo>
                        <a:pt x="92" y="22"/>
                      </a:lnTo>
                      <a:lnTo>
                        <a:pt x="88" y="26"/>
                      </a:lnTo>
                      <a:lnTo>
                        <a:pt x="83" y="30"/>
                      </a:lnTo>
                      <a:lnTo>
                        <a:pt x="83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62280" y="5157720"/>
                  <a:ext cx="25920" cy="325800"/>
                </a:xfrm>
                <a:custGeom>
                  <a:avLst/>
                  <a:gdLst/>
                  <a:ahLst/>
                  <a:rect l="0" t="0" r="r" b="b"/>
                  <a:pathLst>
                    <a:path w="72" h="905">
                      <a:moveTo>
                        <a:pt x="4" y="901"/>
                      </a:moveTo>
                      <a:lnTo>
                        <a:pt x="4" y="901"/>
                      </a:lnTo>
                      <a:lnTo>
                        <a:pt x="4" y="870"/>
                      </a:lnTo>
                      <a:lnTo>
                        <a:pt x="4" y="844"/>
                      </a:lnTo>
                      <a:lnTo>
                        <a:pt x="9" y="813"/>
                      </a:lnTo>
                      <a:lnTo>
                        <a:pt x="9" y="786"/>
                      </a:lnTo>
                      <a:lnTo>
                        <a:pt x="9" y="756"/>
                      </a:lnTo>
                      <a:lnTo>
                        <a:pt x="9" y="729"/>
                      </a:lnTo>
                      <a:lnTo>
                        <a:pt x="9" y="698"/>
                      </a:lnTo>
                      <a:lnTo>
                        <a:pt x="14" y="671"/>
                      </a:lnTo>
                      <a:lnTo>
                        <a:pt x="14" y="640"/>
                      </a:lnTo>
                      <a:lnTo>
                        <a:pt x="19" y="609"/>
                      </a:lnTo>
                      <a:lnTo>
                        <a:pt x="19" y="583"/>
                      </a:lnTo>
                      <a:lnTo>
                        <a:pt x="19" y="556"/>
                      </a:lnTo>
                      <a:lnTo>
                        <a:pt x="24" y="525"/>
                      </a:lnTo>
                      <a:lnTo>
                        <a:pt x="24" y="499"/>
                      </a:lnTo>
                      <a:lnTo>
                        <a:pt x="29" y="472"/>
                      </a:lnTo>
                      <a:lnTo>
                        <a:pt x="29" y="441"/>
                      </a:lnTo>
                      <a:lnTo>
                        <a:pt x="33" y="415"/>
                      </a:lnTo>
                      <a:lnTo>
                        <a:pt x="33" y="384"/>
                      </a:lnTo>
                      <a:lnTo>
                        <a:pt x="38" y="358"/>
                      </a:lnTo>
                      <a:lnTo>
                        <a:pt x="43" y="331"/>
                      </a:lnTo>
                      <a:lnTo>
                        <a:pt x="43" y="300"/>
                      </a:lnTo>
                      <a:lnTo>
                        <a:pt x="43" y="274"/>
                      </a:lnTo>
                      <a:lnTo>
                        <a:pt x="48" y="247"/>
                      </a:lnTo>
                      <a:lnTo>
                        <a:pt x="52" y="216"/>
                      </a:lnTo>
                      <a:lnTo>
                        <a:pt x="52" y="189"/>
                      </a:lnTo>
                      <a:lnTo>
                        <a:pt x="58" y="163"/>
                      </a:lnTo>
                      <a:lnTo>
                        <a:pt x="58" y="136"/>
                      </a:lnTo>
                      <a:lnTo>
                        <a:pt x="63" y="110"/>
                      </a:lnTo>
                      <a:lnTo>
                        <a:pt x="63" y="83"/>
                      </a:lnTo>
                      <a:lnTo>
                        <a:pt x="67" y="57"/>
                      </a:lnTo>
                      <a:lnTo>
                        <a:pt x="72" y="30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6"/>
                      </a:lnTo>
                      <a:lnTo>
                        <a:pt x="63" y="57"/>
                      </a:lnTo>
                      <a:lnTo>
                        <a:pt x="58" y="83"/>
                      </a:lnTo>
                      <a:lnTo>
                        <a:pt x="58" y="110"/>
                      </a:lnTo>
                      <a:lnTo>
                        <a:pt x="52" y="136"/>
                      </a:lnTo>
                      <a:lnTo>
                        <a:pt x="52" y="163"/>
                      </a:lnTo>
                      <a:lnTo>
                        <a:pt x="48" y="189"/>
                      </a:lnTo>
                      <a:lnTo>
                        <a:pt x="48" y="216"/>
                      </a:lnTo>
                      <a:lnTo>
                        <a:pt x="43" y="247"/>
                      </a:lnTo>
                      <a:lnTo>
                        <a:pt x="43" y="274"/>
                      </a:lnTo>
                      <a:lnTo>
                        <a:pt x="38" y="300"/>
                      </a:lnTo>
                      <a:lnTo>
                        <a:pt x="33" y="331"/>
                      </a:lnTo>
                      <a:lnTo>
                        <a:pt x="33" y="358"/>
                      </a:lnTo>
                      <a:lnTo>
                        <a:pt x="29" y="384"/>
                      </a:lnTo>
                      <a:lnTo>
                        <a:pt x="29" y="411"/>
                      </a:lnTo>
                      <a:lnTo>
                        <a:pt x="24" y="441"/>
                      </a:lnTo>
                      <a:lnTo>
                        <a:pt x="24" y="472"/>
                      </a:lnTo>
                      <a:lnTo>
                        <a:pt x="19" y="499"/>
                      </a:lnTo>
                      <a:lnTo>
                        <a:pt x="19" y="525"/>
                      </a:lnTo>
                      <a:lnTo>
                        <a:pt x="19" y="556"/>
                      </a:lnTo>
                      <a:lnTo>
                        <a:pt x="14" y="583"/>
                      </a:lnTo>
                      <a:lnTo>
                        <a:pt x="9" y="609"/>
                      </a:lnTo>
                      <a:lnTo>
                        <a:pt x="9" y="640"/>
                      </a:lnTo>
                      <a:lnTo>
                        <a:pt x="9" y="671"/>
                      </a:lnTo>
                      <a:lnTo>
                        <a:pt x="9" y="698"/>
                      </a:lnTo>
                      <a:lnTo>
                        <a:pt x="4" y="725"/>
                      </a:lnTo>
                      <a:lnTo>
                        <a:pt x="4" y="756"/>
                      </a:lnTo>
                      <a:lnTo>
                        <a:pt x="4" y="786"/>
                      </a:lnTo>
                      <a:lnTo>
                        <a:pt x="0" y="813"/>
                      </a:lnTo>
                      <a:lnTo>
                        <a:pt x="0" y="844"/>
                      </a:lnTo>
                      <a:lnTo>
                        <a:pt x="0" y="870"/>
                      </a:lnTo>
                      <a:lnTo>
                        <a:pt x="0" y="901"/>
                      </a:lnTo>
                      <a:lnTo>
                        <a:pt x="0" y="901"/>
                      </a:lnTo>
                      <a:lnTo>
                        <a:pt x="0" y="905"/>
                      </a:lnTo>
                      <a:lnTo>
                        <a:pt x="4" y="9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862280" y="5491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6"/>
                      </a:moveTo>
                      <a:lnTo>
                        <a:pt x="72" y="66"/>
                      </a:lnTo>
                      <a:lnTo>
                        <a:pt x="60" y="66"/>
                      </a:lnTo>
                      <a:lnTo>
                        <a:pt x="48" y="59"/>
                      </a:lnTo>
                      <a:lnTo>
                        <a:pt x="48" y="59"/>
                      </a:lnTo>
                      <a:lnTo>
                        <a:pt x="36" y="59"/>
                      </a:lnTo>
                      <a:lnTo>
                        <a:pt x="36" y="59"/>
                      </a:lnTo>
                      <a:lnTo>
                        <a:pt x="24" y="52"/>
                      </a:lnTo>
                      <a:lnTo>
                        <a:pt x="24" y="52"/>
                      </a:lnTo>
                      <a:lnTo>
                        <a:pt x="24" y="45"/>
                      </a:lnTo>
                      <a:lnTo>
                        <a:pt x="24" y="39"/>
                      </a:lnTo>
                      <a:lnTo>
                        <a:pt x="11" y="39"/>
                      </a:lnTo>
                      <a:lnTo>
                        <a:pt x="11" y="33"/>
                      </a:lnTo>
                      <a:lnTo>
                        <a:pt x="11" y="26"/>
                      </a:lnTo>
                      <a:lnTo>
                        <a:pt x="11" y="20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1" y="39"/>
                      </a:lnTo>
                      <a:lnTo>
                        <a:pt x="11" y="45"/>
                      </a:lnTo>
                      <a:lnTo>
                        <a:pt x="11" y="52"/>
                      </a:lnTo>
                      <a:lnTo>
                        <a:pt x="24" y="52"/>
                      </a:lnTo>
                      <a:lnTo>
                        <a:pt x="24" y="59"/>
                      </a:lnTo>
                      <a:lnTo>
                        <a:pt x="24" y="59"/>
                      </a:lnTo>
                      <a:lnTo>
                        <a:pt x="36" y="66"/>
                      </a:lnTo>
                      <a:lnTo>
                        <a:pt x="36" y="66"/>
                      </a:lnTo>
                      <a:lnTo>
                        <a:pt x="48" y="72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878120" y="5514840"/>
                  <a:ext cx="429120" cy="27360"/>
                </a:xfrm>
                <a:custGeom>
                  <a:avLst/>
                  <a:gdLst/>
                  <a:ahLst/>
                  <a:rect l="0" t="0" r="r" b="b"/>
                  <a:pathLst>
                    <a:path w="1192" h="76">
                      <a:moveTo>
                        <a:pt x="1188" y="72"/>
                      </a:moveTo>
                      <a:lnTo>
                        <a:pt x="1188" y="72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88" y="76"/>
                      </a:lnTo>
                      <a:lnTo>
                        <a:pt x="1188" y="76"/>
                      </a:lnTo>
                      <a:lnTo>
                        <a:pt x="1192" y="76"/>
                      </a:lnTo>
                      <a:lnTo>
                        <a:pt x="1192" y="72"/>
                      </a:lnTo>
                      <a:lnTo>
                        <a:pt x="118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14440" y="5521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61" y="15"/>
                      </a:lnTo>
                      <a:lnTo>
                        <a:pt x="61" y="21"/>
                      </a:lnTo>
                      <a:lnTo>
                        <a:pt x="61" y="26"/>
                      </a:lnTo>
                      <a:lnTo>
                        <a:pt x="56" y="31"/>
                      </a:lnTo>
                      <a:lnTo>
                        <a:pt x="56" y="36"/>
                      </a:lnTo>
                      <a:lnTo>
                        <a:pt x="49" y="41"/>
                      </a:lnTo>
                      <a:lnTo>
                        <a:pt x="44" y="46"/>
                      </a:lnTo>
                      <a:lnTo>
                        <a:pt x="38" y="51"/>
                      </a:lnTo>
                      <a:lnTo>
                        <a:pt x="38" y="57"/>
                      </a:lnTo>
                      <a:lnTo>
                        <a:pt x="33" y="62"/>
                      </a:lnTo>
                      <a:lnTo>
                        <a:pt x="28" y="62"/>
                      </a:lnTo>
                      <a:lnTo>
                        <a:pt x="22" y="62"/>
                      </a:lnTo>
                      <a:lnTo>
                        <a:pt x="16" y="67"/>
                      </a:lnTo>
                      <a:lnTo>
                        <a:pt x="10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6" y="72"/>
                      </a:lnTo>
                      <a:lnTo>
                        <a:pt x="22" y="67"/>
                      </a:lnTo>
                      <a:lnTo>
                        <a:pt x="33" y="67"/>
                      </a:lnTo>
                      <a:lnTo>
                        <a:pt x="38" y="62"/>
                      </a:lnTo>
                      <a:lnTo>
                        <a:pt x="38" y="62"/>
                      </a:lnTo>
                      <a:lnTo>
                        <a:pt x="44" y="57"/>
                      </a:lnTo>
                      <a:lnTo>
                        <a:pt x="49" y="51"/>
                      </a:lnTo>
                      <a:lnTo>
                        <a:pt x="56" y="46"/>
                      </a:lnTo>
                      <a:lnTo>
                        <a:pt x="61" y="41"/>
                      </a:lnTo>
                      <a:lnTo>
                        <a:pt x="61" y="36"/>
                      </a:lnTo>
                      <a:lnTo>
                        <a:pt x="67" y="26"/>
                      </a:lnTo>
                      <a:lnTo>
                        <a:pt x="67" y="21"/>
                      </a:lnTo>
                      <a:lnTo>
                        <a:pt x="72" y="15"/>
                      </a:lnTo>
                      <a:lnTo>
                        <a:pt x="72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40000" y="5202360"/>
                  <a:ext cx="25920" cy="311400"/>
                </a:xfrm>
                <a:custGeom>
                  <a:avLst/>
                  <a:gdLst/>
                  <a:ahLst/>
                  <a:rect l="0" t="0" r="r" b="b"/>
                  <a:pathLst>
                    <a:path w="72" h="865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65"/>
                      </a:lnTo>
                      <a:lnTo>
                        <a:pt x="5" y="865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357280" y="51703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7" y="5"/>
                      </a:lnTo>
                      <a:lnTo>
                        <a:pt x="17" y="10"/>
                      </a:lnTo>
                      <a:lnTo>
                        <a:pt x="36" y="10"/>
                      </a:lnTo>
                      <a:lnTo>
                        <a:pt x="36" y="10"/>
                      </a:lnTo>
                      <a:lnTo>
                        <a:pt x="36" y="15"/>
                      </a:lnTo>
                      <a:lnTo>
                        <a:pt x="53" y="21"/>
                      </a:lnTo>
                      <a:lnTo>
                        <a:pt x="53" y="21"/>
                      </a:lnTo>
                      <a:lnTo>
                        <a:pt x="53" y="26"/>
                      </a:lnTo>
                      <a:lnTo>
                        <a:pt x="53" y="31"/>
                      </a:lnTo>
                      <a:lnTo>
                        <a:pt x="53" y="36"/>
                      </a:lnTo>
                      <a:lnTo>
                        <a:pt x="53" y="41"/>
                      </a:lnTo>
                      <a:lnTo>
                        <a:pt x="53" y="46"/>
                      </a:lnTo>
                      <a:lnTo>
                        <a:pt x="53" y="51"/>
                      </a:lnTo>
                      <a:lnTo>
                        <a:pt x="53" y="57"/>
                      </a:lnTo>
                      <a:lnTo>
                        <a:pt x="53" y="67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72" y="67"/>
                      </a:lnTo>
                      <a:lnTo>
                        <a:pt x="72" y="62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53" y="21"/>
                      </a:lnTo>
                      <a:lnTo>
                        <a:pt x="53" y="15"/>
                      </a:lnTo>
                      <a:lnTo>
                        <a:pt x="53" y="10"/>
                      </a:lnTo>
                      <a:lnTo>
                        <a:pt x="36" y="10"/>
                      </a:lnTo>
                      <a:lnTo>
                        <a:pt x="36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920960" y="5145120"/>
                  <a:ext cx="427320" cy="25920"/>
                </a:xfrm>
                <a:custGeom>
                  <a:avLst/>
                  <a:gdLst/>
                  <a:ahLst/>
                  <a:rect l="0" t="0" r="r" b="b"/>
                  <a:pathLst>
                    <a:path w="1187" h="72"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39" y="5"/>
                      </a:lnTo>
                      <a:lnTo>
                        <a:pt x="79" y="5"/>
                      </a:lnTo>
                      <a:lnTo>
                        <a:pt x="119" y="5"/>
                      </a:lnTo>
                      <a:lnTo>
                        <a:pt x="154" y="5"/>
                      </a:lnTo>
                      <a:lnTo>
                        <a:pt x="194" y="5"/>
                      </a:lnTo>
                      <a:lnTo>
                        <a:pt x="229" y="5"/>
                      </a:lnTo>
                      <a:lnTo>
                        <a:pt x="264" y="5"/>
                      </a:lnTo>
                      <a:lnTo>
                        <a:pt x="304" y="5"/>
                      </a:lnTo>
                      <a:lnTo>
                        <a:pt x="339" y="5"/>
                      </a:lnTo>
                      <a:lnTo>
                        <a:pt x="379" y="5"/>
                      </a:lnTo>
                      <a:lnTo>
                        <a:pt x="414" y="11"/>
                      </a:lnTo>
                      <a:lnTo>
                        <a:pt x="454" y="11"/>
                      </a:lnTo>
                      <a:lnTo>
                        <a:pt x="493" y="11"/>
                      </a:lnTo>
                      <a:lnTo>
                        <a:pt x="529" y="11"/>
                      </a:lnTo>
                      <a:lnTo>
                        <a:pt x="568" y="11"/>
                      </a:lnTo>
                      <a:lnTo>
                        <a:pt x="605" y="17"/>
                      </a:lnTo>
                      <a:lnTo>
                        <a:pt x="640" y="17"/>
                      </a:lnTo>
                      <a:lnTo>
                        <a:pt x="680" y="17"/>
                      </a:lnTo>
                      <a:lnTo>
                        <a:pt x="715" y="17"/>
                      </a:lnTo>
                      <a:lnTo>
                        <a:pt x="755" y="24"/>
                      </a:lnTo>
                      <a:lnTo>
                        <a:pt x="790" y="30"/>
                      </a:lnTo>
                      <a:lnTo>
                        <a:pt x="830" y="30"/>
                      </a:lnTo>
                      <a:lnTo>
                        <a:pt x="865" y="30"/>
                      </a:lnTo>
                      <a:lnTo>
                        <a:pt x="900" y="36"/>
                      </a:lnTo>
                      <a:lnTo>
                        <a:pt x="940" y="42"/>
                      </a:lnTo>
                      <a:lnTo>
                        <a:pt x="971" y="42"/>
                      </a:lnTo>
                      <a:lnTo>
                        <a:pt x="1010" y="48"/>
                      </a:lnTo>
                      <a:lnTo>
                        <a:pt x="1046" y="53"/>
                      </a:lnTo>
                      <a:lnTo>
                        <a:pt x="1081" y="53"/>
                      </a:lnTo>
                      <a:lnTo>
                        <a:pt x="1116" y="60"/>
                      </a:lnTo>
                      <a:lnTo>
                        <a:pt x="1151" y="66"/>
                      </a:lnTo>
                      <a:lnTo>
                        <a:pt x="1187" y="72"/>
                      </a:lnTo>
                      <a:lnTo>
                        <a:pt x="1187" y="66"/>
                      </a:lnTo>
                      <a:lnTo>
                        <a:pt x="1151" y="60"/>
                      </a:lnTo>
                      <a:lnTo>
                        <a:pt x="1116" y="53"/>
                      </a:lnTo>
                      <a:lnTo>
                        <a:pt x="1081" y="53"/>
                      </a:lnTo>
                      <a:lnTo>
                        <a:pt x="1046" y="48"/>
                      </a:lnTo>
                      <a:lnTo>
                        <a:pt x="1010" y="42"/>
                      </a:lnTo>
                      <a:lnTo>
                        <a:pt x="975" y="36"/>
                      </a:lnTo>
                      <a:lnTo>
                        <a:pt x="940" y="36"/>
                      </a:lnTo>
                      <a:lnTo>
                        <a:pt x="900" y="30"/>
                      </a:lnTo>
                      <a:lnTo>
                        <a:pt x="865" y="30"/>
                      </a:lnTo>
                      <a:lnTo>
                        <a:pt x="830" y="24"/>
                      </a:lnTo>
                      <a:lnTo>
                        <a:pt x="794" y="17"/>
                      </a:lnTo>
                      <a:lnTo>
                        <a:pt x="755" y="17"/>
                      </a:lnTo>
                      <a:lnTo>
                        <a:pt x="715" y="17"/>
                      </a:lnTo>
                      <a:lnTo>
                        <a:pt x="680" y="11"/>
                      </a:lnTo>
                      <a:lnTo>
                        <a:pt x="644" y="11"/>
                      </a:lnTo>
                      <a:lnTo>
                        <a:pt x="605" y="11"/>
                      </a:lnTo>
                      <a:lnTo>
                        <a:pt x="568" y="5"/>
                      </a:lnTo>
                      <a:lnTo>
                        <a:pt x="529" y="5"/>
                      </a:lnTo>
                      <a:lnTo>
                        <a:pt x="493" y="5"/>
                      </a:lnTo>
                      <a:lnTo>
                        <a:pt x="454" y="0"/>
                      </a:lnTo>
                      <a:lnTo>
                        <a:pt x="414" y="0"/>
                      </a:lnTo>
                      <a:lnTo>
                        <a:pt x="379" y="0"/>
                      </a:lnTo>
                      <a:lnTo>
                        <a:pt x="339" y="0"/>
                      </a:lnTo>
                      <a:lnTo>
                        <a:pt x="304" y="0"/>
                      </a:lnTo>
                      <a:lnTo>
                        <a:pt x="264" y="0"/>
                      </a:lnTo>
                      <a:lnTo>
                        <a:pt x="229" y="0"/>
                      </a:lnTo>
                      <a:lnTo>
                        <a:pt x="194" y="0"/>
                      </a:lnTo>
                      <a:lnTo>
                        <a:pt x="154" y="0"/>
                      </a:lnTo>
                      <a:lnTo>
                        <a:pt x="119" y="0"/>
                      </a:lnTo>
                      <a:lnTo>
                        <a:pt x="79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892160" y="51451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6" y="17"/>
                      </a:lnTo>
                      <a:lnTo>
                        <a:pt x="31" y="17"/>
                      </a:lnTo>
                      <a:lnTo>
                        <a:pt x="36" y="17"/>
                      </a:lnTo>
                      <a:lnTo>
                        <a:pt x="41" y="17"/>
                      </a:lnTo>
                      <a:lnTo>
                        <a:pt x="46" y="17"/>
                      </a:lnTo>
                      <a:lnTo>
                        <a:pt x="51" y="17"/>
                      </a:lnTo>
                      <a:lnTo>
                        <a:pt x="57" y="17"/>
                      </a:lnTo>
                      <a:lnTo>
                        <a:pt x="67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17"/>
                      </a:lnTo>
                      <a:lnTo>
                        <a:pt x="26" y="17"/>
                      </a:lnTo>
                      <a:lnTo>
                        <a:pt x="21" y="17"/>
                      </a:lnTo>
                      <a:lnTo>
                        <a:pt x="15" y="17"/>
                      </a:lnTo>
                      <a:lnTo>
                        <a:pt x="15" y="36"/>
                      </a:lnTo>
                      <a:lnTo>
                        <a:pt x="10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884240" y="5156280"/>
                  <a:ext cx="473400" cy="371880"/>
                </a:xfrm>
                <a:custGeom>
                  <a:avLst/>
                  <a:gdLst/>
                  <a:ahLst/>
                  <a:rect l="0" t="0" r="r" b="b"/>
                  <a:pathLst>
                    <a:path w="1315" h="1033">
                      <a:moveTo>
                        <a:pt x="79" y="30"/>
                      </a:moveTo>
                      <a:lnTo>
                        <a:pt x="74" y="57"/>
                      </a:lnTo>
                      <a:lnTo>
                        <a:pt x="74" y="83"/>
                      </a:lnTo>
                      <a:lnTo>
                        <a:pt x="70" y="110"/>
                      </a:lnTo>
                      <a:lnTo>
                        <a:pt x="70" y="136"/>
                      </a:lnTo>
                      <a:lnTo>
                        <a:pt x="66" y="158"/>
                      </a:lnTo>
                      <a:lnTo>
                        <a:pt x="61" y="185"/>
                      </a:lnTo>
                      <a:lnTo>
                        <a:pt x="57" y="211"/>
                      </a:lnTo>
                      <a:lnTo>
                        <a:pt x="57" y="238"/>
                      </a:lnTo>
                      <a:lnTo>
                        <a:pt x="52" y="265"/>
                      </a:lnTo>
                      <a:lnTo>
                        <a:pt x="48" y="292"/>
                      </a:lnTo>
                      <a:lnTo>
                        <a:pt x="48" y="318"/>
                      </a:lnTo>
                      <a:lnTo>
                        <a:pt x="44" y="340"/>
                      </a:lnTo>
                      <a:lnTo>
                        <a:pt x="39" y="367"/>
                      </a:lnTo>
                      <a:lnTo>
                        <a:pt x="35" y="397"/>
                      </a:lnTo>
                      <a:lnTo>
                        <a:pt x="35" y="424"/>
                      </a:lnTo>
                      <a:lnTo>
                        <a:pt x="30" y="450"/>
                      </a:lnTo>
                      <a:lnTo>
                        <a:pt x="30" y="477"/>
                      </a:lnTo>
                      <a:lnTo>
                        <a:pt x="26" y="503"/>
                      </a:lnTo>
                      <a:lnTo>
                        <a:pt x="22" y="530"/>
                      </a:lnTo>
                      <a:lnTo>
                        <a:pt x="17" y="556"/>
                      </a:lnTo>
                      <a:lnTo>
                        <a:pt x="17" y="583"/>
                      </a:lnTo>
                      <a:lnTo>
                        <a:pt x="13" y="609"/>
                      </a:lnTo>
                      <a:lnTo>
                        <a:pt x="13" y="636"/>
                      </a:lnTo>
                      <a:lnTo>
                        <a:pt x="13" y="666"/>
                      </a:lnTo>
                      <a:lnTo>
                        <a:pt x="8" y="693"/>
                      </a:lnTo>
                      <a:lnTo>
                        <a:pt x="8" y="719"/>
                      </a:lnTo>
                      <a:lnTo>
                        <a:pt x="4" y="746"/>
                      </a:lnTo>
                      <a:lnTo>
                        <a:pt x="4" y="772"/>
                      </a:lnTo>
                      <a:lnTo>
                        <a:pt x="4" y="800"/>
                      </a:lnTo>
                      <a:lnTo>
                        <a:pt x="4" y="826"/>
                      </a:lnTo>
                      <a:lnTo>
                        <a:pt x="0" y="857"/>
                      </a:lnTo>
                      <a:lnTo>
                        <a:pt x="0" y="883"/>
                      </a:lnTo>
                      <a:lnTo>
                        <a:pt x="0" y="892"/>
                      </a:lnTo>
                      <a:lnTo>
                        <a:pt x="0" y="897"/>
                      </a:lnTo>
                      <a:lnTo>
                        <a:pt x="4" y="901"/>
                      </a:lnTo>
                      <a:lnTo>
                        <a:pt x="4" y="910"/>
                      </a:lnTo>
                      <a:lnTo>
                        <a:pt x="4" y="914"/>
                      </a:lnTo>
                      <a:lnTo>
                        <a:pt x="4" y="919"/>
                      </a:lnTo>
                      <a:lnTo>
                        <a:pt x="8" y="923"/>
                      </a:lnTo>
                      <a:lnTo>
                        <a:pt x="8" y="928"/>
                      </a:lnTo>
                      <a:lnTo>
                        <a:pt x="8" y="932"/>
                      </a:lnTo>
                      <a:lnTo>
                        <a:pt x="13" y="932"/>
                      </a:lnTo>
                      <a:lnTo>
                        <a:pt x="17" y="936"/>
                      </a:lnTo>
                      <a:lnTo>
                        <a:pt x="17" y="941"/>
                      </a:lnTo>
                      <a:lnTo>
                        <a:pt x="26" y="941"/>
                      </a:lnTo>
                      <a:lnTo>
                        <a:pt x="30" y="945"/>
                      </a:lnTo>
                      <a:lnTo>
                        <a:pt x="35" y="945"/>
                      </a:lnTo>
                      <a:lnTo>
                        <a:pt x="39" y="945"/>
                      </a:lnTo>
                      <a:lnTo>
                        <a:pt x="1169" y="1033"/>
                      </a:lnTo>
                      <a:lnTo>
                        <a:pt x="1178" y="1033"/>
                      </a:lnTo>
                      <a:lnTo>
                        <a:pt x="1182" y="1033"/>
                      </a:lnTo>
                      <a:lnTo>
                        <a:pt x="1191" y="1033"/>
                      </a:lnTo>
                      <a:lnTo>
                        <a:pt x="1196" y="1029"/>
                      </a:lnTo>
                      <a:lnTo>
                        <a:pt x="1204" y="1025"/>
                      </a:lnTo>
                      <a:lnTo>
                        <a:pt x="1209" y="1025"/>
                      </a:lnTo>
                      <a:lnTo>
                        <a:pt x="1213" y="1020"/>
                      </a:lnTo>
                      <a:lnTo>
                        <a:pt x="1218" y="1016"/>
                      </a:lnTo>
                      <a:lnTo>
                        <a:pt x="1222" y="1011"/>
                      </a:lnTo>
                      <a:lnTo>
                        <a:pt x="1226" y="1003"/>
                      </a:lnTo>
                      <a:lnTo>
                        <a:pt x="1231" y="998"/>
                      </a:lnTo>
                      <a:lnTo>
                        <a:pt x="1235" y="989"/>
                      </a:lnTo>
                      <a:lnTo>
                        <a:pt x="1235" y="980"/>
                      </a:lnTo>
                      <a:lnTo>
                        <a:pt x="1235" y="976"/>
                      </a:lnTo>
                      <a:lnTo>
                        <a:pt x="1240" y="972"/>
                      </a:lnTo>
                      <a:lnTo>
                        <a:pt x="1240" y="963"/>
                      </a:lnTo>
                      <a:lnTo>
                        <a:pt x="1310" y="141"/>
                      </a:lnTo>
                      <a:lnTo>
                        <a:pt x="1310" y="136"/>
                      </a:lnTo>
                      <a:lnTo>
                        <a:pt x="1315" y="127"/>
                      </a:lnTo>
                      <a:lnTo>
                        <a:pt x="1315" y="119"/>
                      </a:lnTo>
                      <a:lnTo>
                        <a:pt x="1315" y="114"/>
                      </a:lnTo>
                      <a:lnTo>
                        <a:pt x="1315" y="110"/>
                      </a:lnTo>
                      <a:lnTo>
                        <a:pt x="1310" y="101"/>
                      </a:lnTo>
                      <a:lnTo>
                        <a:pt x="1310" y="97"/>
                      </a:lnTo>
                      <a:lnTo>
                        <a:pt x="1310" y="88"/>
                      </a:lnTo>
                      <a:lnTo>
                        <a:pt x="1310" y="83"/>
                      </a:lnTo>
                      <a:lnTo>
                        <a:pt x="1306" y="79"/>
                      </a:lnTo>
                      <a:lnTo>
                        <a:pt x="1306" y="79"/>
                      </a:lnTo>
                      <a:lnTo>
                        <a:pt x="1301" y="70"/>
                      </a:lnTo>
                      <a:lnTo>
                        <a:pt x="1297" y="70"/>
                      </a:lnTo>
                      <a:lnTo>
                        <a:pt x="1293" y="66"/>
                      </a:lnTo>
                      <a:lnTo>
                        <a:pt x="1288" y="66"/>
                      </a:lnTo>
                      <a:lnTo>
                        <a:pt x="1279" y="66"/>
                      </a:lnTo>
                      <a:lnTo>
                        <a:pt x="1248" y="57"/>
                      </a:lnTo>
                      <a:lnTo>
                        <a:pt x="1213" y="52"/>
                      </a:lnTo>
                      <a:lnTo>
                        <a:pt x="1178" y="52"/>
                      </a:lnTo>
                      <a:lnTo>
                        <a:pt x="1147" y="44"/>
                      </a:lnTo>
                      <a:lnTo>
                        <a:pt x="1112" y="39"/>
                      </a:lnTo>
                      <a:lnTo>
                        <a:pt x="1076" y="35"/>
                      </a:lnTo>
                      <a:lnTo>
                        <a:pt x="1041" y="35"/>
                      </a:lnTo>
                      <a:lnTo>
                        <a:pt x="1006" y="30"/>
                      </a:lnTo>
                      <a:lnTo>
                        <a:pt x="975" y="26"/>
                      </a:lnTo>
                      <a:lnTo>
                        <a:pt x="940" y="22"/>
                      </a:lnTo>
                      <a:lnTo>
                        <a:pt x="904" y="17"/>
                      </a:lnTo>
                      <a:lnTo>
                        <a:pt x="869" y="17"/>
                      </a:lnTo>
                      <a:lnTo>
                        <a:pt x="834" y="13"/>
                      </a:lnTo>
                      <a:lnTo>
                        <a:pt x="794" y="13"/>
                      </a:lnTo>
                      <a:lnTo>
                        <a:pt x="763" y="13"/>
                      </a:lnTo>
                      <a:lnTo>
                        <a:pt x="724" y="8"/>
                      </a:lnTo>
                      <a:lnTo>
                        <a:pt x="693" y="8"/>
                      </a:lnTo>
                      <a:lnTo>
                        <a:pt x="652" y="4"/>
                      </a:lnTo>
                      <a:lnTo>
                        <a:pt x="617" y="4"/>
                      </a:lnTo>
                      <a:lnTo>
                        <a:pt x="582" y="4"/>
                      </a:lnTo>
                      <a:lnTo>
                        <a:pt x="546" y="4"/>
                      </a:lnTo>
                      <a:lnTo>
                        <a:pt x="511" y="0"/>
                      </a:lnTo>
                      <a:lnTo>
                        <a:pt x="476" y="0"/>
                      </a:lnTo>
                      <a:lnTo>
                        <a:pt x="440" y="0"/>
                      </a:lnTo>
                      <a:lnTo>
                        <a:pt x="401" y="0"/>
                      </a:lnTo>
                      <a:lnTo>
                        <a:pt x="366" y="0"/>
                      </a:lnTo>
                      <a:lnTo>
                        <a:pt x="330" y="0"/>
                      </a:lnTo>
                      <a:lnTo>
                        <a:pt x="295" y="0"/>
                      </a:lnTo>
                      <a:lnTo>
                        <a:pt x="260" y="0"/>
                      </a:lnTo>
                      <a:lnTo>
                        <a:pt x="224" y="0"/>
                      </a:lnTo>
                      <a:lnTo>
                        <a:pt x="189" y="0"/>
                      </a:lnTo>
                      <a:lnTo>
                        <a:pt x="154" y="0"/>
                      </a:lnTo>
                      <a:lnTo>
                        <a:pt x="145" y="0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4"/>
                      </a:lnTo>
                      <a:lnTo>
                        <a:pt x="110" y="4"/>
                      </a:lnTo>
                      <a:lnTo>
                        <a:pt x="101" y="8"/>
                      </a:lnTo>
                      <a:lnTo>
                        <a:pt x="97" y="8"/>
                      </a:lnTo>
                      <a:lnTo>
                        <a:pt x="97" y="13"/>
                      </a:lnTo>
                      <a:lnTo>
                        <a:pt x="92" y="13"/>
                      </a:lnTo>
                      <a:lnTo>
                        <a:pt x="88" y="17"/>
                      </a:lnTo>
                      <a:lnTo>
                        <a:pt x="83" y="17"/>
                      </a:lnTo>
                      <a:lnTo>
                        <a:pt x="83" y="22"/>
                      </a:lnTo>
                      <a:lnTo>
                        <a:pt x="79" y="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84240" y="5167440"/>
                  <a:ext cx="25920" cy="306720"/>
                </a:xfrm>
                <a:custGeom>
                  <a:avLst/>
                  <a:gdLst/>
                  <a:ahLst/>
                  <a:rect l="0" t="0" r="r" b="b"/>
                  <a:pathLst>
                    <a:path w="72" h="852">
                      <a:moveTo>
                        <a:pt x="5" y="847"/>
                      </a:moveTo>
                      <a:lnTo>
                        <a:pt x="5" y="847"/>
                      </a:lnTo>
                      <a:lnTo>
                        <a:pt x="5" y="821"/>
                      </a:lnTo>
                      <a:lnTo>
                        <a:pt x="5" y="794"/>
                      </a:lnTo>
                      <a:lnTo>
                        <a:pt x="10" y="768"/>
                      </a:lnTo>
                      <a:lnTo>
                        <a:pt x="10" y="741"/>
                      </a:lnTo>
                      <a:lnTo>
                        <a:pt x="10" y="715"/>
                      </a:lnTo>
                      <a:lnTo>
                        <a:pt x="10" y="684"/>
                      </a:lnTo>
                      <a:lnTo>
                        <a:pt x="10" y="658"/>
                      </a:lnTo>
                      <a:lnTo>
                        <a:pt x="15" y="631"/>
                      </a:lnTo>
                      <a:lnTo>
                        <a:pt x="15" y="605"/>
                      </a:lnTo>
                      <a:lnTo>
                        <a:pt x="21" y="578"/>
                      </a:lnTo>
                      <a:lnTo>
                        <a:pt x="21" y="547"/>
                      </a:lnTo>
                      <a:lnTo>
                        <a:pt x="21" y="521"/>
                      </a:lnTo>
                      <a:lnTo>
                        <a:pt x="26" y="494"/>
                      </a:lnTo>
                      <a:lnTo>
                        <a:pt x="26" y="468"/>
                      </a:lnTo>
                      <a:lnTo>
                        <a:pt x="31" y="441"/>
                      </a:lnTo>
                      <a:lnTo>
                        <a:pt x="31" y="414"/>
                      </a:lnTo>
                      <a:lnTo>
                        <a:pt x="31" y="388"/>
                      </a:lnTo>
                      <a:lnTo>
                        <a:pt x="36" y="361"/>
                      </a:lnTo>
                      <a:lnTo>
                        <a:pt x="41" y="335"/>
                      </a:lnTo>
                      <a:lnTo>
                        <a:pt x="41" y="313"/>
                      </a:lnTo>
                      <a:lnTo>
                        <a:pt x="41" y="286"/>
                      </a:lnTo>
                      <a:lnTo>
                        <a:pt x="46" y="260"/>
                      </a:lnTo>
                      <a:lnTo>
                        <a:pt x="51" y="233"/>
                      </a:lnTo>
                      <a:lnTo>
                        <a:pt x="51" y="207"/>
                      </a:lnTo>
                      <a:lnTo>
                        <a:pt x="51" y="180"/>
                      </a:lnTo>
                      <a:lnTo>
                        <a:pt x="57" y="154"/>
                      </a:lnTo>
                      <a:lnTo>
                        <a:pt x="62" y="127"/>
                      </a:lnTo>
                      <a:lnTo>
                        <a:pt x="62" y="105"/>
                      </a:lnTo>
                      <a:lnTo>
                        <a:pt x="62" y="79"/>
                      </a:lnTo>
                      <a:lnTo>
                        <a:pt x="67" y="52"/>
                      </a:lnTo>
                      <a:lnTo>
                        <a:pt x="72" y="26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2" y="26"/>
                      </a:lnTo>
                      <a:lnTo>
                        <a:pt x="62" y="52"/>
                      </a:lnTo>
                      <a:lnTo>
                        <a:pt x="62" y="79"/>
                      </a:lnTo>
                      <a:lnTo>
                        <a:pt x="57" y="101"/>
                      </a:lnTo>
                      <a:lnTo>
                        <a:pt x="51" y="127"/>
                      </a:lnTo>
                      <a:lnTo>
                        <a:pt x="51" y="154"/>
                      </a:lnTo>
                      <a:lnTo>
                        <a:pt x="51" y="180"/>
                      </a:lnTo>
                      <a:lnTo>
                        <a:pt x="46" y="207"/>
                      </a:lnTo>
                      <a:lnTo>
                        <a:pt x="41" y="233"/>
                      </a:lnTo>
                      <a:lnTo>
                        <a:pt x="41" y="260"/>
                      </a:lnTo>
                      <a:lnTo>
                        <a:pt x="41" y="282"/>
                      </a:lnTo>
                      <a:lnTo>
                        <a:pt x="36" y="308"/>
                      </a:lnTo>
                      <a:lnTo>
                        <a:pt x="31" y="335"/>
                      </a:lnTo>
                      <a:lnTo>
                        <a:pt x="31" y="361"/>
                      </a:lnTo>
                      <a:lnTo>
                        <a:pt x="31" y="388"/>
                      </a:lnTo>
                      <a:lnTo>
                        <a:pt x="26" y="414"/>
                      </a:lnTo>
                      <a:lnTo>
                        <a:pt x="21" y="441"/>
                      </a:lnTo>
                      <a:lnTo>
                        <a:pt x="21" y="468"/>
                      </a:lnTo>
                      <a:lnTo>
                        <a:pt x="21" y="494"/>
                      </a:lnTo>
                      <a:lnTo>
                        <a:pt x="15" y="521"/>
                      </a:lnTo>
                      <a:lnTo>
                        <a:pt x="15" y="547"/>
                      </a:lnTo>
                      <a:lnTo>
                        <a:pt x="10" y="574"/>
                      </a:lnTo>
                      <a:lnTo>
                        <a:pt x="10" y="605"/>
                      </a:lnTo>
                      <a:lnTo>
                        <a:pt x="10" y="631"/>
                      </a:lnTo>
                      <a:lnTo>
                        <a:pt x="10" y="658"/>
                      </a:lnTo>
                      <a:lnTo>
                        <a:pt x="5" y="684"/>
                      </a:lnTo>
                      <a:lnTo>
                        <a:pt x="5" y="710"/>
                      </a:lnTo>
                      <a:lnTo>
                        <a:pt x="5" y="741"/>
                      </a:lnTo>
                      <a:lnTo>
                        <a:pt x="0" y="768"/>
                      </a:lnTo>
                      <a:lnTo>
                        <a:pt x="0" y="794"/>
                      </a:lnTo>
                      <a:lnTo>
                        <a:pt x="0" y="821"/>
                      </a:lnTo>
                      <a:lnTo>
                        <a:pt x="0" y="847"/>
                      </a:lnTo>
                      <a:lnTo>
                        <a:pt x="0" y="852"/>
                      </a:lnTo>
                      <a:lnTo>
                        <a:pt x="0" y="852"/>
                      </a:lnTo>
                      <a:lnTo>
                        <a:pt x="5" y="852"/>
                      </a:lnTo>
                      <a:lnTo>
                        <a:pt x="5" y="8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84240" y="5481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5"/>
                      </a:moveTo>
                      <a:lnTo>
                        <a:pt x="72" y="65"/>
                      </a:lnTo>
                      <a:lnTo>
                        <a:pt x="58" y="65"/>
                      </a:lnTo>
                      <a:lnTo>
                        <a:pt x="43" y="65"/>
                      </a:lnTo>
                      <a:lnTo>
                        <a:pt x="43" y="58"/>
                      </a:lnTo>
                      <a:lnTo>
                        <a:pt x="43" y="58"/>
                      </a:lnTo>
                      <a:lnTo>
                        <a:pt x="29" y="58"/>
                      </a:lnTo>
                      <a:lnTo>
                        <a:pt x="29" y="50"/>
                      </a:lnTo>
                      <a:lnTo>
                        <a:pt x="29" y="50"/>
                      </a:lnTo>
                      <a:lnTo>
                        <a:pt x="14" y="43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2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14" y="36"/>
                      </a:lnTo>
                      <a:lnTo>
                        <a:pt x="14" y="43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65"/>
                      </a:lnTo>
                      <a:lnTo>
                        <a:pt x="43" y="65"/>
                      </a:lnTo>
                      <a:lnTo>
                        <a:pt x="43" y="65"/>
                      </a:lnTo>
                      <a:lnTo>
                        <a:pt x="58" y="72"/>
                      </a:lnTo>
                      <a:lnTo>
                        <a:pt x="58" y="72"/>
                      </a:lnTo>
                      <a:lnTo>
                        <a:pt x="72" y="72"/>
                      </a:lnTo>
                      <a:lnTo>
                        <a:pt x="72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898640" y="5504040"/>
                  <a:ext cx="405000" cy="25920"/>
                </a:xfrm>
                <a:custGeom>
                  <a:avLst/>
                  <a:gdLst/>
                  <a:ahLst/>
                  <a:rect l="0" t="0" r="r" b="b"/>
                  <a:pathLst>
                    <a:path w="1125" h="72">
                      <a:moveTo>
                        <a:pt x="1121" y="68"/>
                      </a:moveTo>
                      <a:lnTo>
                        <a:pt x="112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21" y="72"/>
                      </a:lnTo>
                      <a:lnTo>
                        <a:pt x="1121" y="72"/>
                      </a:lnTo>
                      <a:lnTo>
                        <a:pt x="1125" y="68"/>
                      </a:lnTo>
                      <a:lnTo>
                        <a:pt x="112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311560" y="5510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5"/>
                      </a:lnTo>
                      <a:lnTo>
                        <a:pt x="60" y="17"/>
                      </a:lnTo>
                      <a:lnTo>
                        <a:pt x="60" y="24"/>
                      </a:lnTo>
                      <a:lnTo>
                        <a:pt x="60" y="30"/>
                      </a:lnTo>
                      <a:lnTo>
                        <a:pt x="53" y="30"/>
                      </a:lnTo>
                      <a:lnTo>
                        <a:pt x="53" y="42"/>
                      </a:lnTo>
                      <a:lnTo>
                        <a:pt x="53" y="42"/>
                      </a:lnTo>
                      <a:lnTo>
                        <a:pt x="48" y="48"/>
                      </a:lnTo>
                      <a:lnTo>
                        <a:pt x="42" y="53"/>
                      </a:lnTo>
                      <a:lnTo>
                        <a:pt x="36" y="53"/>
                      </a:lnTo>
                      <a:lnTo>
                        <a:pt x="30" y="60"/>
                      </a:lnTo>
                      <a:lnTo>
                        <a:pt x="30" y="60"/>
                      </a:lnTo>
                      <a:lnTo>
                        <a:pt x="17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0" y="72"/>
                      </a:lnTo>
                      <a:lnTo>
                        <a:pt x="11" y="72"/>
                      </a:lnTo>
                      <a:lnTo>
                        <a:pt x="17" y="72"/>
                      </a:lnTo>
                      <a:lnTo>
                        <a:pt x="24" y="72"/>
                      </a:lnTo>
                      <a:lnTo>
                        <a:pt x="30" y="66"/>
                      </a:lnTo>
                      <a:lnTo>
                        <a:pt x="36" y="66"/>
                      </a:lnTo>
                      <a:lnTo>
                        <a:pt x="42" y="60"/>
                      </a:lnTo>
                      <a:lnTo>
                        <a:pt x="48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60" y="42"/>
                      </a:lnTo>
                      <a:lnTo>
                        <a:pt x="60" y="36"/>
                      </a:lnTo>
                      <a:lnTo>
                        <a:pt x="66" y="30"/>
                      </a:lnTo>
                      <a:lnTo>
                        <a:pt x="66" y="24"/>
                      </a:lnTo>
                      <a:lnTo>
                        <a:pt x="72" y="17"/>
                      </a:lnTo>
                      <a:lnTo>
                        <a:pt x="72" y="11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336760" y="5207040"/>
                  <a:ext cx="25920" cy="295560"/>
                </a:xfrm>
                <a:custGeom>
                  <a:avLst/>
                  <a:gdLst/>
                  <a:ahLst/>
                  <a:rect l="0" t="0" r="r" b="b"/>
                  <a:pathLst>
                    <a:path w="72" h="821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21"/>
                      </a:lnTo>
                      <a:lnTo>
                        <a:pt x="5" y="821"/>
                      </a:ln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52600" y="5178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4" y="5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48" y="10"/>
                      </a:lnTo>
                      <a:lnTo>
                        <a:pt x="48" y="15"/>
                      </a:lnTo>
                      <a:lnTo>
                        <a:pt x="48" y="21"/>
                      </a:lnTo>
                      <a:lnTo>
                        <a:pt x="48" y="21"/>
                      </a:lnTo>
                      <a:lnTo>
                        <a:pt x="48" y="26"/>
                      </a:lnTo>
                      <a:lnTo>
                        <a:pt x="48" y="31"/>
                      </a:lnTo>
                      <a:lnTo>
                        <a:pt x="48" y="36"/>
                      </a:lnTo>
                      <a:lnTo>
                        <a:pt x="48" y="41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48" y="57"/>
                      </a:lnTo>
                      <a:lnTo>
                        <a:pt x="48" y="62"/>
                      </a:lnTo>
                      <a:lnTo>
                        <a:pt x="48" y="72"/>
                      </a:lnTo>
                      <a:lnTo>
                        <a:pt x="72" y="7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2" y="21"/>
                      </a:lnTo>
                      <a:lnTo>
                        <a:pt x="48" y="15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940040" y="5154480"/>
                  <a:ext cx="403560" cy="25920"/>
                </a:xfrm>
                <a:custGeom>
                  <a:avLst/>
                  <a:gdLst/>
                  <a:ahLst/>
                  <a:rect l="0" t="0" r="r" b="b"/>
                  <a:pathLst>
                    <a:path w="1121" h="72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39" y="6"/>
                      </a:lnTo>
                      <a:lnTo>
                        <a:pt x="74" y="6"/>
                      </a:lnTo>
                      <a:lnTo>
                        <a:pt x="110" y="6"/>
                      </a:lnTo>
                      <a:lnTo>
                        <a:pt x="145" y="6"/>
                      </a:lnTo>
                      <a:lnTo>
                        <a:pt x="180" y="6"/>
                      </a:lnTo>
                      <a:lnTo>
                        <a:pt x="216" y="6"/>
                      </a:lnTo>
                      <a:lnTo>
                        <a:pt x="251" y="6"/>
                      </a:lnTo>
                      <a:lnTo>
                        <a:pt x="286" y="6"/>
                      </a:lnTo>
                      <a:lnTo>
                        <a:pt x="321" y="6"/>
                      </a:lnTo>
                      <a:lnTo>
                        <a:pt x="357" y="6"/>
                      </a:lnTo>
                      <a:lnTo>
                        <a:pt x="392" y="6"/>
                      </a:lnTo>
                      <a:lnTo>
                        <a:pt x="427" y="12"/>
                      </a:lnTo>
                      <a:lnTo>
                        <a:pt x="463" y="12"/>
                      </a:lnTo>
                      <a:lnTo>
                        <a:pt x="498" y="12"/>
                      </a:lnTo>
                      <a:lnTo>
                        <a:pt x="533" y="12"/>
                      </a:lnTo>
                      <a:lnTo>
                        <a:pt x="569" y="20"/>
                      </a:lnTo>
                      <a:lnTo>
                        <a:pt x="605" y="20"/>
                      </a:lnTo>
                      <a:lnTo>
                        <a:pt x="640" y="20"/>
                      </a:lnTo>
                      <a:lnTo>
                        <a:pt x="680" y="26"/>
                      </a:lnTo>
                      <a:lnTo>
                        <a:pt x="710" y="26"/>
                      </a:lnTo>
                      <a:lnTo>
                        <a:pt x="746" y="26"/>
                      </a:lnTo>
                      <a:lnTo>
                        <a:pt x="781" y="33"/>
                      </a:lnTo>
                      <a:lnTo>
                        <a:pt x="816" y="33"/>
                      </a:lnTo>
                      <a:lnTo>
                        <a:pt x="852" y="39"/>
                      </a:lnTo>
                      <a:lnTo>
                        <a:pt x="882" y="39"/>
                      </a:lnTo>
                      <a:lnTo>
                        <a:pt x="918" y="45"/>
                      </a:lnTo>
                      <a:lnTo>
                        <a:pt x="953" y="45"/>
                      </a:lnTo>
                      <a:lnTo>
                        <a:pt x="988" y="52"/>
                      </a:lnTo>
                      <a:lnTo>
                        <a:pt x="1019" y="59"/>
                      </a:lnTo>
                      <a:lnTo>
                        <a:pt x="1054" y="66"/>
                      </a:lnTo>
                      <a:lnTo>
                        <a:pt x="1085" y="66"/>
                      </a:lnTo>
                      <a:lnTo>
                        <a:pt x="1121" y="72"/>
                      </a:lnTo>
                      <a:lnTo>
                        <a:pt x="1121" y="66"/>
                      </a:lnTo>
                      <a:lnTo>
                        <a:pt x="1090" y="59"/>
                      </a:lnTo>
                      <a:lnTo>
                        <a:pt x="1054" y="52"/>
                      </a:lnTo>
                      <a:lnTo>
                        <a:pt x="1019" y="52"/>
                      </a:lnTo>
                      <a:lnTo>
                        <a:pt x="988" y="45"/>
                      </a:lnTo>
                      <a:lnTo>
                        <a:pt x="953" y="45"/>
                      </a:lnTo>
                      <a:lnTo>
                        <a:pt x="922" y="39"/>
                      </a:lnTo>
                      <a:lnTo>
                        <a:pt x="887" y="39"/>
                      </a:lnTo>
                      <a:lnTo>
                        <a:pt x="852" y="33"/>
                      </a:lnTo>
                      <a:lnTo>
                        <a:pt x="816" y="26"/>
                      </a:lnTo>
                      <a:lnTo>
                        <a:pt x="781" y="26"/>
                      </a:lnTo>
                      <a:lnTo>
                        <a:pt x="750" y="20"/>
                      </a:lnTo>
                      <a:lnTo>
                        <a:pt x="710" y="20"/>
                      </a:lnTo>
                      <a:lnTo>
                        <a:pt x="680" y="20"/>
                      </a:lnTo>
                      <a:lnTo>
                        <a:pt x="640" y="12"/>
                      </a:lnTo>
                      <a:lnTo>
                        <a:pt x="605" y="12"/>
                      </a:lnTo>
                      <a:lnTo>
                        <a:pt x="569" y="6"/>
                      </a:lnTo>
                      <a:lnTo>
                        <a:pt x="533" y="6"/>
                      </a:lnTo>
                      <a:lnTo>
                        <a:pt x="498" y="6"/>
                      </a:lnTo>
                      <a:lnTo>
                        <a:pt x="463" y="6"/>
                      </a:lnTo>
                      <a:lnTo>
                        <a:pt x="427" y="6"/>
                      </a:lnTo>
                      <a:lnTo>
                        <a:pt x="392" y="6"/>
                      </a:lnTo>
                      <a:lnTo>
                        <a:pt x="357" y="0"/>
                      </a:lnTo>
                      <a:lnTo>
                        <a:pt x="321" y="0"/>
                      </a:lnTo>
                      <a:lnTo>
                        <a:pt x="286" y="0"/>
                      </a:lnTo>
                      <a:lnTo>
                        <a:pt x="251" y="0"/>
                      </a:lnTo>
                      <a:lnTo>
                        <a:pt x="216" y="0"/>
                      </a:lnTo>
                      <a:lnTo>
                        <a:pt x="180" y="0"/>
                      </a:lnTo>
                      <a:lnTo>
                        <a:pt x="145" y="0"/>
                      </a:lnTo>
                      <a:lnTo>
                        <a:pt x="110" y="0"/>
                      </a:lnTo>
                      <a:lnTo>
                        <a:pt x="74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913040" y="515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36"/>
                      </a:lnTo>
                      <a:lnTo>
                        <a:pt x="17" y="36"/>
                      </a:lnTo>
                      <a:lnTo>
                        <a:pt x="17" y="36"/>
                      </a:lnTo>
                      <a:lnTo>
                        <a:pt x="24" y="36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36" y="17"/>
                      </a:lnTo>
                      <a:lnTo>
                        <a:pt x="42" y="17"/>
                      </a:lnTo>
                      <a:lnTo>
                        <a:pt x="48" y="17"/>
                      </a:lnTo>
                      <a:lnTo>
                        <a:pt x="53" y="17"/>
                      </a:lnTo>
                      <a:lnTo>
                        <a:pt x="60" y="17"/>
                      </a:lnTo>
                      <a:lnTo>
                        <a:pt x="66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3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6" y="17"/>
                      </a:lnTo>
                      <a:lnTo>
                        <a:pt x="30" y="17"/>
                      </a:lnTo>
                      <a:lnTo>
                        <a:pt x="24" y="17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1" y="36"/>
                      </a:lnTo>
                      <a:lnTo>
                        <a:pt x="11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16000" y="5621400"/>
                  <a:ext cx="265320" cy="51120"/>
                </a:xfrm>
                <a:custGeom>
                  <a:avLst/>
                  <a:gdLst/>
                  <a:ahLst/>
                  <a:rect l="0" t="0" r="r" b="b"/>
                  <a:pathLst>
                    <a:path w="737" h="142">
                      <a:moveTo>
                        <a:pt x="0" y="0"/>
                      </a:moveTo>
                      <a:lnTo>
                        <a:pt x="737" y="61"/>
                      </a:lnTo>
                      <a:lnTo>
                        <a:pt x="728" y="70"/>
                      </a:lnTo>
                      <a:lnTo>
                        <a:pt x="719" y="80"/>
                      </a:lnTo>
                      <a:lnTo>
                        <a:pt x="710" y="84"/>
                      </a:lnTo>
                      <a:lnTo>
                        <a:pt x="702" y="93"/>
                      </a:lnTo>
                      <a:lnTo>
                        <a:pt x="693" y="102"/>
                      </a:lnTo>
                      <a:lnTo>
                        <a:pt x="680" y="106"/>
                      </a:lnTo>
                      <a:lnTo>
                        <a:pt x="671" y="111"/>
                      </a:lnTo>
                      <a:lnTo>
                        <a:pt x="658" y="115"/>
                      </a:lnTo>
                      <a:lnTo>
                        <a:pt x="649" y="120"/>
                      </a:lnTo>
                      <a:lnTo>
                        <a:pt x="636" y="124"/>
                      </a:lnTo>
                      <a:lnTo>
                        <a:pt x="627" y="124"/>
                      </a:lnTo>
                      <a:lnTo>
                        <a:pt x="613" y="128"/>
                      </a:lnTo>
                      <a:lnTo>
                        <a:pt x="605" y="133"/>
                      </a:lnTo>
                      <a:lnTo>
                        <a:pt x="591" y="133"/>
                      </a:lnTo>
                      <a:lnTo>
                        <a:pt x="583" y="137"/>
                      </a:lnTo>
                      <a:lnTo>
                        <a:pt x="569" y="137"/>
                      </a:lnTo>
                      <a:lnTo>
                        <a:pt x="556" y="142"/>
                      </a:lnTo>
                      <a:lnTo>
                        <a:pt x="547" y="142"/>
                      </a:lnTo>
                      <a:lnTo>
                        <a:pt x="534" y="142"/>
                      </a:lnTo>
                      <a:lnTo>
                        <a:pt x="521" y="142"/>
                      </a:lnTo>
                      <a:lnTo>
                        <a:pt x="512" y="142"/>
                      </a:lnTo>
                      <a:lnTo>
                        <a:pt x="494" y="142"/>
                      </a:lnTo>
                      <a:lnTo>
                        <a:pt x="486" y="142"/>
                      </a:lnTo>
                      <a:lnTo>
                        <a:pt x="472" y="142"/>
                      </a:lnTo>
                      <a:lnTo>
                        <a:pt x="459" y="142"/>
                      </a:lnTo>
                      <a:lnTo>
                        <a:pt x="446" y="142"/>
                      </a:lnTo>
                      <a:lnTo>
                        <a:pt x="437" y="142"/>
                      </a:lnTo>
                      <a:lnTo>
                        <a:pt x="419" y="142"/>
                      </a:lnTo>
                      <a:lnTo>
                        <a:pt x="411" y="142"/>
                      </a:lnTo>
                      <a:lnTo>
                        <a:pt x="397" y="142"/>
                      </a:lnTo>
                      <a:lnTo>
                        <a:pt x="384" y="142"/>
                      </a:lnTo>
                      <a:lnTo>
                        <a:pt x="371" y="142"/>
                      </a:lnTo>
                      <a:lnTo>
                        <a:pt x="352" y="142"/>
                      </a:lnTo>
                      <a:lnTo>
                        <a:pt x="339" y="142"/>
                      </a:lnTo>
                      <a:lnTo>
                        <a:pt x="326" y="137"/>
                      </a:lnTo>
                      <a:lnTo>
                        <a:pt x="313" y="137"/>
                      </a:lnTo>
                      <a:lnTo>
                        <a:pt x="299" y="137"/>
                      </a:lnTo>
                      <a:lnTo>
                        <a:pt x="286" y="133"/>
                      </a:lnTo>
                      <a:lnTo>
                        <a:pt x="273" y="133"/>
                      </a:lnTo>
                      <a:lnTo>
                        <a:pt x="260" y="133"/>
                      </a:lnTo>
                      <a:lnTo>
                        <a:pt x="246" y="128"/>
                      </a:lnTo>
                      <a:lnTo>
                        <a:pt x="233" y="124"/>
                      </a:lnTo>
                      <a:lnTo>
                        <a:pt x="220" y="124"/>
                      </a:lnTo>
                      <a:lnTo>
                        <a:pt x="207" y="120"/>
                      </a:lnTo>
                      <a:lnTo>
                        <a:pt x="194" y="115"/>
                      </a:lnTo>
                      <a:lnTo>
                        <a:pt x="180" y="111"/>
                      </a:lnTo>
                      <a:lnTo>
                        <a:pt x="171" y="106"/>
                      </a:lnTo>
                      <a:lnTo>
                        <a:pt x="158" y="106"/>
                      </a:lnTo>
                      <a:lnTo>
                        <a:pt x="145" y="102"/>
                      </a:lnTo>
                      <a:lnTo>
                        <a:pt x="136" y="93"/>
                      </a:lnTo>
                      <a:lnTo>
                        <a:pt x="123" y="89"/>
                      </a:lnTo>
                      <a:lnTo>
                        <a:pt x="110" y="84"/>
                      </a:lnTo>
                      <a:lnTo>
                        <a:pt x="101" y="80"/>
                      </a:lnTo>
                      <a:lnTo>
                        <a:pt x="88" y="70"/>
                      </a:lnTo>
                      <a:lnTo>
                        <a:pt x="79" y="66"/>
                      </a:lnTo>
                      <a:lnTo>
                        <a:pt x="70" y="61"/>
                      </a:lnTo>
                      <a:lnTo>
                        <a:pt x="61" y="52"/>
                      </a:lnTo>
                      <a:lnTo>
                        <a:pt x="52" y="48"/>
                      </a:lnTo>
                      <a:lnTo>
                        <a:pt x="39" y="39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17" y="17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6000" y="5619600"/>
                  <a:ext cx="265320" cy="25920"/>
                </a:xfrm>
                <a:custGeom>
                  <a:avLst/>
                  <a:gdLst/>
                  <a:ahLst/>
                  <a:rect l="0" t="0" r="r" b="b"/>
                  <a:pathLst>
                    <a:path w="737" h="72">
                      <a:moveTo>
                        <a:pt x="737" y="72"/>
                      </a:moveTo>
                      <a:lnTo>
                        <a:pt x="733" y="67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33" y="72"/>
                      </a:lnTo>
                      <a:lnTo>
                        <a:pt x="733" y="67"/>
                      </a:lnTo>
                      <a:lnTo>
                        <a:pt x="733" y="72"/>
                      </a:lnTo>
                      <a:lnTo>
                        <a:pt x="737" y="72"/>
                      </a:lnTo>
                      <a:lnTo>
                        <a:pt x="737" y="67"/>
                      </a:lnTo>
                      <a:lnTo>
                        <a:pt x="737" y="67"/>
                      </a:lnTo>
                      <a:lnTo>
                        <a:pt x="733" y="67"/>
                      </a:lnTo>
                      <a:lnTo>
                        <a:pt x="73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151000" y="5646600"/>
                  <a:ext cx="130680" cy="27360"/>
                </a:xfrm>
                <a:custGeom>
                  <a:avLst/>
                  <a:gdLst/>
                  <a:ahLst/>
                  <a:rect l="0" t="0" r="r" b="b"/>
                  <a:pathLst>
                    <a:path w="363" h="76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7" y="72"/>
                      </a:lnTo>
                      <a:lnTo>
                        <a:pt x="30" y="76"/>
                      </a:lnTo>
                      <a:lnTo>
                        <a:pt x="44" y="76"/>
                      </a:lnTo>
                      <a:lnTo>
                        <a:pt x="52" y="76"/>
                      </a:lnTo>
                      <a:lnTo>
                        <a:pt x="66" y="76"/>
                      </a:lnTo>
                      <a:lnTo>
                        <a:pt x="79" y="76"/>
                      </a:lnTo>
                      <a:lnTo>
                        <a:pt x="93" y="76"/>
                      </a:lnTo>
                      <a:lnTo>
                        <a:pt x="102" y="76"/>
                      </a:lnTo>
                      <a:lnTo>
                        <a:pt x="115" y="76"/>
                      </a:lnTo>
                      <a:lnTo>
                        <a:pt x="128" y="76"/>
                      </a:lnTo>
                      <a:lnTo>
                        <a:pt x="142" y="76"/>
                      </a:lnTo>
                      <a:lnTo>
                        <a:pt x="155" y="76"/>
                      </a:lnTo>
                      <a:lnTo>
                        <a:pt x="164" y="76"/>
                      </a:lnTo>
                      <a:lnTo>
                        <a:pt x="177" y="72"/>
                      </a:lnTo>
                      <a:lnTo>
                        <a:pt x="186" y="72"/>
                      </a:lnTo>
                      <a:lnTo>
                        <a:pt x="199" y="72"/>
                      </a:lnTo>
                      <a:lnTo>
                        <a:pt x="208" y="72"/>
                      </a:lnTo>
                      <a:lnTo>
                        <a:pt x="221" y="68"/>
                      </a:lnTo>
                      <a:lnTo>
                        <a:pt x="234" y="68"/>
                      </a:lnTo>
                      <a:lnTo>
                        <a:pt x="243" y="63"/>
                      </a:lnTo>
                      <a:lnTo>
                        <a:pt x="256" y="63"/>
                      </a:lnTo>
                      <a:lnTo>
                        <a:pt x="265" y="59"/>
                      </a:lnTo>
                      <a:lnTo>
                        <a:pt x="275" y="53"/>
                      </a:lnTo>
                      <a:lnTo>
                        <a:pt x="288" y="49"/>
                      </a:lnTo>
                      <a:lnTo>
                        <a:pt x="297" y="45"/>
                      </a:lnTo>
                      <a:lnTo>
                        <a:pt x="306" y="45"/>
                      </a:lnTo>
                      <a:lnTo>
                        <a:pt x="315" y="36"/>
                      </a:lnTo>
                      <a:lnTo>
                        <a:pt x="323" y="31"/>
                      </a:lnTo>
                      <a:lnTo>
                        <a:pt x="337" y="23"/>
                      </a:lnTo>
                      <a:lnTo>
                        <a:pt x="345" y="17"/>
                      </a:lnTo>
                      <a:lnTo>
                        <a:pt x="354" y="8"/>
                      </a:lnTo>
                      <a:lnTo>
                        <a:pt x="363" y="4"/>
                      </a:lnTo>
                      <a:lnTo>
                        <a:pt x="359" y="0"/>
                      </a:lnTo>
                      <a:lnTo>
                        <a:pt x="350" y="8"/>
                      </a:lnTo>
                      <a:lnTo>
                        <a:pt x="341" y="13"/>
                      </a:lnTo>
                      <a:lnTo>
                        <a:pt x="332" y="23"/>
                      </a:lnTo>
                      <a:lnTo>
                        <a:pt x="323" y="27"/>
                      </a:lnTo>
                      <a:lnTo>
                        <a:pt x="315" y="31"/>
                      </a:lnTo>
                      <a:lnTo>
                        <a:pt x="306" y="36"/>
                      </a:lnTo>
                      <a:lnTo>
                        <a:pt x="297" y="45"/>
                      </a:lnTo>
                      <a:lnTo>
                        <a:pt x="284" y="45"/>
                      </a:lnTo>
                      <a:lnTo>
                        <a:pt x="275" y="49"/>
                      </a:lnTo>
                      <a:lnTo>
                        <a:pt x="265" y="53"/>
                      </a:lnTo>
                      <a:lnTo>
                        <a:pt x="252" y="53"/>
                      </a:lnTo>
                      <a:lnTo>
                        <a:pt x="243" y="59"/>
                      </a:lnTo>
                      <a:lnTo>
                        <a:pt x="230" y="63"/>
                      </a:lnTo>
                      <a:lnTo>
                        <a:pt x="221" y="63"/>
                      </a:lnTo>
                      <a:lnTo>
                        <a:pt x="208" y="68"/>
                      </a:lnTo>
                      <a:lnTo>
                        <a:pt x="199" y="68"/>
                      </a:lnTo>
                      <a:lnTo>
                        <a:pt x="186" y="68"/>
                      </a:lnTo>
                      <a:lnTo>
                        <a:pt x="172" y="68"/>
                      </a:lnTo>
                      <a:lnTo>
                        <a:pt x="164" y="68"/>
                      </a:lnTo>
                      <a:lnTo>
                        <a:pt x="155" y="72"/>
                      </a:lnTo>
                      <a:lnTo>
                        <a:pt x="142" y="72"/>
                      </a:lnTo>
                      <a:lnTo>
                        <a:pt x="128" y="72"/>
                      </a:lnTo>
                      <a:lnTo>
                        <a:pt x="115" y="72"/>
                      </a:lnTo>
                      <a:lnTo>
                        <a:pt x="102" y="72"/>
                      </a:lnTo>
                      <a:lnTo>
                        <a:pt x="93" y="72"/>
                      </a:lnTo>
                      <a:lnTo>
                        <a:pt x="79" y="72"/>
                      </a:lnTo>
                      <a:lnTo>
                        <a:pt x="66" y="72"/>
                      </a:lnTo>
                      <a:lnTo>
                        <a:pt x="52" y="68"/>
                      </a:lnTo>
                      <a:lnTo>
                        <a:pt x="44" y="68"/>
                      </a:lnTo>
                      <a:lnTo>
                        <a:pt x="30" y="68"/>
                      </a:lnTo>
                      <a:lnTo>
                        <a:pt x="17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16000" y="5619600"/>
                  <a:ext cx="127440" cy="52920"/>
                </a:xfrm>
                <a:custGeom>
                  <a:avLst/>
                  <a:gdLst/>
                  <a:ahLst/>
                  <a:rect l="0" t="0" r="r" b="b"/>
                  <a:pathLst>
                    <a:path w="354" h="147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17" y="22"/>
                      </a:lnTo>
                      <a:lnTo>
                        <a:pt x="22" y="30"/>
                      </a:lnTo>
                      <a:lnTo>
                        <a:pt x="30" y="40"/>
                      </a:lnTo>
                      <a:lnTo>
                        <a:pt x="39" y="45"/>
                      </a:lnTo>
                      <a:lnTo>
                        <a:pt x="48" y="53"/>
                      </a:lnTo>
                      <a:lnTo>
                        <a:pt x="57" y="58"/>
                      </a:lnTo>
                      <a:lnTo>
                        <a:pt x="66" y="67"/>
                      </a:lnTo>
                      <a:lnTo>
                        <a:pt x="74" y="71"/>
                      </a:lnTo>
                      <a:lnTo>
                        <a:pt x="89" y="80"/>
                      </a:lnTo>
                      <a:lnTo>
                        <a:pt x="98" y="84"/>
                      </a:lnTo>
                      <a:lnTo>
                        <a:pt x="111" y="93"/>
                      </a:lnTo>
                      <a:lnTo>
                        <a:pt x="120" y="98"/>
                      </a:lnTo>
                      <a:lnTo>
                        <a:pt x="128" y="102"/>
                      </a:lnTo>
                      <a:lnTo>
                        <a:pt x="142" y="106"/>
                      </a:lnTo>
                      <a:lnTo>
                        <a:pt x="155" y="112"/>
                      </a:lnTo>
                      <a:lnTo>
                        <a:pt x="164" y="116"/>
                      </a:lnTo>
                      <a:lnTo>
                        <a:pt x="177" y="121"/>
                      </a:lnTo>
                      <a:lnTo>
                        <a:pt x="186" y="125"/>
                      </a:lnTo>
                      <a:lnTo>
                        <a:pt x="199" y="129"/>
                      </a:lnTo>
                      <a:lnTo>
                        <a:pt x="212" y="129"/>
                      </a:lnTo>
                      <a:lnTo>
                        <a:pt x="225" y="134"/>
                      </a:lnTo>
                      <a:lnTo>
                        <a:pt x="234" y="138"/>
                      </a:lnTo>
                      <a:lnTo>
                        <a:pt x="247" y="138"/>
                      </a:lnTo>
                      <a:lnTo>
                        <a:pt x="261" y="143"/>
                      </a:lnTo>
                      <a:lnTo>
                        <a:pt x="275" y="143"/>
                      </a:lnTo>
                      <a:lnTo>
                        <a:pt x="288" y="143"/>
                      </a:lnTo>
                      <a:lnTo>
                        <a:pt x="301" y="147"/>
                      </a:lnTo>
                      <a:lnTo>
                        <a:pt x="315" y="147"/>
                      </a:lnTo>
                      <a:lnTo>
                        <a:pt x="328" y="147"/>
                      </a:lnTo>
                      <a:lnTo>
                        <a:pt x="341" y="147"/>
                      </a:lnTo>
                      <a:lnTo>
                        <a:pt x="354" y="147"/>
                      </a:lnTo>
                      <a:lnTo>
                        <a:pt x="354" y="143"/>
                      </a:lnTo>
                      <a:lnTo>
                        <a:pt x="341" y="143"/>
                      </a:lnTo>
                      <a:lnTo>
                        <a:pt x="328" y="143"/>
                      </a:lnTo>
                      <a:lnTo>
                        <a:pt x="315" y="143"/>
                      </a:lnTo>
                      <a:lnTo>
                        <a:pt x="301" y="143"/>
                      </a:lnTo>
                      <a:lnTo>
                        <a:pt x="288" y="138"/>
                      </a:lnTo>
                      <a:lnTo>
                        <a:pt x="275" y="138"/>
                      </a:lnTo>
                      <a:lnTo>
                        <a:pt x="266" y="134"/>
                      </a:lnTo>
                      <a:lnTo>
                        <a:pt x="247" y="134"/>
                      </a:lnTo>
                      <a:lnTo>
                        <a:pt x="239" y="129"/>
                      </a:lnTo>
                      <a:lnTo>
                        <a:pt x="225" y="129"/>
                      </a:lnTo>
                      <a:lnTo>
                        <a:pt x="212" y="125"/>
                      </a:lnTo>
                      <a:lnTo>
                        <a:pt x="199" y="121"/>
                      </a:lnTo>
                      <a:lnTo>
                        <a:pt x="190" y="116"/>
                      </a:lnTo>
                      <a:lnTo>
                        <a:pt x="177" y="116"/>
                      </a:lnTo>
                      <a:lnTo>
                        <a:pt x="168" y="112"/>
                      </a:lnTo>
                      <a:lnTo>
                        <a:pt x="155" y="106"/>
                      </a:lnTo>
                      <a:lnTo>
                        <a:pt x="142" y="98"/>
                      </a:lnTo>
                      <a:lnTo>
                        <a:pt x="133" y="98"/>
                      </a:lnTo>
                      <a:lnTo>
                        <a:pt x="124" y="93"/>
                      </a:lnTo>
                      <a:lnTo>
                        <a:pt x="111" y="84"/>
                      </a:lnTo>
                      <a:lnTo>
                        <a:pt x="98" y="80"/>
                      </a:lnTo>
                      <a:lnTo>
                        <a:pt x="89" y="75"/>
                      </a:lnTo>
                      <a:lnTo>
                        <a:pt x="79" y="67"/>
                      </a:lnTo>
                      <a:lnTo>
                        <a:pt x="70" y="62"/>
                      </a:lnTo>
                      <a:lnTo>
                        <a:pt x="61" y="53"/>
                      </a:lnTo>
                      <a:lnTo>
                        <a:pt x="52" y="49"/>
                      </a:lnTo>
                      <a:lnTo>
                        <a:pt x="44" y="40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22" y="17"/>
                      </a:lnTo>
                      <a:lnTo>
                        <a:pt x="13" y="8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874880" y="5580000"/>
                  <a:ext cx="449640" cy="178200"/>
                </a:xfrm>
                <a:custGeom>
                  <a:avLst/>
                  <a:gdLst/>
                  <a:ahLst/>
                  <a:rect l="0" t="0" r="r" b="b"/>
                  <a:pathLst>
                    <a:path w="1249" h="495">
                      <a:moveTo>
                        <a:pt x="79" y="336"/>
                      </a:moveTo>
                      <a:lnTo>
                        <a:pt x="1249" y="442"/>
                      </a:lnTo>
                      <a:lnTo>
                        <a:pt x="1249" y="495"/>
                      </a:lnTo>
                      <a:lnTo>
                        <a:pt x="79" y="390"/>
                      </a:lnTo>
                      <a:lnTo>
                        <a:pt x="79" y="336"/>
                      </a:lnTo>
                      <a:lnTo>
                        <a:pt x="4" y="0"/>
                      </a:lnTo>
                      <a:lnTo>
                        <a:pt x="1227" y="110"/>
                      </a:lnTo>
                      <a:lnTo>
                        <a:pt x="1219" y="168"/>
                      </a:lnTo>
                      <a:lnTo>
                        <a:pt x="0" y="48"/>
                      </a:lnTo>
                      <a:lnTo>
                        <a:pt x="4" y="0"/>
                      </a:lnTo>
                      <a:lnTo>
                        <a:pt x="79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4800" y="5661000"/>
                  <a:ext cx="230400" cy="41760"/>
                </a:xfrm>
                <a:custGeom>
                  <a:avLst/>
                  <a:gdLst/>
                  <a:ahLst/>
                  <a:rect l="0" t="0" r="r" b="b"/>
                  <a:pathLst>
                    <a:path w="640" h="116">
                      <a:moveTo>
                        <a:pt x="57" y="0"/>
                      </a:moveTo>
                      <a:lnTo>
                        <a:pt x="4" y="67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4" y="75"/>
                      </a:lnTo>
                      <a:lnTo>
                        <a:pt x="4" y="80"/>
                      </a:lnTo>
                      <a:lnTo>
                        <a:pt x="8" y="80"/>
                      </a:lnTo>
                      <a:lnTo>
                        <a:pt x="13" y="84"/>
                      </a:lnTo>
                      <a:lnTo>
                        <a:pt x="17" y="84"/>
                      </a:lnTo>
                      <a:lnTo>
                        <a:pt x="26" y="90"/>
                      </a:lnTo>
                      <a:lnTo>
                        <a:pt x="35" y="90"/>
                      </a:lnTo>
                      <a:lnTo>
                        <a:pt x="39" y="90"/>
                      </a:lnTo>
                      <a:lnTo>
                        <a:pt x="48" y="94"/>
                      </a:lnTo>
                      <a:lnTo>
                        <a:pt x="61" y="94"/>
                      </a:lnTo>
                      <a:lnTo>
                        <a:pt x="70" y="99"/>
                      </a:lnTo>
                      <a:lnTo>
                        <a:pt x="83" y="99"/>
                      </a:lnTo>
                      <a:lnTo>
                        <a:pt x="97" y="103"/>
                      </a:lnTo>
                      <a:lnTo>
                        <a:pt x="110" y="103"/>
                      </a:lnTo>
                      <a:lnTo>
                        <a:pt x="119" y="107"/>
                      </a:lnTo>
                      <a:lnTo>
                        <a:pt x="132" y="107"/>
                      </a:lnTo>
                      <a:lnTo>
                        <a:pt x="145" y="107"/>
                      </a:lnTo>
                      <a:lnTo>
                        <a:pt x="163" y="112"/>
                      </a:lnTo>
                      <a:lnTo>
                        <a:pt x="171" y="112"/>
                      </a:lnTo>
                      <a:lnTo>
                        <a:pt x="189" y="112"/>
                      </a:lnTo>
                      <a:lnTo>
                        <a:pt x="202" y="112"/>
                      </a:lnTo>
                      <a:lnTo>
                        <a:pt x="216" y="116"/>
                      </a:lnTo>
                      <a:lnTo>
                        <a:pt x="229" y="116"/>
                      </a:lnTo>
                      <a:lnTo>
                        <a:pt x="242" y="116"/>
                      </a:lnTo>
                      <a:lnTo>
                        <a:pt x="255" y="116"/>
                      </a:lnTo>
                      <a:lnTo>
                        <a:pt x="268" y="116"/>
                      </a:lnTo>
                      <a:lnTo>
                        <a:pt x="282" y="116"/>
                      </a:lnTo>
                      <a:lnTo>
                        <a:pt x="295" y="116"/>
                      </a:lnTo>
                      <a:lnTo>
                        <a:pt x="308" y="116"/>
                      </a:lnTo>
                      <a:lnTo>
                        <a:pt x="322" y="116"/>
                      </a:lnTo>
                      <a:lnTo>
                        <a:pt x="331" y="116"/>
                      </a:lnTo>
                      <a:lnTo>
                        <a:pt x="340" y="116"/>
                      </a:lnTo>
                      <a:lnTo>
                        <a:pt x="353" y="116"/>
                      </a:lnTo>
                      <a:lnTo>
                        <a:pt x="367" y="116"/>
                      </a:lnTo>
                      <a:lnTo>
                        <a:pt x="380" y="116"/>
                      </a:lnTo>
                      <a:lnTo>
                        <a:pt x="393" y="116"/>
                      </a:lnTo>
                      <a:lnTo>
                        <a:pt x="406" y="116"/>
                      </a:lnTo>
                      <a:lnTo>
                        <a:pt x="419" y="116"/>
                      </a:lnTo>
                      <a:lnTo>
                        <a:pt x="433" y="112"/>
                      </a:lnTo>
                      <a:lnTo>
                        <a:pt x="446" y="112"/>
                      </a:lnTo>
                      <a:lnTo>
                        <a:pt x="459" y="112"/>
                      </a:lnTo>
                      <a:lnTo>
                        <a:pt x="472" y="112"/>
                      </a:lnTo>
                      <a:lnTo>
                        <a:pt x="490" y="107"/>
                      </a:lnTo>
                      <a:lnTo>
                        <a:pt x="499" y="107"/>
                      </a:lnTo>
                      <a:lnTo>
                        <a:pt x="516" y="107"/>
                      </a:lnTo>
                      <a:lnTo>
                        <a:pt x="525" y="103"/>
                      </a:lnTo>
                      <a:lnTo>
                        <a:pt x="538" y="103"/>
                      </a:lnTo>
                      <a:lnTo>
                        <a:pt x="552" y="103"/>
                      </a:lnTo>
                      <a:lnTo>
                        <a:pt x="565" y="99"/>
                      </a:lnTo>
                      <a:lnTo>
                        <a:pt x="574" y="99"/>
                      </a:lnTo>
                      <a:lnTo>
                        <a:pt x="583" y="94"/>
                      </a:lnTo>
                      <a:lnTo>
                        <a:pt x="596" y="94"/>
                      </a:lnTo>
                      <a:lnTo>
                        <a:pt x="605" y="90"/>
                      </a:lnTo>
                      <a:lnTo>
                        <a:pt x="609" y="90"/>
                      </a:lnTo>
                      <a:lnTo>
                        <a:pt x="618" y="90"/>
                      </a:lnTo>
                      <a:lnTo>
                        <a:pt x="627" y="84"/>
                      </a:lnTo>
                      <a:lnTo>
                        <a:pt x="631" y="84"/>
                      </a:lnTo>
                      <a:lnTo>
                        <a:pt x="636" y="80"/>
                      </a:lnTo>
                      <a:lnTo>
                        <a:pt x="636" y="75"/>
                      </a:lnTo>
                      <a:lnTo>
                        <a:pt x="640" y="75"/>
                      </a:lnTo>
                      <a:lnTo>
                        <a:pt x="640" y="71"/>
                      </a:lnTo>
                      <a:lnTo>
                        <a:pt x="640" y="67"/>
                      </a:lnTo>
                      <a:lnTo>
                        <a:pt x="600" y="4"/>
                      </a:lnTo>
                      <a:lnTo>
                        <a:pt x="591" y="8"/>
                      </a:lnTo>
                      <a:lnTo>
                        <a:pt x="583" y="13"/>
                      </a:lnTo>
                      <a:lnTo>
                        <a:pt x="578" y="13"/>
                      </a:lnTo>
                      <a:lnTo>
                        <a:pt x="569" y="17"/>
                      </a:lnTo>
                      <a:lnTo>
                        <a:pt x="565" y="17"/>
                      </a:lnTo>
                      <a:lnTo>
                        <a:pt x="556" y="22"/>
                      </a:lnTo>
                      <a:lnTo>
                        <a:pt x="547" y="22"/>
                      </a:lnTo>
                      <a:lnTo>
                        <a:pt x="538" y="26"/>
                      </a:lnTo>
                      <a:lnTo>
                        <a:pt x="530" y="26"/>
                      </a:lnTo>
                      <a:lnTo>
                        <a:pt x="521" y="31"/>
                      </a:lnTo>
                      <a:lnTo>
                        <a:pt x="516" y="31"/>
                      </a:lnTo>
                      <a:lnTo>
                        <a:pt x="503" y="31"/>
                      </a:lnTo>
                      <a:lnTo>
                        <a:pt x="499" y="31"/>
                      </a:lnTo>
                      <a:lnTo>
                        <a:pt x="490" y="31"/>
                      </a:lnTo>
                      <a:lnTo>
                        <a:pt x="481" y="36"/>
                      </a:lnTo>
                      <a:lnTo>
                        <a:pt x="472" y="36"/>
                      </a:lnTo>
                      <a:lnTo>
                        <a:pt x="464" y="36"/>
                      </a:lnTo>
                      <a:lnTo>
                        <a:pt x="455" y="36"/>
                      </a:lnTo>
                      <a:lnTo>
                        <a:pt x="446" y="36"/>
                      </a:lnTo>
                      <a:lnTo>
                        <a:pt x="437" y="40"/>
                      </a:lnTo>
                      <a:lnTo>
                        <a:pt x="428" y="40"/>
                      </a:lnTo>
                      <a:lnTo>
                        <a:pt x="419" y="40"/>
                      </a:lnTo>
                      <a:lnTo>
                        <a:pt x="411" y="40"/>
                      </a:lnTo>
                      <a:lnTo>
                        <a:pt x="402" y="40"/>
                      </a:lnTo>
                      <a:lnTo>
                        <a:pt x="393" y="40"/>
                      </a:lnTo>
                      <a:lnTo>
                        <a:pt x="384" y="40"/>
                      </a:lnTo>
                      <a:lnTo>
                        <a:pt x="375" y="40"/>
                      </a:lnTo>
                      <a:lnTo>
                        <a:pt x="367" y="40"/>
                      </a:lnTo>
                      <a:lnTo>
                        <a:pt x="358" y="40"/>
                      </a:lnTo>
                      <a:lnTo>
                        <a:pt x="349" y="40"/>
                      </a:lnTo>
                      <a:lnTo>
                        <a:pt x="340" y="40"/>
                      </a:lnTo>
                      <a:lnTo>
                        <a:pt x="331" y="40"/>
                      </a:lnTo>
                      <a:lnTo>
                        <a:pt x="322" y="40"/>
                      </a:lnTo>
                      <a:lnTo>
                        <a:pt x="313" y="40"/>
                      </a:lnTo>
                      <a:lnTo>
                        <a:pt x="299" y="40"/>
                      </a:lnTo>
                      <a:lnTo>
                        <a:pt x="291" y="40"/>
                      </a:lnTo>
                      <a:lnTo>
                        <a:pt x="277" y="40"/>
                      </a:lnTo>
                      <a:lnTo>
                        <a:pt x="268" y="40"/>
                      </a:lnTo>
                      <a:lnTo>
                        <a:pt x="255" y="40"/>
                      </a:lnTo>
                      <a:lnTo>
                        <a:pt x="242" y="40"/>
                      </a:lnTo>
                      <a:lnTo>
                        <a:pt x="229" y="40"/>
                      </a:lnTo>
                      <a:lnTo>
                        <a:pt x="220" y="40"/>
                      </a:lnTo>
                      <a:lnTo>
                        <a:pt x="202" y="40"/>
                      </a:lnTo>
                      <a:lnTo>
                        <a:pt x="194" y="36"/>
                      </a:lnTo>
                      <a:lnTo>
                        <a:pt x="180" y="36"/>
                      </a:lnTo>
                      <a:lnTo>
                        <a:pt x="167" y="36"/>
                      </a:lnTo>
                      <a:lnTo>
                        <a:pt x="158" y="36"/>
                      </a:lnTo>
                      <a:lnTo>
                        <a:pt x="145" y="31"/>
                      </a:lnTo>
                      <a:lnTo>
                        <a:pt x="136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26"/>
                      </a:lnTo>
                      <a:lnTo>
                        <a:pt x="88" y="26"/>
                      </a:lnTo>
                      <a:lnTo>
                        <a:pt x="79" y="22"/>
                      </a:lnTo>
                      <a:lnTo>
                        <a:pt x="70" y="22"/>
                      </a:lnTo>
                      <a:lnTo>
                        <a:pt x="66" y="17"/>
                      </a:lnTo>
                      <a:lnTo>
                        <a:pt x="61" y="17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2" y="8"/>
                      </a:lnTo>
                      <a:lnTo>
                        <a:pt x="52" y="4"/>
                      </a:lnTo>
                      <a:lnTo>
                        <a:pt x="52" y="4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4800" y="56610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8" y="72"/>
                      </a:moveTo>
                      <a:lnTo>
                        <a:pt x="8" y="72"/>
                      </a:lnTo>
                      <a:lnTo>
                        <a:pt x="72" y="5"/>
                      </a:lnTo>
                      <a:lnTo>
                        <a:pt x="63" y="0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44800" y="5691240"/>
                  <a:ext cx="113040" cy="25920"/>
                </a:xfrm>
                <a:custGeom>
                  <a:avLst/>
                  <a:gdLst/>
                  <a:ahLst/>
                  <a:rect l="0" t="0" r="r" b="b"/>
                  <a:pathLst>
                    <a:path w="314" h="72">
                      <a:moveTo>
                        <a:pt x="309" y="64"/>
                      </a:moveTo>
                      <a:lnTo>
                        <a:pt x="309" y="64"/>
                      </a:lnTo>
                      <a:lnTo>
                        <a:pt x="296" y="64"/>
                      </a:lnTo>
                      <a:lnTo>
                        <a:pt x="287" y="64"/>
                      </a:lnTo>
                      <a:lnTo>
                        <a:pt x="274" y="64"/>
                      </a:lnTo>
                      <a:lnTo>
                        <a:pt x="261" y="64"/>
                      </a:lnTo>
                      <a:lnTo>
                        <a:pt x="247" y="64"/>
                      </a:lnTo>
                      <a:lnTo>
                        <a:pt x="234" y="64"/>
                      </a:lnTo>
                      <a:lnTo>
                        <a:pt x="225" y="64"/>
                      </a:lnTo>
                      <a:lnTo>
                        <a:pt x="212" y="56"/>
                      </a:lnTo>
                      <a:lnTo>
                        <a:pt x="195" y="56"/>
                      </a:lnTo>
                      <a:lnTo>
                        <a:pt x="181" y="56"/>
                      </a:lnTo>
                      <a:lnTo>
                        <a:pt x="168" y="56"/>
                      </a:lnTo>
                      <a:lnTo>
                        <a:pt x="159" y="56"/>
                      </a:lnTo>
                      <a:lnTo>
                        <a:pt x="141" y="56"/>
                      </a:lnTo>
                      <a:lnTo>
                        <a:pt x="127" y="48"/>
                      </a:lnTo>
                      <a:lnTo>
                        <a:pt x="119" y="48"/>
                      </a:lnTo>
                      <a:lnTo>
                        <a:pt x="105" y="48"/>
                      </a:lnTo>
                      <a:lnTo>
                        <a:pt x="92" y="48"/>
                      </a:lnTo>
                      <a:lnTo>
                        <a:pt x="83" y="40"/>
                      </a:lnTo>
                      <a:lnTo>
                        <a:pt x="70" y="40"/>
                      </a:lnTo>
                      <a:lnTo>
                        <a:pt x="61" y="40"/>
                      </a:lnTo>
                      <a:lnTo>
                        <a:pt x="52" y="32"/>
                      </a:lnTo>
                      <a:lnTo>
                        <a:pt x="44" y="32"/>
                      </a:lnTo>
                      <a:lnTo>
                        <a:pt x="35" y="24"/>
                      </a:lnTo>
                      <a:lnTo>
                        <a:pt x="26" y="24"/>
                      </a:lnTo>
                      <a:lnTo>
                        <a:pt x="22" y="24"/>
                      </a:lnTo>
                      <a:lnTo>
                        <a:pt x="17" y="15"/>
                      </a:lnTo>
                      <a:lnTo>
                        <a:pt x="13" y="15"/>
                      </a:lnTo>
                      <a:lnTo>
                        <a:pt x="8" y="15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8" y="24"/>
                      </a:lnTo>
                      <a:lnTo>
                        <a:pt x="13" y="24"/>
                      </a:lnTo>
                      <a:lnTo>
                        <a:pt x="17" y="24"/>
                      </a:lnTo>
                      <a:lnTo>
                        <a:pt x="26" y="32"/>
                      </a:lnTo>
                      <a:lnTo>
                        <a:pt x="35" y="40"/>
                      </a:lnTo>
                      <a:lnTo>
                        <a:pt x="39" y="40"/>
                      </a:lnTo>
                      <a:lnTo>
                        <a:pt x="48" y="40"/>
                      </a:lnTo>
                      <a:lnTo>
                        <a:pt x="61" y="48"/>
                      </a:lnTo>
                      <a:lnTo>
                        <a:pt x="70" y="48"/>
                      </a:lnTo>
                      <a:lnTo>
                        <a:pt x="79" y="48"/>
                      </a:lnTo>
                      <a:lnTo>
                        <a:pt x="92" y="48"/>
                      </a:lnTo>
                      <a:lnTo>
                        <a:pt x="101" y="56"/>
                      </a:lnTo>
                      <a:lnTo>
                        <a:pt x="119" y="56"/>
                      </a:lnTo>
                      <a:lnTo>
                        <a:pt x="127" y="56"/>
                      </a:lnTo>
                      <a:lnTo>
                        <a:pt x="141" y="56"/>
                      </a:lnTo>
                      <a:lnTo>
                        <a:pt x="154" y="64"/>
                      </a:lnTo>
                      <a:lnTo>
                        <a:pt x="168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12" y="64"/>
                      </a:lnTo>
                      <a:lnTo>
                        <a:pt x="221" y="72"/>
                      </a:lnTo>
                      <a:lnTo>
                        <a:pt x="234" y="72"/>
                      </a:lnTo>
                      <a:lnTo>
                        <a:pt x="247" y="72"/>
                      </a:lnTo>
                      <a:lnTo>
                        <a:pt x="261" y="72"/>
                      </a:lnTo>
                      <a:lnTo>
                        <a:pt x="274" y="72"/>
                      </a:lnTo>
                      <a:lnTo>
                        <a:pt x="287" y="72"/>
                      </a:lnTo>
                      <a:lnTo>
                        <a:pt x="296" y="72"/>
                      </a:lnTo>
                      <a:lnTo>
                        <a:pt x="309" y="72"/>
                      </a:lnTo>
                      <a:lnTo>
                        <a:pt x="309" y="72"/>
                      </a:lnTo>
                      <a:lnTo>
                        <a:pt x="314" y="64"/>
                      </a:lnTo>
                      <a:lnTo>
                        <a:pt x="30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165400" y="5691240"/>
                  <a:ext cx="111600" cy="25920"/>
                </a:xfrm>
                <a:custGeom>
                  <a:avLst/>
                  <a:gdLst/>
                  <a:ahLst/>
                  <a:rect l="0" t="0" r="r" b="b"/>
                  <a:pathLst>
                    <a:path w="310" h="72">
                      <a:moveTo>
                        <a:pt x="306" y="7"/>
                      </a:moveTo>
                      <a:lnTo>
                        <a:pt x="301" y="7"/>
                      </a:lnTo>
                      <a:lnTo>
                        <a:pt x="306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1" y="15"/>
                      </a:lnTo>
                      <a:lnTo>
                        <a:pt x="297" y="15"/>
                      </a:lnTo>
                      <a:lnTo>
                        <a:pt x="293" y="24"/>
                      </a:lnTo>
                      <a:lnTo>
                        <a:pt x="284" y="24"/>
                      </a:lnTo>
                      <a:lnTo>
                        <a:pt x="279" y="24"/>
                      </a:lnTo>
                      <a:lnTo>
                        <a:pt x="270" y="32"/>
                      </a:lnTo>
                      <a:lnTo>
                        <a:pt x="262" y="32"/>
                      </a:lnTo>
                      <a:lnTo>
                        <a:pt x="253" y="40"/>
                      </a:lnTo>
                      <a:lnTo>
                        <a:pt x="244" y="40"/>
                      </a:lnTo>
                      <a:lnTo>
                        <a:pt x="235" y="40"/>
                      </a:lnTo>
                      <a:lnTo>
                        <a:pt x="221" y="48"/>
                      </a:lnTo>
                      <a:lnTo>
                        <a:pt x="212" y="48"/>
                      </a:lnTo>
                      <a:lnTo>
                        <a:pt x="199" y="48"/>
                      </a:lnTo>
                      <a:lnTo>
                        <a:pt x="186" y="48"/>
                      </a:lnTo>
                      <a:lnTo>
                        <a:pt x="172" y="48"/>
                      </a:lnTo>
                      <a:lnTo>
                        <a:pt x="159" y="56"/>
                      </a:lnTo>
                      <a:lnTo>
                        <a:pt x="146" y="56"/>
                      </a:lnTo>
                      <a:lnTo>
                        <a:pt x="133" y="56"/>
                      </a:lnTo>
                      <a:lnTo>
                        <a:pt x="124" y="56"/>
                      </a:lnTo>
                      <a:lnTo>
                        <a:pt x="111" y="56"/>
                      </a:lnTo>
                      <a:lnTo>
                        <a:pt x="93" y="56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7" y="64"/>
                      </a:lnTo>
                      <a:lnTo>
                        <a:pt x="44" y="64"/>
                      </a:lnTo>
                      <a:lnTo>
                        <a:pt x="30" y="64"/>
                      </a:lnTo>
                      <a:lnTo>
                        <a:pt x="22" y="64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44" y="72"/>
                      </a:lnTo>
                      <a:lnTo>
                        <a:pt x="57" y="72"/>
                      </a:lnTo>
                      <a:lnTo>
                        <a:pt x="70" y="72"/>
                      </a:lnTo>
                      <a:lnTo>
                        <a:pt x="84" y="64"/>
                      </a:lnTo>
                      <a:lnTo>
                        <a:pt x="93" y="64"/>
                      </a:lnTo>
                      <a:lnTo>
                        <a:pt x="111" y="64"/>
                      </a:lnTo>
                      <a:lnTo>
                        <a:pt x="124" y="64"/>
                      </a:lnTo>
                      <a:lnTo>
                        <a:pt x="133" y="64"/>
                      </a:lnTo>
                      <a:lnTo>
                        <a:pt x="146" y="64"/>
                      </a:lnTo>
                      <a:lnTo>
                        <a:pt x="164" y="64"/>
                      </a:lnTo>
                      <a:lnTo>
                        <a:pt x="172" y="56"/>
                      </a:lnTo>
                      <a:lnTo>
                        <a:pt x="186" y="56"/>
                      </a:lnTo>
                      <a:lnTo>
                        <a:pt x="199" y="56"/>
                      </a:lnTo>
                      <a:lnTo>
                        <a:pt x="212" y="56"/>
                      </a:lnTo>
                      <a:lnTo>
                        <a:pt x="221" y="48"/>
                      </a:lnTo>
                      <a:lnTo>
                        <a:pt x="235" y="48"/>
                      </a:lnTo>
                      <a:lnTo>
                        <a:pt x="244" y="48"/>
                      </a:lnTo>
                      <a:lnTo>
                        <a:pt x="253" y="40"/>
                      </a:lnTo>
                      <a:lnTo>
                        <a:pt x="266" y="40"/>
                      </a:lnTo>
                      <a:lnTo>
                        <a:pt x="275" y="40"/>
                      </a:lnTo>
                      <a:lnTo>
                        <a:pt x="279" y="32"/>
                      </a:lnTo>
                      <a:lnTo>
                        <a:pt x="288" y="32"/>
                      </a:lnTo>
                      <a:lnTo>
                        <a:pt x="293" y="24"/>
                      </a:lnTo>
                      <a:lnTo>
                        <a:pt x="301" y="24"/>
                      </a:lnTo>
                      <a:lnTo>
                        <a:pt x="301" y="24"/>
                      </a:lnTo>
                      <a:lnTo>
                        <a:pt x="306" y="15"/>
                      </a:lnTo>
                      <a:lnTo>
                        <a:pt x="310" y="15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1" y="7"/>
                      </a:lnTo>
                      <a:lnTo>
                        <a:pt x="30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68360" y="5664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4" y="5"/>
                      </a:moveTo>
                      <a:lnTo>
                        <a:pt x="0" y="5"/>
                      </a:lnTo>
                      <a:lnTo>
                        <a:pt x="58" y="72"/>
                      </a:lnTo>
                      <a:lnTo>
                        <a:pt x="72" y="6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166840" y="566424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44" y="72"/>
                      </a:lnTo>
                      <a:lnTo>
                        <a:pt x="52" y="72"/>
                      </a:lnTo>
                      <a:lnTo>
                        <a:pt x="61" y="72"/>
                      </a:lnTo>
                      <a:lnTo>
                        <a:pt x="70" y="72"/>
                      </a:lnTo>
                      <a:lnTo>
                        <a:pt x="79" y="72"/>
                      </a:lnTo>
                      <a:lnTo>
                        <a:pt x="88" y="72"/>
                      </a:lnTo>
                      <a:lnTo>
                        <a:pt x="97" y="72"/>
                      </a:lnTo>
                      <a:lnTo>
                        <a:pt x="105" y="72"/>
                      </a:lnTo>
                      <a:lnTo>
                        <a:pt x="110" y="58"/>
                      </a:lnTo>
                      <a:lnTo>
                        <a:pt x="119" y="58"/>
                      </a:lnTo>
                      <a:lnTo>
                        <a:pt x="133" y="58"/>
                      </a:lnTo>
                      <a:lnTo>
                        <a:pt x="137" y="58"/>
                      </a:lnTo>
                      <a:lnTo>
                        <a:pt x="146" y="58"/>
                      </a:lnTo>
                      <a:lnTo>
                        <a:pt x="155" y="58"/>
                      </a:lnTo>
                      <a:lnTo>
                        <a:pt x="164" y="58"/>
                      </a:lnTo>
                      <a:lnTo>
                        <a:pt x="168" y="58"/>
                      </a:lnTo>
                      <a:lnTo>
                        <a:pt x="177" y="58"/>
                      </a:lnTo>
                      <a:lnTo>
                        <a:pt x="186" y="43"/>
                      </a:lnTo>
                      <a:lnTo>
                        <a:pt x="195" y="43"/>
                      </a:lnTo>
                      <a:lnTo>
                        <a:pt x="203" y="43"/>
                      </a:lnTo>
                      <a:lnTo>
                        <a:pt x="212" y="43"/>
                      </a:lnTo>
                      <a:lnTo>
                        <a:pt x="217" y="43"/>
                      </a:lnTo>
                      <a:lnTo>
                        <a:pt x="225" y="29"/>
                      </a:lnTo>
                      <a:lnTo>
                        <a:pt x="230" y="29"/>
                      </a:lnTo>
                      <a:lnTo>
                        <a:pt x="239" y="29"/>
                      </a:lnTo>
                      <a:lnTo>
                        <a:pt x="247" y="14"/>
                      </a:lnTo>
                      <a:lnTo>
                        <a:pt x="252" y="14"/>
                      </a:lnTo>
                      <a:lnTo>
                        <a:pt x="261" y="14"/>
                      </a:lnTo>
                      <a:lnTo>
                        <a:pt x="256" y="0"/>
                      </a:lnTo>
                      <a:lnTo>
                        <a:pt x="252" y="0"/>
                      </a:lnTo>
                      <a:lnTo>
                        <a:pt x="243" y="14"/>
                      </a:lnTo>
                      <a:lnTo>
                        <a:pt x="239" y="14"/>
                      </a:lnTo>
                      <a:lnTo>
                        <a:pt x="230" y="14"/>
                      </a:lnTo>
                      <a:lnTo>
                        <a:pt x="221" y="29"/>
                      </a:lnTo>
                      <a:lnTo>
                        <a:pt x="217" y="29"/>
                      </a:lnTo>
                      <a:lnTo>
                        <a:pt x="208" y="29"/>
                      </a:lnTo>
                      <a:lnTo>
                        <a:pt x="203" y="29"/>
                      </a:lnTo>
                      <a:lnTo>
                        <a:pt x="190" y="43"/>
                      </a:lnTo>
                      <a:lnTo>
                        <a:pt x="186" y="43"/>
                      </a:lnTo>
                      <a:lnTo>
                        <a:pt x="177" y="43"/>
                      </a:lnTo>
                      <a:lnTo>
                        <a:pt x="168" y="43"/>
                      </a:lnTo>
                      <a:lnTo>
                        <a:pt x="159" y="43"/>
                      </a:lnTo>
                      <a:lnTo>
                        <a:pt x="155" y="43"/>
                      </a:lnTo>
                      <a:lnTo>
                        <a:pt x="146" y="43"/>
                      </a:lnTo>
                      <a:lnTo>
                        <a:pt x="137" y="58"/>
                      </a:lnTo>
                      <a:lnTo>
                        <a:pt x="127" y="58"/>
                      </a:lnTo>
                      <a:lnTo>
                        <a:pt x="119" y="58"/>
                      </a:lnTo>
                      <a:lnTo>
                        <a:pt x="110" y="58"/>
                      </a:lnTo>
                      <a:lnTo>
                        <a:pt x="101" y="58"/>
                      </a:lnTo>
                      <a:lnTo>
                        <a:pt x="97" y="58"/>
                      </a:lnTo>
                      <a:lnTo>
                        <a:pt x="88" y="58"/>
                      </a:lnTo>
                      <a:lnTo>
                        <a:pt x="79" y="58"/>
                      </a:lnTo>
                      <a:lnTo>
                        <a:pt x="70" y="58"/>
                      </a:lnTo>
                      <a:lnTo>
                        <a:pt x="61" y="58"/>
                      </a:lnTo>
                      <a:lnTo>
                        <a:pt x="52" y="58"/>
                      </a:lnTo>
                      <a:lnTo>
                        <a:pt x="44" y="58"/>
                      </a:lnTo>
                      <a:lnTo>
                        <a:pt x="35" y="58"/>
                      </a:lnTo>
                      <a:lnTo>
                        <a:pt x="30" y="58"/>
                      </a:lnTo>
                      <a:lnTo>
                        <a:pt x="22" y="58"/>
                      </a:lnTo>
                      <a:lnTo>
                        <a:pt x="13" y="58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880" y="5661000"/>
                  <a:ext cx="97200" cy="25920"/>
                </a:xfrm>
                <a:custGeom>
                  <a:avLst/>
                  <a:gdLst/>
                  <a:ahLst/>
                  <a:rect l="0" t="0" r="r" b="b"/>
                  <a:pathLst>
                    <a:path w="270" h="72">
                      <a:moveTo>
                        <a:pt x="8" y="1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8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2" y="41"/>
                      </a:lnTo>
                      <a:lnTo>
                        <a:pt x="30" y="41"/>
                      </a:lnTo>
                      <a:lnTo>
                        <a:pt x="35" y="41"/>
                      </a:lnTo>
                      <a:lnTo>
                        <a:pt x="44" y="51"/>
                      </a:lnTo>
                      <a:lnTo>
                        <a:pt x="52" y="51"/>
                      </a:lnTo>
                      <a:lnTo>
                        <a:pt x="61" y="51"/>
                      </a:lnTo>
                      <a:lnTo>
                        <a:pt x="71" y="51"/>
                      </a:lnTo>
                      <a:lnTo>
                        <a:pt x="84" y="51"/>
                      </a:lnTo>
                      <a:lnTo>
                        <a:pt x="93" y="62"/>
                      </a:lnTo>
                      <a:lnTo>
                        <a:pt x="102" y="62"/>
                      </a:lnTo>
                      <a:lnTo>
                        <a:pt x="115" y="62"/>
                      </a:lnTo>
                      <a:lnTo>
                        <a:pt x="124" y="62"/>
                      </a:lnTo>
                      <a:lnTo>
                        <a:pt x="137" y="62"/>
                      </a:lnTo>
                      <a:lnTo>
                        <a:pt x="150" y="62"/>
                      </a:lnTo>
                      <a:lnTo>
                        <a:pt x="164" y="62"/>
                      </a:lnTo>
                      <a:lnTo>
                        <a:pt x="172" y="72"/>
                      </a:lnTo>
                      <a:lnTo>
                        <a:pt x="186" y="72"/>
                      </a:lnTo>
                      <a:lnTo>
                        <a:pt x="195" y="72"/>
                      </a:lnTo>
                      <a:lnTo>
                        <a:pt x="209" y="72"/>
                      </a:lnTo>
                      <a:lnTo>
                        <a:pt x="222" y="72"/>
                      </a:lnTo>
                      <a:lnTo>
                        <a:pt x="231" y="72"/>
                      </a:lnTo>
                      <a:lnTo>
                        <a:pt x="240" y="72"/>
                      </a:lnTo>
                      <a:lnTo>
                        <a:pt x="253" y="72"/>
                      </a:lnTo>
                      <a:lnTo>
                        <a:pt x="262" y="72"/>
                      </a:lnTo>
                      <a:lnTo>
                        <a:pt x="270" y="72"/>
                      </a:lnTo>
                      <a:lnTo>
                        <a:pt x="270" y="62"/>
                      </a:lnTo>
                      <a:lnTo>
                        <a:pt x="262" y="62"/>
                      </a:lnTo>
                      <a:lnTo>
                        <a:pt x="253" y="62"/>
                      </a:lnTo>
                      <a:lnTo>
                        <a:pt x="240" y="62"/>
                      </a:lnTo>
                      <a:lnTo>
                        <a:pt x="231" y="62"/>
                      </a:lnTo>
                      <a:lnTo>
                        <a:pt x="222" y="62"/>
                      </a:lnTo>
                      <a:lnTo>
                        <a:pt x="209" y="62"/>
                      </a:lnTo>
                      <a:lnTo>
                        <a:pt x="195" y="62"/>
                      </a:lnTo>
                      <a:lnTo>
                        <a:pt x="186" y="62"/>
                      </a:lnTo>
                      <a:lnTo>
                        <a:pt x="172" y="62"/>
                      </a:lnTo>
                      <a:lnTo>
                        <a:pt x="164" y="51"/>
                      </a:lnTo>
                      <a:lnTo>
                        <a:pt x="150" y="51"/>
                      </a:lnTo>
                      <a:lnTo>
                        <a:pt x="137" y="51"/>
                      </a:lnTo>
                      <a:lnTo>
                        <a:pt x="124" y="51"/>
                      </a:lnTo>
                      <a:lnTo>
                        <a:pt x="115" y="51"/>
                      </a:lnTo>
                      <a:lnTo>
                        <a:pt x="106" y="51"/>
                      </a:lnTo>
                      <a:lnTo>
                        <a:pt x="93" y="51"/>
                      </a:lnTo>
                      <a:lnTo>
                        <a:pt x="84" y="51"/>
                      </a:lnTo>
                      <a:lnTo>
                        <a:pt x="75" y="51"/>
                      </a:lnTo>
                      <a:lnTo>
                        <a:pt x="61" y="41"/>
                      </a:lnTo>
                      <a:lnTo>
                        <a:pt x="52" y="41"/>
                      </a:lnTo>
                      <a:lnTo>
                        <a:pt x="44" y="41"/>
                      </a:lnTo>
                      <a:lnTo>
                        <a:pt x="39" y="41"/>
                      </a:lnTo>
                      <a:lnTo>
                        <a:pt x="30" y="31"/>
                      </a:lnTo>
                      <a:lnTo>
                        <a:pt x="26" y="31"/>
                      </a:lnTo>
                      <a:lnTo>
                        <a:pt x="17" y="31"/>
                      </a:lnTo>
                      <a:lnTo>
                        <a:pt x="17" y="21"/>
                      </a:lnTo>
                      <a:lnTo>
                        <a:pt x="13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4" y="0"/>
                      </a:lnTo>
                      <a:lnTo>
                        <a:pt x="8" y="1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65320" y="566100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4" y="0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99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71" y="43"/>
                      </a:lnTo>
                      <a:lnTo>
                        <a:pt x="62" y="43"/>
                      </a:lnTo>
                      <a:lnTo>
                        <a:pt x="58" y="43"/>
                      </a:lnTo>
                      <a:lnTo>
                        <a:pt x="49" y="29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26" y="14"/>
                      </a:lnTo>
                      <a:lnTo>
                        <a:pt x="17" y="14"/>
                      </a:lnTo>
                      <a:lnTo>
                        <a:pt x="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65320" y="566100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129" y="72"/>
                      </a:move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67" y="58"/>
                      </a:lnTo>
                      <a:lnTo>
                        <a:pt x="53" y="58"/>
                      </a:lnTo>
                      <a:lnTo>
                        <a:pt x="45" y="58"/>
                      </a:lnTo>
                      <a:lnTo>
                        <a:pt x="30" y="43"/>
                      </a:lnTo>
                      <a:lnTo>
                        <a:pt x="22" y="43"/>
                      </a:lnTo>
                      <a:lnTo>
                        <a:pt x="13" y="43"/>
                      </a:lnTo>
                      <a:lnTo>
                        <a:pt x="8" y="29"/>
                      </a:lnTo>
                      <a:lnTo>
                        <a:pt x="4" y="29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66760" y="5661000"/>
                  <a:ext cx="44640" cy="25920"/>
                </a:xfrm>
                <a:custGeom>
                  <a:avLst/>
                  <a:gdLst/>
                  <a:ahLst/>
                  <a:rect l="0" t="0" r="r" b="b"/>
                  <a:pathLst>
                    <a:path w="124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13" y="14"/>
                      </a:lnTo>
                      <a:lnTo>
                        <a:pt x="22" y="14"/>
                      </a:lnTo>
                      <a:lnTo>
                        <a:pt x="30" y="29"/>
                      </a:lnTo>
                      <a:lnTo>
                        <a:pt x="35" y="29"/>
                      </a:lnTo>
                      <a:lnTo>
                        <a:pt x="44" y="29"/>
                      </a:lnTo>
                      <a:lnTo>
                        <a:pt x="52" y="43"/>
                      </a:lnTo>
                      <a:lnTo>
                        <a:pt x="57" y="43"/>
                      </a:lnTo>
                      <a:lnTo>
                        <a:pt x="67" y="43"/>
                      </a:lnTo>
                      <a:lnTo>
                        <a:pt x="75" y="58"/>
                      </a:lnTo>
                      <a:lnTo>
                        <a:pt x="84" y="58"/>
                      </a:lnTo>
                      <a:lnTo>
                        <a:pt x="93" y="58"/>
                      </a:lnTo>
                      <a:lnTo>
                        <a:pt x="98" y="58"/>
                      </a:lnTo>
                      <a:lnTo>
                        <a:pt x="106" y="72"/>
                      </a:lnTo>
                      <a:lnTo>
                        <a:pt x="115" y="72"/>
                      </a:lnTo>
                      <a:lnTo>
                        <a:pt x="124" y="72"/>
                      </a:lnTo>
                      <a:lnTo>
                        <a:pt x="115" y="72"/>
                      </a:lnTo>
                      <a:lnTo>
                        <a:pt x="106" y="58"/>
                      </a:lnTo>
                      <a:lnTo>
                        <a:pt x="98" y="58"/>
                      </a:lnTo>
                      <a:lnTo>
                        <a:pt x="93" y="58"/>
                      </a:lnTo>
                      <a:lnTo>
                        <a:pt x="84" y="58"/>
                      </a:lnTo>
                      <a:lnTo>
                        <a:pt x="75" y="58"/>
                      </a:lnTo>
                      <a:lnTo>
                        <a:pt x="67" y="43"/>
                      </a:lnTo>
                      <a:lnTo>
                        <a:pt x="57" y="43"/>
                      </a:lnTo>
                      <a:lnTo>
                        <a:pt x="52" y="43"/>
                      </a:lnTo>
                      <a:lnTo>
                        <a:pt x="44" y="29"/>
                      </a:lnTo>
                      <a:lnTo>
                        <a:pt x="35" y="29"/>
                      </a:lnTo>
                      <a:lnTo>
                        <a:pt x="30" y="29"/>
                      </a:lnTo>
                      <a:lnTo>
                        <a:pt x="22" y="14"/>
                      </a:lnTo>
                      <a:lnTo>
                        <a:pt x="13" y="14"/>
                      </a:lnTo>
                      <a:lnTo>
                        <a:pt x="4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7240" y="5638680"/>
                <a:ext cx="836640" cy="4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2722680" y="4657680"/>
            <a:ext cx="1057320" cy="1363680"/>
            <a:chOff x="2722680" y="4657680"/>
            <a:chExt cx="1057320" cy="1363680"/>
          </a:xfrm>
        </p:grpSpPr>
        <p:sp>
          <p:nvSpPr>
            <p:cNvPr id="283" name=""/>
            <p:cNvSpPr/>
            <p:nvPr/>
          </p:nvSpPr>
          <p:spPr>
            <a:xfrm>
              <a:off x="3268800" y="4657680"/>
              <a:ext cx="0" cy="420840"/>
            </a:xfrm>
            <a:prstGeom prst="line">
              <a:avLst/>
            </a:prstGeom>
            <a:ln w="2556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722680" y="5065560"/>
              <a:ext cx="1057320" cy="955800"/>
              <a:chOff x="2722680" y="5065560"/>
              <a:chExt cx="1057320" cy="9558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2722680" y="5657760"/>
                <a:ext cx="329040" cy="167400"/>
                <a:chOff x="2722680" y="5657760"/>
                <a:chExt cx="329040" cy="167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927520" y="5665680"/>
                  <a:ext cx="98640" cy="25920"/>
                </a:xfrm>
                <a:custGeom>
                  <a:avLst/>
                  <a:gdLst/>
                  <a:ahLst/>
                  <a:rect l="0" t="0" r="r" b="b"/>
                  <a:pathLst>
                    <a:path w="274" h="72">
                      <a:moveTo>
                        <a:pt x="265" y="0"/>
                      </a:moveTo>
                      <a:lnTo>
                        <a:pt x="256" y="4"/>
                      </a:lnTo>
                      <a:lnTo>
                        <a:pt x="252" y="8"/>
                      </a:lnTo>
                      <a:lnTo>
                        <a:pt x="243" y="13"/>
                      </a:lnTo>
                      <a:lnTo>
                        <a:pt x="234" y="17"/>
                      </a:lnTo>
                      <a:lnTo>
                        <a:pt x="230" y="23"/>
                      </a:lnTo>
                      <a:lnTo>
                        <a:pt x="221" y="23"/>
                      </a:lnTo>
                      <a:lnTo>
                        <a:pt x="212" y="23"/>
                      </a:lnTo>
                      <a:lnTo>
                        <a:pt x="203" y="27"/>
                      </a:lnTo>
                      <a:lnTo>
                        <a:pt x="195" y="27"/>
                      </a:lnTo>
                      <a:lnTo>
                        <a:pt x="186" y="27"/>
                      </a:lnTo>
                      <a:lnTo>
                        <a:pt x="177" y="27"/>
                      </a:lnTo>
                      <a:lnTo>
                        <a:pt x="168" y="31"/>
                      </a:lnTo>
                      <a:lnTo>
                        <a:pt x="159" y="31"/>
                      </a:lnTo>
                      <a:lnTo>
                        <a:pt x="150" y="31"/>
                      </a:lnTo>
                      <a:lnTo>
                        <a:pt x="142" y="31"/>
                      </a:lnTo>
                      <a:lnTo>
                        <a:pt x="132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31"/>
                      </a:lnTo>
                      <a:lnTo>
                        <a:pt x="88" y="36"/>
                      </a:lnTo>
                      <a:lnTo>
                        <a:pt x="79" y="36"/>
                      </a:lnTo>
                      <a:lnTo>
                        <a:pt x="70" y="36"/>
                      </a:lnTo>
                      <a:lnTo>
                        <a:pt x="61" y="36"/>
                      </a:lnTo>
                      <a:lnTo>
                        <a:pt x="52" y="40"/>
                      </a:lnTo>
                      <a:lnTo>
                        <a:pt x="44" y="40"/>
                      </a:lnTo>
                      <a:lnTo>
                        <a:pt x="39" y="45"/>
                      </a:lnTo>
                      <a:lnTo>
                        <a:pt x="30" y="45"/>
                      </a:lnTo>
                      <a:lnTo>
                        <a:pt x="22" y="49"/>
                      </a:lnTo>
                      <a:lnTo>
                        <a:pt x="13" y="53"/>
                      </a:lnTo>
                      <a:lnTo>
                        <a:pt x="8" y="59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4" y="6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8" y="72"/>
                      </a:lnTo>
                      <a:lnTo>
                        <a:pt x="8" y="72"/>
                      </a:lnTo>
                      <a:lnTo>
                        <a:pt x="17" y="68"/>
                      </a:lnTo>
                      <a:lnTo>
                        <a:pt x="22" y="63"/>
                      </a:lnTo>
                      <a:lnTo>
                        <a:pt x="30" y="59"/>
                      </a:lnTo>
                      <a:lnTo>
                        <a:pt x="39" y="53"/>
                      </a:lnTo>
                      <a:lnTo>
                        <a:pt x="48" y="53"/>
                      </a:lnTo>
                      <a:lnTo>
                        <a:pt x="57" y="49"/>
                      </a:lnTo>
                      <a:lnTo>
                        <a:pt x="61" y="49"/>
                      </a:lnTo>
                      <a:lnTo>
                        <a:pt x="70" y="45"/>
                      </a:lnTo>
                      <a:lnTo>
                        <a:pt x="79" y="45"/>
                      </a:lnTo>
                      <a:lnTo>
                        <a:pt x="88" y="45"/>
                      </a:lnTo>
                      <a:lnTo>
                        <a:pt x="97" y="45"/>
                      </a:lnTo>
                      <a:lnTo>
                        <a:pt x="105" y="45"/>
                      </a:lnTo>
                      <a:lnTo>
                        <a:pt x="114" y="45"/>
                      </a:lnTo>
                      <a:lnTo>
                        <a:pt x="123" y="40"/>
                      </a:lnTo>
                      <a:lnTo>
                        <a:pt x="132" y="40"/>
                      </a:lnTo>
                      <a:lnTo>
                        <a:pt x="142" y="40"/>
                      </a:lnTo>
                      <a:lnTo>
                        <a:pt x="150" y="40"/>
                      </a:lnTo>
                      <a:lnTo>
                        <a:pt x="159" y="40"/>
                      </a:lnTo>
                      <a:lnTo>
                        <a:pt x="168" y="40"/>
                      </a:lnTo>
                      <a:lnTo>
                        <a:pt x="177" y="40"/>
                      </a:lnTo>
                      <a:lnTo>
                        <a:pt x="186" y="40"/>
                      </a:lnTo>
                      <a:lnTo>
                        <a:pt x="195" y="36"/>
                      </a:lnTo>
                      <a:lnTo>
                        <a:pt x="203" y="36"/>
                      </a:lnTo>
                      <a:lnTo>
                        <a:pt x="212" y="36"/>
                      </a:lnTo>
                      <a:lnTo>
                        <a:pt x="221" y="36"/>
                      </a:lnTo>
                      <a:lnTo>
                        <a:pt x="230" y="31"/>
                      </a:lnTo>
                      <a:lnTo>
                        <a:pt x="234" y="27"/>
                      </a:lnTo>
                      <a:lnTo>
                        <a:pt x="243" y="27"/>
                      </a:lnTo>
                      <a:lnTo>
                        <a:pt x="252" y="23"/>
                      </a:lnTo>
                      <a:lnTo>
                        <a:pt x="261" y="17"/>
                      </a:lnTo>
                      <a:lnTo>
                        <a:pt x="269" y="13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69" y="8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65" y="4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27520" y="566568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8" y="67"/>
                      </a:lnTo>
                      <a:lnTo>
                        <a:pt x="13" y="61"/>
                      </a:lnTo>
                      <a:lnTo>
                        <a:pt x="22" y="56"/>
                      </a:lnTo>
                      <a:lnTo>
                        <a:pt x="30" y="49"/>
                      </a:lnTo>
                      <a:lnTo>
                        <a:pt x="35" y="49"/>
                      </a:lnTo>
                      <a:lnTo>
                        <a:pt x="44" y="44"/>
                      </a:lnTo>
                      <a:lnTo>
                        <a:pt x="52" y="44"/>
                      </a:lnTo>
                      <a:lnTo>
                        <a:pt x="61" y="38"/>
                      </a:lnTo>
                      <a:lnTo>
                        <a:pt x="70" y="38"/>
                      </a:lnTo>
                      <a:lnTo>
                        <a:pt x="79" y="38"/>
                      </a:lnTo>
                      <a:lnTo>
                        <a:pt x="83" y="38"/>
                      </a:lnTo>
                      <a:lnTo>
                        <a:pt x="97" y="38"/>
                      </a:lnTo>
                      <a:lnTo>
                        <a:pt x="101" y="38"/>
                      </a:lnTo>
                      <a:lnTo>
                        <a:pt x="114" y="33"/>
                      </a:lnTo>
                      <a:lnTo>
                        <a:pt x="119" y="33"/>
                      </a:lnTo>
                      <a:lnTo>
                        <a:pt x="133" y="33"/>
                      </a:lnTo>
                      <a:lnTo>
                        <a:pt x="137" y="33"/>
                      </a:lnTo>
                      <a:lnTo>
                        <a:pt x="146" y="33"/>
                      </a:lnTo>
                      <a:lnTo>
                        <a:pt x="155" y="33"/>
                      </a:lnTo>
                      <a:lnTo>
                        <a:pt x="164" y="33"/>
                      </a:lnTo>
                      <a:lnTo>
                        <a:pt x="172" y="33"/>
                      </a:lnTo>
                      <a:lnTo>
                        <a:pt x="181" y="33"/>
                      </a:lnTo>
                      <a:lnTo>
                        <a:pt x="190" y="33"/>
                      </a:lnTo>
                      <a:lnTo>
                        <a:pt x="199" y="28"/>
                      </a:lnTo>
                      <a:lnTo>
                        <a:pt x="208" y="28"/>
                      </a:lnTo>
                      <a:lnTo>
                        <a:pt x="212" y="28"/>
                      </a:lnTo>
                      <a:lnTo>
                        <a:pt x="225" y="22"/>
                      </a:lnTo>
                      <a:lnTo>
                        <a:pt x="230" y="22"/>
                      </a:lnTo>
                      <a:lnTo>
                        <a:pt x="239" y="16"/>
                      </a:lnTo>
                      <a:lnTo>
                        <a:pt x="243" y="10"/>
                      </a:lnTo>
                      <a:lnTo>
                        <a:pt x="252" y="5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52" y="5"/>
                      </a:lnTo>
                      <a:lnTo>
                        <a:pt x="243" y="10"/>
                      </a:lnTo>
                      <a:lnTo>
                        <a:pt x="239" y="16"/>
                      </a:lnTo>
                      <a:lnTo>
                        <a:pt x="230" y="22"/>
                      </a:lnTo>
                      <a:lnTo>
                        <a:pt x="225" y="22"/>
                      </a:lnTo>
                      <a:lnTo>
                        <a:pt x="217" y="28"/>
                      </a:lnTo>
                      <a:lnTo>
                        <a:pt x="208" y="28"/>
                      </a:lnTo>
                      <a:lnTo>
                        <a:pt x="199" y="33"/>
                      </a:lnTo>
                      <a:lnTo>
                        <a:pt x="190" y="33"/>
                      </a:lnTo>
                      <a:lnTo>
                        <a:pt x="181" y="33"/>
                      </a:lnTo>
                      <a:lnTo>
                        <a:pt x="172" y="33"/>
                      </a:lnTo>
                      <a:lnTo>
                        <a:pt x="164" y="33"/>
                      </a:lnTo>
                      <a:lnTo>
                        <a:pt x="155" y="33"/>
                      </a:lnTo>
                      <a:lnTo>
                        <a:pt x="146" y="33"/>
                      </a:lnTo>
                      <a:lnTo>
                        <a:pt x="137" y="38"/>
                      </a:lnTo>
                      <a:lnTo>
                        <a:pt x="133" y="38"/>
                      </a:lnTo>
                      <a:lnTo>
                        <a:pt x="119" y="38"/>
                      </a:lnTo>
                      <a:lnTo>
                        <a:pt x="114" y="38"/>
                      </a:lnTo>
                      <a:lnTo>
                        <a:pt x="101" y="38"/>
                      </a:lnTo>
                      <a:lnTo>
                        <a:pt x="97" y="38"/>
                      </a:lnTo>
                      <a:lnTo>
                        <a:pt x="83" y="38"/>
                      </a:lnTo>
                      <a:lnTo>
                        <a:pt x="79" y="38"/>
                      </a:lnTo>
                      <a:lnTo>
                        <a:pt x="70" y="38"/>
                      </a:lnTo>
                      <a:lnTo>
                        <a:pt x="61" y="44"/>
                      </a:lnTo>
                      <a:lnTo>
                        <a:pt x="52" y="44"/>
                      </a:lnTo>
                      <a:lnTo>
                        <a:pt x="44" y="44"/>
                      </a:lnTo>
                      <a:lnTo>
                        <a:pt x="35" y="49"/>
                      </a:lnTo>
                      <a:lnTo>
                        <a:pt x="30" y="49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8" y="6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2248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48" y="72"/>
                      </a:lnTo>
                      <a:lnTo>
                        <a:pt x="48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36"/>
                      </a:lnTo>
                      <a:lnTo>
                        <a:pt x="48" y="36"/>
                      </a:lnTo>
                      <a:lnTo>
                        <a:pt x="48" y="36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30400" y="5672160"/>
                  <a:ext cx="95760" cy="25920"/>
                </a:xfrm>
                <a:custGeom>
                  <a:avLst/>
                  <a:gdLst/>
                  <a:ahLst/>
                  <a:rect l="0" t="0" r="r" b="b"/>
                  <a:pathLst>
                    <a:path w="266" h="72">
                      <a:moveTo>
                        <a:pt x="266" y="0"/>
                      </a:moveTo>
                      <a:lnTo>
                        <a:pt x="266" y="0"/>
                      </a:lnTo>
                      <a:lnTo>
                        <a:pt x="262" y="5"/>
                      </a:lnTo>
                      <a:lnTo>
                        <a:pt x="253" y="11"/>
                      </a:lnTo>
                      <a:lnTo>
                        <a:pt x="244" y="17"/>
                      </a:lnTo>
                      <a:lnTo>
                        <a:pt x="235" y="17"/>
                      </a:lnTo>
                      <a:lnTo>
                        <a:pt x="231" y="24"/>
                      </a:lnTo>
                      <a:lnTo>
                        <a:pt x="222" y="24"/>
                      </a:lnTo>
                      <a:lnTo>
                        <a:pt x="213" y="30"/>
                      </a:lnTo>
                      <a:lnTo>
                        <a:pt x="204" y="30"/>
                      </a:lnTo>
                      <a:lnTo>
                        <a:pt x="195" y="30"/>
                      </a:lnTo>
                      <a:lnTo>
                        <a:pt x="186" y="36"/>
                      </a:lnTo>
                      <a:lnTo>
                        <a:pt x="177" y="36"/>
                      </a:lnTo>
                      <a:lnTo>
                        <a:pt x="168" y="36"/>
                      </a:lnTo>
                      <a:lnTo>
                        <a:pt x="159" y="36"/>
                      </a:lnTo>
                      <a:lnTo>
                        <a:pt x="150" y="36"/>
                      </a:lnTo>
                      <a:lnTo>
                        <a:pt x="142" y="36"/>
                      </a:lnTo>
                      <a:lnTo>
                        <a:pt x="133" y="36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06" y="36"/>
                      </a:lnTo>
                      <a:lnTo>
                        <a:pt x="98" y="36"/>
                      </a:lnTo>
                      <a:lnTo>
                        <a:pt x="89" y="42"/>
                      </a:lnTo>
                      <a:lnTo>
                        <a:pt x="80" y="42"/>
                      </a:lnTo>
                      <a:lnTo>
                        <a:pt x="71" y="42"/>
                      </a:lnTo>
                      <a:lnTo>
                        <a:pt x="61" y="42"/>
                      </a:lnTo>
                      <a:lnTo>
                        <a:pt x="52" y="42"/>
                      </a:lnTo>
                      <a:lnTo>
                        <a:pt x="44" y="48"/>
                      </a:lnTo>
                      <a:lnTo>
                        <a:pt x="39" y="48"/>
                      </a:lnTo>
                      <a:lnTo>
                        <a:pt x="30" y="53"/>
                      </a:lnTo>
                      <a:lnTo>
                        <a:pt x="22" y="60"/>
                      </a:lnTo>
                      <a:lnTo>
                        <a:pt x="13" y="60"/>
                      </a:lnTo>
                      <a:lnTo>
                        <a:pt x="8" y="66"/>
                      </a:lnTo>
                      <a:lnTo>
                        <a:pt x="0" y="72"/>
                      </a:lnTo>
                      <a:lnTo>
                        <a:pt x="4" y="66"/>
                      </a:lnTo>
                      <a:lnTo>
                        <a:pt x="13" y="60"/>
                      </a:lnTo>
                      <a:lnTo>
                        <a:pt x="22" y="53"/>
                      </a:lnTo>
                      <a:lnTo>
                        <a:pt x="30" y="53"/>
                      </a:lnTo>
                      <a:lnTo>
                        <a:pt x="39" y="48"/>
                      </a:lnTo>
                      <a:lnTo>
                        <a:pt x="44" y="48"/>
                      </a:lnTo>
                      <a:lnTo>
                        <a:pt x="52" y="42"/>
                      </a:lnTo>
                      <a:lnTo>
                        <a:pt x="61" y="42"/>
                      </a:lnTo>
                      <a:lnTo>
                        <a:pt x="71" y="42"/>
                      </a:lnTo>
                      <a:lnTo>
                        <a:pt x="80" y="36"/>
                      </a:lnTo>
                      <a:lnTo>
                        <a:pt x="89" y="36"/>
                      </a:lnTo>
                      <a:lnTo>
                        <a:pt x="98" y="36"/>
                      </a:lnTo>
                      <a:lnTo>
                        <a:pt x="106" y="36"/>
                      </a:lnTo>
                      <a:lnTo>
                        <a:pt x="115" y="36"/>
                      </a:lnTo>
                      <a:lnTo>
                        <a:pt x="124" y="36"/>
                      </a:lnTo>
                      <a:lnTo>
                        <a:pt x="133" y="3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59" y="36"/>
                      </a:lnTo>
                      <a:lnTo>
                        <a:pt x="168" y="36"/>
                      </a:lnTo>
                      <a:lnTo>
                        <a:pt x="177" y="30"/>
                      </a:lnTo>
                      <a:lnTo>
                        <a:pt x="186" y="30"/>
                      </a:lnTo>
                      <a:lnTo>
                        <a:pt x="195" y="30"/>
                      </a:lnTo>
                      <a:lnTo>
                        <a:pt x="204" y="30"/>
                      </a:lnTo>
                      <a:lnTo>
                        <a:pt x="213" y="30"/>
                      </a:lnTo>
                      <a:lnTo>
                        <a:pt x="222" y="24"/>
                      </a:lnTo>
                      <a:lnTo>
                        <a:pt x="226" y="24"/>
                      </a:lnTo>
                      <a:lnTo>
                        <a:pt x="235" y="17"/>
                      </a:lnTo>
                      <a:lnTo>
                        <a:pt x="244" y="11"/>
                      </a:lnTo>
                      <a:lnTo>
                        <a:pt x="253" y="11"/>
                      </a:lnTo>
                      <a:lnTo>
                        <a:pt x="257" y="5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02580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727360" y="5657760"/>
                  <a:ext cx="225720" cy="141480"/>
                </a:xfrm>
                <a:custGeom>
                  <a:avLst/>
                  <a:gdLst/>
                  <a:ahLst/>
                  <a:rect l="0" t="0" r="r" b="b"/>
                  <a:pathLst>
                    <a:path w="627" h="393">
                      <a:moveTo>
                        <a:pt x="622" y="189"/>
                      </a:moveTo>
                      <a:lnTo>
                        <a:pt x="224" y="389"/>
                      </a:lnTo>
                      <a:lnTo>
                        <a:pt x="224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16" y="393"/>
                      </a:lnTo>
                      <a:lnTo>
                        <a:pt x="216" y="393"/>
                      </a:lnTo>
                      <a:lnTo>
                        <a:pt x="211" y="393"/>
                      </a:lnTo>
                      <a:lnTo>
                        <a:pt x="211" y="393"/>
                      </a:lnTo>
                      <a:lnTo>
                        <a:pt x="207" y="393"/>
                      </a:lnTo>
                      <a:lnTo>
                        <a:pt x="207" y="393"/>
                      </a:lnTo>
                      <a:lnTo>
                        <a:pt x="202" y="393"/>
                      </a:lnTo>
                      <a:lnTo>
                        <a:pt x="202" y="393"/>
                      </a:lnTo>
                      <a:lnTo>
                        <a:pt x="198" y="393"/>
                      </a:lnTo>
                      <a:lnTo>
                        <a:pt x="198" y="389"/>
                      </a:lnTo>
                      <a:lnTo>
                        <a:pt x="4" y="217"/>
                      </a:lnTo>
                      <a:lnTo>
                        <a:pt x="0" y="203"/>
                      </a:lnTo>
                      <a:lnTo>
                        <a:pt x="13" y="132"/>
                      </a:lnTo>
                      <a:lnTo>
                        <a:pt x="44" y="97"/>
                      </a:lnTo>
                      <a:lnTo>
                        <a:pt x="233" y="22"/>
                      </a:lnTo>
                      <a:lnTo>
                        <a:pt x="238" y="22"/>
                      </a:lnTo>
                      <a:lnTo>
                        <a:pt x="242" y="22"/>
                      </a:lnTo>
                      <a:lnTo>
                        <a:pt x="251" y="22"/>
                      </a:lnTo>
                      <a:lnTo>
                        <a:pt x="251" y="22"/>
                      </a:lnTo>
                      <a:lnTo>
                        <a:pt x="260" y="22"/>
                      </a:lnTo>
                      <a:lnTo>
                        <a:pt x="264" y="22"/>
                      </a:lnTo>
                      <a:lnTo>
                        <a:pt x="268" y="22"/>
                      </a:lnTo>
                      <a:lnTo>
                        <a:pt x="277" y="22"/>
                      </a:lnTo>
                      <a:lnTo>
                        <a:pt x="282" y="22"/>
                      </a:lnTo>
                      <a:lnTo>
                        <a:pt x="286" y="22"/>
                      </a:lnTo>
                      <a:lnTo>
                        <a:pt x="291" y="17"/>
                      </a:lnTo>
                      <a:lnTo>
                        <a:pt x="299" y="17"/>
                      </a:lnTo>
                      <a:lnTo>
                        <a:pt x="304" y="17"/>
                      </a:lnTo>
                      <a:lnTo>
                        <a:pt x="308" y="17"/>
                      </a:lnTo>
                      <a:lnTo>
                        <a:pt x="314" y="17"/>
                      </a:lnTo>
                      <a:lnTo>
                        <a:pt x="318" y="13"/>
                      </a:lnTo>
                      <a:lnTo>
                        <a:pt x="327" y="13"/>
                      </a:lnTo>
                      <a:lnTo>
                        <a:pt x="331" y="13"/>
                      </a:lnTo>
                      <a:lnTo>
                        <a:pt x="336" y="13"/>
                      </a:lnTo>
                      <a:lnTo>
                        <a:pt x="344" y="13"/>
                      </a:lnTo>
                      <a:lnTo>
                        <a:pt x="349" y="8"/>
                      </a:lnTo>
                      <a:lnTo>
                        <a:pt x="353" y="8"/>
                      </a:lnTo>
                      <a:lnTo>
                        <a:pt x="358" y="8"/>
                      </a:lnTo>
                      <a:lnTo>
                        <a:pt x="362" y="8"/>
                      </a:lnTo>
                      <a:lnTo>
                        <a:pt x="371" y="4"/>
                      </a:lnTo>
                      <a:lnTo>
                        <a:pt x="375" y="4"/>
                      </a:lnTo>
                      <a:lnTo>
                        <a:pt x="380" y="4"/>
                      </a:lnTo>
                      <a:lnTo>
                        <a:pt x="384" y="4"/>
                      </a:lnTo>
                      <a:lnTo>
                        <a:pt x="389" y="0"/>
                      </a:lnTo>
                      <a:lnTo>
                        <a:pt x="397" y="0"/>
                      </a:lnTo>
                      <a:lnTo>
                        <a:pt x="402" y="0"/>
                      </a:lnTo>
                      <a:lnTo>
                        <a:pt x="406" y="0"/>
                      </a:lnTo>
                      <a:lnTo>
                        <a:pt x="600" y="132"/>
                      </a:lnTo>
                      <a:lnTo>
                        <a:pt x="622" y="154"/>
                      </a:lnTo>
                      <a:lnTo>
                        <a:pt x="627" y="176"/>
                      </a:lnTo>
                      <a:lnTo>
                        <a:pt x="622" y="189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1160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80188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3060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72268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72556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73384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4320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81448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87820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95272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5272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5272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727360" y="5726160"/>
                  <a:ext cx="225720" cy="73440"/>
                </a:xfrm>
                <a:custGeom>
                  <a:avLst/>
                  <a:gdLst/>
                  <a:ahLst/>
                  <a:rect l="0" t="0" r="r" b="b"/>
                  <a:pathLst>
                    <a:path w="627" h="204">
                      <a:moveTo>
                        <a:pt x="0" y="26"/>
                      </a:moveTo>
                      <a:lnTo>
                        <a:pt x="198" y="187"/>
                      </a:lnTo>
                      <a:lnTo>
                        <a:pt x="202" y="187"/>
                      </a:lnTo>
                      <a:lnTo>
                        <a:pt x="202" y="191"/>
                      </a:lnTo>
                      <a:lnTo>
                        <a:pt x="202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11" y="191"/>
                      </a:lnTo>
                      <a:lnTo>
                        <a:pt x="211" y="191"/>
                      </a:lnTo>
                      <a:lnTo>
                        <a:pt x="216" y="191"/>
                      </a:lnTo>
                      <a:lnTo>
                        <a:pt x="216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4" y="187"/>
                      </a:lnTo>
                      <a:lnTo>
                        <a:pt x="224" y="187"/>
                      </a:lnTo>
                      <a:lnTo>
                        <a:pt x="627" y="0"/>
                      </a:lnTo>
                      <a:lnTo>
                        <a:pt x="622" y="13"/>
                      </a:lnTo>
                      <a:lnTo>
                        <a:pt x="224" y="200"/>
                      </a:lnTo>
                      <a:lnTo>
                        <a:pt x="224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16" y="204"/>
                      </a:lnTo>
                      <a:lnTo>
                        <a:pt x="216" y="204"/>
                      </a:lnTo>
                      <a:lnTo>
                        <a:pt x="211" y="204"/>
                      </a:lnTo>
                      <a:lnTo>
                        <a:pt x="211" y="204"/>
                      </a:lnTo>
                      <a:lnTo>
                        <a:pt x="207" y="204"/>
                      </a:lnTo>
                      <a:lnTo>
                        <a:pt x="207" y="204"/>
                      </a:lnTo>
                      <a:lnTo>
                        <a:pt x="202" y="204"/>
                      </a:lnTo>
                      <a:lnTo>
                        <a:pt x="202" y="204"/>
                      </a:lnTo>
                      <a:lnTo>
                        <a:pt x="198" y="204"/>
                      </a:lnTo>
                      <a:lnTo>
                        <a:pt x="198" y="200"/>
                      </a:lnTo>
                      <a:lnTo>
                        <a:pt x="4" y="39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727360" y="5735520"/>
                  <a:ext cx="66960" cy="57600"/>
                </a:xfrm>
                <a:custGeom>
                  <a:avLst/>
                  <a:gdLst/>
                  <a:ahLst/>
                  <a:rect l="0" t="0" r="r" b="b"/>
                  <a:pathLst>
                    <a:path w="186" h="160">
                      <a:moveTo>
                        <a:pt x="186" y="160"/>
                      </a:moveTo>
                      <a:lnTo>
                        <a:pt x="186" y="160"/>
                      </a:lnTo>
                      <a:lnTo>
                        <a:pt x="0" y="0"/>
                      </a:lnTo>
                      <a:lnTo>
                        <a:pt x="18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01880" y="5794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813040" y="5726160"/>
                  <a:ext cx="140040" cy="66960"/>
                </a:xfrm>
                <a:custGeom>
                  <a:avLst/>
                  <a:gdLst/>
                  <a:ahLst/>
                  <a:rect l="0" t="0" r="r" b="b"/>
                  <a:pathLst>
                    <a:path w="389" h="186">
                      <a:moveTo>
                        <a:pt x="389" y="0"/>
                      </a:moveTo>
                      <a:lnTo>
                        <a:pt x="389" y="0"/>
                      </a:lnTo>
                      <a:lnTo>
                        <a:pt x="0" y="186"/>
                      </a:lnTo>
                      <a:lnTo>
                        <a:pt x="3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5272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81160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0188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730600" y="5742000"/>
                  <a:ext cx="62280" cy="57600"/>
                </a:xfrm>
                <a:custGeom>
                  <a:avLst/>
                  <a:gdLst/>
                  <a:ahLst/>
                  <a:rect l="0" t="0" r="r" b="b"/>
                  <a:pathLst>
                    <a:path w="173" h="16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0"/>
                      </a:lnTo>
                      <a:lnTo>
                        <a:pt x="173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72268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733840" y="5695920"/>
                  <a:ext cx="219600" cy="68760"/>
                </a:xfrm>
                <a:custGeom>
                  <a:avLst/>
                  <a:gdLst/>
                  <a:ahLst/>
                  <a:rect l="0" t="0" r="r" b="b"/>
                  <a:pathLst>
                    <a:path w="610" h="191">
                      <a:moveTo>
                        <a:pt x="610" y="53"/>
                      </a:moveTo>
                      <a:lnTo>
                        <a:pt x="217" y="191"/>
                      </a:lnTo>
                      <a:lnTo>
                        <a:pt x="212" y="191"/>
                      </a:lnTo>
                      <a:lnTo>
                        <a:pt x="212" y="191"/>
                      </a:lnTo>
                      <a:lnTo>
                        <a:pt x="208" y="191"/>
                      </a:lnTo>
                      <a:lnTo>
                        <a:pt x="208" y="191"/>
                      </a:lnTo>
                      <a:lnTo>
                        <a:pt x="203" y="191"/>
                      </a:lnTo>
                      <a:lnTo>
                        <a:pt x="203" y="191"/>
                      </a:lnTo>
                      <a:lnTo>
                        <a:pt x="199" y="191"/>
                      </a:lnTo>
                      <a:lnTo>
                        <a:pt x="0" y="30"/>
                      </a:lnTo>
                      <a:lnTo>
                        <a:pt x="30" y="0"/>
                      </a:lnTo>
                      <a:lnTo>
                        <a:pt x="221" y="142"/>
                      </a:lnTo>
                      <a:lnTo>
                        <a:pt x="411" y="67"/>
                      </a:lnTo>
                      <a:lnTo>
                        <a:pt x="415" y="67"/>
                      </a:lnTo>
                      <a:lnTo>
                        <a:pt x="419" y="67"/>
                      </a:lnTo>
                      <a:lnTo>
                        <a:pt x="428" y="67"/>
                      </a:lnTo>
                      <a:lnTo>
                        <a:pt x="433" y="62"/>
                      </a:lnTo>
                      <a:lnTo>
                        <a:pt x="441" y="62"/>
                      </a:lnTo>
                      <a:lnTo>
                        <a:pt x="446" y="62"/>
                      </a:lnTo>
                      <a:lnTo>
                        <a:pt x="450" y="62"/>
                      </a:lnTo>
                      <a:lnTo>
                        <a:pt x="455" y="62"/>
                      </a:lnTo>
                      <a:lnTo>
                        <a:pt x="460" y="62"/>
                      </a:lnTo>
                      <a:lnTo>
                        <a:pt x="469" y="62"/>
                      </a:lnTo>
                      <a:lnTo>
                        <a:pt x="473" y="58"/>
                      </a:lnTo>
                      <a:lnTo>
                        <a:pt x="478" y="58"/>
                      </a:lnTo>
                      <a:lnTo>
                        <a:pt x="482" y="58"/>
                      </a:lnTo>
                      <a:lnTo>
                        <a:pt x="491" y="53"/>
                      </a:lnTo>
                      <a:lnTo>
                        <a:pt x="495" y="53"/>
                      </a:lnTo>
                      <a:lnTo>
                        <a:pt x="500" y="53"/>
                      </a:lnTo>
                      <a:lnTo>
                        <a:pt x="509" y="49"/>
                      </a:lnTo>
                      <a:lnTo>
                        <a:pt x="513" y="49"/>
                      </a:lnTo>
                      <a:lnTo>
                        <a:pt x="517" y="49"/>
                      </a:lnTo>
                      <a:lnTo>
                        <a:pt x="522" y="49"/>
                      </a:lnTo>
                      <a:lnTo>
                        <a:pt x="531" y="49"/>
                      </a:lnTo>
                      <a:lnTo>
                        <a:pt x="535" y="44"/>
                      </a:lnTo>
                      <a:lnTo>
                        <a:pt x="539" y="44"/>
                      </a:lnTo>
                      <a:lnTo>
                        <a:pt x="544" y="44"/>
                      </a:lnTo>
                      <a:lnTo>
                        <a:pt x="548" y="39"/>
                      </a:lnTo>
                      <a:lnTo>
                        <a:pt x="557" y="39"/>
                      </a:lnTo>
                      <a:lnTo>
                        <a:pt x="562" y="39"/>
                      </a:lnTo>
                      <a:lnTo>
                        <a:pt x="566" y="39"/>
                      </a:lnTo>
                      <a:lnTo>
                        <a:pt x="575" y="35"/>
                      </a:lnTo>
                      <a:lnTo>
                        <a:pt x="579" y="35"/>
                      </a:lnTo>
                      <a:lnTo>
                        <a:pt x="584" y="35"/>
                      </a:lnTo>
                      <a:lnTo>
                        <a:pt x="588" y="30"/>
                      </a:lnTo>
                      <a:lnTo>
                        <a:pt x="610" y="5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743200" y="5657760"/>
                  <a:ext cx="200520" cy="87840"/>
                </a:xfrm>
                <a:custGeom>
                  <a:avLst/>
                  <a:gdLst/>
                  <a:ahLst/>
                  <a:rect l="0" t="0" r="r" b="b"/>
                  <a:pathLst>
                    <a:path w="557" h="244">
                      <a:moveTo>
                        <a:pt x="0" y="98"/>
                      </a:moveTo>
                      <a:lnTo>
                        <a:pt x="190" y="244"/>
                      </a:lnTo>
                      <a:lnTo>
                        <a:pt x="380" y="164"/>
                      </a:lnTo>
                      <a:lnTo>
                        <a:pt x="384" y="164"/>
                      </a:lnTo>
                      <a:lnTo>
                        <a:pt x="389" y="164"/>
                      </a:lnTo>
                      <a:lnTo>
                        <a:pt x="397" y="164"/>
                      </a:lnTo>
                      <a:lnTo>
                        <a:pt x="402" y="164"/>
                      </a:lnTo>
                      <a:lnTo>
                        <a:pt x="406" y="164"/>
                      </a:lnTo>
                      <a:lnTo>
                        <a:pt x="411" y="164"/>
                      </a:lnTo>
                      <a:lnTo>
                        <a:pt x="420" y="159"/>
                      </a:lnTo>
                      <a:lnTo>
                        <a:pt x="425" y="159"/>
                      </a:lnTo>
                      <a:lnTo>
                        <a:pt x="429" y="159"/>
                      </a:lnTo>
                      <a:lnTo>
                        <a:pt x="438" y="159"/>
                      </a:lnTo>
                      <a:lnTo>
                        <a:pt x="442" y="155"/>
                      </a:lnTo>
                      <a:lnTo>
                        <a:pt x="447" y="155"/>
                      </a:lnTo>
                      <a:lnTo>
                        <a:pt x="451" y="155"/>
                      </a:lnTo>
                      <a:lnTo>
                        <a:pt x="460" y="155"/>
                      </a:lnTo>
                      <a:lnTo>
                        <a:pt x="465" y="150"/>
                      </a:lnTo>
                      <a:lnTo>
                        <a:pt x="469" y="150"/>
                      </a:lnTo>
                      <a:lnTo>
                        <a:pt x="473" y="150"/>
                      </a:lnTo>
                      <a:lnTo>
                        <a:pt x="482" y="146"/>
                      </a:lnTo>
                      <a:lnTo>
                        <a:pt x="487" y="146"/>
                      </a:lnTo>
                      <a:lnTo>
                        <a:pt x="491" y="146"/>
                      </a:lnTo>
                      <a:lnTo>
                        <a:pt x="500" y="146"/>
                      </a:lnTo>
                      <a:lnTo>
                        <a:pt x="504" y="142"/>
                      </a:lnTo>
                      <a:lnTo>
                        <a:pt x="509" y="142"/>
                      </a:lnTo>
                      <a:lnTo>
                        <a:pt x="513" y="142"/>
                      </a:lnTo>
                      <a:lnTo>
                        <a:pt x="522" y="137"/>
                      </a:lnTo>
                      <a:lnTo>
                        <a:pt x="526" y="137"/>
                      </a:lnTo>
                      <a:lnTo>
                        <a:pt x="531" y="137"/>
                      </a:lnTo>
                      <a:lnTo>
                        <a:pt x="535" y="133"/>
                      </a:lnTo>
                      <a:lnTo>
                        <a:pt x="539" y="133"/>
                      </a:lnTo>
                      <a:lnTo>
                        <a:pt x="548" y="128"/>
                      </a:lnTo>
                      <a:lnTo>
                        <a:pt x="553" y="128"/>
                      </a:lnTo>
                      <a:lnTo>
                        <a:pt x="557" y="128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3" y="0"/>
                      </a:lnTo>
                      <a:lnTo>
                        <a:pt x="344" y="0"/>
                      </a:lnTo>
                      <a:lnTo>
                        <a:pt x="340" y="4"/>
                      </a:lnTo>
                      <a:lnTo>
                        <a:pt x="336" y="4"/>
                      </a:lnTo>
                      <a:lnTo>
                        <a:pt x="327" y="4"/>
                      </a:lnTo>
                      <a:lnTo>
                        <a:pt x="322" y="4"/>
                      </a:lnTo>
                      <a:lnTo>
                        <a:pt x="318" y="8"/>
                      </a:lnTo>
                      <a:lnTo>
                        <a:pt x="314" y="8"/>
                      </a:lnTo>
                      <a:lnTo>
                        <a:pt x="309" y="8"/>
                      </a:lnTo>
                      <a:lnTo>
                        <a:pt x="300" y="8"/>
                      </a:lnTo>
                      <a:lnTo>
                        <a:pt x="296" y="13"/>
                      </a:lnTo>
                      <a:lnTo>
                        <a:pt x="292" y="13"/>
                      </a:lnTo>
                      <a:lnTo>
                        <a:pt x="287" y="13"/>
                      </a:lnTo>
                      <a:lnTo>
                        <a:pt x="283" y="13"/>
                      </a:lnTo>
                      <a:lnTo>
                        <a:pt x="274" y="13"/>
                      </a:lnTo>
                      <a:lnTo>
                        <a:pt x="269" y="17"/>
                      </a:lnTo>
                      <a:lnTo>
                        <a:pt x="265" y="17"/>
                      </a:lnTo>
                      <a:lnTo>
                        <a:pt x="261" y="17"/>
                      </a:lnTo>
                      <a:lnTo>
                        <a:pt x="256" y="17"/>
                      </a:lnTo>
                      <a:lnTo>
                        <a:pt x="247" y="17"/>
                      </a:lnTo>
                      <a:lnTo>
                        <a:pt x="243" y="17"/>
                      </a:lnTo>
                      <a:lnTo>
                        <a:pt x="239" y="17"/>
                      </a:lnTo>
                      <a:lnTo>
                        <a:pt x="234" y="17"/>
                      </a:lnTo>
                      <a:lnTo>
                        <a:pt x="230" y="22"/>
                      </a:lnTo>
                      <a:lnTo>
                        <a:pt x="221" y="22"/>
                      </a:lnTo>
                      <a:lnTo>
                        <a:pt x="217" y="22"/>
                      </a:lnTo>
                      <a:lnTo>
                        <a:pt x="212" y="22"/>
                      </a:lnTo>
                      <a:lnTo>
                        <a:pt x="203" y="22"/>
                      </a:lnTo>
                      <a:lnTo>
                        <a:pt x="199" y="22"/>
                      </a:lnTo>
                      <a:lnTo>
                        <a:pt x="195" y="22"/>
                      </a:lnTo>
                      <a:lnTo>
                        <a:pt x="190" y="22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81160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80188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73060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72268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2556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73384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74320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1448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87820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272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95272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5272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836800" y="5657760"/>
                  <a:ext cx="90720" cy="49680"/>
                </a:xfrm>
                <a:custGeom>
                  <a:avLst/>
                  <a:gdLst/>
                  <a:ahLst/>
                  <a:rect l="0" t="0" r="r" b="b"/>
                  <a:pathLst>
                    <a:path w="252" h="138">
                      <a:moveTo>
                        <a:pt x="252" y="116"/>
                      </a:moveTo>
                      <a:lnTo>
                        <a:pt x="155" y="138"/>
                      </a:lnTo>
                      <a:lnTo>
                        <a:pt x="105" y="102"/>
                      </a:lnTo>
                      <a:lnTo>
                        <a:pt x="110" y="102"/>
                      </a:lnTo>
                      <a:lnTo>
                        <a:pt x="110" y="98"/>
                      </a:lnTo>
                      <a:lnTo>
                        <a:pt x="101" y="102"/>
                      </a:lnTo>
                      <a:lnTo>
                        <a:pt x="52" y="67"/>
                      </a:lnTo>
                      <a:lnTo>
                        <a:pt x="57" y="67"/>
                      </a:lnTo>
                      <a:lnTo>
                        <a:pt x="57" y="62"/>
                      </a:lnTo>
                      <a:lnTo>
                        <a:pt x="48" y="67"/>
                      </a:lnTo>
                      <a:lnTo>
                        <a:pt x="0" y="30"/>
                      </a:lnTo>
                      <a:lnTo>
                        <a:pt x="4" y="30"/>
                      </a:lnTo>
                      <a:lnTo>
                        <a:pt x="4" y="26"/>
                      </a:lnTo>
                      <a:lnTo>
                        <a:pt x="61" y="13"/>
                      </a:lnTo>
                      <a:lnTo>
                        <a:pt x="92" y="0"/>
                      </a:lnTo>
                      <a:lnTo>
                        <a:pt x="137" y="2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95" y="62"/>
                      </a:lnTo>
                      <a:lnTo>
                        <a:pt x="195" y="75"/>
                      </a:lnTo>
                      <a:lnTo>
                        <a:pt x="203" y="71"/>
                      </a:lnTo>
                      <a:lnTo>
                        <a:pt x="247" y="102"/>
                      </a:lnTo>
                      <a:lnTo>
                        <a:pt x="252" y="112"/>
                      </a:lnTo>
                      <a:lnTo>
                        <a:pt x="25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897280" y="5707080"/>
                  <a:ext cx="29880" cy="0"/>
                </a:xfrm>
                <a:custGeom>
                  <a:avLst/>
                  <a:gdLst/>
                  <a:ahLst/>
                  <a:rect l="0" t="0" r="r" b="b"/>
                  <a:pathLst>
                    <a:path w="8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87640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87172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48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87172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48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87172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24" y="48"/>
                      </a:moveTo>
                      <a:lnTo>
                        <a:pt x="0" y="48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0" y="72"/>
                      </a:lnTo>
                      <a:lnTo>
                        <a:pt x="2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85768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5120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53" y="0"/>
                      </a:ln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5120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85120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83680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3212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83212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4004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86056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7352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88612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36" y="72"/>
                      </a:moveTo>
                      <a:lnTo>
                        <a:pt x="36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612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9404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90664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90844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91636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92752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27520" y="56973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840040" y="5657760"/>
                  <a:ext cx="86040" cy="46440"/>
                </a:xfrm>
                <a:custGeom>
                  <a:avLst/>
                  <a:gdLst/>
                  <a:ahLst/>
                  <a:rect l="0" t="0" r="r" b="b"/>
                  <a:pathLst>
                    <a:path w="239" h="129">
                      <a:moveTo>
                        <a:pt x="133" y="26"/>
                      </a:moveTo>
                      <a:lnTo>
                        <a:pt x="101" y="45"/>
                      </a:lnTo>
                      <a:lnTo>
                        <a:pt x="44" y="58"/>
                      </a:lnTo>
                      <a:lnTo>
                        <a:pt x="0" y="26"/>
                      </a:lnTo>
                      <a:lnTo>
                        <a:pt x="57" y="13"/>
                      </a:lnTo>
                      <a:lnTo>
                        <a:pt x="88" y="0"/>
                      </a:lnTo>
                      <a:lnTo>
                        <a:pt x="133" y="26"/>
                      </a:lnTo>
                      <a:lnTo>
                        <a:pt x="186" y="62"/>
                      </a:lnTo>
                      <a:lnTo>
                        <a:pt x="150" y="80"/>
                      </a:lnTo>
                      <a:lnTo>
                        <a:pt x="97" y="93"/>
                      </a:lnTo>
                      <a:lnTo>
                        <a:pt x="52" y="62"/>
                      </a:lnTo>
                      <a:lnTo>
                        <a:pt x="105" y="49"/>
                      </a:lnTo>
                      <a:lnTo>
                        <a:pt x="142" y="36"/>
                      </a:lnTo>
                      <a:lnTo>
                        <a:pt x="186" y="62"/>
                      </a:lnTo>
                      <a:lnTo>
                        <a:pt x="239" y="99"/>
                      </a:lnTo>
                      <a:lnTo>
                        <a:pt x="208" y="116"/>
                      </a:lnTo>
                      <a:lnTo>
                        <a:pt x="150" y="129"/>
                      </a:lnTo>
                      <a:lnTo>
                        <a:pt x="105" y="99"/>
                      </a:lnTo>
                      <a:lnTo>
                        <a:pt x="164" y="84"/>
                      </a:lnTo>
                      <a:lnTo>
                        <a:pt x="195" y="71"/>
                      </a:lnTo>
                      <a:lnTo>
                        <a:pt x="239" y="99"/>
                      </a:lnTo>
                      <a:lnTo>
                        <a:pt x="133" y="2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87820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85588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84004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84004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86056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87352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84320" y="56721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98720" y="5684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876400" y="568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85912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85912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881440" y="5672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89404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903400" y="5684760"/>
                  <a:ext cx="1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921040" y="5699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898720" y="5703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81440" y="569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88144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0340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860560" y="5664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88288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903400" y="569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901960" y="5065560"/>
                <a:ext cx="710280" cy="673560"/>
                <a:chOff x="2901960" y="5065560"/>
                <a:chExt cx="710280" cy="673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901960" y="5067360"/>
                  <a:ext cx="702000" cy="671760"/>
                </a:xfrm>
                <a:custGeom>
                  <a:avLst/>
                  <a:gdLst/>
                  <a:ahLst/>
                  <a:rect l="0" t="0" r="r" b="b"/>
                  <a:pathLst>
                    <a:path w="1950" h="1866">
                      <a:moveTo>
                        <a:pt x="229" y="1756"/>
                      </a:moveTo>
                      <a:lnTo>
                        <a:pt x="1420" y="1866"/>
                      </a:lnTo>
                      <a:lnTo>
                        <a:pt x="1606" y="1707"/>
                      </a:lnTo>
                      <a:lnTo>
                        <a:pt x="1606" y="1641"/>
                      </a:lnTo>
                      <a:lnTo>
                        <a:pt x="1262" y="1610"/>
                      </a:lnTo>
                      <a:lnTo>
                        <a:pt x="1244" y="1579"/>
                      </a:lnTo>
                      <a:lnTo>
                        <a:pt x="1248" y="1579"/>
                      </a:lnTo>
                      <a:lnTo>
                        <a:pt x="1253" y="1575"/>
                      </a:lnTo>
                      <a:lnTo>
                        <a:pt x="1257" y="1575"/>
                      </a:lnTo>
                      <a:lnTo>
                        <a:pt x="1257" y="1570"/>
                      </a:lnTo>
                      <a:lnTo>
                        <a:pt x="1262" y="1570"/>
                      </a:lnTo>
                      <a:lnTo>
                        <a:pt x="1266" y="1566"/>
                      </a:lnTo>
                      <a:lnTo>
                        <a:pt x="1271" y="1562"/>
                      </a:lnTo>
                      <a:lnTo>
                        <a:pt x="1275" y="1557"/>
                      </a:lnTo>
                      <a:lnTo>
                        <a:pt x="1275" y="1557"/>
                      </a:lnTo>
                      <a:lnTo>
                        <a:pt x="1279" y="1553"/>
                      </a:lnTo>
                      <a:lnTo>
                        <a:pt x="1284" y="1553"/>
                      </a:lnTo>
                      <a:lnTo>
                        <a:pt x="1284" y="1548"/>
                      </a:lnTo>
                      <a:lnTo>
                        <a:pt x="1288" y="1544"/>
                      </a:lnTo>
                      <a:lnTo>
                        <a:pt x="1293" y="1544"/>
                      </a:lnTo>
                      <a:lnTo>
                        <a:pt x="1297" y="1535"/>
                      </a:lnTo>
                      <a:lnTo>
                        <a:pt x="1297" y="1535"/>
                      </a:lnTo>
                      <a:lnTo>
                        <a:pt x="1606" y="1548"/>
                      </a:lnTo>
                      <a:lnTo>
                        <a:pt x="1795" y="1513"/>
                      </a:lnTo>
                      <a:lnTo>
                        <a:pt x="1800" y="1513"/>
                      </a:lnTo>
                      <a:lnTo>
                        <a:pt x="1804" y="1509"/>
                      </a:lnTo>
                      <a:lnTo>
                        <a:pt x="1808" y="1509"/>
                      </a:lnTo>
                      <a:lnTo>
                        <a:pt x="1813" y="1504"/>
                      </a:lnTo>
                      <a:lnTo>
                        <a:pt x="1813" y="1504"/>
                      </a:lnTo>
                      <a:lnTo>
                        <a:pt x="1817" y="1500"/>
                      </a:lnTo>
                      <a:lnTo>
                        <a:pt x="1817" y="1495"/>
                      </a:lnTo>
                      <a:lnTo>
                        <a:pt x="1822" y="1491"/>
                      </a:lnTo>
                      <a:lnTo>
                        <a:pt x="1822" y="1487"/>
                      </a:lnTo>
                      <a:lnTo>
                        <a:pt x="1822" y="1482"/>
                      </a:lnTo>
                      <a:lnTo>
                        <a:pt x="1826" y="1478"/>
                      </a:lnTo>
                      <a:lnTo>
                        <a:pt x="1831" y="1478"/>
                      </a:lnTo>
                      <a:lnTo>
                        <a:pt x="1831" y="1469"/>
                      </a:lnTo>
                      <a:lnTo>
                        <a:pt x="1831" y="1465"/>
                      </a:lnTo>
                      <a:lnTo>
                        <a:pt x="1831" y="1460"/>
                      </a:lnTo>
                      <a:lnTo>
                        <a:pt x="1831" y="1451"/>
                      </a:lnTo>
                      <a:lnTo>
                        <a:pt x="1831" y="1385"/>
                      </a:lnTo>
                      <a:lnTo>
                        <a:pt x="1835" y="1385"/>
                      </a:lnTo>
                      <a:lnTo>
                        <a:pt x="1835" y="1381"/>
                      </a:lnTo>
                      <a:lnTo>
                        <a:pt x="1839" y="1381"/>
                      </a:lnTo>
                      <a:lnTo>
                        <a:pt x="1844" y="1376"/>
                      </a:lnTo>
                      <a:lnTo>
                        <a:pt x="1848" y="1376"/>
                      </a:lnTo>
                      <a:lnTo>
                        <a:pt x="1853" y="1376"/>
                      </a:lnTo>
                      <a:lnTo>
                        <a:pt x="1857" y="1372"/>
                      </a:lnTo>
                      <a:lnTo>
                        <a:pt x="1861" y="1372"/>
                      </a:lnTo>
                      <a:lnTo>
                        <a:pt x="1861" y="1372"/>
                      </a:lnTo>
                      <a:lnTo>
                        <a:pt x="1870" y="1368"/>
                      </a:lnTo>
                      <a:lnTo>
                        <a:pt x="1870" y="1363"/>
                      </a:lnTo>
                      <a:lnTo>
                        <a:pt x="1875" y="1363"/>
                      </a:lnTo>
                      <a:lnTo>
                        <a:pt x="1875" y="1359"/>
                      </a:lnTo>
                      <a:lnTo>
                        <a:pt x="1879" y="1354"/>
                      </a:lnTo>
                      <a:lnTo>
                        <a:pt x="1879" y="1350"/>
                      </a:lnTo>
                      <a:lnTo>
                        <a:pt x="1879" y="1341"/>
                      </a:lnTo>
                      <a:lnTo>
                        <a:pt x="1950" y="551"/>
                      </a:lnTo>
                      <a:lnTo>
                        <a:pt x="1950" y="546"/>
                      </a:lnTo>
                      <a:lnTo>
                        <a:pt x="1950" y="546"/>
                      </a:lnTo>
                      <a:lnTo>
                        <a:pt x="1950" y="537"/>
                      </a:lnTo>
                      <a:lnTo>
                        <a:pt x="1950" y="533"/>
                      </a:lnTo>
                      <a:lnTo>
                        <a:pt x="1950" y="533"/>
                      </a:lnTo>
                      <a:lnTo>
                        <a:pt x="1945" y="529"/>
                      </a:lnTo>
                      <a:lnTo>
                        <a:pt x="1945" y="524"/>
                      </a:lnTo>
                      <a:lnTo>
                        <a:pt x="1945" y="520"/>
                      </a:lnTo>
                      <a:lnTo>
                        <a:pt x="1945" y="515"/>
                      </a:lnTo>
                      <a:lnTo>
                        <a:pt x="1945" y="511"/>
                      </a:lnTo>
                      <a:lnTo>
                        <a:pt x="1941" y="511"/>
                      </a:lnTo>
                      <a:lnTo>
                        <a:pt x="1941" y="507"/>
                      </a:lnTo>
                      <a:lnTo>
                        <a:pt x="1936" y="502"/>
                      </a:lnTo>
                      <a:lnTo>
                        <a:pt x="1936" y="502"/>
                      </a:lnTo>
                      <a:lnTo>
                        <a:pt x="1936" y="493"/>
                      </a:lnTo>
                      <a:lnTo>
                        <a:pt x="1932" y="493"/>
                      </a:lnTo>
                      <a:lnTo>
                        <a:pt x="1848" y="388"/>
                      </a:lnTo>
                      <a:lnTo>
                        <a:pt x="1839" y="321"/>
                      </a:lnTo>
                      <a:lnTo>
                        <a:pt x="1839" y="229"/>
                      </a:lnTo>
                      <a:lnTo>
                        <a:pt x="1839" y="224"/>
                      </a:lnTo>
                      <a:lnTo>
                        <a:pt x="1835" y="216"/>
                      </a:lnTo>
                      <a:lnTo>
                        <a:pt x="1835" y="211"/>
                      </a:lnTo>
                      <a:lnTo>
                        <a:pt x="1831" y="207"/>
                      </a:lnTo>
                      <a:lnTo>
                        <a:pt x="1831" y="202"/>
                      </a:lnTo>
                      <a:lnTo>
                        <a:pt x="1822" y="198"/>
                      </a:lnTo>
                      <a:lnTo>
                        <a:pt x="1817" y="189"/>
                      </a:lnTo>
                      <a:lnTo>
                        <a:pt x="1813" y="185"/>
                      </a:lnTo>
                      <a:lnTo>
                        <a:pt x="1659" y="92"/>
                      </a:lnTo>
                      <a:lnTo>
                        <a:pt x="1614" y="83"/>
                      </a:lnTo>
                      <a:lnTo>
                        <a:pt x="1570" y="79"/>
                      </a:lnTo>
                      <a:lnTo>
                        <a:pt x="1522" y="74"/>
                      </a:lnTo>
                      <a:lnTo>
                        <a:pt x="1478" y="66"/>
                      </a:lnTo>
                      <a:lnTo>
                        <a:pt x="1434" y="61"/>
                      </a:lnTo>
                      <a:lnTo>
                        <a:pt x="1385" y="57"/>
                      </a:lnTo>
                      <a:lnTo>
                        <a:pt x="1337" y="52"/>
                      </a:lnTo>
                      <a:lnTo>
                        <a:pt x="1293" y="48"/>
                      </a:lnTo>
                      <a:lnTo>
                        <a:pt x="1244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3" y="30"/>
                      </a:lnTo>
                      <a:lnTo>
                        <a:pt x="1054" y="26"/>
                      </a:lnTo>
                      <a:lnTo>
                        <a:pt x="1010" y="26"/>
                      </a:lnTo>
                      <a:lnTo>
                        <a:pt x="961" y="17"/>
                      </a:lnTo>
                      <a:lnTo>
                        <a:pt x="912" y="17"/>
                      </a:lnTo>
                      <a:lnTo>
                        <a:pt x="864" y="13"/>
                      </a:lnTo>
                      <a:lnTo>
                        <a:pt x="820" y="13"/>
                      </a:lnTo>
                      <a:lnTo>
                        <a:pt x="771" y="13"/>
                      </a:lnTo>
                      <a:lnTo>
                        <a:pt x="723" y="8"/>
                      </a:lnTo>
                      <a:lnTo>
                        <a:pt x="674" y="8"/>
                      </a:lnTo>
                      <a:lnTo>
                        <a:pt x="630" y="8"/>
                      </a:lnTo>
                      <a:lnTo>
                        <a:pt x="582" y="4"/>
                      </a:lnTo>
                      <a:lnTo>
                        <a:pt x="533" y="4"/>
                      </a:lnTo>
                      <a:lnTo>
                        <a:pt x="485" y="4"/>
                      </a:lnTo>
                      <a:lnTo>
                        <a:pt x="440" y="4"/>
                      </a:lnTo>
                      <a:lnTo>
                        <a:pt x="396" y="4"/>
                      </a:lnTo>
                      <a:lnTo>
                        <a:pt x="348" y="0"/>
                      </a:lnTo>
                      <a:lnTo>
                        <a:pt x="299" y="0"/>
                      </a:lnTo>
                      <a:lnTo>
                        <a:pt x="255" y="0"/>
                      </a:lnTo>
                      <a:lnTo>
                        <a:pt x="207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9" y="0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7" y="8"/>
                      </a:lnTo>
                      <a:lnTo>
                        <a:pt x="123" y="8"/>
                      </a:lnTo>
                      <a:lnTo>
                        <a:pt x="119" y="13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26"/>
                      </a:lnTo>
                      <a:lnTo>
                        <a:pt x="105" y="30"/>
                      </a:lnTo>
                      <a:lnTo>
                        <a:pt x="105" y="35"/>
                      </a:lnTo>
                      <a:lnTo>
                        <a:pt x="101" y="35"/>
                      </a:lnTo>
                      <a:lnTo>
                        <a:pt x="101" y="39"/>
                      </a:lnTo>
                      <a:lnTo>
                        <a:pt x="97" y="79"/>
                      </a:lnTo>
                      <a:lnTo>
                        <a:pt x="88" y="119"/>
                      </a:lnTo>
                      <a:lnTo>
                        <a:pt x="79" y="158"/>
                      </a:lnTo>
                      <a:lnTo>
                        <a:pt x="74" y="198"/>
                      </a:lnTo>
                      <a:lnTo>
                        <a:pt x="70" y="238"/>
                      </a:lnTo>
                      <a:lnTo>
                        <a:pt x="61" y="273"/>
                      </a:lnTo>
                      <a:lnTo>
                        <a:pt x="57" y="313"/>
                      </a:lnTo>
                      <a:lnTo>
                        <a:pt x="52" y="352"/>
                      </a:lnTo>
                      <a:lnTo>
                        <a:pt x="48" y="388"/>
                      </a:lnTo>
                      <a:lnTo>
                        <a:pt x="44" y="427"/>
                      </a:lnTo>
                      <a:lnTo>
                        <a:pt x="39" y="467"/>
                      </a:lnTo>
                      <a:lnTo>
                        <a:pt x="35" y="507"/>
                      </a:lnTo>
                      <a:lnTo>
                        <a:pt x="30" y="542"/>
                      </a:lnTo>
                      <a:lnTo>
                        <a:pt x="26" y="582"/>
                      </a:lnTo>
                      <a:lnTo>
                        <a:pt x="26" y="621"/>
                      </a:lnTo>
                      <a:lnTo>
                        <a:pt x="22" y="657"/>
                      </a:lnTo>
                      <a:lnTo>
                        <a:pt x="17" y="696"/>
                      </a:lnTo>
                      <a:lnTo>
                        <a:pt x="17" y="732"/>
                      </a:lnTo>
                      <a:lnTo>
                        <a:pt x="13" y="771"/>
                      </a:lnTo>
                      <a:lnTo>
                        <a:pt x="13" y="811"/>
                      </a:lnTo>
                      <a:lnTo>
                        <a:pt x="13" y="846"/>
                      </a:lnTo>
                      <a:lnTo>
                        <a:pt x="8" y="886"/>
                      </a:lnTo>
                      <a:lnTo>
                        <a:pt x="8" y="921"/>
                      </a:lnTo>
                      <a:lnTo>
                        <a:pt x="8" y="962"/>
                      </a:lnTo>
                      <a:lnTo>
                        <a:pt x="8" y="1002"/>
                      </a:lnTo>
                      <a:lnTo>
                        <a:pt x="4" y="1037"/>
                      </a:lnTo>
                      <a:lnTo>
                        <a:pt x="4" y="1076"/>
                      </a:lnTo>
                      <a:lnTo>
                        <a:pt x="4" y="1116"/>
                      </a:lnTo>
                      <a:lnTo>
                        <a:pt x="4" y="1151"/>
                      </a:lnTo>
                      <a:lnTo>
                        <a:pt x="4" y="1191"/>
                      </a:lnTo>
                      <a:lnTo>
                        <a:pt x="0" y="1226"/>
                      </a:lnTo>
                      <a:lnTo>
                        <a:pt x="0" y="1266"/>
                      </a:lnTo>
                      <a:lnTo>
                        <a:pt x="0" y="1271"/>
                      </a:lnTo>
                      <a:lnTo>
                        <a:pt x="0" y="1275"/>
                      </a:lnTo>
                      <a:lnTo>
                        <a:pt x="0" y="1284"/>
                      </a:lnTo>
                      <a:lnTo>
                        <a:pt x="4" y="1284"/>
                      </a:lnTo>
                      <a:lnTo>
                        <a:pt x="4" y="1288"/>
                      </a:lnTo>
                      <a:lnTo>
                        <a:pt x="4" y="1293"/>
                      </a:lnTo>
                      <a:lnTo>
                        <a:pt x="4" y="1297"/>
                      </a:lnTo>
                      <a:lnTo>
                        <a:pt x="8" y="1297"/>
                      </a:lnTo>
                      <a:lnTo>
                        <a:pt x="8" y="1306"/>
                      </a:lnTo>
                      <a:lnTo>
                        <a:pt x="13" y="1306"/>
                      </a:lnTo>
                      <a:lnTo>
                        <a:pt x="13" y="1310"/>
                      </a:lnTo>
                      <a:lnTo>
                        <a:pt x="17" y="1315"/>
                      </a:lnTo>
                      <a:lnTo>
                        <a:pt x="22" y="1315"/>
                      </a:lnTo>
                      <a:lnTo>
                        <a:pt x="26" y="1319"/>
                      </a:lnTo>
                      <a:lnTo>
                        <a:pt x="30" y="1323"/>
                      </a:lnTo>
                      <a:lnTo>
                        <a:pt x="35" y="1328"/>
                      </a:lnTo>
                      <a:lnTo>
                        <a:pt x="158" y="1416"/>
                      </a:lnTo>
                      <a:lnTo>
                        <a:pt x="551" y="1460"/>
                      </a:lnTo>
                      <a:lnTo>
                        <a:pt x="555" y="1469"/>
                      </a:lnTo>
                      <a:lnTo>
                        <a:pt x="560" y="1473"/>
                      </a:lnTo>
                      <a:lnTo>
                        <a:pt x="564" y="1482"/>
                      </a:lnTo>
                      <a:lnTo>
                        <a:pt x="568" y="1487"/>
                      </a:lnTo>
                      <a:lnTo>
                        <a:pt x="577" y="1491"/>
                      </a:lnTo>
                      <a:lnTo>
                        <a:pt x="582" y="1500"/>
                      </a:lnTo>
                      <a:lnTo>
                        <a:pt x="590" y="1504"/>
                      </a:lnTo>
                      <a:lnTo>
                        <a:pt x="595" y="1509"/>
                      </a:lnTo>
                      <a:lnTo>
                        <a:pt x="604" y="1513"/>
                      </a:lnTo>
                      <a:lnTo>
                        <a:pt x="608" y="1522"/>
                      </a:lnTo>
                      <a:lnTo>
                        <a:pt x="617" y="1526"/>
                      </a:lnTo>
                      <a:lnTo>
                        <a:pt x="621" y="1531"/>
                      </a:lnTo>
                      <a:lnTo>
                        <a:pt x="630" y="1535"/>
                      </a:lnTo>
                      <a:lnTo>
                        <a:pt x="635" y="1544"/>
                      </a:lnTo>
                      <a:lnTo>
                        <a:pt x="643" y="1548"/>
                      </a:lnTo>
                      <a:lnTo>
                        <a:pt x="652" y="1553"/>
                      </a:lnTo>
                      <a:lnTo>
                        <a:pt x="529" y="1539"/>
                      </a:lnTo>
                      <a:lnTo>
                        <a:pt x="229" y="1698"/>
                      </a:lnTo>
                      <a:lnTo>
                        <a:pt x="229" y="175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984400" y="5707080"/>
                  <a:ext cx="425880" cy="32040"/>
                </a:xfrm>
                <a:custGeom>
                  <a:avLst/>
                  <a:gdLst/>
                  <a:ahLst/>
                  <a:rect l="0" t="0" r="r" b="b"/>
                  <a:pathLst>
                    <a:path w="1183" h="89">
                      <a:moveTo>
                        <a:pt x="1179" y="84"/>
                      </a:moveTo>
                      <a:lnTo>
                        <a:pt x="1179" y="84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83" y="89"/>
                      </a:lnTo>
                      <a:lnTo>
                        <a:pt x="1183" y="84"/>
                      </a:lnTo>
                      <a:lnTo>
                        <a:pt x="1179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417840" y="5689440"/>
                  <a:ext cx="62280" cy="49680"/>
                </a:xfrm>
                <a:custGeom>
                  <a:avLst/>
                  <a:gdLst/>
                  <a:ahLst/>
                  <a:rect l="0" t="0" r="r" b="b"/>
                  <a:pathLst>
                    <a:path w="173" h="138">
                      <a:moveTo>
                        <a:pt x="169" y="0"/>
                      </a:moveTo>
                      <a:lnTo>
                        <a:pt x="169" y="0"/>
                      </a:lnTo>
                      <a:lnTo>
                        <a:pt x="0" y="134"/>
                      </a:lnTo>
                      <a:lnTo>
                        <a:pt x="4" y="138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7976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6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59160" y="5653080"/>
                  <a:ext cx="119520" cy="25920"/>
                </a:xfrm>
                <a:custGeom>
                  <a:avLst/>
                  <a:gdLst/>
                  <a:ahLst/>
                  <a:rect l="0" t="0" r="r" b="b"/>
                  <a:pathLst>
                    <a:path w="332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332" y="72"/>
                      </a:lnTo>
                      <a:lnTo>
                        <a:pt x="332" y="48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35268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354480" y="5626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3" y="0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45" y="11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27" y="36"/>
                      </a:lnTo>
                      <a:lnTo>
                        <a:pt x="27" y="3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60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27" y="60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36" y="36"/>
                      </a:lnTo>
                      <a:lnTo>
                        <a:pt x="45" y="36"/>
                      </a:lnTo>
                      <a:lnTo>
                        <a:pt x="45" y="36"/>
                      </a:lnTo>
                      <a:lnTo>
                        <a:pt x="53" y="36"/>
                      </a:lnTo>
                      <a:lnTo>
                        <a:pt x="53" y="24"/>
                      </a:lnTo>
                      <a:lnTo>
                        <a:pt x="53" y="24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375000" y="562284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287" y="36"/>
                      </a:moveTo>
                      <a:lnTo>
                        <a:pt x="287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92" y="0"/>
                      </a:lnTo>
                      <a:lnTo>
                        <a:pt x="28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487680" y="5618160"/>
                  <a:ext cx="60840" cy="25920"/>
                </a:xfrm>
                <a:custGeom>
                  <a:avLst/>
                  <a:gdLst/>
                  <a:ahLst/>
                  <a:rect l="0" t="0" r="r" b="b"/>
                  <a:pathLst>
                    <a:path w="169" h="72">
                      <a:moveTo>
                        <a:pt x="165" y="0"/>
                      </a:moveTo>
                      <a:lnTo>
                        <a:pt x="165" y="0"/>
                      </a:lnTo>
                      <a:lnTo>
                        <a:pt x="0" y="48"/>
                      </a:lnTo>
                      <a:lnTo>
                        <a:pt x="0" y="72"/>
                      </a:lnTo>
                      <a:lnTo>
                        <a:pt x="169" y="24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554280" y="5595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8" y="29"/>
                      </a:lnTo>
                      <a:lnTo>
                        <a:pt x="48" y="36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50"/>
                      </a:lnTo>
                      <a:lnTo>
                        <a:pt x="24" y="50"/>
                      </a:lnTo>
                      <a:lnTo>
                        <a:pt x="24" y="58"/>
                      </a:lnTo>
                      <a:lnTo>
                        <a:pt x="24" y="58"/>
                      </a:lnTo>
                      <a:lnTo>
                        <a:pt x="24" y="65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72"/>
                      </a:lnTo>
                      <a:lnTo>
                        <a:pt x="24" y="72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48" y="58"/>
                      </a:lnTo>
                      <a:lnTo>
                        <a:pt x="48" y="58"/>
                      </a:lnTo>
                      <a:lnTo>
                        <a:pt x="48" y="50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36"/>
                      </a:lnTo>
                      <a:lnTo>
                        <a:pt x="72" y="29"/>
                      </a:lnTo>
                      <a:lnTo>
                        <a:pt x="72" y="29"/>
                      </a:lnTo>
                      <a:lnTo>
                        <a:pt x="72" y="22"/>
                      </a:lnTo>
                      <a:lnTo>
                        <a:pt x="72" y="14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559320" y="5572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7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"/>
                      </a:lnTo>
                      <a:lnTo>
                        <a:pt x="24" y="7"/>
                      </a:lnTo>
                      <a:lnTo>
                        <a:pt x="0" y="7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72" y="7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568680" y="5556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43"/>
                      </a:lnTo>
                      <a:lnTo>
                        <a:pt x="41" y="43"/>
                      </a:lnTo>
                      <a:lnTo>
                        <a:pt x="41" y="4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1" y="43"/>
                      </a:lnTo>
                      <a:lnTo>
                        <a:pt x="21" y="58"/>
                      </a:lnTo>
                      <a:lnTo>
                        <a:pt x="10" y="58"/>
                      </a:lnTo>
                      <a:lnTo>
                        <a:pt x="10" y="58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31" y="58"/>
                      </a:lnTo>
                      <a:lnTo>
                        <a:pt x="41" y="58"/>
                      </a:lnTo>
                      <a:lnTo>
                        <a:pt x="41" y="58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72" y="1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586320" y="5267160"/>
                  <a:ext cx="25920" cy="281520"/>
                </a:xfrm>
                <a:custGeom>
                  <a:avLst/>
                  <a:gdLst/>
                  <a:ahLst/>
                  <a:rect l="0" t="0" r="r" b="b"/>
                  <a:pathLst>
                    <a:path w="72" h="782">
                      <a:moveTo>
                        <a:pt x="66" y="4"/>
                      </a:moveTo>
                      <a:lnTo>
                        <a:pt x="66" y="4"/>
                      </a:lnTo>
                      <a:lnTo>
                        <a:pt x="0" y="782"/>
                      </a:lnTo>
                      <a:lnTo>
                        <a:pt x="6" y="782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03600" y="524664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61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573360" y="52084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7" y="85"/>
                      </a:lnTo>
                      <a:lnTo>
                        <a:pt x="72" y="8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568680" y="5183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564000" y="514980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76"/>
                      </a:lnTo>
                      <a:lnTo>
                        <a:pt x="0" y="76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55932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24" y="14"/>
                      </a:lnTo>
                      <a:lnTo>
                        <a:pt x="24" y="29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58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8"/>
                      </a:lnTo>
                      <a:lnTo>
                        <a:pt x="72" y="43"/>
                      </a:lnTo>
                      <a:lnTo>
                        <a:pt x="72" y="43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14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505320" y="5100480"/>
                  <a:ext cx="47880" cy="27360"/>
                </a:xfrm>
                <a:custGeom>
                  <a:avLst/>
                  <a:gdLst/>
                  <a:ahLst/>
                  <a:rect l="0" t="0" r="r" b="b"/>
                  <a:pathLst>
                    <a:path w="133" h="7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3" y="76"/>
                      </a:lnTo>
                      <a:lnTo>
                        <a:pt x="133" y="7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960640" y="5065560"/>
                  <a:ext cx="536760" cy="27360"/>
                </a:xfrm>
                <a:custGeom>
                  <a:avLst/>
                  <a:gdLst/>
                  <a:ahLst/>
                  <a:rect l="0" t="0" r="r" b="b"/>
                  <a:pathLst>
                    <a:path w="149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8" y="4"/>
                      </a:lnTo>
                      <a:lnTo>
                        <a:pt x="97" y="4"/>
                      </a:lnTo>
                      <a:lnTo>
                        <a:pt x="141" y="4"/>
                      </a:lnTo>
                      <a:lnTo>
                        <a:pt x="189" y="4"/>
                      </a:lnTo>
                      <a:lnTo>
                        <a:pt x="233" y="4"/>
                      </a:lnTo>
                      <a:lnTo>
                        <a:pt x="277" y="4"/>
                      </a:lnTo>
                      <a:lnTo>
                        <a:pt x="326" y="8"/>
                      </a:lnTo>
                      <a:lnTo>
                        <a:pt x="374" y="8"/>
                      </a:lnTo>
                      <a:lnTo>
                        <a:pt x="423" y="8"/>
                      </a:lnTo>
                      <a:lnTo>
                        <a:pt x="467" y="8"/>
                      </a:lnTo>
                      <a:lnTo>
                        <a:pt x="515" y="13"/>
                      </a:lnTo>
                      <a:lnTo>
                        <a:pt x="560" y="13"/>
                      </a:lnTo>
                      <a:lnTo>
                        <a:pt x="608" y="13"/>
                      </a:lnTo>
                      <a:lnTo>
                        <a:pt x="657" y="13"/>
                      </a:lnTo>
                      <a:lnTo>
                        <a:pt x="705" y="17"/>
                      </a:lnTo>
                      <a:lnTo>
                        <a:pt x="750" y="17"/>
                      </a:lnTo>
                      <a:lnTo>
                        <a:pt x="799" y="23"/>
                      </a:lnTo>
                      <a:lnTo>
                        <a:pt x="847" y="23"/>
                      </a:lnTo>
                      <a:lnTo>
                        <a:pt x="891" y="27"/>
                      </a:lnTo>
                      <a:lnTo>
                        <a:pt x="940" y="27"/>
                      </a:lnTo>
                      <a:lnTo>
                        <a:pt x="984" y="31"/>
                      </a:lnTo>
                      <a:lnTo>
                        <a:pt x="1032" y="36"/>
                      </a:lnTo>
                      <a:lnTo>
                        <a:pt x="1081" y="36"/>
                      </a:lnTo>
                      <a:lnTo>
                        <a:pt x="1125" y="40"/>
                      </a:lnTo>
                      <a:lnTo>
                        <a:pt x="1173" y="45"/>
                      </a:lnTo>
                      <a:lnTo>
                        <a:pt x="1218" y="49"/>
                      </a:lnTo>
                      <a:lnTo>
                        <a:pt x="1266" y="49"/>
                      </a:lnTo>
                      <a:lnTo>
                        <a:pt x="1310" y="59"/>
                      </a:lnTo>
                      <a:lnTo>
                        <a:pt x="1354" y="63"/>
                      </a:lnTo>
                      <a:lnTo>
                        <a:pt x="1398" y="68"/>
                      </a:lnTo>
                      <a:lnTo>
                        <a:pt x="1447" y="72"/>
                      </a:lnTo>
                      <a:lnTo>
                        <a:pt x="1491" y="76"/>
                      </a:lnTo>
                      <a:lnTo>
                        <a:pt x="1491" y="72"/>
                      </a:lnTo>
                      <a:lnTo>
                        <a:pt x="1447" y="68"/>
                      </a:lnTo>
                      <a:lnTo>
                        <a:pt x="1403" y="63"/>
                      </a:lnTo>
                      <a:lnTo>
                        <a:pt x="1354" y="59"/>
                      </a:lnTo>
                      <a:lnTo>
                        <a:pt x="1310" y="49"/>
                      </a:lnTo>
                      <a:lnTo>
                        <a:pt x="1266" y="49"/>
                      </a:lnTo>
                      <a:lnTo>
                        <a:pt x="1218" y="45"/>
                      </a:lnTo>
                      <a:lnTo>
                        <a:pt x="1173" y="40"/>
                      </a:lnTo>
                      <a:lnTo>
                        <a:pt x="1125" y="36"/>
                      </a:lnTo>
                      <a:lnTo>
                        <a:pt x="1081" y="31"/>
                      </a:lnTo>
                      <a:lnTo>
                        <a:pt x="1032" y="27"/>
                      </a:lnTo>
                      <a:lnTo>
                        <a:pt x="984" y="27"/>
                      </a:lnTo>
                      <a:lnTo>
                        <a:pt x="940" y="23"/>
                      </a:lnTo>
                      <a:lnTo>
                        <a:pt x="891" y="23"/>
                      </a:lnTo>
                      <a:lnTo>
                        <a:pt x="847" y="17"/>
                      </a:lnTo>
                      <a:lnTo>
                        <a:pt x="799" y="13"/>
                      </a:lnTo>
                      <a:lnTo>
                        <a:pt x="750" y="13"/>
                      </a:lnTo>
                      <a:lnTo>
                        <a:pt x="705" y="13"/>
                      </a:lnTo>
                      <a:lnTo>
                        <a:pt x="657" y="8"/>
                      </a:lnTo>
                      <a:lnTo>
                        <a:pt x="608" y="8"/>
                      </a:lnTo>
                      <a:lnTo>
                        <a:pt x="560" y="4"/>
                      </a:lnTo>
                      <a:lnTo>
                        <a:pt x="515" y="4"/>
                      </a:lnTo>
                      <a:lnTo>
                        <a:pt x="467" y="4"/>
                      </a:lnTo>
                      <a:lnTo>
                        <a:pt x="423" y="4"/>
                      </a:lnTo>
                      <a:lnTo>
                        <a:pt x="374" y="0"/>
                      </a:lnTo>
                      <a:lnTo>
                        <a:pt x="326" y="0"/>
                      </a:lnTo>
                      <a:lnTo>
                        <a:pt x="277" y="0"/>
                      </a:lnTo>
                      <a:lnTo>
                        <a:pt x="233" y="0"/>
                      </a:lnTo>
                      <a:lnTo>
                        <a:pt x="189" y="0"/>
                      </a:lnTo>
                      <a:lnTo>
                        <a:pt x="141" y="0"/>
                      </a:lnTo>
                      <a:lnTo>
                        <a:pt x="97" y="0"/>
                      </a:lnTo>
                      <a:lnTo>
                        <a:pt x="4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8320" y="5065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" y="72"/>
                      </a:moveTo>
                      <a:lnTo>
                        <a:pt x="7" y="72"/>
                      </a:lnTo>
                      <a:lnTo>
                        <a:pt x="7" y="60"/>
                      </a:lnTo>
                      <a:lnTo>
                        <a:pt x="7" y="60"/>
                      </a:lnTo>
                      <a:lnTo>
                        <a:pt x="15" y="48"/>
                      </a:lnTo>
                      <a:lnTo>
                        <a:pt x="15" y="48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11"/>
                      </a:ln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56" y="11"/>
                      </a:lnTo>
                      <a:lnTo>
                        <a:pt x="64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40" y="11"/>
                      </a:lnTo>
                      <a:lnTo>
                        <a:pt x="32" y="11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36"/>
                      </a:lnTo>
                      <a:lnTo>
                        <a:pt x="7" y="36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1960" y="5083200"/>
                  <a:ext cx="30600" cy="438480"/>
                </a:xfrm>
                <a:custGeom>
                  <a:avLst/>
                  <a:gdLst/>
                  <a:ahLst/>
                  <a:rect l="0" t="0" r="r" b="b"/>
                  <a:pathLst>
                    <a:path w="85" h="1218">
                      <a:moveTo>
                        <a:pt x="4" y="1213"/>
                      </a:moveTo>
                      <a:lnTo>
                        <a:pt x="4" y="1213"/>
                      </a:lnTo>
                      <a:lnTo>
                        <a:pt x="4" y="1178"/>
                      </a:lnTo>
                      <a:lnTo>
                        <a:pt x="4" y="1138"/>
                      </a:lnTo>
                      <a:lnTo>
                        <a:pt x="4" y="1103"/>
                      </a:lnTo>
                      <a:lnTo>
                        <a:pt x="8" y="1063"/>
                      </a:lnTo>
                      <a:lnTo>
                        <a:pt x="8" y="1024"/>
                      </a:lnTo>
                      <a:lnTo>
                        <a:pt x="8" y="988"/>
                      </a:lnTo>
                      <a:lnTo>
                        <a:pt x="8" y="949"/>
                      </a:lnTo>
                      <a:lnTo>
                        <a:pt x="8" y="913"/>
                      </a:lnTo>
                      <a:lnTo>
                        <a:pt x="13" y="874"/>
                      </a:lnTo>
                      <a:lnTo>
                        <a:pt x="13" y="838"/>
                      </a:lnTo>
                      <a:lnTo>
                        <a:pt x="13" y="799"/>
                      </a:lnTo>
                      <a:lnTo>
                        <a:pt x="13" y="763"/>
                      </a:lnTo>
                      <a:lnTo>
                        <a:pt x="17" y="724"/>
                      </a:lnTo>
                      <a:lnTo>
                        <a:pt x="17" y="688"/>
                      </a:lnTo>
                      <a:lnTo>
                        <a:pt x="17" y="649"/>
                      </a:lnTo>
                      <a:lnTo>
                        <a:pt x="23" y="613"/>
                      </a:lnTo>
                      <a:lnTo>
                        <a:pt x="23" y="573"/>
                      </a:lnTo>
                      <a:lnTo>
                        <a:pt x="27" y="533"/>
                      </a:lnTo>
                      <a:lnTo>
                        <a:pt x="27" y="498"/>
                      </a:lnTo>
                      <a:lnTo>
                        <a:pt x="31" y="458"/>
                      </a:lnTo>
                      <a:lnTo>
                        <a:pt x="36" y="418"/>
                      </a:lnTo>
                      <a:lnTo>
                        <a:pt x="40" y="383"/>
                      </a:lnTo>
                      <a:lnTo>
                        <a:pt x="40" y="343"/>
                      </a:lnTo>
                      <a:lnTo>
                        <a:pt x="45" y="308"/>
                      </a:lnTo>
                      <a:lnTo>
                        <a:pt x="49" y="268"/>
                      </a:lnTo>
                      <a:lnTo>
                        <a:pt x="53" y="229"/>
                      </a:lnTo>
                      <a:lnTo>
                        <a:pt x="58" y="194"/>
                      </a:lnTo>
                      <a:lnTo>
                        <a:pt x="62" y="154"/>
                      </a:lnTo>
                      <a:lnTo>
                        <a:pt x="68" y="114"/>
                      </a:lnTo>
                      <a:lnTo>
                        <a:pt x="72" y="79"/>
                      </a:lnTo>
                      <a:lnTo>
                        <a:pt x="81" y="39"/>
                      </a:lnTo>
                      <a:lnTo>
                        <a:pt x="85" y="4"/>
                      </a:lnTo>
                      <a:lnTo>
                        <a:pt x="81" y="0"/>
                      </a:lnTo>
                      <a:lnTo>
                        <a:pt x="72" y="39"/>
                      </a:lnTo>
                      <a:lnTo>
                        <a:pt x="68" y="79"/>
                      </a:lnTo>
                      <a:lnTo>
                        <a:pt x="62" y="114"/>
                      </a:lnTo>
                      <a:lnTo>
                        <a:pt x="58" y="154"/>
                      </a:lnTo>
                      <a:lnTo>
                        <a:pt x="53" y="194"/>
                      </a:lnTo>
                      <a:lnTo>
                        <a:pt x="49" y="229"/>
                      </a:lnTo>
                      <a:lnTo>
                        <a:pt x="45" y="268"/>
                      </a:lnTo>
                      <a:lnTo>
                        <a:pt x="40" y="308"/>
                      </a:lnTo>
                      <a:lnTo>
                        <a:pt x="36" y="343"/>
                      </a:lnTo>
                      <a:lnTo>
                        <a:pt x="31" y="383"/>
                      </a:lnTo>
                      <a:lnTo>
                        <a:pt x="27" y="418"/>
                      </a:lnTo>
                      <a:lnTo>
                        <a:pt x="27" y="458"/>
                      </a:lnTo>
                      <a:lnTo>
                        <a:pt x="23" y="498"/>
                      </a:lnTo>
                      <a:lnTo>
                        <a:pt x="23" y="533"/>
                      </a:lnTo>
                      <a:lnTo>
                        <a:pt x="17" y="573"/>
                      </a:lnTo>
                      <a:lnTo>
                        <a:pt x="17" y="613"/>
                      </a:lnTo>
                      <a:lnTo>
                        <a:pt x="13" y="649"/>
                      </a:lnTo>
                      <a:lnTo>
                        <a:pt x="13" y="688"/>
                      </a:lnTo>
                      <a:lnTo>
                        <a:pt x="13" y="724"/>
                      </a:lnTo>
                      <a:lnTo>
                        <a:pt x="8" y="763"/>
                      </a:lnTo>
                      <a:lnTo>
                        <a:pt x="8" y="799"/>
                      </a:lnTo>
                      <a:lnTo>
                        <a:pt x="8" y="838"/>
                      </a:lnTo>
                      <a:lnTo>
                        <a:pt x="4" y="874"/>
                      </a:lnTo>
                      <a:lnTo>
                        <a:pt x="4" y="913"/>
                      </a:lnTo>
                      <a:lnTo>
                        <a:pt x="4" y="949"/>
                      </a:lnTo>
                      <a:lnTo>
                        <a:pt x="4" y="988"/>
                      </a:lnTo>
                      <a:lnTo>
                        <a:pt x="0" y="1024"/>
                      </a:lnTo>
                      <a:lnTo>
                        <a:pt x="0" y="1063"/>
                      </a:lnTo>
                      <a:lnTo>
                        <a:pt x="0" y="1103"/>
                      </a:lnTo>
                      <a:lnTo>
                        <a:pt x="0" y="1138"/>
                      </a:lnTo>
                      <a:lnTo>
                        <a:pt x="0" y="1178"/>
                      </a:lnTo>
                      <a:lnTo>
                        <a:pt x="0" y="1213"/>
                      </a:lnTo>
                      <a:lnTo>
                        <a:pt x="0" y="1218"/>
                      </a:lnTo>
                      <a:lnTo>
                        <a:pt x="0" y="1218"/>
                      </a:lnTo>
                      <a:lnTo>
                        <a:pt x="4" y="1218"/>
                      </a:lnTo>
                      <a:lnTo>
                        <a:pt x="4" y="1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901960" y="552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4"/>
                      </a:move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64"/>
                      </a:lnTo>
                      <a:lnTo>
                        <a:pt x="48" y="64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913120" y="5549760"/>
                  <a:ext cx="39960" cy="25920"/>
                </a:xfrm>
                <a:custGeom>
                  <a:avLst/>
                  <a:gdLst/>
                  <a:ahLst/>
                  <a:rect l="0" t="0" r="r" b="b"/>
                  <a:pathLst>
                    <a:path w="111" h="72">
                      <a:moveTo>
                        <a:pt x="111" y="68"/>
                      </a:moveTo>
                      <a:lnTo>
                        <a:pt x="11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06" y="72"/>
                      </a:lnTo>
                      <a:lnTo>
                        <a:pt x="111" y="72"/>
                      </a:lnTo>
                      <a:lnTo>
                        <a:pt x="111" y="72"/>
                      </a:lnTo>
                      <a:lnTo>
                        <a:pt x="11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960640" y="5581800"/>
                  <a:ext cx="135360" cy="25920"/>
                </a:xfrm>
                <a:custGeom>
                  <a:avLst/>
                  <a:gdLst/>
                  <a:ahLst/>
                  <a:rect l="0" t="0" r="r" b="b"/>
                  <a:pathLst>
                    <a:path w="376" h="72">
                      <a:moveTo>
                        <a:pt x="376" y="62"/>
                      </a:moveTo>
                      <a:lnTo>
                        <a:pt x="372" y="62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372" y="72"/>
                      </a:lnTo>
                      <a:lnTo>
                        <a:pt x="368" y="72"/>
                      </a:lnTo>
                      <a:lnTo>
                        <a:pt x="372" y="72"/>
                      </a:lnTo>
                      <a:lnTo>
                        <a:pt x="372" y="72"/>
                      </a:lnTo>
                      <a:lnTo>
                        <a:pt x="376" y="72"/>
                      </a:lnTo>
                      <a:lnTo>
                        <a:pt x="376" y="62"/>
                      </a:lnTo>
                      <a:lnTo>
                        <a:pt x="372" y="62"/>
                      </a:lnTo>
                      <a:lnTo>
                        <a:pt x="37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02120" y="560052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72"/>
                      </a:moveTo>
                      <a:lnTo>
                        <a:pt x="80" y="67"/>
                      </a:lnTo>
                      <a:lnTo>
                        <a:pt x="75" y="63"/>
                      </a:lnTo>
                      <a:lnTo>
                        <a:pt x="67" y="63"/>
                      </a:lnTo>
                      <a:lnTo>
                        <a:pt x="62" y="58"/>
                      </a:lnTo>
                      <a:lnTo>
                        <a:pt x="58" y="52"/>
                      </a:lnTo>
                      <a:lnTo>
                        <a:pt x="53" y="48"/>
                      </a:lnTo>
                      <a:lnTo>
                        <a:pt x="49" y="43"/>
                      </a:lnTo>
                      <a:lnTo>
                        <a:pt x="45" y="38"/>
                      </a:lnTo>
                      <a:lnTo>
                        <a:pt x="35" y="38"/>
                      </a:lnTo>
                      <a:lnTo>
                        <a:pt x="35" y="33"/>
                      </a:lnTo>
                      <a:lnTo>
                        <a:pt x="26" y="29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8" y="9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30" y="38"/>
                      </a:lnTo>
                      <a:lnTo>
                        <a:pt x="35" y="38"/>
                      </a:lnTo>
                      <a:lnTo>
                        <a:pt x="39" y="43"/>
                      </a:lnTo>
                      <a:lnTo>
                        <a:pt x="45" y="48"/>
                      </a:lnTo>
                      <a:lnTo>
                        <a:pt x="49" y="52"/>
                      </a:lnTo>
                      <a:lnTo>
                        <a:pt x="58" y="58"/>
                      </a:lnTo>
                      <a:lnTo>
                        <a:pt x="58" y="63"/>
                      </a:lnTo>
                      <a:lnTo>
                        <a:pt x="67" y="63"/>
                      </a:lnTo>
                      <a:lnTo>
                        <a:pt x="71" y="67"/>
                      </a:lnTo>
                      <a:lnTo>
                        <a:pt x="75" y="72"/>
                      </a:lnTo>
                      <a:lnTo>
                        <a:pt x="80" y="67"/>
                      </a:lnTo>
                      <a:lnTo>
                        <a:pt x="75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67"/>
                      </a:lnTo>
                      <a:lnTo>
                        <a:pt x="8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94200" y="5624640"/>
                  <a:ext cx="36720" cy="25920"/>
                </a:xfrm>
                <a:custGeom>
                  <a:avLst/>
                  <a:gdLst/>
                  <a:ahLst/>
                  <a:rect l="0" t="0" r="r" b="b"/>
                  <a:pathLst>
                    <a:path w="10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102" y="0"/>
                      </a:lnTo>
                      <a:lnTo>
                        <a:pt x="102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984400" y="5627520"/>
                  <a:ext cx="101880" cy="51120"/>
                </a:xfrm>
                <a:custGeom>
                  <a:avLst/>
                  <a:gdLst/>
                  <a:ahLst/>
                  <a:rect l="0" t="0" r="r" b="b"/>
                  <a:pathLst>
                    <a:path w="283" h="142">
                      <a:moveTo>
                        <a:pt x="8" y="142"/>
                      </a:moveTo>
                      <a:lnTo>
                        <a:pt x="4" y="142"/>
                      </a:lnTo>
                      <a:lnTo>
                        <a:pt x="283" y="4"/>
                      </a:lnTo>
                      <a:lnTo>
                        <a:pt x="278" y="0"/>
                      </a:lnTo>
                      <a:lnTo>
                        <a:pt x="4" y="137"/>
                      </a:lnTo>
                      <a:lnTo>
                        <a:pt x="0" y="142"/>
                      </a:lnTo>
                      <a:lnTo>
                        <a:pt x="4" y="137"/>
                      </a:lnTo>
                      <a:lnTo>
                        <a:pt x="0" y="137"/>
                      </a:lnTo>
                      <a:lnTo>
                        <a:pt x="0" y="142"/>
                      </a:lnTo>
                      <a:lnTo>
                        <a:pt x="4" y="142"/>
                      </a:lnTo>
                      <a:lnTo>
                        <a:pt x="4" y="142"/>
                      </a:lnTo>
                      <a:lnTo>
                        <a:pt x="8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97828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7" y="64"/>
                      </a:move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17" y="72"/>
                      </a:lnTo>
                      <a:lnTo>
                        <a:pt x="0" y="72"/>
                      </a:lnTo>
                      <a:lnTo>
                        <a:pt x="17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901960" y="5067360"/>
                  <a:ext cx="608400" cy="508320"/>
                </a:xfrm>
                <a:custGeom>
                  <a:avLst/>
                  <a:gdLst/>
                  <a:ahLst/>
                  <a:rect l="0" t="0" r="r" b="b"/>
                  <a:pathLst>
                    <a:path w="1690" h="1412">
                      <a:moveTo>
                        <a:pt x="26" y="1271"/>
                      </a:moveTo>
                      <a:lnTo>
                        <a:pt x="1563" y="1412"/>
                      </a:lnTo>
                      <a:lnTo>
                        <a:pt x="1571" y="1376"/>
                      </a:lnTo>
                      <a:lnTo>
                        <a:pt x="1576" y="1337"/>
                      </a:lnTo>
                      <a:lnTo>
                        <a:pt x="1580" y="1301"/>
                      </a:lnTo>
                      <a:lnTo>
                        <a:pt x="1589" y="1262"/>
                      </a:lnTo>
                      <a:lnTo>
                        <a:pt x="1593" y="1222"/>
                      </a:lnTo>
                      <a:lnTo>
                        <a:pt x="1598" y="1187"/>
                      </a:lnTo>
                      <a:lnTo>
                        <a:pt x="1602" y="1147"/>
                      </a:lnTo>
                      <a:lnTo>
                        <a:pt x="1611" y="1107"/>
                      </a:lnTo>
                      <a:lnTo>
                        <a:pt x="1615" y="1068"/>
                      </a:lnTo>
                      <a:lnTo>
                        <a:pt x="1620" y="1028"/>
                      </a:lnTo>
                      <a:lnTo>
                        <a:pt x="1624" y="988"/>
                      </a:lnTo>
                      <a:lnTo>
                        <a:pt x="1633" y="949"/>
                      </a:lnTo>
                      <a:lnTo>
                        <a:pt x="1638" y="913"/>
                      </a:lnTo>
                      <a:lnTo>
                        <a:pt x="1642" y="869"/>
                      </a:lnTo>
                      <a:lnTo>
                        <a:pt x="1642" y="830"/>
                      </a:lnTo>
                      <a:lnTo>
                        <a:pt x="1651" y="790"/>
                      </a:lnTo>
                      <a:lnTo>
                        <a:pt x="1655" y="750"/>
                      </a:lnTo>
                      <a:lnTo>
                        <a:pt x="1655" y="710"/>
                      </a:lnTo>
                      <a:lnTo>
                        <a:pt x="1660" y="670"/>
                      </a:lnTo>
                      <a:lnTo>
                        <a:pt x="1664" y="626"/>
                      </a:lnTo>
                      <a:lnTo>
                        <a:pt x="1668" y="586"/>
                      </a:lnTo>
                      <a:lnTo>
                        <a:pt x="1673" y="546"/>
                      </a:lnTo>
                      <a:lnTo>
                        <a:pt x="1673" y="507"/>
                      </a:lnTo>
                      <a:lnTo>
                        <a:pt x="1677" y="463"/>
                      </a:lnTo>
                      <a:lnTo>
                        <a:pt x="1677" y="423"/>
                      </a:lnTo>
                      <a:lnTo>
                        <a:pt x="1682" y="383"/>
                      </a:lnTo>
                      <a:lnTo>
                        <a:pt x="1682" y="343"/>
                      </a:lnTo>
                      <a:lnTo>
                        <a:pt x="1686" y="299"/>
                      </a:lnTo>
                      <a:lnTo>
                        <a:pt x="1686" y="260"/>
                      </a:lnTo>
                      <a:lnTo>
                        <a:pt x="1686" y="216"/>
                      </a:lnTo>
                      <a:lnTo>
                        <a:pt x="1690" y="176"/>
                      </a:lnTo>
                      <a:lnTo>
                        <a:pt x="1690" y="132"/>
                      </a:lnTo>
                      <a:lnTo>
                        <a:pt x="1690" y="127"/>
                      </a:lnTo>
                      <a:lnTo>
                        <a:pt x="1686" y="119"/>
                      </a:lnTo>
                      <a:lnTo>
                        <a:pt x="1686" y="114"/>
                      </a:lnTo>
                      <a:lnTo>
                        <a:pt x="1682" y="110"/>
                      </a:lnTo>
                      <a:lnTo>
                        <a:pt x="1677" y="105"/>
                      </a:lnTo>
                      <a:lnTo>
                        <a:pt x="1668" y="101"/>
                      </a:lnTo>
                      <a:lnTo>
                        <a:pt x="1664" y="97"/>
                      </a:lnTo>
                      <a:lnTo>
                        <a:pt x="1655" y="92"/>
                      </a:lnTo>
                      <a:lnTo>
                        <a:pt x="1607" y="83"/>
                      </a:lnTo>
                      <a:lnTo>
                        <a:pt x="1558" y="79"/>
                      </a:lnTo>
                      <a:lnTo>
                        <a:pt x="1514" y="74"/>
                      </a:lnTo>
                      <a:lnTo>
                        <a:pt x="1470" y="66"/>
                      </a:lnTo>
                      <a:lnTo>
                        <a:pt x="1421" y="61"/>
                      </a:lnTo>
                      <a:lnTo>
                        <a:pt x="1377" y="57"/>
                      </a:lnTo>
                      <a:lnTo>
                        <a:pt x="1329" y="52"/>
                      </a:lnTo>
                      <a:lnTo>
                        <a:pt x="1285" y="48"/>
                      </a:lnTo>
                      <a:lnTo>
                        <a:pt x="1240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7" y="30"/>
                      </a:lnTo>
                      <a:lnTo>
                        <a:pt x="1059" y="26"/>
                      </a:lnTo>
                      <a:lnTo>
                        <a:pt x="1015" y="26"/>
                      </a:lnTo>
                      <a:lnTo>
                        <a:pt x="971" y="17"/>
                      </a:lnTo>
                      <a:lnTo>
                        <a:pt x="927" y="17"/>
                      </a:lnTo>
                      <a:lnTo>
                        <a:pt x="882" y="13"/>
                      </a:lnTo>
                      <a:lnTo>
                        <a:pt x="838" y="13"/>
                      </a:lnTo>
                      <a:lnTo>
                        <a:pt x="794" y="13"/>
                      </a:lnTo>
                      <a:lnTo>
                        <a:pt x="746" y="8"/>
                      </a:lnTo>
                      <a:lnTo>
                        <a:pt x="702" y="8"/>
                      </a:lnTo>
                      <a:lnTo>
                        <a:pt x="658" y="8"/>
                      </a:lnTo>
                      <a:lnTo>
                        <a:pt x="613" y="4"/>
                      </a:lnTo>
                      <a:lnTo>
                        <a:pt x="565" y="4"/>
                      </a:lnTo>
                      <a:lnTo>
                        <a:pt x="521" y="4"/>
                      </a:lnTo>
                      <a:lnTo>
                        <a:pt x="477" y="4"/>
                      </a:lnTo>
                      <a:lnTo>
                        <a:pt x="433" y="4"/>
                      </a:lnTo>
                      <a:lnTo>
                        <a:pt x="383" y="0"/>
                      </a:lnTo>
                      <a:lnTo>
                        <a:pt x="335" y="0"/>
                      </a:lnTo>
                      <a:lnTo>
                        <a:pt x="291" y="0"/>
                      </a:lnTo>
                      <a:lnTo>
                        <a:pt x="242" y="0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6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8"/>
                      </a:lnTo>
                      <a:lnTo>
                        <a:pt x="119" y="8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30"/>
                      </a:lnTo>
                      <a:lnTo>
                        <a:pt x="105" y="35"/>
                      </a:lnTo>
                      <a:lnTo>
                        <a:pt x="101" y="39"/>
                      </a:lnTo>
                      <a:lnTo>
                        <a:pt x="97" y="61"/>
                      </a:lnTo>
                      <a:lnTo>
                        <a:pt x="92" y="83"/>
                      </a:lnTo>
                      <a:lnTo>
                        <a:pt x="92" y="105"/>
                      </a:lnTo>
                      <a:lnTo>
                        <a:pt x="88" y="123"/>
                      </a:lnTo>
                      <a:lnTo>
                        <a:pt x="83" y="145"/>
                      </a:lnTo>
                      <a:lnTo>
                        <a:pt x="79" y="167"/>
                      </a:lnTo>
                      <a:lnTo>
                        <a:pt x="74" y="185"/>
                      </a:lnTo>
                      <a:lnTo>
                        <a:pt x="70" y="207"/>
                      </a:lnTo>
                      <a:lnTo>
                        <a:pt x="70" y="224"/>
                      </a:lnTo>
                      <a:lnTo>
                        <a:pt x="66" y="246"/>
                      </a:lnTo>
                      <a:lnTo>
                        <a:pt x="61" y="268"/>
                      </a:lnTo>
                      <a:lnTo>
                        <a:pt x="57" y="286"/>
                      </a:lnTo>
                      <a:lnTo>
                        <a:pt x="57" y="308"/>
                      </a:lnTo>
                      <a:lnTo>
                        <a:pt x="52" y="330"/>
                      </a:lnTo>
                      <a:lnTo>
                        <a:pt x="52" y="352"/>
                      </a:lnTo>
                      <a:lnTo>
                        <a:pt x="48" y="370"/>
                      </a:lnTo>
                      <a:lnTo>
                        <a:pt x="48" y="392"/>
                      </a:lnTo>
                      <a:lnTo>
                        <a:pt x="44" y="414"/>
                      </a:lnTo>
                      <a:lnTo>
                        <a:pt x="39" y="432"/>
                      </a:lnTo>
                      <a:lnTo>
                        <a:pt x="39" y="454"/>
                      </a:lnTo>
                      <a:lnTo>
                        <a:pt x="35" y="471"/>
                      </a:lnTo>
                      <a:lnTo>
                        <a:pt x="35" y="493"/>
                      </a:lnTo>
                      <a:lnTo>
                        <a:pt x="30" y="515"/>
                      </a:lnTo>
                      <a:lnTo>
                        <a:pt x="30" y="533"/>
                      </a:lnTo>
                      <a:lnTo>
                        <a:pt x="30" y="555"/>
                      </a:lnTo>
                      <a:lnTo>
                        <a:pt x="26" y="577"/>
                      </a:lnTo>
                      <a:lnTo>
                        <a:pt x="26" y="599"/>
                      </a:lnTo>
                      <a:lnTo>
                        <a:pt x="26" y="617"/>
                      </a:lnTo>
                      <a:lnTo>
                        <a:pt x="22" y="635"/>
                      </a:lnTo>
                      <a:lnTo>
                        <a:pt x="17" y="657"/>
                      </a:lnTo>
                      <a:lnTo>
                        <a:pt x="17" y="679"/>
                      </a:lnTo>
                      <a:lnTo>
                        <a:pt x="17" y="701"/>
                      </a:lnTo>
                      <a:lnTo>
                        <a:pt x="17" y="715"/>
                      </a:lnTo>
                      <a:lnTo>
                        <a:pt x="17" y="733"/>
                      </a:lnTo>
                      <a:lnTo>
                        <a:pt x="13" y="750"/>
                      </a:lnTo>
                      <a:lnTo>
                        <a:pt x="13" y="768"/>
                      </a:lnTo>
                      <a:lnTo>
                        <a:pt x="13" y="781"/>
                      </a:lnTo>
                      <a:lnTo>
                        <a:pt x="13" y="799"/>
                      </a:lnTo>
                      <a:lnTo>
                        <a:pt x="13" y="816"/>
                      </a:lnTo>
                      <a:lnTo>
                        <a:pt x="13" y="830"/>
                      </a:lnTo>
                      <a:lnTo>
                        <a:pt x="8" y="847"/>
                      </a:lnTo>
                      <a:lnTo>
                        <a:pt x="8" y="865"/>
                      </a:lnTo>
                      <a:lnTo>
                        <a:pt x="8" y="882"/>
                      </a:lnTo>
                      <a:lnTo>
                        <a:pt x="8" y="896"/>
                      </a:lnTo>
                      <a:lnTo>
                        <a:pt x="8" y="913"/>
                      </a:lnTo>
                      <a:lnTo>
                        <a:pt x="8" y="931"/>
                      </a:lnTo>
                      <a:lnTo>
                        <a:pt x="8" y="944"/>
                      </a:lnTo>
                      <a:lnTo>
                        <a:pt x="8" y="962"/>
                      </a:lnTo>
                      <a:lnTo>
                        <a:pt x="8" y="979"/>
                      </a:lnTo>
                      <a:lnTo>
                        <a:pt x="4" y="997"/>
                      </a:lnTo>
                      <a:lnTo>
                        <a:pt x="4" y="1010"/>
                      </a:lnTo>
                      <a:lnTo>
                        <a:pt x="4" y="1028"/>
                      </a:lnTo>
                      <a:lnTo>
                        <a:pt x="4" y="1046"/>
                      </a:lnTo>
                      <a:lnTo>
                        <a:pt x="4" y="1063"/>
                      </a:lnTo>
                      <a:lnTo>
                        <a:pt x="4" y="1076"/>
                      </a:lnTo>
                      <a:lnTo>
                        <a:pt x="4" y="1094"/>
                      </a:lnTo>
                      <a:lnTo>
                        <a:pt x="4" y="1112"/>
                      </a:lnTo>
                      <a:lnTo>
                        <a:pt x="4" y="1125"/>
                      </a:lnTo>
                      <a:lnTo>
                        <a:pt x="4" y="1143"/>
                      </a:lnTo>
                      <a:lnTo>
                        <a:pt x="4" y="1160"/>
                      </a:lnTo>
                      <a:lnTo>
                        <a:pt x="0" y="1178"/>
                      </a:lnTo>
                      <a:lnTo>
                        <a:pt x="0" y="1196"/>
                      </a:lnTo>
                      <a:lnTo>
                        <a:pt x="0" y="1209"/>
                      </a:lnTo>
                      <a:lnTo>
                        <a:pt x="0" y="1226"/>
                      </a:lnTo>
                      <a:lnTo>
                        <a:pt x="0" y="1235"/>
                      </a:lnTo>
                      <a:lnTo>
                        <a:pt x="0" y="1244"/>
                      </a:lnTo>
                      <a:lnTo>
                        <a:pt x="4" y="1248"/>
                      </a:lnTo>
                      <a:lnTo>
                        <a:pt x="4" y="1257"/>
                      </a:lnTo>
                      <a:lnTo>
                        <a:pt x="8" y="1262"/>
                      </a:lnTo>
                      <a:lnTo>
                        <a:pt x="13" y="1266"/>
                      </a:lnTo>
                      <a:lnTo>
                        <a:pt x="17" y="1266"/>
                      </a:lnTo>
                      <a:lnTo>
                        <a:pt x="26" y="1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11320" y="5530680"/>
                  <a:ext cx="552960" cy="47880"/>
                </a:xfrm>
                <a:custGeom>
                  <a:avLst/>
                  <a:gdLst/>
                  <a:ahLst/>
                  <a:rect l="0" t="0" r="r" b="b"/>
                  <a:pathLst>
                    <a:path w="1536" h="133">
                      <a:moveTo>
                        <a:pt x="1532" y="128"/>
                      </a:moveTo>
                      <a:lnTo>
                        <a:pt x="1532" y="12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6" y="128"/>
                      </a:lnTo>
                      <a:lnTo>
                        <a:pt x="1532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470400" y="5114880"/>
                  <a:ext cx="39960" cy="462240"/>
                </a:xfrm>
                <a:custGeom>
                  <a:avLst/>
                  <a:gdLst/>
                  <a:ahLst/>
                  <a:rect l="0" t="0" r="r" b="b"/>
                  <a:pathLst>
                    <a:path w="111" h="1284">
                      <a:moveTo>
                        <a:pt x="106" y="4"/>
                      </a:moveTo>
                      <a:lnTo>
                        <a:pt x="106" y="4"/>
                      </a:lnTo>
                      <a:lnTo>
                        <a:pt x="106" y="44"/>
                      </a:lnTo>
                      <a:lnTo>
                        <a:pt x="106" y="83"/>
                      </a:lnTo>
                      <a:lnTo>
                        <a:pt x="102" y="127"/>
                      </a:lnTo>
                      <a:lnTo>
                        <a:pt x="102" y="167"/>
                      </a:lnTo>
                      <a:lnTo>
                        <a:pt x="102" y="211"/>
                      </a:lnTo>
                      <a:lnTo>
                        <a:pt x="98" y="251"/>
                      </a:lnTo>
                      <a:lnTo>
                        <a:pt x="98" y="291"/>
                      </a:lnTo>
                      <a:lnTo>
                        <a:pt x="93" y="330"/>
                      </a:lnTo>
                      <a:lnTo>
                        <a:pt x="93" y="374"/>
                      </a:lnTo>
                      <a:lnTo>
                        <a:pt x="89" y="414"/>
                      </a:lnTo>
                      <a:lnTo>
                        <a:pt x="84" y="454"/>
                      </a:lnTo>
                      <a:lnTo>
                        <a:pt x="84" y="498"/>
                      </a:lnTo>
                      <a:lnTo>
                        <a:pt x="84" y="537"/>
                      </a:lnTo>
                      <a:lnTo>
                        <a:pt x="80" y="577"/>
                      </a:lnTo>
                      <a:lnTo>
                        <a:pt x="75" y="617"/>
                      </a:lnTo>
                      <a:lnTo>
                        <a:pt x="71" y="658"/>
                      </a:lnTo>
                      <a:lnTo>
                        <a:pt x="67" y="702"/>
                      </a:lnTo>
                      <a:lnTo>
                        <a:pt x="62" y="737"/>
                      </a:lnTo>
                      <a:lnTo>
                        <a:pt x="58" y="777"/>
                      </a:lnTo>
                      <a:lnTo>
                        <a:pt x="58" y="821"/>
                      </a:lnTo>
                      <a:lnTo>
                        <a:pt x="52" y="860"/>
                      </a:lnTo>
                      <a:lnTo>
                        <a:pt x="48" y="896"/>
                      </a:lnTo>
                      <a:lnTo>
                        <a:pt x="44" y="935"/>
                      </a:lnTo>
                      <a:lnTo>
                        <a:pt x="39" y="975"/>
                      </a:lnTo>
                      <a:lnTo>
                        <a:pt x="35" y="1015"/>
                      </a:lnTo>
                      <a:lnTo>
                        <a:pt x="30" y="1054"/>
                      </a:lnTo>
                      <a:lnTo>
                        <a:pt x="26" y="1094"/>
                      </a:lnTo>
                      <a:lnTo>
                        <a:pt x="22" y="1129"/>
                      </a:lnTo>
                      <a:lnTo>
                        <a:pt x="13" y="1169"/>
                      </a:lnTo>
                      <a:lnTo>
                        <a:pt x="8" y="1204"/>
                      </a:lnTo>
                      <a:lnTo>
                        <a:pt x="4" y="1244"/>
                      </a:lnTo>
                      <a:lnTo>
                        <a:pt x="0" y="1279"/>
                      </a:lnTo>
                      <a:lnTo>
                        <a:pt x="4" y="1284"/>
                      </a:lnTo>
                      <a:lnTo>
                        <a:pt x="8" y="1244"/>
                      </a:lnTo>
                      <a:lnTo>
                        <a:pt x="13" y="1209"/>
                      </a:lnTo>
                      <a:lnTo>
                        <a:pt x="22" y="1169"/>
                      </a:lnTo>
                      <a:lnTo>
                        <a:pt x="26" y="1134"/>
                      </a:lnTo>
                      <a:lnTo>
                        <a:pt x="30" y="1094"/>
                      </a:lnTo>
                      <a:lnTo>
                        <a:pt x="35" y="1054"/>
                      </a:lnTo>
                      <a:lnTo>
                        <a:pt x="39" y="1019"/>
                      </a:lnTo>
                      <a:lnTo>
                        <a:pt x="44" y="979"/>
                      </a:lnTo>
                      <a:lnTo>
                        <a:pt x="48" y="940"/>
                      </a:lnTo>
                      <a:lnTo>
                        <a:pt x="52" y="896"/>
                      </a:lnTo>
                      <a:lnTo>
                        <a:pt x="58" y="860"/>
                      </a:lnTo>
                      <a:lnTo>
                        <a:pt x="62" y="821"/>
                      </a:lnTo>
                      <a:lnTo>
                        <a:pt x="67" y="781"/>
                      </a:lnTo>
                      <a:lnTo>
                        <a:pt x="71" y="737"/>
                      </a:lnTo>
                      <a:lnTo>
                        <a:pt x="75" y="702"/>
                      </a:lnTo>
                      <a:lnTo>
                        <a:pt x="75" y="658"/>
                      </a:lnTo>
                      <a:lnTo>
                        <a:pt x="80" y="617"/>
                      </a:lnTo>
                      <a:lnTo>
                        <a:pt x="84" y="577"/>
                      </a:lnTo>
                      <a:lnTo>
                        <a:pt x="84" y="537"/>
                      </a:lnTo>
                      <a:lnTo>
                        <a:pt x="89" y="498"/>
                      </a:lnTo>
                      <a:lnTo>
                        <a:pt x="93" y="454"/>
                      </a:lnTo>
                      <a:lnTo>
                        <a:pt x="93" y="414"/>
                      </a:lnTo>
                      <a:lnTo>
                        <a:pt x="98" y="374"/>
                      </a:lnTo>
                      <a:lnTo>
                        <a:pt x="102" y="330"/>
                      </a:lnTo>
                      <a:lnTo>
                        <a:pt x="102" y="291"/>
                      </a:lnTo>
                      <a:lnTo>
                        <a:pt x="106" y="251"/>
                      </a:lnTo>
                      <a:lnTo>
                        <a:pt x="106" y="211"/>
                      </a:lnTo>
                      <a:lnTo>
                        <a:pt x="106" y="167"/>
                      </a:lnTo>
                      <a:lnTo>
                        <a:pt x="111" y="127"/>
                      </a:lnTo>
                      <a:lnTo>
                        <a:pt x="111" y="83"/>
                      </a:lnTo>
                      <a:lnTo>
                        <a:pt x="111" y="44"/>
                      </a:lnTo>
                      <a:lnTo>
                        <a:pt x="111" y="4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06" y="0"/>
                      </a:lnTo>
                      <a:lnTo>
                        <a:pt x="10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03520" y="510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" y="17"/>
                      </a:lnTo>
                      <a:lnTo>
                        <a:pt x="36" y="17"/>
                      </a:lnTo>
                      <a:lnTo>
                        <a:pt x="36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lnTo>
                        <a:pt x="53" y="53"/>
                      </a:lnTo>
                      <a:lnTo>
                        <a:pt x="53" y="53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3"/>
                      </a:lnTo>
                      <a:lnTo>
                        <a:pt x="72" y="53"/>
                      </a:lnTo>
                      <a:lnTo>
                        <a:pt x="72" y="36"/>
                      </a:lnTo>
                      <a:lnTo>
                        <a:pt x="53" y="36"/>
                      </a:lnTo>
                      <a:lnTo>
                        <a:pt x="53" y="17"/>
                      </a:lnTo>
                      <a:lnTo>
                        <a:pt x="36" y="17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971800" y="5065560"/>
                  <a:ext cx="525960" cy="27360"/>
                </a:xfrm>
                <a:custGeom>
                  <a:avLst/>
                  <a:gdLst/>
                  <a:ahLst/>
                  <a:rect l="0" t="0" r="r" b="b"/>
                  <a:pathLst>
                    <a:path w="146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52" y="4"/>
                      </a:lnTo>
                      <a:lnTo>
                        <a:pt x="97" y="4"/>
                      </a:lnTo>
                      <a:lnTo>
                        <a:pt x="145" y="4"/>
                      </a:lnTo>
                      <a:lnTo>
                        <a:pt x="189" y="4"/>
                      </a:lnTo>
                      <a:lnTo>
                        <a:pt x="238" y="4"/>
                      </a:lnTo>
                      <a:lnTo>
                        <a:pt x="282" y="4"/>
                      </a:lnTo>
                      <a:lnTo>
                        <a:pt x="330" y="8"/>
                      </a:lnTo>
                      <a:lnTo>
                        <a:pt x="375" y="8"/>
                      </a:lnTo>
                      <a:lnTo>
                        <a:pt x="419" y="8"/>
                      </a:lnTo>
                      <a:lnTo>
                        <a:pt x="464" y="8"/>
                      </a:lnTo>
                      <a:lnTo>
                        <a:pt x="508" y="13"/>
                      </a:lnTo>
                      <a:lnTo>
                        <a:pt x="552" y="13"/>
                      </a:lnTo>
                      <a:lnTo>
                        <a:pt x="600" y="13"/>
                      </a:lnTo>
                      <a:lnTo>
                        <a:pt x="644" y="13"/>
                      </a:lnTo>
                      <a:lnTo>
                        <a:pt x="688" y="17"/>
                      </a:lnTo>
                      <a:lnTo>
                        <a:pt x="733" y="17"/>
                      </a:lnTo>
                      <a:lnTo>
                        <a:pt x="777" y="23"/>
                      </a:lnTo>
                      <a:lnTo>
                        <a:pt x="821" y="23"/>
                      </a:lnTo>
                      <a:lnTo>
                        <a:pt x="865" y="27"/>
                      </a:lnTo>
                      <a:lnTo>
                        <a:pt x="913" y="27"/>
                      </a:lnTo>
                      <a:lnTo>
                        <a:pt x="957" y="31"/>
                      </a:lnTo>
                      <a:lnTo>
                        <a:pt x="1002" y="36"/>
                      </a:lnTo>
                      <a:lnTo>
                        <a:pt x="1046" y="36"/>
                      </a:lnTo>
                      <a:lnTo>
                        <a:pt x="1090" y="40"/>
                      </a:lnTo>
                      <a:lnTo>
                        <a:pt x="1135" y="45"/>
                      </a:lnTo>
                      <a:lnTo>
                        <a:pt x="1179" y="49"/>
                      </a:lnTo>
                      <a:lnTo>
                        <a:pt x="1227" y="49"/>
                      </a:lnTo>
                      <a:lnTo>
                        <a:pt x="1276" y="59"/>
                      </a:lnTo>
                      <a:lnTo>
                        <a:pt x="1320" y="63"/>
                      </a:lnTo>
                      <a:lnTo>
                        <a:pt x="1364" y="68"/>
                      </a:lnTo>
                      <a:lnTo>
                        <a:pt x="1413" y="72"/>
                      </a:lnTo>
                      <a:lnTo>
                        <a:pt x="1457" y="76"/>
                      </a:lnTo>
                      <a:lnTo>
                        <a:pt x="1461" y="72"/>
                      </a:lnTo>
                      <a:lnTo>
                        <a:pt x="1413" y="68"/>
                      </a:lnTo>
                      <a:lnTo>
                        <a:pt x="1369" y="63"/>
                      </a:lnTo>
                      <a:lnTo>
                        <a:pt x="1320" y="59"/>
                      </a:lnTo>
                      <a:lnTo>
                        <a:pt x="1276" y="49"/>
                      </a:lnTo>
                      <a:lnTo>
                        <a:pt x="1227" y="49"/>
                      </a:lnTo>
                      <a:lnTo>
                        <a:pt x="1183" y="45"/>
                      </a:lnTo>
                      <a:lnTo>
                        <a:pt x="1135" y="40"/>
                      </a:lnTo>
                      <a:lnTo>
                        <a:pt x="1090" y="36"/>
                      </a:lnTo>
                      <a:lnTo>
                        <a:pt x="1046" y="31"/>
                      </a:lnTo>
                      <a:lnTo>
                        <a:pt x="1002" y="27"/>
                      </a:lnTo>
                      <a:lnTo>
                        <a:pt x="957" y="27"/>
                      </a:lnTo>
                      <a:lnTo>
                        <a:pt x="913" y="23"/>
                      </a:lnTo>
                      <a:lnTo>
                        <a:pt x="869" y="23"/>
                      </a:lnTo>
                      <a:lnTo>
                        <a:pt x="821" y="17"/>
                      </a:lnTo>
                      <a:lnTo>
                        <a:pt x="777" y="13"/>
                      </a:lnTo>
                      <a:lnTo>
                        <a:pt x="733" y="13"/>
                      </a:lnTo>
                      <a:lnTo>
                        <a:pt x="688" y="13"/>
                      </a:lnTo>
                      <a:lnTo>
                        <a:pt x="644" y="8"/>
                      </a:lnTo>
                      <a:lnTo>
                        <a:pt x="600" y="8"/>
                      </a:lnTo>
                      <a:lnTo>
                        <a:pt x="552" y="8"/>
                      </a:lnTo>
                      <a:lnTo>
                        <a:pt x="508" y="4"/>
                      </a:lnTo>
                      <a:lnTo>
                        <a:pt x="464" y="4"/>
                      </a:lnTo>
                      <a:lnTo>
                        <a:pt x="419" y="4"/>
                      </a:lnTo>
                      <a:lnTo>
                        <a:pt x="375" y="0"/>
                      </a:lnTo>
                      <a:lnTo>
                        <a:pt x="330" y="0"/>
                      </a:lnTo>
                      <a:lnTo>
                        <a:pt x="282" y="0"/>
                      </a:lnTo>
                      <a:lnTo>
                        <a:pt x="238" y="0"/>
                      </a:lnTo>
                      <a:lnTo>
                        <a:pt x="189" y="0"/>
                      </a:lnTo>
                      <a:lnTo>
                        <a:pt x="145" y="0"/>
                      </a:lnTo>
                      <a:lnTo>
                        <a:pt x="97" y="0"/>
                      </a:lnTo>
                      <a:lnTo>
                        <a:pt x="5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938320" y="506556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8" y="58"/>
                      </a:lnTo>
                      <a:lnTo>
                        <a:pt x="8" y="43"/>
                      </a:lnTo>
                      <a:lnTo>
                        <a:pt x="13" y="43"/>
                      </a:lnTo>
                      <a:lnTo>
                        <a:pt x="13" y="29"/>
                      </a:lnTo>
                      <a:lnTo>
                        <a:pt x="13" y="29"/>
                      </a:lnTo>
                      <a:lnTo>
                        <a:pt x="17" y="29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40" y="14"/>
                      </a:lnTo>
                      <a:lnTo>
                        <a:pt x="45" y="14"/>
                      </a:lnTo>
                      <a:lnTo>
                        <a:pt x="49" y="14"/>
                      </a:lnTo>
                      <a:lnTo>
                        <a:pt x="59" y="14"/>
                      </a:lnTo>
                      <a:lnTo>
                        <a:pt x="68" y="14"/>
                      </a:lnTo>
                      <a:lnTo>
                        <a:pt x="76" y="14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9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3" y="14"/>
                      </a:lnTo>
                      <a:lnTo>
                        <a:pt x="13" y="29"/>
                      </a:lnTo>
                      <a:lnTo>
                        <a:pt x="8" y="29"/>
                      </a:lnTo>
                      <a:lnTo>
                        <a:pt x="8" y="43"/>
                      </a:lnTo>
                      <a:lnTo>
                        <a:pt x="4" y="43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908440" y="5083200"/>
                  <a:ext cx="25920" cy="233640"/>
                </a:xfrm>
                <a:custGeom>
                  <a:avLst/>
                  <a:gdLst/>
                  <a:ahLst/>
                  <a:rect l="0" t="0" r="r" b="b"/>
                  <a:pathLst>
                    <a:path w="72" h="649">
                      <a:moveTo>
                        <a:pt x="4" y="644"/>
                      </a:moveTo>
                      <a:lnTo>
                        <a:pt x="4" y="644"/>
                      </a:lnTo>
                      <a:lnTo>
                        <a:pt x="4" y="627"/>
                      </a:lnTo>
                      <a:lnTo>
                        <a:pt x="9" y="605"/>
                      </a:lnTo>
                      <a:lnTo>
                        <a:pt x="9" y="583"/>
                      </a:lnTo>
                      <a:lnTo>
                        <a:pt x="9" y="565"/>
                      </a:lnTo>
                      <a:lnTo>
                        <a:pt x="9" y="547"/>
                      </a:lnTo>
                      <a:lnTo>
                        <a:pt x="9" y="525"/>
                      </a:lnTo>
                      <a:lnTo>
                        <a:pt x="14" y="503"/>
                      </a:lnTo>
                      <a:lnTo>
                        <a:pt x="14" y="486"/>
                      </a:lnTo>
                      <a:lnTo>
                        <a:pt x="19" y="464"/>
                      </a:lnTo>
                      <a:lnTo>
                        <a:pt x="19" y="446"/>
                      </a:lnTo>
                      <a:lnTo>
                        <a:pt x="19" y="424"/>
                      </a:lnTo>
                      <a:lnTo>
                        <a:pt x="19" y="406"/>
                      </a:lnTo>
                      <a:lnTo>
                        <a:pt x="24" y="384"/>
                      </a:lnTo>
                      <a:lnTo>
                        <a:pt x="24" y="362"/>
                      </a:lnTo>
                      <a:lnTo>
                        <a:pt x="29" y="344"/>
                      </a:lnTo>
                      <a:lnTo>
                        <a:pt x="29" y="321"/>
                      </a:lnTo>
                      <a:lnTo>
                        <a:pt x="29" y="304"/>
                      </a:lnTo>
                      <a:lnTo>
                        <a:pt x="33" y="286"/>
                      </a:lnTo>
                      <a:lnTo>
                        <a:pt x="33" y="264"/>
                      </a:lnTo>
                      <a:lnTo>
                        <a:pt x="38" y="242"/>
                      </a:lnTo>
                      <a:lnTo>
                        <a:pt x="43" y="220"/>
                      </a:lnTo>
                      <a:lnTo>
                        <a:pt x="43" y="202"/>
                      </a:lnTo>
                      <a:lnTo>
                        <a:pt x="43" y="180"/>
                      </a:lnTo>
                      <a:lnTo>
                        <a:pt x="48" y="163"/>
                      </a:lnTo>
                      <a:lnTo>
                        <a:pt x="52" y="145"/>
                      </a:lnTo>
                      <a:lnTo>
                        <a:pt x="52" y="123"/>
                      </a:lnTo>
                      <a:lnTo>
                        <a:pt x="58" y="101"/>
                      </a:lnTo>
                      <a:lnTo>
                        <a:pt x="58" y="79"/>
                      </a:lnTo>
                      <a:lnTo>
                        <a:pt x="63" y="61"/>
                      </a:lnTo>
                      <a:lnTo>
                        <a:pt x="67" y="39"/>
                      </a:lnTo>
                      <a:lnTo>
                        <a:pt x="67" y="22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2"/>
                      </a:lnTo>
                      <a:lnTo>
                        <a:pt x="63" y="39"/>
                      </a:lnTo>
                      <a:lnTo>
                        <a:pt x="58" y="61"/>
                      </a:lnTo>
                      <a:lnTo>
                        <a:pt x="52" y="79"/>
                      </a:lnTo>
                      <a:lnTo>
                        <a:pt x="52" y="101"/>
                      </a:lnTo>
                      <a:lnTo>
                        <a:pt x="48" y="123"/>
                      </a:lnTo>
                      <a:lnTo>
                        <a:pt x="43" y="141"/>
                      </a:lnTo>
                      <a:lnTo>
                        <a:pt x="43" y="163"/>
                      </a:lnTo>
                      <a:lnTo>
                        <a:pt x="43" y="180"/>
                      </a:lnTo>
                      <a:lnTo>
                        <a:pt x="38" y="202"/>
                      </a:lnTo>
                      <a:lnTo>
                        <a:pt x="33" y="220"/>
                      </a:lnTo>
                      <a:lnTo>
                        <a:pt x="33" y="242"/>
                      </a:lnTo>
                      <a:lnTo>
                        <a:pt x="29" y="264"/>
                      </a:lnTo>
                      <a:lnTo>
                        <a:pt x="29" y="282"/>
                      </a:lnTo>
                      <a:lnTo>
                        <a:pt x="29" y="304"/>
                      </a:lnTo>
                      <a:lnTo>
                        <a:pt x="24" y="321"/>
                      </a:lnTo>
                      <a:lnTo>
                        <a:pt x="24" y="344"/>
                      </a:lnTo>
                      <a:lnTo>
                        <a:pt x="19" y="362"/>
                      </a:lnTo>
                      <a:lnTo>
                        <a:pt x="19" y="384"/>
                      </a:lnTo>
                      <a:lnTo>
                        <a:pt x="19" y="406"/>
                      </a:lnTo>
                      <a:lnTo>
                        <a:pt x="14" y="424"/>
                      </a:lnTo>
                      <a:lnTo>
                        <a:pt x="14" y="446"/>
                      </a:lnTo>
                      <a:lnTo>
                        <a:pt x="9" y="464"/>
                      </a:lnTo>
                      <a:lnTo>
                        <a:pt x="9" y="486"/>
                      </a:lnTo>
                      <a:lnTo>
                        <a:pt x="9" y="503"/>
                      </a:lnTo>
                      <a:lnTo>
                        <a:pt x="9" y="525"/>
                      </a:lnTo>
                      <a:lnTo>
                        <a:pt x="4" y="547"/>
                      </a:lnTo>
                      <a:lnTo>
                        <a:pt x="4" y="565"/>
                      </a:lnTo>
                      <a:lnTo>
                        <a:pt x="4" y="583"/>
                      </a:lnTo>
                      <a:lnTo>
                        <a:pt x="0" y="605"/>
                      </a:lnTo>
                      <a:lnTo>
                        <a:pt x="0" y="627"/>
                      </a:lnTo>
                      <a:lnTo>
                        <a:pt x="0" y="644"/>
                      </a:lnTo>
                      <a:lnTo>
                        <a:pt x="0" y="644"/>
                      </a:lnTo>
                      <a:lnTo>
                        <a:pt x="0" y="649"/>
                      </a:lnTo>
                      <a:lnTo>
                        <a:pt x="4" y="649"/>
                      </a:lnTo>
                      <a:lnTo>
                        <a:pt x="4" y="6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901960" y="5324400"/>
                  <a:ext cx="0" cy="182520"/>
                </a:xfrm>
                <a:custGeom>
                  <a:avLst/>
                  <a:gdLst/>
                  <a:ahLst/>
                  <a:rect l="0" t="0" r="r" b="b"/>
                  <a:pathLst>
                    <a:path w="0" h="507">
                      <a:moveTo>
                        <a:pt x="0" y="502"/>
                      </a:moveTo>
                      <a:lnTo>
                        <a:pt x="0" y="502"/>
                      </a:lnTo>
                      <a:lnTo>
                        <a:pt x="0" y="489"/>
                      </a:lnTo>
                      <a:lnTo>
                        <a:pt x="0" y="476"/>
                      </a:lnTo>
                      <a:lnTo>
                        <a:pt x="0" y="458"/>
                      </a:lnTo>
                      <a:lnTo>
                        <a:pt x="0" y="440"/>
                      </a:lnTo>
                      <a:lnTo>
                        <a:pt x="0" y="423"/>
                      </a:lnTo>
                      <a:lnTo>
                        <a:pt x="0" y="410"/>
                      </a:lnTo>
                      <a:lnTo>
                        <a:pt x="0" y="396"/>
                      </a:lnTo>
                      <a:lnTo>
                        <a:pt x="0" y="379"/>
                      </a:lnTo>
                      <a:lnTo>
                        <a:pt x="0" y="361"/>
                      </a:lnTo>
                      <a:lnTo>
                        <a:pt x="0" y="348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0" y="299"/>
                      </a:lnTo>
                      <a:lnTo>
                        <a:pt x="0" y="286"/>
                      </a:lnTo>
                      <a:lnTo>
                        <a:pt x="0" y="268"/>
                      </a:lnTo>
                      <a:lnTo>
                        <a:pt x="0" y="251"/>
                      </a:lnTo>
                      <a:lnTo>
                        <a:pt x="0" y="238"/>
                      </a:lnTo>
                      <a:lnTo>
                        <a:pt x="0" y="220"/>
                      </a:lnTo>
                      <a:lnTo>
                        <a:pt x="0" y="207"/>
                      </a:lnTo>
                      <a:lnTo>
                        <a:pt x="0" y="189"/>
                      </a:lnTo>
                      <a:lnTo>
                        <a:pt x="0" y="176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127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79"/>
                      </a:lnTo>
                      <a:lnTo>
                        <a:pt x="0" y="66"/>
                      </a:lnTo>
                      <a:lnTo>
                        <a:pt x="0" y="48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0" y="66"/>
                      </a:lnTo>
                      <a:lnTo>
                        <a:pt x="0" y="79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7"/>
                      </a:lnTo>
                      <a:lnTo>
                        <a:pt x="0" y="141"/>
                      </a:lnTo>
                      <a:lnTo>
                        <a:pt x="0" y="158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0" y="220"/>
                      </a:lnTo>
                      <a:lnTo>
                        <a:pt x="0" y="238"/>
                      </a:lnTo>
                      <a:lnTo>
                        <a:pt x="0" y="251"/>
                      </a:lnTo>
                      <a:lnTo>
                        <a:pt x="0" y="268"/>
                      </a:lnTo>
                      <a:lnTo>
                        <a:pt x="0" y="286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0" y="330"/>
                      </a:lnTo>
                      <a:lnTo>
                        <a:pt x="0" y="348"/>
                      </a:lnTo>
                      <a:lnTo>
                        <a:pt x="0" y="361"/>
                      </a:lnTo>
                      <a:lnTo>
                        <a:pt x="0" y="379"/>
                      </a:lnTo>
                      <a:lnTo>
                        <a:pt x="0" y="396"/>
                      </a:lnTo>
                      <a:lnTo>
                        <a:pt x="0" y="410"/>
                      </a:lnTo>
                      <a:lnTo>
                        <a:pt x="0" y="423"/>
                      </a:lnTo>
                      <a:lnTo>
                        <a:pt x="0" y="440"/>
                      </a:lnTo>
                      <a:lnTo>
                        <a:pt x="0" y="458"/>
                      </a:lnTo>
                      <a:lnTo>
                        <a:pt x="0" y="476"/>
                      </a:lnTo>
                      <a:lnTo>
                        <a:pt x="0" y="489"/>
                      </a:lnTo>
                      <a:lnTo>
                        <a:pt x="0" y="502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901960" y="5514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0"/>
                      </a:move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36"/>
                      </a:lnTo>
                      <a:lnTo>
                        <a:pt x="0" y="2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24"/>
                      </a:lnTo>
                      <a:lnTo>
                        <a:pt x="0" y="36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949480" y="5126040"/>
                  <a:ext cx="498960" cy="394200"/>
                </a:xfrm>
                <a:custGeom>
                  <a:avLst/>
                  <a:gdLst/>
                  <a:ahLst/>
                  <a:rect l="0" t="0" r="r" b="b"/>
                  <a:pathLst>
                    <a:path w="1386" h="1095">
                      <a:moveTo>
                        <a:pt x="83" y="35"/>
                      </a:moveTo>
                      <a:lnTo>
                        <a:pt x="79" y="61"/>
                      </a:lnTo>
                      <a:lnTo>
                        <a:pt x="79" y="88"/>
                      </a:lnTo>
                      <a:lnTo>
                        <a:pt x="74" y="114"/>
                      </a:lnTo>
                      <a:lnTo>
                        <a:pt x="70" y="141"/>
                      </a:lnTo>
                      <a:lnTo>
                        <a:pt x="70" y="167"/>
                      </a:lnTo>
                      <a:lnTo>
                        <a:pt x="66" y="198"/>
                      </a:lnTo>
                      <a:lnTo>
                        <a:pt x="61" y="224"/>
                      </a:lnTo>
                      <a:lnTo>
                        <a:pt x="57" y="251"/>
                      </a:lnTo>
                      <a:lnTo>
                        <a:pt x="57" y="283"/>
                      </a:lnTo>
                      <a:lnTo>
                        <a:pt x="52" y="309"/>
                      </a:lnTo>
                      <a:lnTo>
                        <a:pt x="48" y="336"/>
                      </a:lnTo>
                      <a:lnTo>
                        <a:pt x="44" y="362"/>
                      </a:lnTo>
                      <a:lnTo>
                        <a:pt x="39" y="393"/>
                      </a:lnTo>
                      <a:lnTo>
                        <a:pt x="39" y="419"/>
                      </a:lnTo>
                      <a:lnTo>
                        <a:pt x="35" y="446"/>
                      </a:lnTo>
                      <a:lnTo>
                        <a:pt x="30" y="477"/>
                      </a:lnTo>
                      <a:lnTo>
                        <a:pt x="30" y="503"/>
                      </a:lnTo>
                      <a:lnTo>
                        <a:pt x="26" y="530"/>
                      </a:lnTo>
                      <a:lnTo>
                        <a:pt x="26" y="561"/>
                      </a:lnTo>
                      <a:lnTo>
                        <a:pt x="22" y="591"/>
                      </a:lnTo>
                      <a:lnTo>
                        <a:pt x="17" y="618"/>
                      </a:lnTo>
                      <a:lnTo>
                        <a:pt x="17" y="644"/>
                      </a:lnTo>
                      <a:lnTo>
                        <a:pt x="13" y="675"/>
                      </a:lnTo>
                      <a:lnTo>
                        <a:pt x="13" y="702"/>
                      </a:lnTo>
                      <a:lnTo>
                        <a:pt x="8" y="733"/>
                      </a:lnTo>
                      <a:lnTo>
                        <a:pt x="8" y="763"/>
                      </a:lnTo>
                      <a:lnTo>
                        <a:pt x="8" y="790"/>
                      </a:lnTo>
                      <a:lnTo>
                        <a:pt x="4" y="816"/>
                      </a:lnTo>
                      <a:lnTo>
                        <a:pt x="4" y="848"/>
                      </a:lnTo>
                      <a:lnTo>
                        <a:pt x="4" y="879"/>
                      </a:lnTo>
                      <a:lnTo>
                        <a:pt x="0" y="905"/>
                      </a:lnTo>
                      <a:lnTo>
                        <a:pt x="0" y="936"/>
                      </a:lnTo>
                      <a:lnTo>
                        <a:pt x="0" y="941"/>
                      </a:lnTo>
                      <a:lnTo>
                        <a:pt x="0" y="950"/>
                      </a:lnTo>
                      <a:lnTo>
                        <a:pt x="4" y="958"/>
                      </a:lnTo>
                      <a:lnTo>
                        <a:pt x="4" y="963"/>
                      </a:lnTo>
                      <a:lnTo>
                        <a:pt x="4" y="967"/>
                      </a:lnTo>
                      <a:lnTo>
                        <a:pt x="4" y="976"/>
                      </a:lnTo>
                      <a:lnTo>
                        <a:pt x="8" y="980"/>
                      </a:lnTo>
                      <a:lnTo>
                        <a:pt x="8" y="985"/>
                      </a:lnTo>
                      <a:lnTo>
                        <a:pt x="13" y="985"/>
                      </a:lnTo>
                      <a:lnTo>
                        <a:pt x="13" y="989"/>
                      </a:lnTo>
                      <a:lnTo>
                        <a:pt x="17" y="994"/>
                      </a:lnTo>
                      <a:lnTo>
                        <a:pt x="22" y="994"/>
                      </a:lnTo>
                      <a:lnTo>
                        <a:pt x="26" y="998"/>
                      </a:lnTo>
                      <a:lnTo>
                        <a:pt x="30" y="1003"/>
                      </a:lnTo>
                      <a:lnTo>
                        <a:pt x="35" y="1003"/>
                      </a:lnTo>
                      <a:lnTo>
                        <a:pt x="39" y="1003"/>
                      </a:lnTo>
                      <a:lnTo>
                        <a:pt x="1232" y="1095"/>
                      </a:lnTo>
                      <a:lnTo>
                        <a:pt x="1241" y="1095"/>
                      </a:lnTo>
                      <a:lnTo>
                        <a:pt x="1249" y="1095"/>
                      </a:lnTo>
                      <a:lnTo>
                        <a:pt x="1258" y="1091"/>
                      </a:lnTo>
                      <a:lnTo>
                        <a:pt x="1263" y="1091"/>
                      </a:lnTo>
                      <a:lnTo>
                        <a:pt x="1272" y="1086"/>
                      </a:lnTo>
                      <a:lnTo>
                        <a:pt x="1276" y="1082"/>
                      </a:lnTo>
                      <a:lnTo>
                        <a:pt x="1280" y="1077"/>
                      </a:lnTo>
                      <a:lnTo>
                        <a:pt x="1285" y="1073"/>
                      </a:lnTo>
                      <a:lnTo>
                        <a:pt x="1289" y="1069"/>
                      </a:lnTo>
                      <a:lnTo>
                        <a:pt x="1294" y="1060"/>
                      </a:lnTo>
                      <a:lnTo>
                        <a:pt x="1298" y="1055"/>
                      </a:lnTo>
                      <a:lnTo>
                        <a:pt x="1302" y="1051"/>
                      </a:lnTo>
                      <a:lnTo>
                        <a:pt x="1302" y="1042"/>
                      </a:lnTo>
                      <a:lnTo>
                        <a:pt x="1307" y="1033"/>
                      </a:lnTo>
                      <a:lnTo>
                        <a:pt x="1307" y="1029"/>
                      </a:lnTo>
                      <a:lnTo>
                        <a:pt x="1311" y="1020"/>
                      </a:lnTo>
                      <a:lnTo>
                        <a:pt x="1386" y="154"/>
                      </a:lnTo>
                      <a:lnTo>
                        <a:pt x="1386" y="145"/>
                      </a:lnTo>
                      <a:lnTo>
                        <a:pt x="1386" y="136"/>
                      </a:lnTo>
                      <a:lnTo>
                        <a:pt x="1386" y="127"/>
                      </a:lnTo>
                      <a:lnTo>
                        <a:pt x="1386" y="119"/>
                      </a:lnTo>
                      <a:lnTo>
                        <a:pt x="1386" y="114"/>
                      </a:lnTo>
                      <a:lnTo>
                        <a:pt x="1386" y="110"/>
                      </a:lnTo>
                      <a:lnTo>
                        <a:pt x="1382" y="101"/>
                      </a:lnTo>
                      <a:lnTo>
                        <a:pt x="1382" y="97"/>
                      </a:lnTo>
                      <a:lnTo>
                        <a:pt x="1382" y="92"/>
                      </a:lnTo>
                      <a:lnTo>
                        <a:pt x="1377" y="88"/>
                      </a:lnTo>
                      <a:lnTo>
                        <a:pt x="1377" y="83"/>
                      </a:lnTo>
                      <a:lnTo>
                        <a:pt x="1373" y="79"/>
                      </a:lnTo>
                      <a:lnTo>
                        <a:pt x="1369" y="74"/>
                      </a:lnTo>
                      <a:lnTo>
                        <a:pt x="1364" y="70"/>
                      </a:lnTo>
                      <a:lnTo>
                        <a:pt x="1355" y="70"/>
                      </a:lnTo>
                      <a:lnTo>
                        <a:pt x="1351" y="66"/>
                      </a:lnTo>
                      <a:lnTo>
                        <a:pt x="1316" y="61"/>
                      </a:lnTo>
                      <a:lnTo>
                        <a:pt x="1280" y="57"/>
                      </a:lnTo>
                      <a:lnTo>
                        <a:pt x="1245" y="52"/>
                      </a:lnTo>
                      <a:lnTo>
                        <a:pt x="1210" y="48"/>
                      </a:lnTo>
                      <a:lnTo>
                        <a:pt x="1174" y="44"/>
                      </a:lnTo>
                      <a:lnTo>
                        <a:pt x="1135" y="39"/>
                      </a:lnTo>
                      <a:lnTo>
                        <a:pt x="1104" y="35"/>
                      </a:lnTo>
                      <a:lnTo>
                        <a:pt x="1064" y="30"/>
                      </a:lnTo>
                      <a:lnTo>
                        <a:pt x="1028" y="30"/>
                      </a:lnTo>
                      <a:lnTo>
                        <a:pt x="993" y="26"/>
                      </a:lnTo>
                      <a:lnTo>
                        <a:pt x="953" y="22"/>
                      </a:lnTo>
                      <a:lnTo>
                        <a:pt x="913" y="17"/>
                      </a:lnTo>
                      <a:lnTo>
                        <a:pt x="878" y="17"/>
                      </a:lnTo>
                      <a:lnTo>
                        <a:pt x="843" y="13"/>
                      </a:lnTo>
                      <a:lnTo>
                        <a:pt x="803" y="13"/>
                      </a:lnTo>
                      <a:lnTo>
                        <a:pt x="763" y="8"/>
                      </a:lnTo>
                      <a:lnTo>
                        <a:pt x="728" y="8"/>
                      </a:lnTo>
                      <a:lnTo>
                        <a:pt x="693" y="8"/>
                      </a:lnTo>
                      <a:lnTo>
                        <a:pt x="653" y="4"/>
                      </a:lnTo>
                      <a:lnTo>
                        <a:pt x="613" y="4"/>
                      </a:lnTo>
                      <a:lnTo>
                        <a:pt x="578" y="4"/>
                      </a:lnTo>
                      <a:lnTo>
                        <a:pt x="538" y="4"/>
                      </a:lnTo>
                      <a:lnTo>
                        <a:pt x="499" y="4"/>
                      </a:lnTo>
                      <a:lnTo>
                        <a:pt x="464" y="0"/>
                      </a:lnTo>
                      <a:lnTo>
                        <a:pt x="424" y="0"/>
                      </a:lnTo>
                      <a:lnTo>
                        <a:pt x="389" y="0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73" y="0"/>
                      </a:lnTo>
                      <a:lnTo>
                        <a:pt x="233" y="0"/>
                      </a:lnTo>
                      <a:lnTo>
                        <a:pt x="198" y="4"/>
                      </a:lnTo>
                      <a:lnTo>
                        <a:pt x="163" y="4"/>
                      </a:lnTo>
                      <a:lnTo>
                        <a:pt x="154" y="4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8"/>
                      </a:lnTo>
                      <a:lnTo>
                        <a:pt x="105" y="8"/>
                      </a:lnTo>
                      <a:lnTo>
                        <a:pt x="105" y="8"/>
                      </a:lnTo>
                      <a:lnTo>
                        <a:pt x="101" y="13"/>
                      </a:lnTo>
                      <a:lnTo>
                        <a:pt x="97" y="17"/>
                      </a:lnTo>
                      <a:lnTo>
                        <a:pt x="92" y="17"/>
                      </a:lnTo>
                      <a:lnTo>
                        <a:pt x="92" y="22"/>
                      </a:lnTo>
                      <a:lnTo>
                        <a:pt x="88" y="26"/>
                      </a:lnTo>
                      <a:lnTo>
                        <a:pt x="83" y="30"/>
                      </a:lnTo>
                      <a:lnTo>
                        <a:pt x="83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48040" y="5137200"/>
                  <a:ext cx="25920" cy="325800"/>
                </a:xfrm>
                <a:custGeom>
                  <a:avLst/>
                  <a:gdLst/>
                  <a:ahLst/>
                  <a:rect l="0" t="0" r="r" b="b"/>
                  <a:pathLst>
                    <a:path w="72" h="905">
                      <a:moveTo>
                        <a:pt x="4" y="901"/>
                      </a:moveTo>
                      <a:lnTo>
                        <a:pt x="4" y="901"/>
                      </a:lnTo>
                      <a:lnTo>
                        <a:pt x="4" y="870"/>
                      </a:lnTo>
                      <a:lnTo>
                        <a:pt x="4" y="844"/>
                      </a:lnTo>
                      <a:lnTo>
                        <a:pt x="9" y="813"/>
                      </a:lnTo>
                      <a:lnTo>
                        <a:pt x="9" y="786"/>
                      </a:lnTo>
                      <a:lnTo>
                        <a:pt x="9" y="756"/>
                      </a:lnTo>
                      <a:lnTo>
                        <a:pt x="9" y="729"/>
                      </a:lnTo>
                      <a:lnTo>
                        <a:pt x="9" y="698"/>
                      </a:lnTo>
                      <a:lnTo>
                        <a:pt x="14" y="671"/>
                      </a:lnTo>
                      <a:lnTo>
                        <a:pt x="14" y="640"/>
                      </a:lnTo>
                      <a:lnTo>
                        <a:pt x="19" y="609"/>
                      </a:lnTo>
                      <a:lnTo>
                        <a:pt x="19" y="583"/>
                      </a:lnTo>
                      <a:lnTo>
                        <a:pt x="19" y="556"/>
                      </a:lnTo>
                      <a:lnTo>
                        <a:pt x="24" y="525"/>
                      </a:lnTo>
                      <a:lnTo>
                        <a:pt x="24" y="499"/>
                      </a:lnTo>
                      <a:lnTo>
                        <a:pt x="29" y="472"/>
                      </a:lnTo>
                      <a:lnTo>
                        <a:pt x="29" y="441"/>
                      </a:lnTo>
                      <a:lnTo>
                        <a:pt x="33" y="415"/>
                      </a:lnTo>
                      <a:lnTo>
                        <a:pt x="33" y="384"/>
                      </a:lnTo>
                      <a:lnTo>
                        <a:pt x="38" y="358"/>
                      </a:lnTo>
                      <a:lnTo>
                        <a:pt x="43" y="331"/>
                      </a:lnTo>
                      <a:lnTo>
                        <a:pt x="43" y="300"/>
                      </a:lnTo>
                      <a:lnTo>
                        <a:pt x="43" y="274"/>
                      </a:lnTo>
                      <a:lnTo>
                        <a:pt x="48" y="247"/>
                      </a:lnTo>
                      <a:lnTo>
                        <a:pt x="52" y="216"/>
                      </a:lnTo>
                      <a:lnTo>
                        <a:pt x="52" y="189"/>
                      </a:lnTo>
                      <a:lnTo>
                        <a:pt x="58" y="163"/>
                      </a:lnTo>
                      <a:lnTo>
                        <a:pt x="58" y="136"/>
                      </a:lnTo>
                      <a:lnTo>
                        <a:pt x="63" y="110"/>
                      </a:lnTo>
                      <a:lnTo>
                        <a:pt x="63" y="83"/>
                      </a:lnTo>
                      <a:lnTo>
                        <a:pt x="67" y="57"/>
                      </a:lnTo>
                      <a:lnTo>
                        <a:pt x="72" y="30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6"/>
                      </a:lnTo>
                      <a:lnTo>
                        <a:pt x="63" y="57"/>
                      </a:lnTo>
                      <a:lnTo>
                        <a:pt x="58" y="83"/>
                      </a:lnTo>
                      <a:lnTo>
                        <a:pt x="58" y="110"/>
                      </a:lnTo>
                      <a:lnTo>
                        <a:pt x="52" y="136"/>
                      </a:lnTo>
                      <a:lnTo>
                        <a:pt x="52" y="163"/>
                      </a:lnTo>
                      <a:lnTo>
                        <a:pt x="48" y="189"/>
                      </a:lnTo>
                      <a:lnTo>
                        <a:pt x="48" y="216"/>
                      </a:lnTo>
                      <a:lnTo>
                        <a:pt x="43" y="247"/>
                      </a:lnTo>
                      <a:lnTo>
                        <a:pt x="43" y="274"/>
                      </a:lnTo>
                      <a:lnTo>
                        <a:pt x="38" y="300"/>
                      </a:lnTo>
                      <a:lnTo>
                        <a:pt x="33" y="331"/>
                      </a:lnTo>
                      <a:lnTo>
                        <a:pt x="33" y="358"/>
                      </a:lnTo>
                      <a:lnTo>
                        <a:pt x="29" y="384"/>
                      </a:lnTo>
                      <a:lnTo>
                        <a:pt x="29" y="411"/>
                      </a:lnTo>
                      <a:lnTo>
                        <a:pt x="24" y="441"/>
                      </a:lnTo>
                      <a:lnTo>
                        <a:pt x="24" y="472"/>
                      </a:lnTo>
                      <a:lnTo>
                        <a:pt x="19" y="499"/>
                      </a:lnTo>
                      <a:lnTo>
                        <a:pt x="19" y="525"/>
                      </a:lnTo>
                      <a:lnTo>
                        <a:pt x="19" y="556"/>
                      </a:lnTo>
                      <a:lnTo>
                        <a:pt x="14" y="583"/>
                      </a:lnTo>
                      <a:lnTo>
                        <a:pt x="9" y="609"/>
                      </a:lnTo>
                      <a:lnTo>
                        <a:pt x="9" y="640"/>
                      </a:lnTo>
                      <a:lnTo>
                        <a:pt x="9" y="671"/>
                      </a:lnTo>
                      <a:lnTo>
                        <a:pt x="9" y="698"/>
                      </a:lnTo>
                      <a:lnTo>
                        <a:pt x="4" y="725"/>
                      </a:lnTo>
                      <a:lnTo>
                        <a:pt x="4" y="756"/>
                      </a:lnTo>
                      <a:lnTo>
                        <a:pt x="4" y="786"/>
                      </a:lnTo>
                      <a:lnTo>
                        <a:pt x="0" y="813"/>
                      </a:lnTo>
                      <a:lnTo>
                        <a:pt x="0" y="844"/>
                      </a:lnTo>
                      <a:lnTo>
                        <a:pt x="0" y="870"/>
                      </a:lnTo>
                      <a:lnTo>
                        <a:pt x="0" y="901"/>
                      </a:lnTo>
                      <a:lnTo>
                        <a:pt x="0" y="901"/>
                      </a:lnTo>
                      <a:lnTo>
                        <a:pt x="0" y="905"/>
                      </a:lnTo>
                      <a:lnTo>
                        <a:pt x="4" y="9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48040" y="5470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6"/>
                      </a:moveTo>
                      <a:lnTo>
                        <a:pt x="72" y="66"/>
                      </a:lnTo>
                      <a:lnTo>
                        <a:pt x="60" y="66"/>
                      </a:lnTo>
                      <a:lnTo>
                        <a:pt x="48" y="59"/>
                      </a:lnTo>
                      <a:lnTo>
                        <a:pt x="48" y="59"/>
                      </a:lnTo>
                      <a:lnTo>
                        <a:pt x="36" y="59"/>
                      </a:lnTo>
                      <a:lnTo>
                        <a:pt x="36" y="59"/>
                      </a:lnTo>
                      <a:lnTo>
                        <a:pt x="24" y="52"/>
                      </a:lnTo>
                      <a:lnTo>
                        <a:pt x="24" y="52"/>
                      </a:lnTo>
                      <a:lnTo>
                        <a:pt x="24" y="45"/>
                      </a:lnTo>
                      <a:lnTo>
                        <a:pt x="24" y="39"/>
                      </a:lnTo>
                      <a:lnTo>
                        <a:pt x="11" y="39"/>
                      </a:lnTo>
                      <a:lnTo>
                        <a:pt x="11" y="33"/>
                      </a:lnTo>
                      <a:lnTo>
                        <a:pt x="11" y="26"/>
                      </a:lnTo>
                      <a:lnTo>
                        <a:pt x="11" y="20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1" y="39"/>
                      </a:lnTo>
                      <a:lnTo>
                        <a:pt x="11" y="45"/>
                      </a:lnTo>
                      <a:lnTo>
                        <a:pt x="11" y="52"/>
                      </a:lnTo>
                      <a:lnTo>
                        <a:pt x="24" y="52"/>
                      </a:lnTo>
                      <a:lnTo>
                        <a:pt x="24" y="59"/>
                      </a:lnTo>
                      <a:lnTo>
                        <a:pt x="24" y="59"/>
                      </a:lnTo>
                      <a:lnTo>
                        <a:pt x="36" y="66"/>
                      </a:lnTo>
                      <a:lnTo>
                        <a:pt x="36" y="66"/>
                      </a:lnTo>
                      <a:lnTo>
                        <a:pt x="48" y="72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63880" y="5494320"/>
                  <a:ext cx="429120" cy="27360"/>
                </a:xfrm>
                <a:custGeom>
                  <a:avLst/>
                  <a:gdLst/>
                  <a:ahLst/>
                  <a:rect l="0" t="0" r="r" b="b"/>
                  <a:pathLst>
                    <a:path w="1192" h="76">
                      <a:moveTo>
                        <a:pt x="1188" y="72"/>
                      </a:moveTo>
                      <a:lnTo>
                        <a:pt x="1188" y="72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88" y="76"/>
                      </a:lnTo>
                      <a:lnTo>
                        <a:pt x="1188" y="76"/>
                      </a:lnTo>
                      <a:lnTo>
                        <a:pt x="1192" y="76"/>
                      </a:lnTo>
                      <a:lnTo>
                        <a:pt x="1192" y="72"/>
                      </a:lnTo>
                      <a:lnTo>
                        <a:pt x="118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400560" y="5500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61" y="15"/>
                      </a:lnTo>
                      <a:lnTo>
                        <a:pt x="61" y="21"/>
                      </a:lnTo>
                      <a:lnTo>
                        <a:pt x="61" y="26"/>
                      </a:lnTo>
                      <a:lnTo>
                        <a:pt x="56" y="31"/>
                      </a:lnTo>
                      <a:lnTo>
                        <a:pt x="56" y="36"/>
                      </a:lnTo>
                      <a:lnTo>
                        <a:pt x="49" y="41"/>
                      </a:lnTo>
                      <a:lnTo>
                        <a:pt x="44" y="46"/>
                      </a:lnTo>
                      <a:lnTo>
                        <a:pt x="38" y="51"/>
                      </a:lnTo>
                      <a:lnTo>
                        <a:pt x="38" y="57"/>
                      </a:lnTo>
                      <a:lnTo>
                        <a:pt x="33" y="62"/>
                      </a:lnTo>
                      <a:lnTo>
                        <a:pt x="28" y="62"/>
                      </a:lnTo>
                      <a:lnTo>
                        <a:pt x="22" y="62"/>
                      </a:lnTo>
                      <a:lnTo>
                        <a:pt x="16" y="67"/>
                      </a:lnTo>
                      <a:lnTo>
                        <a:pt x="10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6" y="72"/>
                      </a:lnTo>
                      <a:lnTo>
                        <a:pt x="22" y="67"/>
                      </a:lnTo>
                      <a:lnTo>
                        <a:pt x="33" y="67"/>
                      </a:lnTo>
                      <a:lnTo>
                        <a:pt x="38" y="62"/>
                      </a:lnTo>
                      <a:lnTo>
                        <a:pt x="38" y="62"/>
                      </a:lnTo>
                      <a:lnTo>
                        <a:pt x="44" y="57"/>
                      </a:lnTo>
                      <a:lnTo>
                        <a:pt x="49" y="51"/>
                      </a:lnTo>
                      <a:lnTo>
                        <a:pt x="56" y="46"/>
                      </a:lnTo>
                      <a:lnTo>
                        <a:pt x="61" y="41"/>
                      </a:lnTo>
                      <a:lnTo>
                        <a:pt x="61" y="36"/>
                      </a:lnTo>
                      <a:lnTo>
                        <a:pt x="67" y="26"/>
                      </a:lnTo>
                      <a:lnTo>
                        <a:pt x="67" y="21"/>
                      </a:lnTo>
                      <a:lnTo>
                        <a:pt x="72" y="15"/>
                      </a:lnTo>
                      <a:lnTo>
                        <a:pt x="72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25760" y="5181480"/>
                  <a:ext cx="25920" cy="311400"/>
                </a:xfrm>
                <a:custGeom>
                  <a:avLst/>
                  <a:gdLst/>
                  <a:ahLst/>
                  <a:rect l="0" t="0" r="r" b="b"/>
                  <a:pathLst>
                    <a:path w="72" h="865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65"/>
                      </a:lnTo>
                      <a:lnTo>
                        <a:pt x="5" y="865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443400" y="5149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7" y="5"/>
                      </a:lnTo>
                      <a:lnTo>
                        <a:pt x="17" y="10"/>
                      </a:lnTo>
                      <a:lnTo>
                        <a:pt x="36" y="10"/>
                      </a:lnTo>
                      <a:lnTo>
                        <a:pt x="36" y="10"/>
                      </a:lnTo>
                      <a:lnTo>
                        <a:pt x="36" y="15"/>
                      </a:lnTo>
                      <a:lnTo>
                        <a:pt x="53" y="21"/>
                      </a:lnTo>
                      <a:lnTo>
                        <a:pt x="53" y="21"/>
                      </a:lnTo>
                      <a:lnTo>
                        <a:pt x="53" y="26"/>
                      </a:lnTo>
                      <a:lnTo>
                        <a:pt x="53" y="31"/>
                      </a:lnTo>
                      <a:lnTo>
                        <a:pt x="53" y="36"/>
                      </a:lnTo>
                      <a:lnTo>
                        <a:pt x="53" y="41"/>
                      </a:lnTo>
                      <a:lnTo>
                        <a:pt x="53" y="46"/>
                      </a:lnTo>
                      <a:lnTo>
                        <a:pt x="53" y="51"/>
                      </a:lnTo>
                      <a:lnTo>
                        <a:pt x="53" y="57"/>
                      </a:lnTo>
                      <a:lnTo>
                        <a:pt x="53" y="67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72" y="67"/>
                      </a:lnTo>
                      <a:lnTo>
                        <a:pt x="72" y="62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53" y="21"/>
                      </a:lnTo>
                      <a:lnTo>
                        <a:pt x="53" y="15"/>
                      </a:lnTo>
                      <a:lnTo>
                        <a:pt x="53" y="10"/>
                      </a:lnTo>
                      <a:lnTo>
                        <a:pt x="36" y="10"/>
                      </a:lnTo>
                      <a:lnTo>
                        <a:pt x="36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06720" y="5124600"/>
                  <a:ext cx="427320" cy="25920"/>
                </a:xfrm>
                <a:custGeom>
                  <a:avLst/>
                  <a:gdLst/>
                  <a:ahLst/>
                  <a:rect l="0" t="0" r="r" b="b"/>
                  <a:pathLst>
                    <a:path w="1187" h="72"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39" y="5"/>
                      </a:lnTo>
                      <a:lnTo>
                        <a:pt x="79" y="5"/>
                      </a:lnTo>
                      <a:lnTo>
                        <a:pt x="119" y="5"/>
                      </a:lnTo>
                      <a:lnTo>
                        <a:pt x="154" y="5"/>
                      </a:lnTo>
                      <a:lnTo>
                        <a:pt x="194" y="5"/>
                      </a:lnTo>
                      <a:lnTo>
                        <a:pt x="229" y="5"/>
                      </a:lnTo>
                      <a:lnTo>
                        <a:pt x="264" y="5"/>
                      </a:lnTo>
                      <a:lnTo>
                        <a:pt x="304" y="5"/>
                      </a:lnTo>
                      <a:lnTo>
                        <a:pt x="339" y="5"/>
                      </a:lnTo>
                      <a:lnTo>
                        <a:pt x="379" y="5"/>
                      </a:lnTo>
                      <a:lnTo>
                        <a:pt x="414" y="11"/>
                      </a:lnTo>
                      <a:lnTo>
                        <a:pt x="454" y="11"/>
                      </a:lnTo>
                      <a:lnTo>
                        <a:pt x="493" y="11"/>
                      </a:lnTo>
                      <a:lnTo>
                        <a:pt x="529" y="11"/>
                      </a:lnTo>
                      <a:lnTo>
                        <a:pt x="568" y="11"/>
                      </a:lnTo>
                      <a:lnTo>
                        <a:pt x="605" y="17"/>
                      </a:lnTo>
                      <a:lnTo>
                        <a:pt x="640" y="17"/>
                      </a:lnTo>
                      <a:lnTo>
                        <a:pt x="680" y="17"/>
                      </a:lnTo>
                      <a:lnTo>
                        <a:pt x="715" y="17"/>
                      </a:lnTo>
                      <a:lnTo>
                        <a:pt x="755" y="24"/>
                      </a:lnTo>
                      <a:lnTo>
                        <a:pt x="790" y="30"/>
                      </a:lnTo>
                      <a:lnTo>
                        <a:pt x="830" y="30"/>
                      </a:lnTo>
                      <a:lnTo>
                        <a:pt x="865" y="30"/>
                      </a:lnTo>
                      <a:lnTo>
                        <a:pt x="900" y="36"/>
                      </a:lnTo>
                      <a:lnTo>
                        <a:pt x="940" y="42"/>
                      </a:lnTo>
                      <a:lnTo>
                        <a:pt x="971" y="42"/>
                      </a:lnTo>
                      <a:lnTo>
                        <a:pt x="1010" y="48"/>
                      </a:lnTo>
                      <a:lnTo>
                        <a:pt x="1046" y="53"/>
                      </a:lnTo>
                      <a:lnTo>
                        <a:pt x="1081" y="53"/>
                      </a:lnTo>
                      <a:lnTo>
                        <a:pt x="1116" y="60"/>
                      </a:lnTo>
                      <a:lnTo>
                        <a:pt x="1151" y="66"/>
                      </a:lnTo>
                      <a:lnTo>
                        <a:pt x="1187" y="72"/>
                      </a:lnTo>
                      <a:lnTo>
                        <a:pt x="1187" y="66"/>
                      </a:lnTo>
                      <a:lnTo>
                        <a:pt x="1151" y="60"/>
                      </a:lnTo>
                      <a:lnTo>
                        <a:pt x="1116" y="53"/>
                      </a:lnTo>
                      <a:lnTo>
                        <a:pt x="1081" y="53"/>
                      </a:lnTo>
                      <a:lnTo>
                        <a:pt x="1046" y="48"/>
                      </a:lnTo>
                      <a:lnTo>
                        <a:pt x="1010" y="42"/>
                      </a:lnTo>
                      <a:lnTo>
                        <a:pt x="975" y="36"/>
                      </a:lnTo>
                      <a:lnTo>
                        <a:pt x="940" y="36"/>
                      </a:lnTo>
                      <a:lnTo>
                        <a:pt x="900" y="30"/>
                      </a:lnTo>
                      <a:lnTo>
                        <a:pt x="865" y="30"/>
                      </a:lnTo>
                      <a:lnTo>
                        <a:pt x="830" y="24"/>
                      </a:lnTo>
                      <a:lnTo>
                        <a:pt x="794" y="17"/>
                      </a:lnTo>
                      <a:lnTo>
                        <a:pt x="755" y="17"/>
                      </a:lnTo>
                      <a:lnTo>
                        <a:pt x="715" y="17"/>
                      </a:lnTo>
                      <a:lnTo>
                        <a:pt x="680" y="11"/>
                      </a:lnTo>
                      <a:lnTo>
                        <a:pt x="644" y="11"/>
                      </a:lnTo>
                      <a:lnTo>
                        <a:pt x="605" y="11"/>
                      </a:lnTo>
                      <a:lnTo>
                        <a:pt x="568" y="5"/>
                      </a:lnTo>
                      <a:lnTo>
                        <a:pt x="529" y="5"/>
                      </a:lnTo>
                      <a:lnTo>
                        <a:pt x="493" y="5"/>
                      </a:lnTo>
                      <a:lnTo>
                        <a:pt x="454" y="0"/>
                      </a:lnTo>
                      <a:lnTo>
                        <a:pt x="414" y="0"/>
                      </a:lnTo>
                      <a:lnTo>
                        <a:pt x="379" y="0"/>
                      </a:lnTo>
                      <a:lnTo>
                        <a:pt x="339" y="0"/>
                      </a:lnTo>
                      <a:lnTo>
                        <a:pt x="304" y="0"/>
                      </a:lnTo>
                      <a:lnTo>
                        <a:pt x="264" y="0"/>
                      </a:lnTo>
                      <a:lnTo>
                        <a:pt x="229" y="0"/>
                      </a:lnTo>
                      <a:lnTo>
                        <a:pt x="194" y="0"/>
                      </a:lnTo>
                      <a:lnTo>
                        <a:pt x="154" y="0"/>
                      </a:lnTo>
                      <a:lnTo>
                        <a:pt x="119" y="0"/>
                      </a:lnTo>
                      <a:lnTo>
                        <a:pt x="79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978280" y="512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6" y="17"/>
                      </a:lnTo>
                      <a:lnTo>
                        <a:pt x="31" y="17"/>
                      </a:lnTo>
                      <a:lnTo>
                        <a:pt x="36" y="17"/>
                      </a:lnTo>
                      <a:lnTo>
                        <a:pt x="41" y="17"/>
                      </a:lnTo>
                      <a:lnTo>
                        <a:pt x="46" y="17"/>
                      </a:lnTo>
                      <a:lnTo>
                        <a:pt x="51" y="17"/>
                      </a:lnTo>
                      <a:lnTo>
                        <a:pt x="57" y="17"/>
                      </a:lnTo>
                      <a:lnTo>
                        <a:pt x="67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17"/>
                      </a:lnTo>
                      <a:lnTo>
                        <a:pt x="26" y="17"/>
                      </a:lnTo>
                      <a:lnTo>
                        <a:pt x="21" y="17"/>
                      </a:lnTo>
                      <a:lnTo>
                        <a:pt x="15" y="17"/>
                      </a:lnTo>
                      <a:lnTo>
                        <a:pt x="15" y="36"/>
                      </a:lnTo>
                      <a:lnTo>
                        <a:pt x="10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970360" y="5135400"/>
                  <a:ext cx="473400" cy="371880"/>
                </a:xfrm>
                <a:custGeom>
                  <a:avLst/>
                  <a:gdLst/>
                  <a:ahLst/>
                  <a:rect l="0" t="0" r="r" b="b"/>
                  <a:pathLst>
                    <a:path w="1315" h="1033">
                      <a:moveTo>
                        <a:pt x="79" y="30"/>
                      </a:moveTo>
                      <a:lnTo>
                        <a:pt x="74" y="57"/>
                      </a:lnTo>
                      <a:lnTo>
                        <a:pt x="74" y="83"/>
                      </a:lnTo>
                      <a:lnTo>
                        <a:pt x="70" y="110"/>
                      </a:lnTo>
                      <a:lnTo>
                        <a:pt x="70" y="136"/>
                      </a:lnTo>
                      <a:lnTo>
                        <a:pt x="66" y="158"/>
                      </a:lnTo>
                      <a:lnTo>
                        <a:pt x="61" y="185"/>
                      </a:lnTo>
                      <a:lnTo>
                        <a:pt x="57" y="211"/>
                      </a:lnTo>
                      <a:lnTo>
                        <a:pt x="57" y="238"/>
                      </a:lnTo>
                      <a:lnTo>
                        <a:pt x="52" y="265"/>
                      </a:lnTo>
                      <a:lnTo>
                        <a:pt x="48" y="292"/>
                      </a:lnTo>
                      <a:lnTo>
                        <a:pt x="48" y="318"/>
                      </a:lnTo>
                      <a:lnTo>
                        <a:pt x="44" y="340"/>
                      </a:lnTo>
                      <a:lnTo>
                        <a:pt x="39" y="367"/>
                      </a:lnTo>
                      <a:lnTo>
                        <a:pt x="35" y="397"/>
                      </a:lnTo>
                      <a:lnTo>
                        <a:pt x="35" y="424"/>
                      </a:lnTo>
                      <a:lnTo>
                        <a:pt x="30" y="450"/>
                      </a:lnTo>
                      <a:lnTo>
                        <a:pt x="30" y="477"/>
                      </a:lnTo>
                      <a:lnTo>
                        <a:pt x="26" y="503"/>
                      </a:lnTo>
                      <a:lnTo>
                        <a:pt x="22" y="530"/>
                      </a:lnTo>
                      <a:lnTo>
                        <a:pt x="17" y="556"/>
                      </a:lnTo>
                      <a:lnTo>
                        <a:pt x="17" y="583"/>
                      </a:lnTo>
                      <a:lnTo>
                        <a:pt x="13" y="609"/>
                      </a:lnTo>
                      <a:lnTo>
                        <a:pt x="13" y="636"/>
                      </a:lnTo>
                      <a:lnTo>
                        <a:pt x="13" y="666"/>
                      </a:lnTo>
                      <a:lnTo>
                        <a:pt x="8" y="693"/>
                      </a:lnTo>
                      <a:lnTo>
                        <a:pt x="8" y="719"/>
                      </a:lnTo>
                      <a:lnTo>
                        <a:pt x="4" y="746"/>
                      </a:lnTo>
                      <a:lnTo>
                        <a:pt x="4" y="772"/>
                      </a:lnTo>
                      <a:lnTo>
                        <a:pt x="4" y="800"/>
                      </a:lnTo>
                      <a:lnTo>
                        <a:pt x="4" y="826"/>
                      </a:lnTo>
                      <a:lnTo>
                        <a:pt x="0" y="857"/>
                      </a:lnTo>
                      <a:lnTo>
                        <a:pt x="0" y="883"/>
                      </a:lnTo>
                      <a:lnTo>
                        <a:pt x="0" y="892"/>
                      </a:lnTo>
                      <a:lnTo>
                        <a:pt x="0" y="897"/>
                      </a:lnTo>
                      <a:lnTo>
                        <a:pt x="4" y="901"/>
                      </a:lnTo>
                      <a:lnTo>
                        <a:pt x="4" y="910"/>
                      </a:lnTo>
                      <a:lnTo>
                        <a:pt x="4" y="914"/>
                      </a:lnTo>
                      <a:lnTo>
                        <a:pt x="4" y="919"/>
                      </a:lnTo>
                      <a:lnTo>
                        <a:pt x="8" y="923"/>
                      </a:lnTo>
                      <a:lnTo>
                        <a:pt x="8" y="928"/>
                      </a:lnTo>
                      <a:lnTo>
                        <a:pt x="8" y="932"/>
                      </a:lnTo>
                      <a:lnTo>
                        <a:pt x="13" y="932"/>
                      </a:lnTo>
                      <a:lnTo>
                        <a:pt x="17" y="936"/>
                      </a:lnTo>
                      <a:lnTo>
                        <a:pt x="17" y="941"/>
                      </a:lnTo>
                      <a:lnTo>
                        <a:pt x="26" y="941"/>
                      </a:lnTo>
                      <a:lnTo>
                        <a:pt x="30" y="945"/>
                      </a:lnTo>
                      <a:lnTo>
                        <a:pt x="35" y="945"/>
                      </a:lnTo>
                      <a:lnTo>
                        <a:pt x="39" y="945"/>
                      </a:lnTo>
                      <a:lnTo>
                        <a:pt x="1169" y="1033"/>
                      </a:lnTo>
                      <a:lnTo>
                        <a:pt x="1178" y="1033"/>
                      </a:lnTo>
                      <a:lnTo>
                        <a:pt x="1182" y="1033"/>
                      </a:lnTo>
                      <a:lnTo>
                        <a:pt x="1191" y="1033"/>
                      </a:lnTo>
                      <a:lnTo>
                        <a:pt x="1196" y="1029"/>
                      </a:lnTo>
                      <a:lnTo>
                        <a:pt x="1204" y="1025"/>
                      </a:lnTo>
                      <a:lnTo>
                        <a:pt x="1209" y="1025"/>
                      </a:lnTo>
                      <a:lnTo>
                        <a:pt x="1213" y="1020"/>
                      </a:lnTo>
                      <a:lnTo>
                        <a:pt x="1218" y="1016"/>
                      </a:lnTo>
                      <a:lnTo>
                        <a:pt x="1222" y="1011"/>
                      </a:lnTo>
                      <a:lnTo>
                        <a:pt x="1226" y="1003"/>
                      </a:lnTo>
                      <a:lnTo>
                        <a:pt x="1231" y="998"/>
                      </a:lnTo>
                      <a:lnTo>
                        <a:pt x="1235" y="989"/>
                      </a:lnTo>
                      <a:lnTo>
                        <a:pt x="1235" y="980"/>
                      </a:lnTo>
                      <a:lnTo>
                        <a:pt x="1235" y="976"/>
                      </a:lnTo>
                      <a:lnTo>
                        <a:pt x="1240" y="972"/>
                      </a:lnTo>
                      <a:lnTo>
                        <a:pt x="1240" y="963"/>
                      </a:lnTo>
                      <a:lnTo>
                        <a:pt x="1310" y="141"/>
                      </a:lnTo>
                      <a:lnTo>
                        <a:pt x="1310" y="136"/>
                      </a:lnTo>
                      <a:lnTo>
                        <a:pt x="1315" y="127"/>
                      </a:lnTo>
                      <a:lnTo>
                        <a:pt x="1315" y="119"/>
                      </a:lnTo>
                      <a:lnTo>
                        <a:pt x="1315" y="114"/>
                      </a:lnTo>
                      <a:lnTo>
                        <a:pt x="1315" y="110"/>
                      </a:lnTo>
                      <a:lnTo>
                        <a:pt x="1310" y="101"/>
                      </a:lnTo>
                      <a:lnTo>
                        <a:pt x="1310" y="97"/>
                      </a:lnTo>
                      <a:lnTo>
                        <a:pt x="1310" y="88"/>
                      </a:lnTo>
                      <a:lnTo>
                        <a:pt x="1310" y="83"/>
                      </a:lnTo>
                      <a:lnTo>
                        <a:pt x="1306" y="79"/>
                      </a:lnTo>
                      <a:lnTo>
                        <a:pt x="1306" y="79"/>
                      </a:lnTo>
                      <a:lnTo>
                        <a:pt x="1301" y="70"/>
                      </a:lnTo>
                      <a:lnTo>
                        <a:pt x="1297" y="70"/>
                      </a:lnTo>
                      <a:lnTo>
                        <a:pt x="1293" y="66"/>
                      </a:lnTo>
                      <a:lnTo>
                        <a:pt x="1288" y="66"/>
                      </a:lnTo>
                      <a:lnTo>
                        <a:pt x="1279" y="66"/>
                      </a:lnTo>
                      <a:lnTo>
                        <a:pt x="1248" y="57"/>
                      </a:lnTo>
                      <a:lnTo>
                        <a:pt x="1213" y="52"/>
                      </a:lnTo>
                      <a:lnTo>
                        <a:pt x="1178" y="52"/>
                      </a:lnTo>
                      <a:lnTo>
                        <a:pt x="1147" y="44"/>
                      </a:lnTo>
                      <a:lnTo>
                        <a:pt x="1112" y="39"/>
                      </a:lnTo>
                      <a:lnTo>
                        <a:pt x="1076" y="35"/>
                      </a:lnTo>
                      <a:lnTo>
                        <a:pt x="1041" y="35"/>
                      </a:lnTo>
                      <a:lnTo>
                        <a:pt x="1006" y="30"/>
                      </a:lnTo>
                      <a:lnTo>
                        <a:pt x="975" y="26"/>
                      </a:lnTo>
                      <a:lnTo>
                        <a:pt x="940" y="22"/>
                      </a:lnTo>
                      <a:lnTo>
                        <a:pt x="904" y="17"/>
                      </a:lnTo>
                      <a:lnTo>
                        <a:pt x="869" y="17"/>
                      </a:lnTo>
                      <a:lnTo>
                        <a:pt x="834" y="13"/>
                      </a:lnTo>
                      <a:lnTo>
                        <a:pt x="794" y="13"/>
                      </a:lnTo>
                      <a:lnTo>
                        <a:pt x="763" y="13"/>
                      </a:lnTo>
                      <a:lnTo>
                        <a:pt x="724" y="8"/>
                      </a:lnTo>
                      <a:lnTo>
                        <a:pt x="693" y="8"/>
                      </a:lnTo>
                      <a:lnTo>
                        <a:pt x="652" y="4"/>
                      </a:lnTo>
                      <a:lnTo>
                        <a:pt x="617" y="4"/>
                      </a:lnTo>
                      <a:lnTo>
                        <a:pt x="582" y="4"/>
                      </a:lnTo>
                      <a:lnTo>
                        <a:pt x="546" y="4"/>
                      </a:lnTo>
                      <a:lnTo>
                        <a:pt x="511" y="0"/>
                      </a:lnTo>
                      <a:lnTo>
                        <a:pt x="476" y="0"/>
                      </a:lnTo>
                      <a:lnTo>
                        <a:pt x="440" y="0"/>
                      </a:lnTo>
                      <a:lnTo>
                        <a:pt x="401" y="0"/>
                      </a:lnTo>
                      <a:lnTo>
                        <a:pt x="366" y="0"/>
                      </a:lnTo>
                      <a:lnTo>
                        <a:pt x="330" y="0"/>
                      </a:lnTo>
                      <a:lnTo>
                        <a:pt x="295" y="0"/>
                      </a:lnTo>
                      <a:lnTo>
                        <a:pt x="260" y="0"/>
                      </a:lnTo>
                      <a:lnTo>
                        <a:pt x="224" y="0"/>
                      </a:lnTo>
                      <a:lnTo>
                        <a:pt x="189" y="0"/>
                      </a:lnTo>
                      <a:lnTo>
                        <a:pt x="154" y="0"/>
                      </a:lnTo>
                      <a:lnTo>
                        <a:pt x="145" y="0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4"/>
                      </a:lnTo>
                      <a:lnTo>
                        <a:pt x="110" y="4"/>
                      </a:lnTo>
                      <a:lnTo>
                        <a:pt x="101" y="8"/>
                      </a:lnTo>
                      <a:lnTo>
                        <a:pt x="97" y="8"/>
                      </a:lnTo>
                      <a:lnTo>
                        <a:pt x="97" y="13"/>
                      </a:lnTo>
                      <a:lnTo>
                        <a:pt x="92" y="13"/>
                      </a:lnTo>
                      <a:lnTo>
                        <a:pt x="88" y="17"/>
                      </a:lnTo>
                      <a:lnTo>
                        <a:pt x="83" y="17"/>
                      </a:lnTo>
                      <a:lnTo>
                        <a:pt x="83" y="22"/>
                      </a:lnTo>
                      <a:lnTo>
                        <a:pt x="79" y="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970360" y="5146560"/>
                  <a:ext cx="25920" cy="306720"/>
                </a:xfrm>
                <a:custGeom>
                  <a:avLst/>
                  <a:gdLst/>
                  <a:ahLst/>
                  <a:rect l="0" t="0" r="r" b="b"/>
                  <a:pathLst>
                    <a:path w="72" h="852">
                      <a:moveTo>
                        <a:pt x="5" y="847"/>
                      </a:moveTo>
                      <a:lnTo>
                        <a:pt x="5" y="847"/>
                      </a:lnTo>
                      <a:lnTo>
                        <a:pt x="5" y="821"/>
                      </a:lnTo>
                      <a:lnTo>
                        <a:pt x="5" y="794"/>
                      </a:lnTo>
                      <a:lnTo>
                        <a:pt x="10" y="768"/>
                      </a:lnTo>
                      <a:lnTo>
                        <a:pt x="10" y="741"/>
                      </a:lnTo>
                      <a:lnTo>
                        <a:pt x="10" y="715"/>
                      </a:lnTo>
                      <a:lnTo>
                        <a:pt x="10" y="684"/>
                      </a:lnTo>
                      <a:lnTo>
                        <a:pt x="10" y="658"/>
                      </a:lnTo>
                      <a:lnTo>
                        <a:pt x="15" y="631"/>
                      </a:lnTo>
                      <a:lnTo>
                        <a:pt x="15" y="605"/>
                      </a:lnTo>
                      <a:lnTo>
                        <a:pt x="21" y="578"/>
                      </a:lnTo>
                      <a:lnTo>
                        <a:pt x="21" y="547"/>
                      </a:lnTo>
                      <a:lnTo>
                        <a:pt x="21" y="521"/>
                      </a:lnTo>
                      <a:lnTo>
                        <a:pt x="26" y="494"/>
                      </a:lnTo>
                      <a:lnTo>
                        <a:pt x="26" y="468"/>
                      </a:lnTo>
                      <a:lnTo>
                        <a:pt x="31" y="441"/>
                      </a:lnTo>
                      <a:lnTo>
                        <a:pt x="31" y="414"/>
                      </a:lnTo>
                      <a:lnTo>
                        <a:pt x="31" y="388"/>
                      </a:lnTo>
                      <a:lnTo>
                        <a:pt x="36" y="361"/>
                      </a:lnTo>
                      <a:lnTo>
                        <a:pt x="41" y="335"/>
                      </a:lnTo>
                      <a:lnTo>
                        <a:pt x="41" y="313"/>
                      </a:lnTo>
                      <a:lnTo>
                        <a:pt x="41" y="286"/>
                      </a:lnTo>
                      <a:lnTo>
                        <a:pt x="46" y="260"/>
                      </a:lnTo>
                      <a:lnTo>
                        <a:pt x="51" y="233"/>
                      </a:lnTo>
                      <a:lnTo>
                        <a:pt x="51" y="207"/>
                      </a:lnTo>
                      <a:lnTo>
                        <a:pt x="51" y="180"/>
                      </a:lnTo>
                      <a:lnTo>
                        <a:pt x="57" y="154"/>
                      </a:lnTo>
                      <a:lnTo>
                        <a:pt x="62" y="127"/>
                      </a:lnTo>
                      <a:lnTo>
                        <a:pt x="62" y="105"/>
                      </a:lnTo>
                      <a:lnTo>
                        <a:pt x="62" y="79"/>
                      </a:lnTo>
                      <a:lnTo>
                        <a:pt x="67" y="52"/>
                      </a:lnTo>
                      <a:lnTo>
                        <a:pt x="72" y="26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2" y="26"/>
                      </a:lnTo>
                      <a:lnTo>
                        <a:pt x="62" y="52"/>
                      </a:lnTo>
                      <a:lnTo>
                        <a:pt x="62" y="79"/>
                      </a:lnTo>
                      <a:lnTo>
                        <a:pt x="57" y="101"/>
                      </a:lnTo>
                      <a:lnTo>
                        <a:pt x="51" y="127"/>
                      </a:lnTo>
                      <a:lnTo>
                        <a:pt x="51" y="154"/>
                      </a:lnTo>
                      <a:lnTo>
                        <a:pt x="51" y="180"/>
                      </a:lnTo>
                      <a:lnTo>
                        <a:pt x="46" y="207"/>
                      </a:lnTo>
                      <a:lnTo>
                        <a:pt x="41" y="233"/>
                      </a:lnTo>
                      <a:lnTo>
                        <a:pt x="41" y="260"/>
                      </a:lnTo>
                      <a:lnTo>
                        <a:pt x="41" y="282"/>
                      </a:lnTo>
                      <a:lnTo>
                        <a:pt x="36" y="308"/>
                      </a:lnTo>
                      <a:lnTo>
                        <a:pt x="31" y="335"/>
                      </a:lnTo>
                      <a:lnTo>
                        <a:pt x="31" y="361"/>
                      </a:lnTo>
                      <a:lnTo>
                        <a:pt x="31" y="388"/>
                      </a:lnTo>
                      <a:lnTo>
                        <a:pt x="26" y="414"/>
                      </a:lnTo>
                      <a:lnTo>
                        <a:pt x="21" y="441"/>
                      </a:lnTo>
                      <a:lnTo>
                        <a:pt x="21" y="468"/>
                      </a:lnTo>
                      <a:lnTo>
                        <a:pt x="21" y="494"/>
                      </a:lnTo>
                      <a:lnTo>
                        <a:pt x="15" y="521"/>
                      </a:lnTo>
                      <a:lnTo>
                        <a:pt x="15" y="547"/>
                      </a:lnTo>
                      <a:lnTo>
                        <a:pt x="10" y="574"/>
                      </a:lnTo>
                      <a:lnTo>
                        <a:pt x="10" y="605"/>
                      </a:lnTo>
                      <a:lnTo>
                        <a:pt x="10" y="631"/>
                      </a:lnTo>
                      <a:lnTo>
                        <a:pt x="10" y="658"/>
                      </a:lnTo>
                      <a:lnTo>
                        <a:pt x="5" y="684"/>
                      </a:lnTo>
                      <a:lnTo>
                        <a:pt x="5" y="710"/>
                      </a:lnTo>
                      <a:lnTo>
                        <a:pt x="5" y="741"/>
                      </a:lnTo>
                      <a:lnTo>
                        <a:pt x="0" y="768"/>
                      </a:lnTo>
                      <a:lnTo>
                        <a:pt x="0" y="794"/>
                      </a:lnTo>
                      <a:lnTo>
                        <a:pt x="0" y="821"/>
                      </a:lnTo>
                      <a:lnTo>
                        <a:pt x="0" y="847"/>
                      </a:lnTo>
                      <a:lnTo>
                        <a:pt x="0" y="852"/>
                      </a:lnTo>
                      <a:lnTo>
                        <a:pt x="0" y="852"/>
                      </a:lnTo>
                      <a:lnTo>
                        <a:pt x="5" y="852"/>
                      </a:lnTo>
                      <a:lnTo>
                        <a:pt x="5" y="8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970360" y="5460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5"/>
                      </a:moveTo>
                      <a:lnTo>
                        <a:pt x="72" y="65"/>
                      </a:lnTo>
                      <a:lnTo>
                        <a:pt x="58" y="65"/>
                      </a:lnTo>
                      <a:lnTo>
                        <a:pt x="43" y="65"/>
                      </a:lnTo>
                      <a:lnTo>
                        <a:pt x="43" y="58"/>
                      </a:lnTo>
                      <a:lnTo>
                        <a:pt x="43" y="58"/>
                      </a:lnTo>
                      <a:lnTo>
                        <a:pt x="29" y="58"/>
                      </a:lnTo>
                      <a:lnTo>
                        <a:pt x="29" y="50"/>
                      </a:lnTo>
                      <a:lnTo>
                        <a:pt x="29" y="50"/>
                      </a:lnTo>
                      <a:lnTo>
                        <a:pt x="14" y="43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2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14" y="36"/>
                      </a:lnTo>
                      <a:lnTo>
                        <a:pt x="14" y="43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65"/>
                      </a:lnTo>
                      <a:lnTo>
                        <a:pt x="43" y="65"/>
                      </a:lnTo>
                      <a:lnTo>
                        <a:pt x="43" y="65"/>
                      </a:lnTo>
                      <a:lnTo>
                        <a:pt x="58" y="72"/>
                      </a:lnTo>
                      <a:lnTo>
                        <a:pt x="58" y="72"/>
                      </a:lnTo>
                      <a:lnTo>
                        <a:pt x="72" y="72"/>
                      </a:lnTo>
                      <a:lnTo>
                        <a:pt x="72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84400" y="5483160"/>
                  <a:ext cx="405000" cy="25920"/>
                </a:xfrm>
                <a:custGeom>
                  <a:avLst/>
                  <a:gdLst/>
                  <a:ahLst/>
                  <a:rect l="0" t="0" r="r" b="b"/>
                  <a:pathLst>
                    <a:path w="1125" h="72">
                      <a:moveTo>
                        <a:pt x="1121" y="68"/>
                      </a:moveTo>
                      <a:lnTo>
                        <a:pt x="112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21" y="72"/>
                      </a:lnTo>
                      <a:lnTo>
                        <a:pt x="1121" y="72"/>
                      </a:lnTo>
                      <a:lnTo>
                        <a:pt x="1125" y="68"/>
                      </a:lnTo>
                      <a:lnTo>
                        <a:pt x="112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397320" y="5489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5"/>
                      </a:lnTo>
                      <a:lnTo>
                        <a:pt x="60" y="17"/>
                      </a:lnTo>
                      <a:lnTo>
                        <a:pt x="60" y="24"/>
                      </a:lnTo>
                      <a:lnTo>
                        <a:pt x="60" y="30"/>
                      </a:lnTo>
                      <a:lnTo>
                        <a:pt x="53" y="30"/>
                      </a:lnTo>
                      <a:lnTo>
                        <a:pt x="53" y="42"/>
                      </a:lnTo>
                      <a:lnTo>
                        <a:pt x="53" y="42"/>
                      </a:lnTo>
                      <a:lnTo>
                        <a:pt x="48" y="48"/>
                      </a:lnTo>
                      <a:lnTo>
                        <a:pt x="42" y="53"/>
                      </a:lnTo>
                      <a:lnTo>
                        <a:pt x="36" y="53"/>
                      </a:lnTo>
                      <a:lnTo>
                        <a:pt x="30" y="60"/>
                      </a:lnTo>
                      <a:lnTo>
                        <a:pt x="30" y="60"/>
                      </a:lnTo>
                      <a:lnTo>
                        <a:pt x="17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0" y="72"/>
                      </a:lnTo>
                      <a:lnTo>
                        <a:pt x="11" y="72"/>
                      </a:lnTo>
                      <a:lnTo>
                        <a:pt x="17" y="72"/>
                      </a:lnTo>
                      <a:lnTo>
                        <a:pt x="24" y="72"/>
                      </a:lnTo>
                      <a:lnTo>
                        <a:pt x="30" y="66"/>
                      </a:lnTo>
                      <a:lnTo>
                        <a:pt x="36" y="66"/>
                      </a:lnTo>
                      <a:lnTo>
                        <a:pt x="42" y="60"/>
                      </a:lnTo>
                      <a:lnTo>
                        <a:pt x="48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60" y="42"/>
                      </a:lnTo>
                      <a:lnTo>
                        <a:pt x="60" y="36"/>
                      </a:lnTo>
                      <a:lnTo>
                        <a:pt x="66" y="30"/>
                      </a:lnTo>
                      <a:lnTo>
                        <a:pt x="66" y="24"/>
                      </a:lnTo>
                      <a:lnTo>
                        <a:pt x="72" y="17"/>
                      </a:lnTo>
                      <a:lnTo>
                        <a:pt x="72" y="11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422520" y="5186520"/>
                  <a:ext cx="25920" cy="295560"/>
                </a:xfrm>
                <a:custGeom>
                  <a:avLst/>
                  <a:gdLst/>
                  <a:ahLst/>
                  <a:rect l="0" t="0" r="r" b="b"/>
                  <a:pathLst>
                    <a:path w="72" h="821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21"/>
                      </a:lnTo>
                      <a:lnTo>
                        <a:pt x="5" y="821"/>
                      </a:ln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438360" y="5157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4" y="5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48" y="10"/>
                      </a:lnTo>
                      <a:lnTo>
                        <a:pt x="48" y="15"/>
                      </a:lnTo>
                      <a:lnTo>
                        <a:pt x="48" y="21"/>
                      </a:lnTo>
                      <a:lnTo>
                        <a:pt x="48" y="21"/>
                      </a:lnTo>
                      <a:lnTo>
                        <a:pt x="48" y="26"/>
                      </a:lnTo>
                      <a:lnTo>
                        <a:pt x="48" y="31"/>
                      </a:lnTo>
                      <a:lnTo>
                        <a:pt x="48" y="36"/>
                      </a:lnTo>
                      <a:lnTo>
                        <a:pt x="48" y="41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48" y="57"/>
                      </a:lnTo>
                      <a:lnTo>
                        <a:pt x="48" y="62"/>
                      </a:lnTo>
                      <a:lnTo>
                        <a:pt x="48" y="72"/>
                      </a:lnTo>
                      <a:lnTo>
                        <a:pt x="72" y="7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2" y="21"/>
                      </a:lnTo>
                      <a:lnTo>
                        <a:pt x="48" y="15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25800" y="5133960"/>
                  <a:ext cx="403560" cy="25920"/>
                </a:xfrm>
                <a:custGeom>
                  <a:avLst/>
                  <a:gdLst/>
                  <a:ahLst/>
                  <a:rect l="0" t="0" r="r" b="b"/>
                  <a:pathLst>
                    <a:path w="1121" h="72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39" y="6"/>
                      </a:lnTo>
                      <a:lnTo>
                        <a:pt x="74" y="6"/>
                      </a:lnTo>
                      <a:lnTo>
                        <a:pt x="110" y="6"/>
                      </a:lnTo>
                      <a:lnTo>
                        <a:pt x="145" y="6"/>
                      </a:lnTo>
                      <a:lnTo>
                        <a:pt x="180" y="6"/>
                      </a:lnTo>
                      <a:lnTo>
                        <a:pt x="216" y="6"/>
                      </a:lnTo>
                      <a:lnTo>
                        <a:pt x="251" y="6"/>
                      </a:lnTo>
                      <a:lnTo>
                        <a:pt x="286" y="6"/>
                      </a:lnTo>
                      <a:lnTo>
                        <a:pt x="321" y="6"/>
                      </a:lnTo>
                      <a:lnTo>
                        <a:pt x="357" y="6"/>
                      </a:lnTo>
                      <a:lnTo>
                        <a:pt x="392" y="6"/>
                      </a:lnTo>
                      <a:lnTo>
                        <a:pt x="427" y="12"/>
                      </a:lnTo>
                      <a:lnTo>
                        <a:pt x="463" y="12"/>
                      </a:lnTo>
                      <a:lnTo>
                        <a:pt x="498" y="12"/>
                      </a:lnTo>
                      <a:lnTo>
                        <a:pt x="533" y="12"/>
                      </a:lnTo>
                      <a:lnTo>
                        <a:pt x="569" y="20"/>
                      </a:lnTo>
                      <a:lnTo>
                        <a:pt x="605" y="20"/>
                      </a:lnTo>
                      <a:lnTo>
                        <a:pt x="640" y="20"/>
                      </a:lnTo>
                      <a:lnTo>
                        <a:pt x="680" y="26"/>
                      </a:lnTo>
                      <a:lnTo>
                        <a:pt x="710" y="26"/>
                      </a:lnTo>
                      <a:lnTo>
                        <a:pt x="746" y="26"/>
                      </a:lnTo>
                      <a:lnTo>
                        <a:pt x="781" y="33"/>
                      </a:lnTo>
                      <a:lnTo>
                        <a:pt x="816" y="33"/>
                      </a:lnTo>
                      <a:lnTo>
                        <a:pt x="852" y="39"/>
                      </a:lnTo>
                      <a:lnTo>
                        <a:pt x="882" y="39"/>
                      </a:lnTo>
                      <a:lnTo>
                        <a:pt x="918" y="45"/>
                      </a:lnTo>
                      <a:lnTo>
                        <a:pt x="953" y="45"/>
                      </a:lnTo>
                      <a:lnTo>
                        <a:pt x="988" y="52"/>
                      </a:lnTo>
                      <a:lnTo>
                        <a:pt x="1019" y="59"/>
                      </a:lnTo>
                      <a:lnTo>
                        <a:pt x="1054" y="66"/>
                      </a:lnTo>
                      <a:lnTo>
                        <a:pt x="1085" y="66"/>
                      </a:lnTo>
                      <a:lnTo>
                        <a:pt x="1121" y="72"/>
                      </a:lnTo>
                      <a:lnTo>
                        <a:pt x="1121" y="66"/>
                      </a:lnTo>
                      <a:lnTo>
                        <a:pt x="1090" y="59"/>
                      </a:lnTo>
                      <a:lnTo>
                        <a:pt x="1054" y="52"/>
                      </a:lnTo>
                      <a:lnTo>
                        <a:pt x="1019" y="52"/>
                      </a:lnTo>
                      <a:lnTo>
                        <a:pt x="988" y="45"/>
                      </a:lnTo>
                      <a:lnTo>
                        <a:pt x="953" y="45"/>
                      </a:lnTo>
                      <a:lnTo>
                        <a:pt x="922" y="39"/>
                      </a:lnTo>
                      <a:lnTo>
                        <a:pt x="887" y="39"/>
                      </a:lnTo>
                      <a:lnTo>
                        <a:pt x="852" y="33"/>
                      </a:lnTo>
                      <a:lnTo>
                        <a:pt x="816" y="26"/>
                      </a:lnTo>
                      <a:lnTo>
                        <a:pt x="781" y="26"/>
                      </a:lnTo>
                      <a:lnTo>
                        <a:pt x="750" y="20"/>
                      </a:lnTo>
                      <a:lnTo>
                        <a:pt x="710" y="20"/>
                      </a:lnTo>
                      <a:lnTo>
                        <a:pt x="680" y="20"/>
                      </a:lnTo>
                      <a:lnTo>
                        <a:pt x="640" y="12"/>
                      </a:lnTo>
                      <a:lnTo>
                        <a:pt x="605" y="12"/>
                      </a:lnTo>
                      <a:lnTo>
                        <a:pt x="569" y="6"/>
                      </a:lnTo>
                      <a:lnTo>
                        <a:pt x="533" y="6"/>
                      </a:lnTo>
                      <a:lnTo>
                        <a:pt x="498" y="6"/>
                      </a:lnTo>
                      <a:lnTo>
                        <a:pt x="463" y="6"/>
                      </a:lnTo>
                      <a:lnTo>
                        <a:pt x="427" y="6"/>
                      </a:lnTo>
                      <a:lnTo>
                        <a:pt x="392" y="6"/>
                      </a:lnTo>
                      <a:lnTo>
                        <a:pt x="357" y="0"/>
                      </a:lnTo>
                      <a:lnTo>
                        <a:pt x="321" y="0"/>
                      </a:lnTo>
                      <a:lnTo>
                        <a:pt x="286" y="0"/>
                      </a:lnTo>
                      <a:lnTo>
                        <a:pt x="251" y="0"/>
                      </a:lnTo>
                      <a:lnTo>
                        <a:pt x="216" y="0"/>
                      </a:lnTo>
                      <a:lnTo>
                        <a:pt x="180" y="0"/>
                      </a:lnTo>
                      <a:lnTo>
                        <a:pt x="145" y="0"/>
                      </a:lnTo>
                      <a:lnTo>
                        <a:pt x="110" y="0"/>
                      </a:lnTo>
                      <a:lnTo>
                        <a:pt x="74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99880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36"/>
                      </a:lnTo>
                      <a:lnTo>
                        <a:pt x="17" y="36"/>
                      </a:lnTo>
                      <a:lnTo>
                        <a:pt x="17" y="36"/>
                      </a:lnTo>
                      <a:lnTo>
                        <a:pt x="24" y="36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36" y="17"/>
                      </a:lnTo>
                      <a:lnTo>
                        <a:pt x="42" y="17"/>
                      </a:lnTo>
                      <a:lnTo>
                        <a:pt x="48" y="17"/>
                      </a:lnTo>
                      <a:lnTo>
                        <a:pt x="53" y="17"/>
                      </a:lnTo>
                      <a:lnTo>
                        <a:pt x="60" y="17"/>
                      </a:lnTo>
                      <a:lnTo>
                        <a:pt x="66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3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6" y="17"/>
                      </a:lnTo>
                      <a:lnTo>
                        <a:pt x="30" y="17"/>
                      </a:lnTo>
                      <a:lnTo>
                        <a:pt x="24" y="17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1" y="36"/>
                      </a:lnTo>
                      <a:lnTo>
                        <a:pt x="11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102120" y="5600520"/>
                  <a:ext cx="265320" cy="51120"/>
                </a:xfrm>
                <a:custGeom>
                  <a:avLst/>
                  <a:gdLst/>
                  <a:ahLst/>
                  <a:rect l="0" t="0" r="r" b="b"/>
                  <a:pathLst>
                    <a:path w="737" h="142">
                      <a:moveTo>
                        <a:pt x="0" y="0"/>
                      </a:moveTo>
                      <a:lnTo>
                        <a:pt x="737" y="61"/>
                      </a:lnTo>
                      <a:lnTo>
                        <a:pt x="728" y="70"/>
                      </a:lnTo>
                      <a:lnTo>
                        <a:pt x="719" y="80"/>
                      </a:lnTo>
                      <a:lnTo>
                        <a:pt x="710" y="84"/>
                      </a:lnTo>
                      <a:lnTo>
                        <a:pt x="702" y="93"/>
                      </a:lnTo>
                      <a:lnTo>
                        <a:pt x="693" y="102"/>
                      </a:lnTo>
                      <a:lnTo>
                        <a:pt x="680" y="106"/>
                      </a:lnTo>
                      <a:lnTo>
                        <a:pt x="671" y="111"/>
                      </a:lnTo>
                      <a:lnTo>
                        <a:pt x="658" y="115"/>
                      </a:lnTo>
                      <a:lnTo>
                        <a:pt x="649" y="120"/>
                      </a:lnTo>
                      <a:lnTo>
                        <a:pt x="636" y="124"/>
                      </a:lnTo>
                      <a:lnTo>
                        <a:pt x="627" y="124"/>
                      </a:lnTo>
                      <a:lnTo>
                        <a:pt x="613" y="128"/>
                      </a:lnTo>
                      <a:lnTo>
                        <a:pt x="605" y="133"/>
                      </a:lnTo>
                      <a:lnTo>
                        <a:pt x="591" y="133"/>
                      </a:lnTo>
                      <a:lnTo>
                        <a:pt x="583" y="137"/>
                      </a:lnTo>
                      <a:lnTo>
                        <a:pt x="569" y="137"/>
                      </a:lnTo>
                      <a:lnTo>
                        <a:pt x="556" y="142"/>
                      </a:lnTo>
                      <a:lnTo>
                        <a:pt x="547" y="142"/>
                      </a:lnTo>
                      <a:lnTo>
                        <a:pt x="534" y="142"/>
                      </a:lnTo>
                      <a:lnTo>
                        <a:pt x="521" y="142"/>
                      </a:lnTo>
                      <a:lnTo>
                        <a:pt x="512" y="142"/>
                      </a:lnTo>
                      <a:lnTo>
                        <a:pt x="494" y="142"/>
                      </a:lnTo>
                      <a:lnTo>
                        <a:pt x="486" y="142"/>
                      </a:lnTo>
                      <a:lnTo>
                        <a:pt x="472" y="142"/>
                      </a:lnTo>
                      <a:lnTo>
                        <a:pt x="459" y="142"/>
                      </a:lnTo>
                      <a:lnTo>
                        <a:pt x="446" y="142"/>
                      </a:lnTo>
                      <a:lnTo>
                        <a:pt x="437" y="142"/>
                      </a:lnTo>
                      <a:lnTo>
                        <a:pt x="419" y="142"/>
                      </a:lnTo>
                      <a:lnTo>
                        <a:pt x="411" y="142"/>
                      </a:lnTo>
                      <a:lnTo>
                        <a:pt x="397" y="142"/>
                      </a:lnTo>
                      <a:lnTo>
                        <a:pt x="384" y="142"/>
                      </a:lnTo>
                      <a:lnTo>
                        <a:pt x="371" y="142"/>
                      </a:lnTo>
                      <a:lnTo>
                        <a:pt x="352" y="142"/>
                      </a:lnTo>
                      <a:lnTo>
                        <a:pt x="339" y="142"/>
                      </a:lnTo>
                      <a:lnTo>
                        <a:pt x="326" y="137"/>
                      </a:lnTo>
                      <a:lnTo>
                        <a:pt x="313" y="137"/>
                      </a:lnTo>
                      <a:lnTo>
                        <a:pt x="299" y="137"/>
                      </a:lnTo>
                      <a:lnTo>
                        <a:pt x="286" y="133"/>
                      </a:lnTo>
                      <a:lnTo>
                        <a:pt x="273" y="133"/>
                      </a:lnTo>
                      <a:lnTo>
                        <a:pt x="260" y="133"/>
                      </a:lnTo>
                      <a:lnTo>
                        <a:pt x="246" y="128"/>
                      </a:lnTo>
                      <a:lnTo>
                        <a:pt x="233" y="124"/>
                      </a:lnTo>
                      <a:lnTo>
                        <a:pt x="220" y="124"/>
                      </a:lnTo>
                      <a:lnTo>
                        <a:pt x="207" y="120"/>
                      </a:lnTo>
                      <a:lnTo>
                        <a:pt x="194" y="115"/>
                      </a:lnTo>
                      <a:lnTo>
                        <a:pt x="180" y="111"/>
                      </a:lnTo>
                      <a:lnTo>
                        <a:pt x="171" y="106"/>
                      </a:lnTo>
                      <a:lnTo>
                        <a:pt x="158" y="106"/>
                      </a:lnTo>
                      <a:lnTo>
                        <a:pt x="145" y="102"/>
                      </a:lnTo>
                      <a:lnTo>
                        <a:pt x="136" y="93"/>
                      </a:lnTo>
                      <a:lnTo>
                        <a:pt x="123" y="89"/>
                      </a:lnTo>
                      <a:lnTo>
                        <a:pt x="110" y="84"/>
                      </a:lnTo>
                      <a:lnTo>
                        <a:pt x="101" y="80"/>
                      </a:lnTo>
                      <a:lnTo>
                        <a:pt x="88" y="70"/>
                      </a:lnTo>
                      <a:lnTo>
                        <a:pt x="79" y="66"/>
                      </a:lnTo>
                      <a:lnTo>
                        <a:pt x="70" y="61"/>
                      </a:lnTo>
                      <a:lnTo>
                        <a:pt x="61" y="52"/>
                      </a:lnTo>
                      <a:lnTo>
                        <a:pt x="52" y="48"/>
                      </a:lnTo>
                      <a:lnTo>
                        <a:pt x="39" y="39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17" y="17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102120" y="5599080"/>
                  <a:ext cx="265320" cy="25920"/>
                </a:xfrm>
                <a:custGeom>
                  <a:avLst/>
                  <a:gdLst/>
                  <a:ahLst/>
                  <a:rect l="0" t="0" r="r" b="b"/>
                  <a:pathLst>
                    <a:path w="737" h="72">
                      <a:moveTo>
                        <a:pt x="737" y="72"/>
                      </a:moveTo>
                      <a:lnTo>
                        <a:pt x="733" y="67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33" y="72"/>
                      </a:lnTo>
                      <a:lnTo>
                        <a:pt x="733" y="67"/>
                      </a:lnTo>
                      <a:lnTo>
                        <a:pt x="733" y="72"/>
                      </a:lnTo>
                      <a:lnTo>
                        <a:pt x="737" y="72"/>
                      </a:lnTo>
                      <a:lnTo>
                        <a:pt x="737" y="67"/>
                      </a:lnTo>
                      <a:lnTo>
                        <a:pt x="737" y="67"/>
                      </a:lnTo>
                      <a:lnTo>
                        <a:pt x="733" y="67"/>
                      </a:lnTo>
                      <a:lnTo>
                        <a:pt x="73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236760" y="5626080"/>
                  <a:ext cx="130680" cy="27360"/>
                </a:xfrm>
                <a:custGeom>
                  <a:avLst/>
                  <a:gdLst/>
                  <a:ahLst/>
                  <a:rect l="0" t="0" r="r" b="b"/>
                  <a:pathLst>
                    <a:path w="363" h="76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7" y="72"/>
                      </a:lnTo>
                      <a:lnTo>
                        <a:pt x="30" y="76"/>
                      </a:lnTo>
                      <a:lnTo>
                        <a:pt x="44" y="76"/>
                      </a:lnTo>
                      <a:lnTo>
                        <a:pt x="52" y="76"/>
                      </a:lnTo>
                      <a:lnTo>
                        <a:pt x="66" y="76"/>
                      </a:lnTo>
                      <a:lnTo>
                        <a:pt x="79" y="76"/>
                      </a:lnTo>
                      <a:lnTo>
                        <a:pt x="93" y="76"/>
                      </a:lnTo>
                      <a:lnTo>
                        <a:pt x="102" y="76"/>
                      </a:lnTo>
                      <a:lnTo>
                        <a:pt x="115" y="76"/>
                      </a:lnTo>
                      <a:lnTo>
                        <a:pt x="128" y="76"/>
                      </a:lnTo>
                      <a:lnTo>
                        <a:pt x="142" y="76"/>
                      </a:lnTo>
                      <a:lnTo>
                        <a:pt x="155" y="76"/>
                      </a:lnTo>
                      <a:lnTo>
                        <a:pt x="164" y="76"/>
                      </a:lnTo>
                      <a:lnTo>
                        <a:pt x="177" y="72"/>
                      </a:lnTo>
                      <a:lnTo>
                        <a:pt x="186" y="72"/>
                      </a:lnTo>
                      <a:lnTo>
                        <a:pt x="199" y="72"/>
                      </a:lnTo>
                      <a:lnTo>
                        <a:pt x="208" y="72"/>
                      </a:lnTo>
                      <a:lnTo>
                        <a:pt x="221" y="68"/>
                      </a:lnTo>
                      <a:lnTo>
                        <a:pt x="234" y="68"/>
                      </a:lnTo>
                      <a:lnTo>
                        <a:pt x="243" y="63"/>
                      </a:lnTo>
                      <a:lnTo>
                        <a:pt x="256" y="63"/>
                      </a:lnTo>
                      <a:lnTo>
                        <a:pt x="265" y="59"/>
                      </a:lnTo>
                      <a:lnTo>
                        <a:pt x="275" y="53"/>
                      </a:lnTo>
                      <a:lnTo>
                        <a:pt x="288" y="49"/>
                      </a:lnTo>
                      <a:lnTo>
                        <a:pt x="297" y="45"/>
                      </a:lnTo>
                      <a:lnTo>
                        <a:pt x="306" y="45"/>
                      </a:lnTo>
                      <a:lnTo>
                        <a:pt x="315" y="36"/>
                      </a:lnTo>
                      <a:lnTo>
                        <a:pt x="323" y="31"/>
                      </a:lnTo>
                      <a:lnTo>
                        <a:pt x="337" y="23"/>
                      </a:lnTo>
                      <a:lnTo>
                        <a:pt x="345" y="17"/>
                      </a:lnTo>
                      <a:lnTo>
                        <a:pt x="354" y="8"/>
                      </a:lnTo>
                      <a:lnTo>
                        <a:pt x="363" y="4"/>
                      </a:lnTo>
                      <a:lnTo>
                        <a:pt x="359" y="0"/>
                      </a:lnTo>
                      <a:lnTo>
                        <a:pt x="350" y="8"/>
                      </a:lnTo>
                      <a:lnTo>
                        <a:pt x="341" y="13"/>
                      </a:lnTo>
                      <a:lnTo>
                        <a:pt x="332" y="23"/>
                      </a:lnTo>
                      <a:lnTo>
                        <a:pt x="323" y="27"/>
                      </a:lnTo>
                      <a:lnTo>
                        <a:pt x="315" y="31"/>
                      </a:lnTo>
                      <a:lnTo>
                        <a:pt x="306" y="36"/>
                      </a:lnTo>
                      <a:lnTo>
                        <a:pt x="297" y="45"/>
                      </a:lnTo>
                      <a:lnTo>
                        <a:pt x="284" y="45"/>
                      </a:lnTo>
                      <a:lnTo>
                        <a:pt x="275" y="49"/>
                      </a:lnTo>
                      <a:lnTo>
                        <a:pt x="265" y="53"/>
                      </a:lnTo>
                      <a:lnTo>
                        <a:pt x="252" y="53"/>
                      </a:lnTo>
                      <a:lnTo>
                        <a:pt x="243" y="59"/>
                      </a:lnTo>
                      <a:lnTo>
                        <a:pt x="230" y="63"/>
                      </a:lnTo>
                      <a:lnTo>
                        <a:pt x="221" y="63"/>
                      </a:lnTo>
                      <a:lnTo>
                        <a:pt x="208" y="68"/>
                      </a:lnTo>
                      <a:lnTo>
                        <a:pt x="199" y="68"/>
                      </a:lnTo>
                      <a:lnTo>
                        <a:pt x="186" y="68"/>
                      </a:lnTo>
                      <a:lnTo>
                        <a:pt x="172" y="68"/>
                      </a:lnTo>
                      <a:lnTo>
                        <a:pt x="164" y="68"/>
                      </a:lnTo>
                      <a:lnTo>
                        <a:pt x="155" y="72"/>
                      </a:lnTo>
                      <a:lnTo>
                        <a:pt x="142" y="72"/>
                      </a:lnTo>
                      <a:lnTo>
                        <a:pt x="128" y="72"/>
                      </a:lnTo>
                      <a:lnTo>
                        <a:pt x="115" y="72"/>
                      </a:lnTo>
                      <a:lnTo>
                        <a:pt x="102" y="72"/>
                      </a:lnTo>
                      <a:lnTo>
                        <a:pt x="93" y="72"/>
                      </a:lnTo>
                      <a:lnTo>
                        <a:pt x="79" y="72"/>
                      </a:lnTo>
                      <a:lnTo>
                        <a:pt x="66" y="72"/>
                      </a:lnTo>
                      <a:lnTo>
                        <a:pt x="52" y="68"/>
                      </a:lnTo>
                      <a:lnTo>
                        <a:pt x="44" y="68"/>
                      </a:lnTo>
                      <a:lnTo>
                        <a:pt x="30" y="68"/>
                      </a:lnTo>
                      <a:lnTo>
                        <a:pt x="17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102120" y="5599080"/>
                  <a:ext cx="127440" cy="52920"/>
                </a:xfrm>
                <a:custGeom>
                  <a:avLst/>
                  <a:gdLst/>
                  <a:ahLst/>
                  <a:rect l="0" t="0" r="r" b="b"/>
                  <a:pathLst>
                    <a:path w="354" h="147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17" y="22"/>
                      </a:lnTo>
                      <a:lnTo>
                        <a:pt x="22" y="30"/>
                      </a:lnTo>
                      <a:lnTo>
                        <a:pt x="30" y="40"/>
                      </a:lnTo>
                      <a:lnTo>
                        <a:pt x="39" y="45"/>
                      </a:lnTo>
                      <a:lnTo>
                        <a:pt x="48" y="53"/>
                      </a:lnTo>
                      <a:lnTo>
                        <a:pt x="57" y="58"/>
                      </a:lnTo>
                      <a:lnTo>
                        <a:pt x="66" y="67"/>
                      </a:lnTo>
                      <a:lnTo>
                        <a:pt x="74" y="71"/>
                      </a:lnTo>
                      <a:lnTo>
                        <a:pt x="89" y="80"/>
                      </a:lnTo>
                      <a:lnTo>
                        <a:pt x="98" y="84"/>
                      </a:lnTo>
                      <a:lnTo>
                        <a:pt x="111" y="93"/>
                      </a:lnTo>
                      <a:lnTo>
                        <a:pt x="120" y="98"/>
                      </a:lnTo>
                      <a:lnTo>
                        <a:pt x="128" y="102"/>
                      </a:lnTo>
                      <a:lnTo>
                        <a:pt x="142" y="106"/>
                      </a:lnTo>
                      <a:lnTo>
                        <a:pt x="155" y="112"/>
                      </a:lnTo>
                      <a:lnTo>
                        <a:pt x="164" y="116"/>
                      </a:lnTo>
                      <a:lnTo>
                        <a:pt x="177" y="121"/>
                      </a:lnTo>
                      <a:lnTo>
                        <a:pt x="186" y="125"/>
                      </a:lnTo>
                      <a:lnTo>
                        <a:pt x="199" y="129"/>
                      </a:lnTo>
                      <a:lnTo>
                        <a:pt x="212" y="129"/>
                      </a:lnTo>
                      <a:lnTo>
                        <a:pt x="225" y="134"/>
                      </a:lnTo>
                      <a:lnTo>
                        <a:pt x="234" y="138"/>
                      </a:lnTo>
                      <a:lnTo>
                        <a:pt x="247" y="138"/>
                      </a:lnTo>
                      <a:lnTo>
                        <a:pt x="261" y="143"/>
                      </a:lnTo>
                      <a:lnTo>
                        <a:pt x="275" y="143"/>
                      </a:lnTo>
                      <a:lnTo>
                        <a:pt x="288" y="143"/>
                      </a:lnTo>
                      <a:lnTo>
                        <a:pt x="301" y="147"/>
                      </a:lnTo>
                      <a:lnTo>
                        <a:pt x="315" y="147"/>
                      </a:lnTo>
                      <a:lnTo>
                        <a:pt x="328" y="147"/>
                      </a:lnTo>
                      <a:lnTo>
                        <a:pt x="341" y="147"/>
                      </a:lnTo>
                      <a:lnTo>
                        <a:pt x="354" y="147"/>
                      </a:lnTo>
                      <a:lnTo>
                        <a:pt x="354" y="143"/>
                      </a:lnTo>
                      <a:lnTo>
                        <a:pt x="341" y="143"/>
                      </a:lnTo>
                      <a:lnTo>
                        <a:pt x="328" y="143"/>
                      </a:lnTo>
                      <a:lnTo>
                        <a:pt x="315" y="143"/>
                      </a:lnTo>
                      <a:lnTo>
                        <a:pt x="301" y="143"/>
                      </a:lnTo>
                      <a:lnTo>
                        <a:pt x="288" y="138"/>
                      </a:lnTo>
                      <a:lnTo>
                        <a:pt x="275" y="138"/>
                      </a:lnTo>
                      <a:lnTo>
                        <a:pt x="266" y="134"/>
                      </a:lnTo>
                      <a:lnTo>
                        <a:pt x="247" y="134"/>
                      </a:lnTo>
                      <a:lnTo>
                        <a:pt x="239" y="129"/>
                      </a:lnTo>
                      <a:lnTo>
                        <a:pt x="225" y="129"/>
                      </a:lnTo>
                      <a:lnTo>
                        <a:pt x="212" y="125"/>
                      </a:lnTo>
                      <a:lnTo>
                        <a:pt x="199" y="121"/>
                      </a:lnTo>
                      <a:lnTo>
                        <a:pt x="190" y="116"/>
                      </a:lnTo>
                      <a:lnTo>
                        <a:pt x="177" y="116"/>
                      </a:lnTo>
                      <a:lnTo>
                        <a:pt x="168" y="112"/>
                      </a:lnTo>
                      <a:lnTo>
                        <a:pt x="155" y="106"/>
                      </a:lnTo>
                      <a:lnTo>
                        <a:pt x="142" y="98"/>
                      </a:lnTo>
                      <a:lnTo>
                        <a:pt x="133" y="98"/>
                      </a:lnTo>
                      <a:lnTo>
                        <a:pt x="124" y="93"/>
                      </a:lnTo>
                      <a:lnTo>
                        <a:pt x="111" y="84"/>
                      </a:lnTo>
                      <a:lnTo>
                        <a:pt x="98" y="80"/>
                      </a:lnTo>
                      <a:lnTo>
                        <a:pt x="89" y="75"/>
                      </a:lnTo>
                      <a:lnTo>
                        <a:pt x="79" y="67"/>
                      </a:lnTo>
                      <a:lnTo>
                        <a:pt x="70" y="62"/>
                      </a:lnTo>
                      <a:lnTo>
                        <a:pt x="61" y="53"/>
                      </a:lnTo>
                      <a:lnTo>
                        <a:pt x="52" y="49"/>
                      </a:lnTo>
                      <a:lnTo>
                        <a:pt x="44" y="40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22" y="17"/>
                      </a:lnTo>
                      <a:lnTo>
                        <a:pt x="13" y="8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60640" y="5559480"/>
                  <a:ext cx="449640" cy="178200"/>
                </a:xfrm>
                <a:custGeom>
                  <a:avLst/>
                  <a:gdLst/>
                  <a:ahLst/>
                  <a:rect l="0" t="0" r="r" b="b"/>
                  <a:pathLst>
                    <a:path w="1249" h="495">
                      <a:moveTo>
                        <a:pt x="79" y="336"/>
                      </a:moveTo>
                      <a:lnTo>
                        <a:pt x="1249" y="442"/>
                      </a:lnTo>
                      <a:lnTo>
                        <a:pt x="1249" y="495"/>
                      </a:lnTo>
                      <a:lnTo>
                        <a:pt x="79" y="390"/>
                      </a:lnTo>
                      <a:lnTo>
                        <a:pt x="79" y="336"/>
                      </a:lnTo>
                      <a:lnTo>
                        <a:pt x="4" y="0"/>
                      </a:lnTo>
                      <a:lnTo>
                        <a:pt x="1227" y="110"/>
                      </a:lnTo>
                      <a:lnTo>
                        <a:pt x="1219" y="168"/>
                      </a:lnTo>
                      <a:lnTo>
                        <a:pt x="0" y="48"/>
                      </a:lnTo>
                      <a:lnTo>
                        <a:pt x="4" y="0"/>
                      </a:lnTo>
                      <a:lnTo>
                        <a:pt x="79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30560" y="5640480"/>
                  <a:ext cx="230400" cy="41760"/>
                </a:xfrm>
                <a:custGeom>
                  <a:avLst/>
                  <a:gdLst/>
                  <a:ahLst/>
                  <a:rect l="0" t="0" r="r" b="b"/>
                  <a:pathLst>
                    <a:path w="640" h="116">
                      <a:moveTo>
                        <a:pt x="57" y="0"/>
                      </a:moveTo>
                      <a:lnTo>
                        <a:pt x="4" y="67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4" y="75"/>
                      </a:lnTo>
                      <a:lnTo>
                        <a:pt x="4" y="80"/>
                      </a:lnTo>
                      <a:lnTo>
                        <a:pt x="8" y="80"/>
                      </a:lnTo>
                      <a:lnTo>
                        <a:pt x="13" y="84"/>
                      </a:lnTo>
                      <a:lnTo>
                        <a:pt x="17" y="84"/>
                      </a:lnTo>
                      <a:lnTo>
                        <a:pt x="26" y="90"/>
                      </a:lnTo>
                      <a:lnTo>
                        <a:pt x="35" y="90"/>
                      </a:lnTo>
                      <a:lnTo>
                        <a:pt x="39" y="90"/>
                      </a:lnTo>
                      <a:lnTo>
                        <a:pt x="48" y="94"/>
                      </a:lnTo>
                      <a:lnTo>
                        <a:pt x="61" y="94"/>
                      </a:lnTo>
                      <a:lnTo>
                        <a:pt x="70" y="99"/>
                      </a:lnTo>
                      <a:lnTo>
                        <a:pt x="83" y="99"/>
                      </a:lnTo>
                      <a:lnTo>
                        <a:pt x="97" y="103"/>
                      </a:lnTo>
                      <a:lnTo>
                        <a:pt x="110" y="103"/>
                      </a:lnTo>
                      <a:lnTo>
                        <a:pt x="119" y="107"/>
                      </a:lnTo>
                      <a:lnTo>
                        <a:pt x="132" y="107"/>
                      </a:lnTo>
                      <a:lnTo>
                        <a:pt x="145" y="107"/>
                      </a:lnTo>
                      <a:lnTo>
                        <a:pt x="163" y="112"/>
                      </a:lnTo>
                      <a:lnTo>
                        <a:pt x="171" y="112"/>
                      </a:lnTo>
                      <a:lnTo>
                        <a:pt x="189" y="112"/>
                      </a:lnTo>
                      <a:lnTo>
                        <a:pt x="202" y="112"/>
                      </a:lnTo>
                      <a:lnTo>
                        <a:pt x="216" y="116"/>
                      </a:lnTo>
                      <a:lnTo>
                        <a:pt x="229" y="116"/>
                      </a:lnTo>
                      <a:lnTo>
                        <a:pt x="242" y="116"/>
                      </a:lnTo>
                      <a:lnTo>
                        <a:pt x="255" y="116"/>
                      </a:lnTo>
                      <a:lnTo>
                        <a:pt x="268" y="116"/>
                      </a:lnTo>
                      <a:lnTo>
                        <a:pt x="282" y="116"/>
                      </a:lnTo>
                      <a:lnTo>
                        <a:pt x="295" y="116"/>
                      </a:lnTo>
                      <a:lnTo>
                        <a:pt x="308" y="116"/>
                      </a:lnTo>
                      <a:lnTo>
                        <a:pt x="322" y="116"/>
                      </a:lnTo>
                      <a:lnTo>
                        <a:pt x="331" y="116"/>
                      </a:lnTo>
                      <a:lnTo>
                        <a:pt x="340" y="116"/>
                      </a:lnTo>
                      <a:lnTo>
                        <a:pt x="353" y="116"/>
                      </a:lnTo>
                      <a:lnTo>
                        <a:pt x="367" y="116"/>
                      </a:lnTo>
                      <a:lnTo>
                        <a:pt x="380" y="116"/>
                      </a:lnTo>
                      <a:lnTo>
                        <a:pt x="393" y="116"/>
                      </a:lnTo>
                      <a:lnTo>
                        <a:pt x="406" y="116"/>
                      </a:lnTo>
                      <a:lnTo>
                        <a:pt x="419" y="116"/>
                      </a:lnTo>
                      <a:lnTo>
                        <a:pt x="433" y="112"/>
                      </a:lnTo>
                      <a:lnTo>
                        <a:pt x="446" y="112"/>
                      </a:lnTo>
                      <a:lnTo>
                        <a:pt x="459" y="112"/>
                      </a:lnTo>
                      <a:lnTo>
                        <a:pt x="472" y="112"/>
                      </a:lnTo>
                      <a:lnTo>
                        <a:pt x="490" y="107"/>
                      </a:lnTo>
                      <a:lnTo>
                        <a:pt x="499" y="107"/>
                      </a:lnTo>
                      <a:lnTo>
                        <a:pt x="516" y="107"/>
                      </a:lnTo>
                      <a:lnTo>
                        <a:pt x="525" y="103"/>
                      </a:lnTo>
                      <a:lnTo>
                        <a:pt x="538" y="103"/>
                      </a:lnTo>
                      <a:lnTo>
                        <a:pt x="552" y="103"/>
                      </a:lnTo>
                      <a:lnTo>
                        <a:pt x="565" y="99"/>
                      </a:lnTo>
                      <a:lnTo>
                        <a:pt x="574" y="99"/>
                      </a:lnTo>
                      <a:lnTo>
                        <a:pt x="583" y="94"/>
                      </a:lnTo>
                      <a:lnTo>
                        <a:pt x="596" y="94"/>
                      </a:lnTo>
                      <a:lnTo>
                        <a:pt x="605" y="90"/>
                      </a:lnTo>
                      <a:lnTo>
                        <a:pt x="609" y="90"/>
                      </a:lnTo>
                      <a:lnTo>
                        <a:pt x="618" y="90"/>
                      </a:lnTo>
                      <a:lnTo>
                        <a:pt x="627" y="84"/>
                      </a:lnTo>
                      <a:lnTo>
                        <a:pt x="631" y="84"/>
                      </a:lnTo>
                      <a:lnTo>
                        <a:pt x="636" y="80"/>
                      </a:lnTo>
                      <a:lnTo>
                        <a:pt x="636" y="75"/>
                      </a:lnTo>
                      <a:lnTo>
                        <a:pt x="640" y="75"/>
                      </a:lnTo>
                      <a:lnTo>
                        <a:pt x="640" y="71"/>
                      </a:lnTo>
                      <a:lnTo>
                        <a:pt x="640" y="67"/>
                      </a:lnTo>
                      <a:lnTo>
                        <a:pt x="600" y="4"/>
                      </a:lnTo>
                      <a:lnTo>
                        <a:pt x="591" y="8"/>
                      </a:lnTo>
                      <a:lnTo>
                        <a:pt x="583" y="13"/>
                      </a:lnTo>
                      <a:lnTo>
                        <a:pt x="578" y="13"/>
                      </a:lnTo>
                      <a:lnTo>
                        <a:pt x="569" y="17"/>
                      </a:lnTo>
                      <a:lnTo>
                        <a:pt x="565" y="17"/>
                      </a:lnTo>
                      <a:lnTo>
                        <a:pt x="556" y="22"/>
                      </a:lnTo>
                      <a:lnTo>
                        <a:pt x="547" y="22"/>
                      </a:lnTo>
                      <a:lnTo>
                        <a:pt x="538" y="26"/>
                      </a:lnTo>
                      <a:lnTo>
                        <a:pt x="530" y="26"/>
                      </a:lnTo>
                      <a:lnTo>
                        <a:pt x="521" y="31"/>
                      </a:lnTo>
                      <a:lnTo>
                        <a:pt x="516" y="31"/>
                      </a:lnTo>
                      <a:lnTo>
                        <a:pt x="503" y="31"/>
                      </a:lnTo>
                      <a:lnTo>
                        <a:pt x="499" y="31"/>
                      </a:lnTo>
                      <a:lnTo>
                        <a:pt x="490" y="31"/>
                      </a:lnTo>
                      <a:lnTo>
                        <a:pt x="481" y="36"/>
                      </a:lnTo>
                      <a:lnTo>
                        <a:pt x="472" y="36"/>
                      </a:lnTo>
                      <a:lnTo>
                        <a:pt x="464" y="36"/>
                      </a:lnTo>
                      <a:lnTo>
                        <a:pt x="455" y="36"/>
                      </a:lnTo>
                      <a:lnTo>
                        <a:pt x="446" y="36"/>
                      </a:lnTo>
                      <a:lnTo>
                        <a:pt x="437" y="40"/>
                      </a:lnTo>
                      <a:lnTo>
                        <a:pt x="428" y="40"/>
                      </a:lnTo>
                      <a:lnTo>
                        <a:pt x="419" y="40"/>
                      </a:lnTo>
                      <a:lnTo>
                        <a:pt x="411" y="40"/>
                      </a:lnTo>
                      <a:lnTo>
                        <a:pt x="402" y="40"/>
                      </a:lnTo>
                      <a:lnTo>
                        <a:pt x="393" y="40"/>
                      </a:lnTo>
                      <a:lnTo>
                        <a:pt x="384" y="40"/>
                      </a:lnTo>
                      <a:lnTo>
                        <a:pt x="375" y="40"/>
                      </a:lnTo>
                      <a:lnTo>
                        <a:pt x="367" y="40"/>
                      </a:lnTo>
                      <a:lnTo>
                        <a:pt x="358" y="40"/>
                      </a:lnTo>
                      <a:lnTo>
                        <a:pt x="349" y="40"/>
                      </a:lnTo>
                      <a:lnTo>
                        <a:pt x="340" y="40"/>
                      </a:lnTo>
                      <a:lnTo>
                        <a:pt x="331" y="40"/>
                      </a:lnTo>
                      <a:lnTo>
                        <a:pt x="322" y="40"/>
                      </a:lnTo>
                      <a:lnTo>
                        <a:pt x="313" y="40"/>
                      </a:lnTo>
                      <a:lnTo>
                        <a:pt x="299" y="40"/>
                      </a:lnTo>
                      <a:lnTo>
                        <a:pt x="291" y="40"/>
                      </a:lnTo>
                      <a:lnTo>
                        <a:pt x="277" y="40"/>
                      </a:lnTo>
                      <a:lnTo>
                        <a:pt x="268" y="40"/>
                      </a:lnTo>
                      <a:lnTo>
                        <a:pt x="255" y="40"/>
                      </a:lnTo>
                      <a:lnTo>
                        <a:pt x="242" y="40"/>
                      </a:lnTo>
                      <a:lnTo>
                        <a:pt x="229" y="40"/>
                      </a:lnTo>
                      <a:lnTo>
                        <a:pt x="220" y="40"/>
                      </a:lnTo>
                      <a:lnTo>
                        <a:pt x="202" y="40"/>
                      </a:lnTo>
                      <a:lnTo>
                        <a:pt x="194" y="36"/>
                      </a:lnTo>
                      <a:lnTo>
                        <a:pt x="180" y="36"/>
                      </a:lnTo>
                      <a:lnTo>
                        <a:pt x="167" y="36"/>
                      </a:lnTo>
                      <a:lnTo>
                        <a:pt x="158" y="36"/>
                      </a:lnTo>
                      <a:lnTo>
                        <a:pt x="145" y="31"/>
                      </a:lnTo>
                      <a:lnTo>
                        <a:pt x="136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26"/>
                      </a:lnTo>
                      <a:lnTo>
                        <a:pt x="88" y="26"/>
                      </a:lnTo>
                      <a:lnTo>
                        <a:pt x="79" y="22"/>
                      </a:lnTo>
                      <a:lnTo>
                        <a:pt x="70" y="22"/>
                      </a:lnTo>
                      <a:lnTo>
                        <a:pt x="66" y="17"/>
                      </a:lnTo>
                      <a:lnTo>
                        <a:pt x="61" y="17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2" y="8"/>
                      </a:lnTo>
                      <a:lnTo>
                        <a:pt x="52" y="4"/>
                      </a:lnTo>
                      <a:lnTo>
                        <a:pt x="52" y="4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130560" y="564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8" y="72"/>
                      </a:moveTo>
                      <a:lnTo>
                        <a:pt x="8" y="72"/>
                      </a:lnTo>
                      <a:lnTo>
                        <a:pt x="72" y="5"/>
                      </a:lnTo>
                      <a:lnTo>
                        <a:pt x="63" y="0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130560" y="5670720"/>
                  <a:ext cx="113040" cy="25920"/>
                </a:xfrm>
                <a:custGeom>
                  <a:avLst/>
                  <a:gdLst/>
                  <a:ahLst/>
                  <a:rect l="0" t="0" r="r" b="b"/>
                  <a:pathLst>
                    <a:path w="314" h="72">
                      <a:moveTo>
                        <a:pt x="309" y="64"/>
                      </a:moveTo>
                      <a:lnTo>
                        <a:pt x="309" y="64"/>
                      </a:lnTo>
                      <a:lnTo>
                        <a:pt x="296" y="64"/>
                      </a:lnTo>
                      <a:lnTo>
                        <a:pt x="287" y="64"/>
                      </a:lnTo>
                      <a:lnTo>
                        <a:pt x="274" y="64"/>
                      </a:lnTo>
                      <a:lnTo>
                        <a:pt x="261" y="64"/>
                      </a:lnTo>
                      <a:lnTo>
                        <a:pt x="247" y="64"/>
                      </a:lnTo>
                      <a:lnTo>
                        <a:pt x="234" y="64"/>
                      </a:lnTo>
                      <a:lnTo>
                        <a:pt x="225" y="64"/>
                      </a:lnTo>
                      <a:lnTo>
                        <a:pt x="212" y="56"/>
                      </a:lnTo>
                      <a:lnTo>
                        <a:pt x="195" y="56"/>
                      </a:lnTo>
                      <a:lnTo>
                        <a:pt x="181" y="56"/>
                      </a:lnTo>
                      <a:lnTo>
                        <a:pt x="168" y="56"/>
                      </a:lnTo>
                      <a:lnTo>
                        <a:pt x="159" y="56"/>
                      </a:lnTo>
                      <a:lnTo>
                        <a:pt x="141" y="56"/>
                      </a:lnTo>
                      <a:lnTo>
                        <a:pt x="127" y="48"/>
                      </a:lnTo>
                      <a:lnTo>
                        <a:pt x="119" y="48"/>
                      </a:lnTo>
                      <a:lnTo>
                        <a:pt x="105" y="48"/>
                      </a:lnTo>
                      <a:lnTo>
                        <a:pt x="92" y="48"/>
                      </a:lnTo>
                      <a:lnTo>
                        <a:pt x="83" y="40"/>
                      </a:lnTo>
                      <a:lnTo>
                        <a:pt x="70" y="40"/>
                      </a:lnTo>
                      <a:lnTo>
                        <a:pt x="61" y="40"/>
                      </a:lnTo>
                      <a:lnTo>
                        <a:pt x="52" y="32"/>
                      </a:lnTo>
                      <a:lnTo>
                        <a:pt x="44" y="32"/>
                      </a:lnTo>
                      <a:lnTo>
                        <a:pt x="35" y="24"/>
                      </a:lnTo>
                      <a:lnTo>
                        <a:pt x="26" y="24"/>
                      </a:lnTo>
                      <a:lnTo>
                        <a:pt x="22" y="24"/>
                      </a:lnTo>
                      <a:lnTo>
                        <a:pt x="17" y="15"/>
                      </a:lnTo>
                      <a:lnTo>
                        <a:pt x="13" y="15"/>
                      </a:lnTo>
                      <a:lnTo>
                        <a:pt x="8" y="15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8" y="24"/>
                      </a:lnTo>
                      <a:lnTo>
                        <a:pt x="13" y="24"/>
                      </a:lnTo>
                      <a:lnTo>
                        <a:pt x="17" y="24"/>
                      </a:lnTo>
                      <a:lnTo>
                        <a:pt x="26" y="32"/>
                      </a:lnTo>
                      <a:lnTo>
                        <a:pt x="35" y="40"/>
                      </a:lnTo>
                      <a:lnTo>
                        <a:pt x="39" y="40"/>
                      </a:lnTo>
                      <a:lnTo>
                        <a:pt x="48" y="40"/>
                      </a:lnTo>
                      <a:lnTo>
                        <a:pt x="61" y="48"/>
                      </a:lnTo>
                      <a:lnTo>
                        <a:pt x="70" y="48"/>
                      </a:lnTo>
                      <a:lnTo>
                        <a:pt x="79" y="48"/>
                      </a:lnTo>
                      <a:lnTo>
                        <a:pt x="92" y="48"/>
                      </a:lnTo>
                      <a:lnTo>
                        <a:pt x="101" y="56"/>
                      </a:lnTo>
                      <a:lnTo>
                        <a:pt x="119" y="56"/>
                      </a:lnTo>
                      <a:lnTo>
                        <a:pt x="127" y="56"/>
                      </a:lnTo>
                      <a:lnTo>
                        <a:pt x="141" y="56"/>
                      </a:lnTo>
                      <a:lnTo>
                        <a:pt x="154" y="64"/>
                      </a:lnTo>
                      <a:lnTo>
                        <a:pt x="168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12" y="64"/>
                      </a:lnTo>
                      <a:lnTo>
                        <a:pt x="221" y="72"/>
                      </a:lnTo>
                      <a:lnTo>
                        <a:pt x="234" y="72"/>
                      </a:lnTo>
                      <a:lnTo>
                        <a:pt x="247" y="72"/>
                      </a:lnTo>
                      <a:lnTo>
                        <a:pt x="261" y="72"/>
                      </a:lnTo>
                      <a:lnTo>
                        <a:pt x="274" y="72"/>
                      </a:lnTo>
                      <a:lnTo>
                        <a:pt x="287" y="72"/>
                      </a:lnTo>
                      <a:lnTo>
                        <a:pt x="296" y="72"/>
                      </a:lnTo>
                      <a:lnTo>
                        <a:pt x="309" y="72"/>
                      </a:lnTo>
                      <a:lnTo>
                        <a:pt x="309" y="72"/>
                      </a:lnTo>
                      <a:lnTo>
                        <a:pt x="314" y="64"/>
                      </a:lnTo>
                      <a:lnTo>
                        <a:pt x="30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251160" y="5670720"/>
                  <a:ext cx="111600" cy="25920"/>
                </a:xfrm>
                <a:custGeom>
                  <a:avLst/>
                  <a:gdLst/>
                  <a:ahLst/>
                  <a:rect l="0" t="0" r="r" b="b"/>
                  <a:pathLst>
                    <a:path w="310" h="72">
                      <a:moveTo>
                        <a:pt x="306" y="7"/>
                      </a:moveTo>
                      <a:lnTo>
                        <a:pt x="301" y="7"/>
                      </a:lnTo>
                      <a:lnTo>
                        <a:pt x="306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1" y="15"/>
                      </a:lnTo>
                      <a:lnTo>
                        <a:pt x="297" y="15"/>
                      </a:lnTo>
                      <a:lnTo>
                        <a:pt x="293" y="24"/>
                      </a:lnTo>
                      <a:lnTo>
                        <a:pt x="284" y="24"/>
                      </a:lnTo>
                      <a:lnTo>
                        <a:pt x="279" y="24"/>
                      </a:lnTo>
                      <a:lnTo>
                        <a:pt x="270" y="32"/>
                      </a:lnTo>
                      <a:lnTo>
                        <a:pt x="262" y="32"/>
                      </a:lnTo>
                      <a:lnTo>
                        <a:pt x="253" y="40"/>
                      </a:lnTo>
                      <a:lnTo>
                        <a:pt x="244" y="40"/>
                      </a:lnTo>
                      <a:lnTo>
                        <a:pt x="235" y="40"/>
                      </a:lnTo>
                      <a:lnTo>
                        <a:pt x="221" y="48"/>
                      </a:lnTo>
                      <a:lnTo>
                        <a:pt x="212" y="48"/>
                      </a:lnTo>
                      <a:lnTo>
                        <a:pt x="199" y="48"/>
                      </a:lnTo>
                      <a:lnTo>
                        <a:pt x="186" y="48"/>
                      </a:lnTo>
                      <a:lnTo>
                        <a:pt x="172" y="48"/>
                      </a:lnTo>
                      <a:lnTo>
                        <a:pt x="159" y="56"/>
                      </a:lnTo>
                      <a:lnTo>
                        <a:pt x="146" y="56"/>
                      </a:lnTo>
                      <a:lnTo>
                        <a:pt x="133" y="56"/>
                      </a:lnTo>
                      <a:lnTo>
                        <a:pt x="124" y="56"/>
                      </a:lnTo>
                      <a:lnTo>
                        <a:pt x="111" y="56"/>
                      </a:lnTo>
                      <a:lnTo>
                        <a:pt x="93" y="56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7" y="64"/>
                      </a:lnTo>
                      <a:lnTo>
                        <a:pt x="44" y="64"/>
                      </a:lnTo>
                      <a:lnTo>
                        <a:pt x="30" y="64"/>
                      </a:lnTo>
                      <a:lnTo>
                        <a:pt x="22" y="64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44" y="72"/>
                      </a:lnTo>
                      <a:lnTo>
                        <a:pt x="57" y="72"/>
                      </a:lnTo>
                      <a:lnTo>
                        <a:pt x="70" y="72"/>
                      </a:lnTo>
                      <a:lnTo>
                        <a:pt x="84" y="64"/>
                      </a:lnTo>
                      <a:lnTo>
                        <a:pt x="93" y="64"/>
                      </a:lnTo>
                      <a:lnTo>
                        <a:pt x="111" y="64"/>
                      </a:lnTo>
                      <a:lnTo>
                        <a:pt x="124" y="64"/>
                      </a:lnTo>
                      <a:lnTo>
                        <a:pt x="133" y="64"/>
                      </a:lnTo>
                      <a:lnTo>
                        <a:pt x="146" y="64"/>
                      </a:lnTo>
                      <a:lnTo>
                        <a:pt x="164" y="64"/>
                      </a:lnTo>
                      <a:lnTo>
                        <a:pt x="172" y="56"/>
                      </a:lnTo>
                      <a:lnTo>
                        <a:pt x="186" y="56"/>
                      </a:lnTo>
                      <a:lnTo>
                        <a:pt x="199" y="56"/>
                      </a:lnTo>
                      <a:lnTo>
                        <a:pt x="212" y="56"/>
                      </a:lnTo>
                      <a:lnTo>
                        <a:pt x="221" y="48"/>
                      </a:lnTo>
                      <a:lnTo>
                        <a:pt x="235" y="48"/>
                      </a:lnTo>
                      <a:lnTo>
                        <a:pt x="244" y="48"/>
                      </a:lnTo>
                      <a:lnTo>
                        <a:pt x="253" y="40"/>
                      </a:lnTo>
                      <a:lnTo>
                        <a:pt x="266" y="40"/>
                      </a:lnTo>
                      <a:lnTo>
                        <a:pt x="275" y="40"/>
                      </a:lnTo>
                      <a:lnTo>
                        <a:pt x="279" y="32"/>
                      </a:lnTo>
                      <a:lnTo>
                        <a:pt x="288" y="32"/>
                      </a:lnTo>
                      <a:lnTo>
                        <a:pt x="293" y="24"/>
                      </a:lnTo>
                      <a:lnTo>
                        <a:pt x="301" y="24"/>
                      </a:lnTo>
                      <a:lnTo>
                        <a:pt x="301" y="24"/>
                      </a:lnTo>
                      <a:lnTo>
                        <a:pt x="306" y="15"/>
                      </a:lnTo>
                      <a:lnTo>
                        <a:pt x="310" y="15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1" y="7"/>
                      </a:lnTo>
                      <a:lnTo>
                        <a:pt x="30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35448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4" y="5"/>
                      </a:moveTo>
                      <a:lnTo>
                        <a:pt x="0" y="5"/>
                      </a:lnTo>
                      <a:lnTo>
                        <a:pt x="58" y="72"/>
                      </a:lnTo>
                      <a:lnTo>
                        <a:pt x="72" y="6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52960" y="564372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44" y="72"/>
                      </a:lnTo>
                      <a:lnTo>
                        <a:pt x="52" y="72"/>
                      </a:lnTo>
                      <a:lnTo>
                        <a:pt x="61" y="72"/>
                      </a:lnTo>
                      <a:lnTo>
                        <a:pt x="70" y="72"/>
                      </a:lnTo>
                      <a:lnTo>
                        <a:pt x="79" y="72"/>
                      </a:lnTo>
                      <a:lnTo>
                        <a:pt x="88" y="72"/>
                      </a:lnTo>
                      <a:lnTo>
                        <a:pt x="97" y="72"/>
                      </a:lnTo>
                      <a:lnTo>
                        <a:pt x="105" y="72"/>
                      </a:lnTo>
                      <a:lnTo>
                        <a:pt x="110" y="58"/>
                      </a:lnTo>
                      <a:lnTo>
                        <a:pt x="119" y="58"/>
                      </a:lnTo>
                      <a:lnTo>
                        <a:pt x="133" y="58"/>
                      </a:lnTo>
                      <a:lnTo>
                        <a:pt x="137" y="58"/>
                      </a:lnTo>
                      <a:lnTo>
                        <a:pt x="146" y="58"/>
                      </a:lnTo>
                      <a:lnTo>
                        <a:pt x="155" y="58"/>
                      </a:lnTo>
                      <a:lnTo>
                        <a:pt x="164" y="58"/>
                      </a:lnTo>
                      <a:lnTo>
                        <a:pt x="168" y="58"/>
                      </a:lnTo>
                      <a:lnTo>
                        <a:pt x="177" y="58"/>
                      </a:lnTo>
                      <a:lnTo>
                        <a:pt x="186" y="43"/>
                      </a:lnTo>
                      <a:lnTo>
                        <a:pt x="195" y="43"/>
                      </a:lnTo>
                      <a:lnTo>
                        <a:pt x="203" y="43"/>
                      </a:lnTo>
                      <a:lnTo>
                        <a:pt x="212" y="43"/>
                      </a:lnTo>
                      <a:lnTo>
                        <a:pt x="217" y="43"/>
                      </a:lnTo>
                      <a:lnTo>
                        <a:pt x="225" y="29"/>
                      </a:lnTo>
                      <a:lnTo>
                        <a:pt x="230" y="29"/>
                      </a:lnTo>
                      <a:lnTo>
                        <a:pt x="239" y="29"/>
                      </a:lnTo>
                      <a:lnTo>
                        <a:pt x="247" y="14"/>
                      </a:lnTo>
                      <a:lnTo>
                        <a:pt x="252" y="14"/>
                      </a:lnTo>
                      <a:lnTo>
                        <a:pt x="261" y="14"/>
                      </a:lnTo>
                      <a:lnTo>
                        <a:pt x="256" y="0"/>
                      </a:lnTo>
                      <a:lnTo>
                        <a:pt x="252" y="0"/>
                      </a:lnTo>
                      <a:lnTo>
                        <a:pt x="243" y="14"/>
                      </a:lnTo>
                      <a:lnTo>
                        <a:pt x="239" y="14"/>
                      </a:lnTo>
                      <a:lnTo>
                        <a:pt x="230" y="14"/>
                      </a:lnTo>
                      <a:lnTo>
                        <a:pt x="221" y="29"/>
                      </a:lnTo>
                      <a:lnTo>
                        <a:pt x="217" y="29"/>
                      </a:lnTo>
                      <a:lnTo>
                        <a:pt x="208" y="29"/>
                      </a:lnTo>
                      <a:lnTo>
                        <a:pt x="203" y="29"/>
                      </a:lnTo>
                      <a:lnTo>
                        <a:pt x="190" y="43"/>
                      </a:lnTo>
                      <a:lnTo>
                        <a:pt x="186" y="43"/>
                      </a:lnTo>
                      <a:lnTo>
                        <a:pt x="177" y="43"/>
                      </a:lnTo>
                      <a:lnTo>
                        <a:pt x="168" y="43"/>
                      </a:lnTo>
                      <a:lnTo>
                        <a:pt x="159" y="43"/>
                      </a:lnTo>
                      <a:lnTo>
                        <a:pt x="155" y="43"/>
                      </a:lnTo>
                      <a:lnTo>
                        <a:pt x="146" y="43"/>
                      </a:lnTo>
                      <a:lnTo>
                        <a:pt x="137" y="58"/>
                      </a:lnTo>
                      <a:lnTo>
                        <a:pt x="127" y="58"/>
                      </a:lnTo>
                      <a:lnTo>
                        <a:pt x="119" y="58"/>
                      </a:lnTo>
                      <a:lnTo>
                        <a:pt x="110" y="58"/>
                      </a:lnTo>
                      <a:lnTo>
                        <a:pt x="101" y="58"/>
                      </a:lnTo>
                      <a:lnTo>
                        <a:pt x="97" y="58"/>
                      </a:lnTo>
                      <a:lnTo>
                        <a:pt x="88" y="58"/>
                      </a:lnTo>
                      <a:lnTo>
                        <a:pt x="79" y="58"/>
                      </a:lnTo>
                      <a:lnTo>
                        <a:pt x="70" y="58"/>
                      </a:lnTo>
                      <a:lnTo>
                        <a:pt x="61" y="58"/>
                      </a:lnTo>
                      <a:lnTo>
                        <a:pt x="52" y="58"/>
                      </a:lnTo>
                      <a:lnTo>
                        <a:pt x="44" y="58"/>
                      </a:lnTo>
                      <a:lnTo>
                        <a:pt x="35" y="58"/>
                      </a:lnTo>
                      <a:lnTo>
                        <a:pt x="30" y="58"/>
                      </a:lnTo>
                      <a:lnTo>
                        <a:pt x="22" y="58"/>
                      </a:lnTo>
                      <a:lnTo>
                        <a:pt x="13" y="58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149640" y="5640480"/>
                  <a:ext cx="97200" cy="25920"/>
                </a:xfrm>
                <a:custGeom>
                  <a:avLst/>
                  <a:gdLst/>
                  <a:ahLst/>
                  <a:rect l="0" t="0" r="r" b="b"/>
                  <a:pathLst>
                    <a:path w="270" h="72">
                      <a:moveTo>
                        <a:pt x="8" y="1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8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2" y="41"/>
                      </a:lnTo>
                      <a:lnTo>
                        <a:pt x="30" y="41"/>
                      </a:lnTo>
                      <a:lnTo>
                        <a:pt x="35" y="41"/>
                      </a:lnTo>
                      <a:lnTo>
                        <a:pt x="44" y="51"/>
                      </a:lnTo>
                      <a:lnTo>
                        <a:pt x="52" y="51"/>
                      </a:lnTo>
                      <a:lnTo>
                        <a:pt x="61" y="51"/>
                      </a:lnTo>
                      <a:lnTo>
                        <a:pt x="71" y="51"/>
                      </a:lnTo>
                      <a:lnTo>
                        <a:pt x="84" y="51"/>
                      </a:lnTo>
                      <a:lnTo>
                        <a:pt x="93" y="62"/>
                      </a:lnTo>
                      <a:lnTo>
                        <a:pt x="102" y="62"/>
                      </a:lnTo>
                      <a:lnTo>
                        <a:pt x="115" y="62"/>
                      </a:lnTo>
                      <a:lnTo>
                        <a:pt x="124" y="62"/>
                      </a:lnTo>
                      <a:lnTo>
                        <a:pt x="137" y="62"/>
                      </a:lnTo>
                      <a:lnTo>
                        <a:pt x="150" y="62"/>
                      </a:lnTo>
                      <a:lnTo>
                        <a:pt x="164" y="62"/>
                      </a:lnTo>
                      <a:lnTo>
                        <a:pt x="172" y="72"/>
                      </a:lnTo>
                      <a:lnTo>
                        <a:pt x="186" y="72"/>
                      </a:lnTo>
                      <a:lnTo>
                        <a:pt x="195" y="72"/>
                      </a:lnTo>
                      <a:lnTo>
                        <a:pt x="209" y="72"/>
                      </a:lnTo>
                      <a:lnTo>
                        <a:pt x="222" y="72"/>
                      </a:lnTo>
                      <a:lnTo>
                        <a:pt x="231" y="72"/>
                      </a:lnTo>
                      <a:lnTo>
                        <a:pt x="240" y="72"/>
                      </a:lnTo>
                      <a:lnTo>
                        <a:pt x="253" y="72"/>
                      </a:lnTo>
                      <a:lnTo>
                        <a:pt x="262" y="72"/>
                      </a:lnTo>
                      <a:lnTo>
                        <a:pt x="270" y="72"/>
                      </a:lnTo>
                      <a:lnTo>
                        <a:pt x="270" y="62"/>
                      </a:lnTo>
                      <a:lnTo>
                        <a:pt x="262" y="62"/>
                      </a:lnTo>
                      <a:lnTo>
                        <a:pt x="253" y="62"/>
                      </a:lnTo>
                      <a:lnTo>
                        <a:pt x="240" y="62"/>
                      </a:lnTo>
                      <a:lnTo>
                        <a:pt x="231" y="62"/>
                      </a:lnTo>
                      <a:lnTo>
                        <a:pt x="222" y="62"/>
                      </a:lnTo>
                      <a:lnTo>
                        <a:pt x="209" y="62"/>
                      </a:lnTo>
                      <a:lnTo>
                        <a:pt x="195" y="62"/>
                      </a:lnTo>
                      <a:lnTo>
                        <a:pt x="186" y="62"/>
                      </a:lnTo>
                      <a:lnTo>
                        <a:pt x="172" y="62"/>
                      </a:lnTo>
                      <a:lnTo>
                        <a:pt x="164" y="51"/>
                      </a:lnTo>
                      <a:lnTo>
                        <a:pt x="150" y="51"/>
                      </a:lnTo>
                      <a:lnTo>
                        <a:pt x="137" y="51"/>
                      </a:lnTo>
                      <a:lnTo>
                        <a:pt x="124" y="51"/>
                      </a:lnTo>
                      <a:lnTo>
                        <a:pt x="115" y="51"/>
                      </a:lnTo>
                      <a:lnTo>
                        <a:pt x="106" y="51"/>
                      </a:lnTo>
                      <a:lnTo>
                        <a:pt x="93" y="51"/>
                      </a:lnTo>
                      <a:lnTo>
                        <a:pt x="84" y="51"/>
                      </a:lnTo>
                      <a:lnTo>
                        <a:pt x="75" y="51"/>
                      </a:lnTo>
                      <a:lnTo>
                        <a:pt x="61" y="41"/>
                      </a:lnTo>
                      <a:lnTo>
                        <a:pt x="52" y="41"/>
                      </a:lnTo>
                      <a:lnTo>
                        <a:pt x="44" y="41"/>
                      </a:lnTo>
                      <a:lnTo>
                        <a:pt x="39" y="41"/>
                      </a:lnTo>
                      <a:lnTo>
                        <a:pt x="30" y="31"/>
                      </a:lnTo>
                      <a:lnTo>
                        <a:pt x="26" y="31"/>
                      </a:lnTo>
                      <a:lnTo>
                        <a:pt x="17" y="31"/>
                      </a:lnTo>
                      <a:lnTo>
                        <a:pt x="17" y="21"/>
                      </a:lnTo>
                      <a:lnTo>
                        <a:pt x="13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4" y="0"/>
                      </a:lnTo>
                      <a:lnTo>
                        <a:pt x="8" y="1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15108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4" y="0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99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71" y="43"/>
                      </a:lnTo>
                      <a:lnTo>
                        <a:pt x="62" y="43"/>
                      </a:lnTo>
                      <a:lnTo>
                        <a:pt x="58" y="43"/>
                      </a:lnTo>
                      <a:lnTo>
                        <a:pt x="49" y="29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26" y="14"/>
                      </a:lnTo>
                      <a:lnTo>
                        <a:pt x="17" y="14"/>
                      </a:lnTo>
                      <a:lnTo>
                        <a:pt x="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15108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129" y="72"/>
                      </a:move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67" y="58"/>
                      </a:lnTo>
                      <a:lnTo>
                        <a:pt x="53" y="58"/>
                      </a:lnTo>
                      <a:lnTo>
                        <a:pt x="45" y="58"/>
                      </a:lnTo>
                      <a:lnTo>
                        <a:pt x="30" y="43"/>
                      </a:lnTo>
                      <a:lnTo>
                        <a:pt x="22" y="43"/>
                      </a:lnTo>
                      <a:lnTo>
                        <a:pt x="13" y="43"/>
                      </a:lnTo>
                      <a:lnTo>
                        <a:pt x="8" y="29"/>
                      </a:lnTo>
                      <a:lnTo>
                        <a:pt x="4" y="29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152880" y="5640480"/>
                  <a:ext cx="44640" cy="25920"/>
                </a:xfrm>
                <a:custGeom>
                  <a:avLst/>
                  <a:gdLst/>
                  <a:ahLst/>
                  <a:rect l="0" t="0" r="r" b="b"/>
                  <a:pathLst>
                    <a:path w="124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13" y="14"/>
                      </a:lnTo>
                      <a:lnTo>
                        <a:pt x="22" y="14"/>
                      </a:lnTo>
                      <a:lnTo>
                        <a:pt x="30" y="29"/>
                      </a:lnTo>
                      <a:lnTo>
                        <a:pt x="35" y="29"/>
                      </a:lnTo>
                      <a:lnTo>
                        <a:pt x="44" y="29"/>
                      </a:lnTo>
                      <a:lnTo>
                        <a:pt x="52" y="43"/>
                      </a:lnTo>
                      <a:lnTo>
                        <a:pt x="57" y="43"/>
                      </a:lnTo>
                      <a:lnTo>
                        <a:pt x="67" y="43"/>
                      </a:lnTo>
                      <a:lnTo>
                        <a:pt x="75" y="58"/>
                      </a:lnTo>
                      <a:lnTo>
                        <a:pt x="84" y="58"/>
                      </a:lnTo>
                      <a:lnTo>
                        <a:pt x="93" y="58"/>
                      </a:lnTo>
                      <a:lnTo>
                        <a:pt x="98" y="58"/>
                      </a:lnTo>
                      <a:lnTo>
                        <a:pt x="106" y="72"/>
                      </a:lnTo>
                      <a:lnTo>
                        <a:pt x="115" y="72"/>
                      </a:lnTo>
                      <a:lnTo>
                        <a:pt x="124" y="72"/>
                      </a:lnTo>
                      <a:lnTo>
                        <a:pt x="115" y="72"/>
                      </a:lnTo>
                      <a:lnTo>
                        <a:pt x="106" y="58"/>
                      </a:lnTo>
                      <a:lnTo>
                        <a:pt x="98" y="58"/>
                      </a:lnTo>
                      <a:lnTo>
                        <a:pt x="93" y="58"/>
                      </a:lnTo>
                      <a:lnTo>
                        <a:pt x="84" y="58"/>
                      </a:lnTo>
                      <a:lnTo>
                        <a:pt x="75" y="58"/>
                      </a:lnTo>
                      <a:lnTo>
                        <a:pt x="67" y="43"/>
                      </a:lnTo>
                      <a:lnTo>
                        <a:pt x="57" y="43"/>
                      </a:lnTo>
                      <a:lnTo>
                        <a:pt x="52" y="43"/>
                      </a:lnTo>
                      <a:lnTo>
                        <a:pt x="44" y="29"/>
                      </a:lnTo>
                      <a:lnTo>
                        <a:pt x="35" y="29"/>
                      </a:lnTo>
                      <a:lnTo>
                        <a:pt x="30" y="29"/>
                      </a:lnTo>
                      <a:lnTo>
                        <a:pt x="22" y="14"/>
                      </a:lnTo>
                      <a:lnTo>
                        <a:pt x="13" y="14"/>
                      </a:lnTo>
                      <a:lnTo>
                        <a:pt x="4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3360" y="5618160"/>
                <a:ext cx="836640" cy="4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48" name=""/>
          <p:cNvGrpSpPr/>
          <p:nvPr/>
        </p:nvGrpSpPr>
        <p:grpSpPr>
          <a:xfrm>
            <a:off x="3848040" y="4657680"/>
            <a:ext cx="1057320" cy="1363680"/>
            <a:chOff x="3848040" y="4657680"/>
            <a:chExt cx="1057320" cy="1363680"/>
          </a:xfrm>
        </p:grpSpPr>
        <p:sp>
          <p:nvSpPr>
            <p:cNvPr id="449" name=""/>
            <p:cNvSpPr/>
            <p:nvPr/>
          </p:nvSpPr>
          <p:spPr>
            <a:xfrm>
              <a:off x="4394160" y="4657680"/>
              <a:ext cx="0" cy="420840"/>
            </a:xfrm>
            <a:prstGeom prst="line">
              <a:avLst/>
            </a:prstGeom>
            <a:ln w="2556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848040" y="5065560"/>
              <a:ext cx="1057320" cy="955800"/>
              <a:chOff x="3848040" y="5065560"/>
              <a:chExt cx="1057320" cy="9558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3848040" y="5657760"/>
                <a:ext cx="329040" cy="167400"/>
                <a:chOff x="3848040" y="5657760"/>
                <a:chExt cx="329040" cy="1674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52880" y="5665680"/>
                  <a:ext cx="98640" cy="25920"/>
                </a:xfrm>
                <a:custGeom>
                  <a:avLst/>
                  <a:gdLst/>
                  <a:ahLst/>
                  <a:rect l="0" t="0" r="r" b="b"/>
                  <a:pathLst>
                    <a:path w="274" h="72">
                      <a:moveTo>
                        <a:pt x="265" y="0"/>
                      </a:moveTo>
                      <a:lnTo>
                        <a:pt x="256" y="4"/>
                      </a:lnTo>
                      <a:lnTo>
                        <a:pt x="252" y="8"/>
                      </a:lnTo>
                      <a:lnTo>
                        <a:pt x="243" y="13"/>
                      </a:lnTo>
                      <a:lnTo>
                        <a:pt x="234" y="17"/>
                      </a:lnTo>
                      <a:lnTo>
                        <a:pt x="230" y="23"/>
                      </a:lnTo>
                      <a:lnTo>
                        <a:pt x="221" y="23"/>
                      </a:lnTo>
                      <a:lnTo>
                        <a:pt x="212" y="23"/>
                      </a:lnTo>
                      <a:lnTo>
                        <a:pt x="203" y="27"/>
                      </a:lnTo>
                      <a:lnTo>
                        <a:pt x="195" y="27"/>
                      </a:lnTo>
                      <a:lnTo>
                        <a:pt x="186" y="27"/>
                      </a:lnTo>
                      <a:lnTo>
                        <a:pt x="177" y="27"/>
                      </a:lnTo>
                      <a:lnTo>
                        <a:pt x="168" y="31"/>
                      </a:lnTo>
                      <a:lnTo>
                        <a:pt x="159" y="31"/>
                      </a:lnTo>
                      <a:lnTo>
                        <a:pt x="150" y="31"/>
                      </a:lnTo>
                      <a:lnTo>
                        <a:pt x="142" y="31"/>
                      </a:lnTo>
                      <a:lnTo>
                        <a:pt x="132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31"/>
                      </a:lnTo>
                      <a:lnTo>
                        <a:pt x="88" y="36"/>
                      </a:lnTo>
                      <a:lnTo>
                        <a:pt x="79" y="36"/>
                      </a:lnTo>
                      <a:lnTo>
                        <a:pt x="70" y="36"/>
                      </a:lnTo>
                      <a:lnTo>
                        <a:pt x="61" y="36"/>
                      </a:lnTo>
                      <a:lnTo>
                        <a:pt x="52" y="40"/>
                      </a:lnTo>
                      <a:lnTo>
                        <a:pt x="44" y="40"/>
                      </a:lnTo>
                      <a:lnTo>
                        <a:pt x="39" y="45"/>
                      </a:lnTo>
                      <a:lnTo>
                        <a:pt x="30" y="45"/>
                      </a:lnTo>
                      <a:lnTo>
                        <a:pt x="22" y="49"/>
                      </a:lnTo>
                      <a:lnTo>
                        <a:pt x="13" y="53"/>
                      </a:lnTo>
                      <a:lnTo>
                        <a:pt x="8" y="59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4" y="6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8" y="72"/>
                      </a:lnTo>
                      <a:lnTo>
                        <a:pt x="8" y="72"/>
                      </a:lnTo>
                      <a:lnTo>
                        <a:pt x="17" y="68"/>
                      </a:lnTo>
                      <a:lnTo>
                        <a:pt x="22" y="63"/>
                      </a:lnTo>
                      <a:lnTo>
                        <a:pt x="30" y="59"/>
                      </a:lnTo>
                      <a:lnTo>
                        <a:pt x="39" y="53"/>
                      </a:lnTo>
                      <a:lnTo>
                        <a:pt x="48" y="53"/>
                      </a:lnTo>
                      <a:lnTo>
                        <a:pt x="57" y="49"/>
                      </a:lnTo>
                      <a:lnTo>
                        <a:pt x="61" y="49"/>
                      </a:lnTo>
                      <a:lnTo>
                        <a:pt x="70" y="45"/>
                      </a:lnTo>
                      <a:lnTo>
                        <a:pt x="79" y="45"/>
                      </a:lnTo>
                      <a:lnTo>
                        <a:pt x="88" y="45"/>
                      </a:lnTo>
                      <a:lnTo>
                        <a:pt x="97" y="45"/>
                      </a:lnTo>
                      <a:lnTo>
                        <a:pt x="105" y="45"/>
                      </a:lnTo>
                      <a:lnTo>
                        <a:pt x="114" y="45"/>
                      </a:lnTo>
                      <a:lnTo>
                        <a:pt x="123" y="40"/>
                      </a:lnTo>
                      <a:lnTo>
                        <a:pt x="132" y="40"/>
                      </a:lnTo>
                      <a:lnTo>
                        <a:pt x="142" y="40"/>
                      </a:lnTo>
                      <a:lnTo>
                        <a:pt x="150" y="40"/>
                      </a:lnTo>
                      <a:lnTo>
                        <a:pt x="159" y="40"/>
                      </a:lnTo>
                      <a:lnTo>
                        <a:pt x="168" y="40"/>
                      </a:lnTo>
                      <a:lnTo>
                        <a:pt x="177" y="40"/>
                      </a:lnTo>
                      <a:lnTo>
                        <a:pt x="186" y="40"/>
                      </a:lnTo>
                      <a:lnTo>
                        <a:pt x="195" y="36"/>
                      </a:lnTo>
                      <a:lnTo>
                        <a:pt x="203" y="36"/>
                      </a:lnTo>
                      <a:lnTo>
                        <a:pt x="212" y="36"/>
                      </a:lnTo>
                      <a:lnTo>
                        <a:pt x="221" y="36"/>
                      </a:lnTo>
                      <a:lnTo>
                        <a:pt x="230" y="31"/>
                      </a:lnTo>
                      <a:lnTo>
                        <a:pt x="234" y="27"/>
                      </a:lnTo>
                      <a:lnTo>
                        <a:pt x="243" y="27"/>
                      </a:lnTo>
                      <a:lnTo>
                        <a:pt x="252" y="23"/>
                      </a:lnTo>
                      <a:lnTo>
                        <a:pt x="261" y="17"/>
                      </a:lnTo>
                      <a:lnTo>
                        <a:pt x="269" y="13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69" y="8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65" y="4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052880" y="566568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8" y="67"/>
                      </a:lnTo>
                      <a:lnTo>
                        <a:pt x="13" y="61"/>
                      </a:lnTo>
                      <a:lnTo>
                        <a:pt x="22" y="56"/>
                      </a:lnTo>
                      <a:lnTo>
                        <a:pt x="30" y="49"/>
                      </a:lnTo>
                      <a:lnTo>
                        <a:pt x="35" y="49"/>
                      </a:lnTo>
                      <a:lnTo>
                        <a:pt x="44" y="44"/>
                      </a:lnTo>
                      <a:lnTo>
                        <a:pt x="52" y="44"/>
                      </a:lnTo>
                      <a:lnTo>
                        <a:pt x="61" y="38"/>
                      </a:lnTo>
                      <a:lnTo>
                        <a:pt x="70" y="38"/>
                      </a:lnTo>
                      <a:lnTo>
                        <a:pt x="79" y="38"/>
                      </a:lnTo>
                      <a:lnTo>
                        <a:pt x="83" y="38"/>
                      </a:lnTo>
                      <a:lnTo>
                        <a:pt x="97" y="38"/>
                      </a:lnTo>
                      <a:lnTo>
                        <a:pt x="101" y="38"/>
                      </a:lnTo>
                      <a:lnTo>
                        <a:pt x="114" y="33"/>
                      </a:lnTo>
                      <a:lnTo>
                        <a:pt x="119" y="33"/>
                      </a:lnTo>
                      <a:lnTo>
                        <a:pt x="133" y="33"/>
                      </a:lnTo>
                      <a:lnTo>
                        <a:pt x="137" y="33"/>
                      </a:lnTo>
                      <a:lnTo>
                        <a:pt x="146" y="33"/>
                      </a:lnTo>
                      <a:lnTo>
                        <a:pt x="155" y="33"/>
                      </a:lnTo>
                      <a:lnTo>
                        <a:pt x="164" y="33"/>
                      </a:lnTo>
                      <a:lnTo>
                        <a:pt x="172" y="33"/>
                      </a:lnTo>
                      <a:lnTo>
                        <a:pt x="181" y="33"/>
                      </a:lnTo>
                      <a:lnTo>
                        <a:pt x="190" y="33"/>
                      </a:lnTo>
                      <a:lnTo>
                        <a:pt x="199" y="28"/>
                      </a:lnTo>
                      <a:lnTo>
                        <a:pt x="208" y="28"/>
                      </a:lnTo>
                      <a:lnTo>
                        <a:pt x="212" y="28"/>
                      </a:lnTo>
                      <a:lnTo>
                        <a:pt x="225" y="22"/>
                      </a:lnTo>
                      <a:lnTo>
                        <a:pt x="230" y="22"/>
                      </a:lnTo>
                      <a:lnTo>
                        <a:pt x="239" y="16"/>
                      </a:lnTo>
                      <a:lnTo>
                        <a:pt x="243" y="10"/>
                      </a:lnTo>
                      <a:lnTo>
                        <a:pt x="252" y="5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52" y="5"/>
                      </a:lnTo>
                      <a:lnTo>
                        <a:pt x="243" y="10"/>
                      </a:lnTo>
                      <a:lnTo>
                        <a:pt x="239" y="16"/>
                      </a:lnTo>
                      <a:lnTo>
                        <a:pt x="230" y="22"/>
                      </a:lnTo>
                      <a:lnTo>
                        <a:pt x="225" y="22"/>
                      </a:lnTo>
                      <a:lnTo>
                        <a:pt x="217" y="28"/>
                      </a:lnTo>
                      <a:lnTo>
                        <a:pt x="208" y="28"/>
                      </a:lnTo>
                      <a:lnTo>
                        <a:pt x="199" y="33"/>
                      </a:lnTo>
                      <a:lnTo>
                        <a:pt x="190" y="33"/>
                      </a:lnTo>
                      <a:lnTo>
                        <a:pt x="181" y="33"/>
                      </a:lnTo>
                      <a:lnTo>
                        <a:pt x="172" y="33"/>
                      </a:lnTo>
                      <a:lnTo>
                        <a:pt x="164" y="33"/>
                      </a:lnTo>
                      <a:lnTo>
                        <a:pt x="155" y="33"/>
                      </a:lnTo>
                      <a:lnTo>
                        <a:pt x="146" y="33"/>
                      </a:lnTo>
                      <a:lnTo>
                        <a:pt x="137" y="38"/>
                      </a:lnTo>
                      <a:lnTo>
                        <a:pt x="133" y="38"/>
                      </a:lnTo>
                      <a:lnTo>
                        <a:pt x="119" y="38"/>
                      </a:lnTo>
                      <a:lnTo>
                        <a:pt x="114" y="38"/>
                      </a:lnTo>
                      <a:lnTo>
                        <a:pt x="101" y="38"/>
                      </a:lnTo>
                      <a:lnTo>
                        <a:pt x="97" y="38"/>
                      </a:lnTo>
                      <a:lnTo>
                        <a:pt x="83" y="38"/>
                      </a:lnTo>
                      <a:lnTo>
                        <a:pt x="79" y="38"/>
                      </a:lnTo>
                      <a:lnTo>
                        <a:pt x="70" y="38"/>
                      </a:lnTo>
                      <a:lnTo>
                        <a:pt x="61" y="44"/>
                      </a:lnTo>
                      <a:lnTo>
                        <a:pt x="52" y="44"/>
                      </a:lnTo>
                      <a:lnTo>
                        <a:pt x="44" y="44"/>
                      </a:lnTo>
                      <a:lnTo>
                        <a:pt x="35" y="49"/>
                      </a:lnTo>
                      <a:lnTo>
                        <a:pt x="30" y="49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8" y="6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04820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48" y="72"/>
                      </a:lnTo>
                      <a:lnTo>
                        <a:pt x="48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36"/>
                      </a:lnTo>
                      <a:lnTo>
                        <a:pt x="48" y="36"/>
                      </a:lnTo>
                      <a:lnTo>
                        <a:pt x="48" y="36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056120" y="5672160"/>
                  <a:ext cx="95760" cy="25920"/>
                </a:xfrm>
                <a:custGeom>
                  <a:avLst/>
                  <a:gdLst/>
                  <a:ahLst/>
                  <a:rect l="0" t="0" r="r" b="b"/>
                  <a:pathLst>
                    <a:path w="266" h="72">
                      <a:moveTo>
                        <a:pt x="266" y="0"/>
                      </a:moveTo>
                      <a:lnTo>
                        <a:pt x="266" y="0"/>
                      </a:lnTo>
                      <a:lnTo>
                        <a:pt x="262" y="5"/>
                      </a:lnTo>
                      <a:lnTo>
                        <a:pt x="253" y="11"/>
                      </a:lnTo>
                      <a:lnTo>
                        <a:pt x="244" y="17"/>
                      </a:lnTo>
                      <a:lnTo>
                        <a:pt x="235" y="17"/>
                      </a:lnTo>
                      <a:lnTo>
                        <a:pt x="231" y="24"/>
                      </a:lnTo>
                      <a:lnTo>
                        <a:pt x="222" y="24"/>
                      </a:lnTo>
                      <a:lnTo>
                        <a:pt x="213" y="30"/>
                      </a:lnTo>
                      <a:lnTo>
                        <a:pt x="204" y="30"/>
                      </a:lnTo>
                      <a:lnTo>
                        <a:pt x="195" y="30"/>
                      </a:lnTo>
                      <a:lnTo>
                        <a:pt x="186" y="36"/>
                      </a:lnTo>
                      <a:lnTo>
                        <a:pt x="177" y="36"/>
                      </a:lnTo>
                      <a:lnTo>
                        <a:pt x="168" y="36"/>
                      </a:lnTo>
                      <a:lnTo>
                        <a:pt x="159" y="36"/>
                      </a:lnTo>
                      <a:lnTo>
                        <a:pt x="150" y="36"/>
                      </a:lnTo>
                      <a:lnTo>
                        <a:pt x="142" y="36"/>
                      </a:lnTo>
                      <a:lnTo>
                        <a:pt x="133" y="36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06" y="36"/>
                      </a:lnTo>
                      <a:lnTo>
                        <a:pt x="98" y="36"/>
                      </a:lnTo>
                      <a:lnTo>
                        <a:pt x="89" y="42"/>
                      </a:lnTo>
                      <a:lnTo>
                        <a:pt x="80" y="42"/>
                      </a:lnTo>
                      <a:lnTo>
                        <a:pt x="71" y="42"/>
                      </a:lnTo>
                      <a:lnTo>
                        <a:pt x="61" y="42"/>
                      </a:lnTo>
                      <a:lnTo>
                        <a:pt x="52" y="42"/>
                      </a:lnTo>
                      <a:lnTo>
                        <a:pt x="44" y="48"/>
                      </a:lnTo>
                      <a:lnTo>
                        <a:pt x="39" y="48"/>
                      </a:lnTo>
                      <a:lnTo>
                        <a:pt x="30" y="53"/>
                      </a:lnTo>
                      <a:lnTo>
                        <a:pt x="22" y="60"/>
                      </a:lnTo>
                      <a:lnTo>
                        <a:pt x="13" y="60"/>
                      </a:lnTo>
                      <a:lnTo>
                        <a:pt x="8" y="66"/>
                      </a:lnTo>
                      <a:lnTo>
                        <a:pt x="0" y="72"/>
                      </a:lnTo>
                      <a:lnTo>
                        <a:pt x="4" y="66"/>
                      </a:lnTo>
                      <a:lnTo>
                        <a:pt x="13" y="60"/>
                      </a:lnTo>
                      <a:lnTo>
                        <a:pt x="22" y="53"/>
                      </a:lnTo>
                      <a:lnTo>
                        <a:pt x="30" y="53"/>
                      </a:lnTo>
                      <a:lnTo>
                        <a:pt x="39" y="48"/>
                      </a:lnTo>
                      <a:lnTo>
                        <a:pt x="44" y="48"/>
                      </a:lnTo>
                      <a:lnTo>
                        <a:pt x="52" y="42"/>
                      </a:lnTo>
                      <a:lnTo>
                        <a:pt x="61" y="42"/>
                      </a:lnTo>
                      <a:lnTo>
                        <a:pt x="71" y="42"/>
                      </a:lnTo>
                      <a:lnTo>
                        <a:pt x="80" y="36"/>
                      </a:lnTo>
                      <a:lnTo>
                        <a:pt x="89" y="36"/>
                      </a:lnTo>
                      <a:lnTo>
                        <a:pt x="98" y="36"/>
                      </a:lnTo>
                      <a:lnTo>
                        <a:pt x="106" y="36"/>
                      </a:lnTo>
                      <a:lnTo>
                        <a:pt x="115" y="36"/>
                      </a:lnTo>
                      <a:lnTo>
                        <a:pt x="124" y="36"/>
                      </a:lnTo>
                      <a:lnTo>
                        <a:pt x="133" y="3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59" y="36"/>
                      </a:lnTo>
                      <a:lnTo>
                        <a:pt x="168" y="36"/>
                      </a:lnTo>
                      <a:lnTo>
                        <a:pt x="177" y="30"/>
                      </a:lnTo>
                      <a:lnTo>
                        <a:pt x="186" y="30"/>
                      </a:lnTo>
                      <a:lnTo>
                        <a:pt x="195" y="30"/>
                      </a:lnTo>
                      <a:lnTo>
                        <a:pt x="204" y="30"/>
                      </a:lnTo>
                      <a:lnTo>
                        <a:pt x="213" y="30"/>
                      </a:lnTo>
                      <a:lnTo>
                        <a:pt x="222" y="24"/>
                      </a:lnTo>
                      <a:lnTo>
                        <a:pt x="226" y="24"/>
                      </a:lnTo>
                      <a:lnTo>
                        <a:pt x="235" y="17"/>
                      </a:lnTo>
                      <a:lnTo>
                        <a:pt x="244" y="11"/>
                      </a:lnTo>
                      <a:lnTo>
                        <a:pt x="253" y="11"/>
                      </a:lnTo>
                      <a:lnTo>
                        <a:pt x="257" y="5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15116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852720" y="5657760"/>
                  <a:ext cx="225720" cy="141480"/>
                </a:xfrm>
                <a:custGeom>
                  <a:avLst/>
                  <a:gdLst/>
                  <a:ahLst/>
                  <a:rect l="0" t="0" r="r" b="b"/>
                  <a:pathLst>
                    <a:path w="627" h="393">
                      <a:moveTo>
                        <a:pt x="622" y="189"/>
                      </a:moveTo>
                      <a:lnTo>
                        <a:pt x="224" y="389"/>
                      </a:lnTo>
                      <a:lnTo>
                        <a:pt x="224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16" y="393"/>
                      </a:lnTo>
                      <a:lnTo>
                        <a:pt x="216" y="393"/>
                      </a:lnTo>
                      <a:lnTo>
                        <a:pt x="211" y="393"/>
                      </a:lnTo>
                      <a:lnTo>
                        <a:pt x="211" y="393"/>
                      </a:lnTo>
                      <a:lnTo>
                        <a:pt x="207" y="393"/>
                      </a:lnTo>
                      <a:lnTo>
                        <a:pt x="207" y="393"/>
                      </a:lnTo>
                      <a:lnTo>
                        <a:pt x="202" y="393"/>
                      </a:lnTo>
                      <a:lnTo>
                        <a:pt x="202" y="393"/>
                      </a:lnTo>
                      <a:lnTo>
                        <a:pt x="198" y="393"/>
                      </a:lnTo>
                      <a:lnTo>
                        <a:pt x="198" y="389"/>
                      </a:lnTo>
                      <a:lnTo>
                        <a:pt x="4" y="217"/>
                      </a:lnTo>
                      <a:lnTo>
                        <a:pt x="0" y="203"/>
                      </a:lnTo>
                      <a:lnTo>
                        <a:pt x="13" y="132"/>
                      </a:lnTo>
                      <a:lnTo>
                        <a:pt x="44" y="97"/>
                      </a:lnTo>
                      <a:lnTo>
                        <a:pt x="233" y="22"/>
                      </a:lnTo>
                      <a:lnTo>
                        <a:pt x="238" y="22"/>
                      </a:lnTo>
                      <a:lnTo>
                        <a:pt x="242" y="22"/>
                      </a:lnTo>
                      <a:lnTo>
                        <a:pt x="251" y="22"/>
                      </a:lnTo>
                      <a:lnTo>
                        <a:pt x="251" y="22"/>
                      </a:lnTo>
                      <a:lnTo>
                        <a:pt x="260" y="22"/>
                      </a:lnTo>
                      <a:lnTo>
                        <a:pt x="264" y="22"/>
                      </a:lnTo>
                      <a:lnTo>
                        <a:pt x="268" y="22"/>
                      </a:lnTo>
                      <a:lnTo>
                        <a:pt x="277" y="22"/>
                      </a:lnTo>
                      <a:lnTo>
                        <a:pt x="282" y="22"/>
                      </a:lnTo>
                      <a:lnTo>
                        <a:pt x="286" y="22"/>
                      </a:lnTo>
                      <a:lnTo>
                        <a:pt x="291" y="17"/>
                      </a:lnTo>
                      <a:lnTo>
                        <a:pt x="299" y="17"/>
                      </a:lnTo>
                      <a:lnTo>
                        <a:pt x="304" y="17"/>
                      </a:lnTo>
                      <a:lnTo>
                        <a:pt x="308" y="17"/>
                      </a:lnTo>
                      <a:lnTo>
                        <a:pt x="314" y="17"/>
                      </a:lnTo>
                      <a:lnTo>
                        <a:pt x="318" y="13"/>
                      </a:lnTo>
                      <a:lnTo>
                        <a:pt x="327" y="13"/>
                      </a:lnTo>
                      <a:lnTo>
                        <a:pt x="331" y="13"/>
                      </a:lnTo>
                      <a:lnTo>
                        <a:pt x="336" y="13"/>
                      </a:lnTo>
                      <a:lnTo>
                        <a:pt x="344" y="13"/>
                      </a:lnTo>
                      <a:lnTo>
                        <a:pt x="349" y="8"/>
                      </a:lnTo>
                      <a:lnTo>
                        <a:pt x="353" y="8"/>
                      </a:lnTo>
                      <a:lnTo>
                        <a:pt x="358" y="8"/>
                      </a:lnTo>
                      <a:lnTo>
                        <a:pt x="362" y="8"/>
                      </a:lnTo>
                      <a:lnTo>
                        <a:pt x="371" y="4"/>
                      </a:lnTo>
                      <a:lnTo>
                        <a:pt x="375" y="4"/>
                      </a:lnTo>
                      <a:lnTo>
                        <a:pt x="380" y="4"/>
                      </a:lnTo>
                      <a:lnTo>
                        <a:pt x="384" y="4"/>
                      </a:lnTo>
                      <a:lnTo>
                        <a:pt x="389" y="0"/>
                      </a:lnTo>
                      <a:lnTo>
                        <a:pt x="397" y="0"/>
                      </a:lnTo>
                      <a:lnTo>
                        <a:pt x="402" y="0"/>
                      </a:lnTo>
                      <a:lnTo>
                        <a:pt x="406" y="0"/>
                      </a:lnTo>
                      <a:lnTo>
                        <a:pt x="600" y="132"/>
                      </a:lnTo>
                      <a:lnTo>
                        <a:pt x="622" y="154"/>
                      </a:lnTo>
                      <a:lnTo>
                        <a:pt x="627" y="176"/>
                      </a:lnTo>
                      <a:lnTo>
                        <a:pt x="622" y="189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93696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92760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85596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4804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85128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5920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86856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94020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00356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07844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07844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0784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852720" y="5726160"/>
                  <a:ext cx="225720" cy="73440"/>
                </a:xfrm>
                <a:custGeom>
                  <a:avLst/>
                  <a:gdLst/>
                  <a:ahLst/>
                  <a:rect l="0" t="0" r="r" b="b"/>
                  <a:pathLst>
                    <a:path w="627" h="204">
                      <a:moveTo>
                        <a:pt x="0" y="26"/>
                      </a:moveTo>
                      <a:lnTo>
                        <a:pt x="198" y="187"/>
                      </a:lnTo>
                      <a:lnTo>
                        <a:pt x="202" y="187"/>
                      </a:lnTo>
                      <a:lnTo>
                        <a:pt x="202" y="191"/>
                      </a:lnTo>
                      <a:lnTo>
                        <a:pt x="202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11" y="191"/>
                      </a:lnTo>
                      <a:lnTo>
                        <a:pt x="211" y="191"/>
                      </a:lnTo>
                      <a:lnTo>
                        <a:pt x="216" y="191"/>
                      </a:lnTo>
                      <a:lnTo>
                        <a:pt x="216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4" y="187"/>
                      </a:lnTo>
                      <a:lnTo>
                        <a:pt x="224" y="187"/>
                      </a:lnTo>
                      <a:lnTo>
                        <a:pt x="627" y="0"/>
                      </a:lnTo>
                      <a:lnTo>
                        <a:pt x="622" y="13"/>
                      </a:lnTo>
                      <a:lnTo>
                        <a:pt x="224" y="200"/>
                      </a:lnTo>
                      <a:lnTo>
                        <a:pt x="224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16" y="204"/>
                      </a:lnTo>
                      <a:lnTo>
                        <a:pt x="216" y="204"/>
                      </a:lnTo>
                      <a:lnTo>
                        <a:pt x="211" y="204"/>
                      </a:lnTo>
                      <a:lnTo>
                        <a:pt x="211" y="204"/>
                      </a:lnTo>
                      <a:lnTo>
                        <a:pt x="207" y="204"/>
                      </a:lnTo>
                      <a:lnTo>
                        <a:pt x="207" y="204"/>
                      </a:lnTo>
                      <a:lnTo>
                        <a:pt x="202" y="204"/>
                      </a:lnTo>
                      <a:lnTo>
                        <a:pt x="202" y="204"/>
                      </a:lnTo>
                      <a:lnTo>
                        <a:pt x="198" y="204"/>
                      </a:lnTo>
                      <a:lnTo>
                        <a:pt x="198" y="200"/>
                      </a:lnTo>
                      <a:lnTo>
                        <a:pt x="4" y="39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852720" y="5735520"/>
                  <a:ext cx="66960" cy="57600"/>
                </a:xfrm>
                <a:custGeom>
                  <a:avLst/>
                  <a:gdLst/>
                  <a:ahLst/>
                  <a:rect l="0" t="0" r="r" b="b"/>
                  <a:pathLst>
                    <a:path w="186" h="160">
                      <a:moveTo>
                        <a:pt x="186" y="160"/>
                      </a:moveTo>
                      <a:lnTo>
                        <a:pt x="186" y="160"/>
                      </a:lnTo>
                      <a:lnTo>
                        <a:pt x="0" y="0"/>
                      </a:lnTo>
                      <a:lnTo>
                        <a:pt x="18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927600" y="5794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938760" y="5726160"/>
                  <a:ext cx="140040" cy="66960"/>
                </a:xfrm>
                <a:custGeom>
                  <a:avLst/>
                  <a:gdLst/>
                  <a:ahLst/>
                  <a:rect l="0" t="0" r="r" b="b"/>
                  <a:pathLst>
                    <a:path w="389" h="186">
                      <a:moveTo>
                        <a:pt x="389" y="0"/>
                      </a:moveTo>
                      <a:lnTo>
                        <a:pt x="389" y="0"/>
                      </a:lnTo>
                      <a:lnTo>
                        <a:pt x="0" y="186"/>
                      </a:lnTo>
                      <a:lnTo>
                        <a:pt x="3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0784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93696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92760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855960" y="5742000"/>
                  <a:ext cx="62280" cy="57600"/>
                </a:xfrm>
                <a:custGeom>
                  <a:avLst/>
                  <a:gdLst/>
                  <a:ahLst/>
                  <a:rect l="0" t="0" r="r" b="b"/>
                  <a:pathLst>
                    <a:path w="173" h="16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0"/>
                      </a:lnTo>
                      <a:lnTo>
                        <a:pt x="173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4804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859200" y="5695920"/>
                  <a:ext cx="219600" cy="68760"/>
                </a:xfrm>
                <a:custGeom>
                  <a:avLst/>
                  <a:gdLst/>
                  <a:ahLst/>
                  <a:rect l="0" t="0" r="r" b="b"/>
                  <a:pathLst>
                    <a:path w="610" h="191">
                      <a:moveTo>
                        <a:pt x="610" y="53"/>
                      </a:moveTo>
                      <a:lnTo>
                        <a:pt x="217" y="191"/>
                      </a:lnTo>
                      <a:lnTo>
                        <a:pt x="212" y="191"/>
                      </a:lnTo>
                      <a:lnTo>
                        <a:pt x="212" y="191"/>
                      </a:lnTo>
                      <a:lnTo>
                        <a:pt x="208" y="191"/>
                      </a:lnTo>
                      <a:lnTo>
                        <a:pt x="208" y="191"/>
                      </a:lnTo>
                      <a:lnTo>
                        <a:pt x="203" y="191"/>
                      </a:lnTo>
                      <a:lnTo>
                        <a:pt x="203" y="191"/>
                      </a:lnTo>
                      <a:lnTo>
                        <a:pt x="199" y="191"/>
                      </a:lnTo>
                      <a:lnTo>
                        <a:pt x="0" y="30"/>
                      </a:lnTo>
                      <a:lnTo>
                        <a:pt x="30" y="0"/>
                      </a:lnTo>
                      <a:lnTo>
                        <a:pt x="221" y="142"/>
                      </a:lnTo>
                      <a:lnTo>
                        <a:pt x="411" y="67"/>
                      </a:lnTo>
                      <a:lnTo>
                        <a:pt x="415" y="67"/>
                      </a:lnTo>
                      <a:lnTo>
                        <a:pt x="419" y="67"/>
                      </a:lnTo>
                      <a:lnTo>
                        <a:pt x="428" y="67"/>
                      </a:lnTo>
                      <a:lnTo>
                        <a:pt x="433" y="62"/>
                      </a:lnTo>
                      <a:lnTo>
                        <a:pt x="441" y="62"/>
                      </a:lnTo>
                      <a:lnTo>
                        <a:pt x="446" y="62"/>
                      </a:lnTo>
                      <a:lnTo>
                        <a:pt x="450" y="62"/>
                      </a:lnTo>
                      <a:lnTo>
                        <a:pt x="455" y="62"/>
                      </a:lnTo>
                      <a:lnTo>
                        <a:pt x="460" y="62"/>
                      </a:lnTo>
                      <a:lnTo>
                        <a:pt x="469" y="62"/>
                      </a:lnTo>
                      <a:lnTo>
                        <a:pt x="473" y="58"/>
                      </a:lnTo>
                      <a:lnTo>
                        <a:pt x="478" y="58"/>
                      </a:lnTo>
                      <a:lnTo>
                        <a:pt x="482" y="58"/>
                      </a:lnTo>
                      <a:lnTo>
                        <a:pt x="491" y="53"/>
                      </a:lnTo>
                      <a:lnTo>
                        <a:pt x="495" y="53"/>
                      </a:lnTo>
                      <a:lnTo>
                        <a:pt x="500" y="53"/>
                      </a:lnTo>
                      <a:lnTo>
                        <a:pt x="509" y="49"/>
                      </a:lnTo>
                      <a:lnTo>
                        <a:pt x="513" y="49"/>
                      </a:lnTo>
                      <a:lnTo>
                        <a:pt x="517" y="49"/>
                      </a:lnTo>
                      <a:lnTo>
                        <a:pt x="522" y="49"/>
                      </a:lnTo>
                      <a:lnTo>
                        <a:pt x="531" y="49"/>
                      </a:lnTo>
                      <a:lnTo>
                        <a:pt x="535" y="44"/>
                      </a:lnTo>
                      <a:lnTo>
                        <a:pt x="539" y="44"/>
                      </a:lnTo>
                      <a:lnTo>
                        <a:pt x="544" y="44"/>
                      </a:lnTo>
                      <a:lnTo>
                        <a:pt x="548" y="39"/>
                      </a:lnTo>
                      <a:lnTo>
                        <a:pt x="557" y="39"/>
                      </a:lnTo>
                      <a:lnTo>
                        <a:pt x="562" y="39"/>
                      </a:lnTo>
                      <a:lnTo>
                        <a:pt x="566" y="39"/>
                      </a:lnTo>
                      <a:lnTo>
                        <a:pt x="575" y="35"/>
                      </a:lnTo>
                      <a:lnTo>
                        <a:pt x="579" y="35"/>
                      </a:lnTo>
                      <a:lnTo>
                        <a:pt x="584" y="35"/>
                      </a:lnTo>
                      <a:lnTo>
                        <a:pt x="588" y="30"/>
                      </a:lnTo>
                      <a:lnTo>
                        <a:pt x="610" y="5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868560" y="5657760"/>
                  <a:ext cx="200520" cy="87840"/>
                </a:xfrm>
                <a:custGeom>
                  <a:avLst/>
                  <a:gdLst/>
                  <a:ahLst/>
                  <a:rect l="0" t="0" r="r" b="b"/>
                  <a:pathLst>
                    <a:path w="557" h="244">
                      <a:moveTo>
                        <a:pt x="0" y="98"/>
                      </a:moveTo>
                      <a:lnTo>
                        <a:pt x="190" y="244"/>
                      </a:lnTo>
                      <a:lnTo>
                        <a:pt x="380" y="164"/>
                      </a:lnTo>
                      <a:lnTo>
                        <a:pt x="384" y="164"/>
                      </a:lnTo>
                      <a:lnTo>
                        <a:pt x="389" y="164"/>
                      </a:lnTo>
                      <a:lnTo>
                        <a:pt x="397" y="164"/>
                      </a:lnTo>
                      <a:lnTo>
                        <a:pt x="402" y="164"/>
                      </a:lnTo>
                      <a:lnTo>
                        <a:pt x="406" y="164"/>
                      </a:lnTo>
                      <a:lnTo>
                        <a:pt x="411" y="164"/>
                      </a:lnTo>
                      <a:lnTo>
                        <a:pt x="420" y="159"/>
                      </a:lnTo>
                      <a:lnTo>
                        <a:pt x="425" y="159"/>
                      </a:lnTo>
                      <a:lnTo>
                        <a:pt x="429" y="159"/>
                      </a:lnTo>
                      <a:lnTo>
                        <a:pt x="438" y="159"/>
                      </a:lnTo>
                      <a:lnTo>
                        <a:pt x="442" y="155"/>
                      </a:lnTo>
                      <a:lnTo>
                        <a:pt x="447" y="155"/>
                      </a:lnTo>
                      <a:lnTo>
                        <a:pt x="451" y="155"/>
                      </a:lnTo>
                      <a:lnTo>
                        <a:pt x="460" y="155"/>
                      </a:lnTo>
                      <a:lnTo>
                        <a:pt x="465" y="150"/>
                      </a:lnTo>
                      <a:lnTo>
                        <a:pt x="469" y="150"/>
                      </a:lnTo>
                      <a:lnTo>
                        <a:pt x="473" y="150"/>
                      </a:lnTo>
                      <a:lnTo>
                        <a:pt x="482" y="146"/>
                      </a:lnTo>
                      <a:lnTo>
                        <a:pt x="487" y="146"/>
                      </a:lnTo>
                      <a:lnTo>
                        <a:pt x="491" y="146"/>
                      </a:lnTo>
                      <a:lnTo>
                        <a:pt x="500" y="146"/>
                      </a:lnTo>
                      <a:lnTo>
                        <a:pt x="504" y="142"/>
                      </a:lnTo>
                      <a:lnTo>
                        <a:pt x="509" y="142"/>
                      </a:lnTo>
                      <a:lnTo>
                        <a:pt x="513" y="142"/>
                      </a:lnTo>
                      <a:lnTo>
                        <a:pt x="522" y="137"/>
                      </a:lnTo>
                      <a:lnTo>
                        <a:pt x="526" y="137"/>
                      </a:lnTo>
                      <a:lnTo>
                        <a:pt x="531" y="137"/>
                      </a:lnTo>
                      <a:lnTo>
                        <a:pt x="535" y="133"/>
                      </a:lnTo>
                      <a:lnTo>
                        <a:pt x="539" y="133"/>
                      </a:lnTo>
                      <a:lnTo>
                        <a:pt x="548" y="128"/>
                      </a:lnTo>
                      <a:lnTo>
                        <a:pt x="553" y="128"/>
                      </a:lnTo>
                      <a:lnTo>
                        <a:pt x="557" y="128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3" y="0"/>
                      </a:lnTo>
                      <a:lnTo>
                        <a:pt x="344" y="0"/>
                      </a:lnTo>
                      <a:lnTo>
                        <a:pt x="340" y="4"/>
                      </a:lnTo>
                      <a:lnTo>
                        <a:pt x="336" y="4"/>
                      </a:lnTo>
                      <a:lnTo>
                        <a:pt x="327" y="4"/>
                      </a:lnTo>
                      <a:lnTo>
                        <a:pt x="322" y="4"/>
                      </a:lnTo>
                      <a:lnTo>
                        <a:pt x="318" y="8"/>
                      </a:lnTo>
                      <a:lnTo>
                        <a:pt x="314" y="8"/>
                      </a:lnTo>
                      <a:lnTo>
                        <a:pt x="309" y="8"/>
                      </a:lnTo>
                      <a:lnTo>
                        <a:pt x="300" y="8"/>
                      </a:lnTo>
                      <a:lnTo>
                        <a:pt x="296" y="13"/>
                      </a:lnTo>
                      <a:lnTo>
                        <a:pt x="292" y="13"/>
                      </a:lnTo>
                      <a:lnTo>
                        <a:pt x="287" y="13"/>
                      </a:lnTo>
                      <a:lnTo>
                        <a:pt x="283" y="13"/>
                      </a:lnTo>
                      <a:lnTo>
                        <a:pt x="274" y="13"/>
                      </a:lnTo>
                      <a:lnTo>
                        <a:pt x="269" y="17"/>
                      </a:lnTo>
                      <a:lnTo>
                        <a:pt x="265" y="17"/>
                      </a:lnTo>
                      <a:lnTo>
                        <a:pt x="261" y="17"/>
                      </a:lnTo>
                      <a:lnTo>
                        <a:pt x="256" y="17"/>
                      </a:lnTo>
                      <a:lnTo>
                        <a:pt x="247" y="17"/>
                      </a:lnTo>
                      <a:lnTo>
                        <a:pt x="243" y="17"/>
                      </a:lnTo>
                      <a:lnTo>
                        <a:pt x="239" y="17"/>
                      </a:lnTo>
                      <a:lnTo>
                        <a:pt x="234" y="17"/>
                      </a:lnTo>
                      <a:lnTo>
                        <a:pt x="230" y="22"/>
                      </a:lnTo>
                      <a:lnTo>
                        <a:pt x="221" y="22"/>
                      </a:lnTo>
                      <a:lnTo>
                        <a:pt x="217" y="22"/>
                      </a:lnTo>
                      <a:lnTo>
                        <a:pt x="212" y="22"/>
                      </a:lnTo>
                      <a:lnTo>
                        <a:pt x="203" y="22"/>
                      </a:lnTo>
                      <a:lnTo>
                        <a:pt x="199" y="22"/>
                      </a:lnTo>
                      <a:lnTo>
                        <a:pt x="195" y="22"/>
                      </a:lnTo>
                      <a:lnTo>
                        <a:pt x="190" y="22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93696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2760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85596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4804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5128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85920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86856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94020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0356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07844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07844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0784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62520" y="5657760"/>
                  <a:ext cx="90720" cy="49680"/>
                </a:xfrm>
                <a:custGeom>
                  <a:avLst/>
                  <a:gdLst/>
                  <a:ahLst/>
                  <a:rect l="0" t="0" r="r" b="b"/>
                  <a:pathLst>
                    <a:path w="252" h="138">
                      <a:moveTo>
                        <a:pt x="252" y="116"/>
                      </a:moveTo>
                      <a:lnTo>
                        <a:pt x="155" y="138"/>
                      </a:lnTo>
                      <a:lnTo>
                        <a:pt x="105" y="102"/>
                      </a:lnTo>
                      <a:lnTo>
                        <a:pt x="110" y="102"/>
                      </a:lnTo>
                      <a:lnTo>
                        <a:pt x="110" y="98"/>
                      </a:lnTo>
                      <a:lnTo>
                        <a:pt x="101" y="102"/>
                      </a:lnTo>
                      <a:lnTo>
                        <a:pt x="52" y="67"/>
                      </a:lnTo>
                      <a:lnTo>
                        <a:pt x="57" y="67"/>
                      </a:lnTo>
                      <a:lnTo>
                        <a:pt x="57" y="62"/>
                      </a:lnTo>
                      <a:lnTo>
                        <a:pt x="48" y="67"/>
                      </a:lnTo>
                      <a:lnTo>
                        <a:pt x="0" y="30"/>
                      </a:lnTo>
                      <a:lnTo>
                        <a:pt x="4" y="30"/>
                      </a:lnTo>
                      <a:lnTo>
                        <a:pt x="4" y="26"/>
                      </a:lnTo>
                      <a:lnTo>
                        <a:pt x="61" y="13"/>
                      </a:lnTo>
                      <a:lnTo>
                        <a:pt x="92" y="0"/>
                      </a:lnTo>
                      <a:lnTo>
                        <a:pt x="137" y="2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95" y="62"/>
                      </a:lnTo>
                      <a:lnTo>
                        <a:pt x="195" y="75"/>
                      </a:lnTo>
                      <a:lnTo>
                        <a:pt x="203" y="71"/>
                      </a:lnTo>
                      <a:lnTo>
                        <a:pt x="247" y="102"/>
                      </a:lnTo>
                      <a:lnTo>
                        <a:pt x="252" y="112"/>
                      </a:lnTo>
                      <a:lnTo>
                        <a:pt x="25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022640" y="5707080"/>
                  <a:ext cx="29880" cy="0"/>
                </a:xfrm>
                <a:custGeom>
                  <a:avLst/>
                  <a:gdLst/>
                  <a:ahLst/>
                  <a:rect l="0" t="0" r="r" b="b"/>
                  <a:pathLst>
                    <a:path w="8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00212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9974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48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9974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48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9974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24" y="48"/>
                      </a:moveTo>
                      <a:lnTo>
                        <a:pt x="0" y="48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0" y="72"/>
                      </a:lnTo>
                      <a:lnTo>
                        <a:pt x="2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98304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97656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53" y="0"/>
                      </a:ln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97656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97656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96252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95748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95748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96540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98628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99888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01148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36" y="72"/>
                      </a:moveTo>
                      <a:lnTo>
                        <a:pt x="36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01148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01940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03236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03380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04172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05288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52880" y="56973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965400" y="5657760"/>
                  <a:ext cx="86040" cy="46440"/>
                </a:xfrm>
                <a:custGeom>
                  <a:avLst/>
                  <a:gdLst/>
                  <a:ahLst/>
                  <a:rect l="0" t="0" r="r" b="b"/>
                  <a:pathLst>
                    <a:path w="239" h="129">
                      <a:moveTo>
                        <a:pt x="133" y="26"/>
                      </a:moveTo>
                      <a:lnTo>
                        <a:pt x="101" y="45"/>
                      </a:lnTo>
                      <a:lnTo>
                        <a:pt x="44" y="58"/>
                      </a:lnTo>
                      <a:lnTo>
                        <a:pt x="0" y="26"/>
                      </a:lnTo>
                      <a:lnTo>
                        <a:pt x="57" y="13"/>
                      </a:lnTo>
                      <a:lnTo>
                        <a:pt x="88" y="0"/>
                      </a:lnTo>
                      <a:lnTo>
                        <a:pt x="133" y="26"/>
                      </a:lnTo>
                      <a:lnTo>
                        <a:pt x="186" y="62"/>
                      </a:lnTo>
                      <a:lnTo>
                        <a:pt x="150" y="80"/>
                      </a:lnTo>
                      <a:lnTo>
                        <a:pt x="97" y="93"/>
                      </a:lnTo>
                      <a:lnTo>
                        <a:pt x="52" y="62"/>
                      </a:lnTo>
                      <a:lnTo>
                        <a:pt x="105" y="49"/>
                      </a:lnTo>
                      <a:lnTo>
                        <a:pt x="142" y="36"/>
                      </a:lnTo>
                      <a:lnTo>
                        <a:pt x="186" y="62"/>
                      </a:lnTo>
                      <a:lnTo>
                        <a:pt x="239" y="99"/>
                      </a:lnTo>
                      <a:lnTo>
                        <a:pt x="208" y="116"/>
                      </a:lnTo>
                      <a:lnTo>
                        <a:pt x="150" y="129"/>
                      </a:lnTo>
                      <a:lnTo>
                        <a:pt x="105" y="99"/>
                      </a:lnTo>
                      <a:lnTo>
                        <a:pt x="164" y="84"/>
                      </a:lnTo>
                      <a:lnTo>
                        <a:pt x="195" y="71"/>
                      </a:lnTo>
                      <a:lnTo>
                        <a:pt x="239" y="99"/>
                      </a:lnTo>
                      <a:lnTo>
                        <a:pt x="133" y="2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00356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98160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96540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96540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98628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9888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010040" y="56721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24440" y="5684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2120" y="568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98448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8448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006800" y="5672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01940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29120" y="5684760"/>
                  <a:ext cx="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046400" y="5699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24440" y="5703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006800" y="569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00680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02912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04172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986280" y="5664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00860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029120" y="569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4027320" y="5065560"/>
                <a:ext cx="710280" cy="673560"/>
                <a:chOff x="4027320" y="5065560"/>
                <a:chExt cx="710280" cy="6735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027320" y="5067360"/>
                  <a:ext cx="702000" cy="671760"/>
                </a:xfrm>
                <a:custGeom>
                  <a:avLst/>
                  <a:gdLst/>
                  <a:ahLst/>
                  <a:rect l="0" t="0" r="r" b="b"/>
                  <a:pathLst>
                    <a:path w="1950" h="1866">
                      <a:moveTo>
                        <a:pt x="229" y="1756"/>
                      </a:moveTo>
                      <a:lnTo>
                        <a:pt x="1420" y="1866"/>
                      </a:lnTo>
                      <a:lnTo>
                        <a:pt x="1606" y="1707"/>
                      </a:lnTo>
                      <a:lnTo>
                        <a:pt x="1606" y="1641"/>
                      </a:lnTo>
                      <a:lnTo>
                        <a:pt x="1262" y="1610"/>
                      </a:lnTo>
                      <a:lnTo>
                        <a:pt x="1244" y="1579"/>
                      </a:lnTo>
                      <a:lnTo>
                        <a:pt x="1248" y="1579"/>
                      </a:lnTo>
                      <a:lnTo>
                        <a:pt x="1253" y="1575"/>
                      </a:lnTo>
                      <a:lnTo>
                        <a:pt x="1257" y="1575"/>
                      </a:lnTo>
                      <a:lnTo>
                        <a:pt x="1257" y="1570"/>
                      </a:lnTo>
                      <a:lnTo>
                        <a:pt x="1262" y="1570"/>
                      </a:lnTo>
                      <a:lnTo>
                        <a:pt x="1266" y="1566"/>
                      </a:lnTo>
                      <a:lnTo>
                        <a:pt x="1271" y="1562"/>
                      </a:lnTo>
                      <a:lnTo>
                        <a:pt x="1275" y="1557"/>
                      </a:lnTo>
                      <a:lnTo>
                        <a:pt x="1275" y="1557"/>
                      </a:lnTo>
                      <a:lnTo>
                        <a:pt x="1279" y="1553"/>
                      </a:lnTo>
                      <a:lnTo>
                        <a:pt x="1284" y="1553"/>
                      </a:lnTo>
                      <a:lnTo>
                        <a:pt x="1284" y="1548"/>
                      </a:lnTo>
                      <a:lnTo>
                        <a:pt x="1288" y="1544"/>
                      </a:lnTo>
                      <a:lnTo>
                        <a:pt x="1293" y="1544"/>
                      </a:lnTo>
                      <a:lnTo>
                        <a:pt x="1297" y="1535"/>
                      </a:lnTo>
                      <a:lnTo>
                        <a:pt x="1297" y="1535"/>
                      </a:lnTo>
                      <a:lnTo>
                        <a:pt x="1606" y="1548"/>
                      </a:lnTo>
                      <a:lnTo>
                        <a:pt x="1795" y="1513"/>
                      </a:lnTo>
                      <a:lnTo>
                        <a:pt x="1800" y="1513"/>
                      </a:lnTo>
                      <a:lnTo>
                        <a:pt x="1804" y="1509"/>
                      </a:lnTo>
                      <a:lnTo>
                        <a:pt x="1808" y="1509"/>
                      </a:lnTo>
                      <a:lnTo>
                        <a:pt x="1813" y="1504"/>
                      </a:lnTo>
                      <a:lnTo>
                        <a:pt x="1813" y="1504"/>
                      </a:lnTo>
                      <a:lnTo>
                        <a:pt x="1817" y="1500"/>
                      </a:lnTo>
                      <a:lnTo>
                        <a:pt x="1817" y="1495"/>
                      </a:lnTo>
                      <a:lnTo>
                        <a:pt x="1822" y="1491"/>
                      </a:lnTo>
                      <a:lnTo>
                        <a:pt x="1822" y="1487"/>
                      </a:lnTo>
                      <a:lnTo>
                        <a:pt x="1822" y="1482"/>
                      </a:lnTo>
                      <a:lnTo>
                        <a:pt x="1826" y="1478"/>
                      </a:lnTo>
                      <a:lnTo>
                        <a:pt x="1831" y="1478"/>
                      </a:lnTo>
                      <a:lnTo>
                        <a:pt x="1831" y="1469"/>
                      </a:lnTo>
                      <a:lnTo>
                        <a:pt x="1831" y="1465"/>
                      </a:lnTo>
                      <a:lnTo>
                        <a:pt x="1831" y="1460"/>
                      </a:lnTo>
                      <a:lnTo>
                        <a:pt x="1831" y="1451"/>
                      </a:lnTo>
                      <a:lnTo>
                        <a:pt x="1831" y="1385"/>
                      </a:lnTo>
                      <a:lnTo>
                        <a:pt x="1835" y="1385"/>
                      </a:lnTo>
                      <a:lnTo>
                        <a:pt x="1835" y="1381"/>
                      </a:lnTo>
                      <a:lnTo>
                        <a:pt x="1839" y="1381"/>
                      </a:lnTo>
                      <a:lnTo>
                        <a:pt x="1844" y="1376"/>
                      </a:lnTo>
                      <a:lnTo>
                        <a:pt x="1848" y="1376"/>
                      </a:lnTo>
                      <a:lnTo>
                        <a:pt x="1853" y="1376"/>
                      </a:lnTo>
                      <a:lnTo>
                        <a:pt x="1857" y="1372"/>
                      </a:lnTo>
                      <a:lnTo>
                        <a:pt x="1861" y="1372"/>
                      </a:lnTo>
                      <a:lnTo>
                        <a:pt x="1861" y="1372"/>
                      </a:lnTo>
                      <a:lnTo>
                        <a:pt x="1870" y="1368"/>
                      </a:lnTo>
                      <a:lnTo>
                        <a:pt x="1870" y="1363"/>
                      </a:lnTo>
                      <a:lnTo>
                        <a:pt x="1875" y="1363"/>
                      </a:lnTo>
                      <a:lnTo>
                        <a:pt x="1875" y="1359"/>
                      </a:lnTo>
                      <a:lnTo>
                        <a:pt x="1879" y="1354"/>
                      </a:lnTo>
                      <a:lnTo>
                        <a:pt x="1879" y="1350"/>
                      </a:lnTo>
                      <a:lnTo>
                        <a:pt x="1879" y="1341"/>
                      </a:lnTo>
                      <a:lnTo>
                        <a:pt x="1950" y="551"/>
                      </a:lnTo>
                      <a:lnTo>
                        <a:pt x="1950" y="546"/>
                      </a:lnTo>
                      <a:lnTo>
                        <a:pt x="1950" y="546"/>
                      </a:lnTo>
                      <a:lnTo>
                        <a:pt x="1950" y="537"/>
                      </a:lnTo>
                      <a:lnTo>
                        <a:pt x="1950" y="533"/>
                      </a:lnTo>
                      <a:lnTo>
                        <a:pt x="1950" y="533"/>
                      </a:lnTo>
                      <a:lnTo>
                        <a:pt x="1945" y="529"/>
                      </a:lnTo>
                      <a:lnTo>
                        <a:pt x="1945" y="524"/>
                      </a:lnTo>
                      <a:lnTo>
                        <a:pt x="1945" y="520"/>
                      </a:lnTo>
                      <a:lnTo>
                        <a:pt x="1945" y="515"/>
                      </a:lnTo>
                      <a:lnTo>
                        <a:pt x="1945" y="511"/>
                      </a:lnTo>
                      <a:lnTo>
                        <a:pt x="1941" y="511"/>
                      </a:lnTo>
                      <a:lnTo>
                        <a:pt x="1941" y="507"/>
                      </a:lnTo>
                      <a:lnTo>
                        <a:pt x="1936" y="502"/>
                      </a:lnTo>
                      <a:lnTo>
                        <a:pt x="1936" y="502"/>
                      </a:lnTo>
                      <a:lnTo>
                        <a:pt x="1936" y="493"/>
                      </a:lnTo>
                      <a:lnTo>
                        <a:pt x="1932" y="493"/>
                      </a:lnTo>
                      <a:lnTo>
                        <a:pt x="1848" y="388"/>
                      </a:lnTo>
                      <a:lnTo>
                        <a:pt x="1839" y="321"/>
                      </a:lnTo>
                      <a:lnTo>
                        <a:pt x="1839" y="229"/>
                      </a:lnTo>
                      <a:lnTo>
                        <a:pt x="1839" y="224"/>
                      </a:lnTo>
                      <a:lnTo>
                        <a:pt x="1835" y="216"/>
                      </a:lnTo>
                      <a:lnTo>
                        <a:pt x="1835" y="211"/>
                      </a:lnTo>
                      <a:lnTo>
                        <a:pt x="1831" y="207"/>
                      </a:lnTo>
                      <a:lnTo>
                        <a:pt x="1831" y="202"/>
                      </a:lnTo>
                      <a:lnTo>
                        <a:pt x="1822" y="198"/>
                      </a:lnTo>
                      <a:lnTo>
                        <a:pt x="1817" y="189"/>
                      </a:lnTo>
                      <a:lnTo>
                        <a:pt x="1813" y="185"/>
                      </a:lnTo>
                      <a:lnTo>
                        <a:pt x="1659" y="92"/>
                      </a:lnTo>
                      <a:lnTo>
                        <a:pt x="1614" y="83"/>
                      </a:lnTo>
                      <a:lnTo>
                        <a:pt x="1570" y="79"/>
                      </a:lnTo>
                      <a:lnTo>
                        <a:pt x="1522" y="74"/>
                      </a:lnTo>
                      <a:lnTo>
                        <a:pt x="1478" y="66"/>
                      </a:lnTo>
                      <a:lnTo>
                        <a:pt x="1434" y="61"/>
                      </a:lnTo>
                      <a:lnTo>
                        <a:pt x="1385" y="57"/>
                      </a:lnTo>
                      <a:lnTo>
                        <a:pt x="1337" y="52"/>
                      </a:lnTo>
                      <a:lnTo>
                        <a:pt x="1293" y="48"/>
                      </a:lnTo>
                      <a:lnTo>
                        <a:pt x="1244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3" y="30"/>
                      </a:lnTo>
                      <a:lnTo>
                        <a:pt x="1054" y="26"/>
                      </a:lnTo>
                      <a:lnTo>
                        <a:pt x="1010" y="26"/>
                      </a:lnTo>
                      <a:lnTo>
                        <a:pt x="961" y="17"/>
                      </a:lnTo>
                      <a:lnTo>
                        <a:pt x="912" y="17"/>
                      </a:lnTo>
                      <a:lnTo>
                        <a:pt x="864" y="13"/>
                      </a:lnTo>
                      <a:lnTo>
                        <a:pt x="820" y="13"/>
                      </a:lnTo>
                      <a:lnTo>
                        <a:pt x="771" y="13"/>
                      </a:lnTo>
                      <a:lnTo>
                        <a:pt x="723" y="8"/>
                      </a:lnTo>
                      <a:lnTo>
                        <a:pt x="674" y="8"/>
                      </a:lnTo>
                      <a:lnTo>
                        <a:pt x="630" y="8"/>
                      </a:lnTo>
                      <a:lnTo>
                        <a:pt x="582" y="4"/>
                      </a:lnTo>
                      <a:lnTo>
                        <a:pt x="533" y="4"/>
                      </a:lnTo>
                      <a:lnTo>
                        <a:pt x="485" y="4"/>
                      </a:lnTo>
                      <a:lnTo>
                        <a:pt x="440" y="4"/>
                      </a:lnTo>
                      <a:lnTo>
                        <a:pt x="396" y="4"/>
                      </a:lnTo>
                      <a:lnTo>
                        <a:pt x="348" y="0"/>
                      </a:lnTo>
                      <a:lnTo>
                        <a:pt x="299" y="0"/>
                      </a:lnTo>
                      <a:lnTo>
                        <a:pt x="255" y="0"/>
                      </a:lnTo>
                      <a:lnTo>
                        <a:pt x="207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9" y="0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7" y="8"/>
                      </a:lnTo>
                      <a:lnTo>
                        <a:pt x="123" y="8"/>
                      </a:lnTo>
                      <a:lnTo>
                        <a:pt x="119" y="13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26"/>
                      </a:lnTo>
                      <a:lnTo>
                        <a:pt x="105" y="30"/>
                      </a:lnTo>
                      <a:lnTo>
                        <a:pt x="105" y="35"/>
                      </a:lnTo>
                      <a:lnTo>
                        <a:pt x="101" y="35"/>
                      </a:lnTo>
                      <a:lnTo>
                        <a:pt x="101" y="39"/>
                      </a:lnTo>
                      <a:lnTo>
                        <a:pt x="97" y="79"/>
                      </a:lnTo>
                      <a:lnTo>
                        <a:pt x="88" y="119"/>
                      </a:lnTo>
                      <a:lnTo>
                        <a:pt x="79" y="158"/>
                      </a:lnTo>
                      <a:lnTo>
                        <a:pt x="74" y="198"/>
                      </a:lnTo>
                      <a:lnTo>
                        <a:pt x="70" y="238"/>
                      </a:lnTo>
                      <a:lnTo>
                        <a:pt x="61" y="273"/>
                      </a:lnTo>
                      <a:lnTo>
                        <a:pt x="57" y="313"/>
                      </a:lnTo>
                      <a:lnTo>
                        <a:pt x="52" y="352"/>
                      </a:lnTo>
                      <a:lnTo>
                        <a:pt x="48" y="388"/>
                      </a:lnTo>
                      <a:lnTo>
                        <a:pt x="44" y="427"/>
                      </a:lnTo>
                      <a:lnTo>
                        <a:pt x="39" y="467"/>
                      </a:lnTo>
                      <a:lnTo>
                        <a:pt x="35" y="507"/>
                      </a:lnTo>
                      <a:lnTo>
                        <a:pt x="30" y="542"/>
                      </a:lnTo>
                      <a:lnTo>
                        <a:pt x="26" y="582"/>
                      </a:lnTo>
                      <a:lnTo>
                        <a:pt x="26" y="621"/>
                      </a:lnTo>
                      <a:lnTo>
                        <a:pt x="22" y="657"/>
                      </a:lnTo>
                      <a:lnTo>
                        <a:pt x="17" y="696"/>
                      </a:lnTo>
                      <a:lnTo>
                        <a:pt x="17" y="732"/>
                      </a:lnTo>
                      <a:lnTo>
                        <a:pt x="13" y="771"/>
                      </a:lnTo>
                      <a:lnTo>
                        <a:pt x="13" y="811"/>
                      </a:lnTo>
                      <a:lnTo>
                        <a:pt x="13" y="846"/>
                      </a:lnTo>
                      <a:lnTo>
                        <a:pt x="8" y="886"/>
                      </a:lnTo>
                      <a:lnTo>
                        <a:pt x="8" y="921"/>
                      </a:lnTo>
                      <a:lnTo>
                        <a:pt x="8" y="962"/>
                      </a:lnTo>
                      <a:lnTo>
                        <a:pt x="8" y="1002"/>
                      </a:lnTo>
                      <a:lnTo>
                        <a:pt x="4" y="1037"/>
                      </a:lnTo>
                      <a:lnTo>
                        <a:pt x="4" y="1076"/>
                      </a:lnTo>
                      <a:lnTo>
                        <a:pt x="4" y="1116"/>
                      </a:lnTo>
                      <a:lnTo>
                        <a:pt x="4" y="1151"/>
                      </a:lnTo>
                      <a:lnTo>
                        <a:pt x="4" y="1191"/>
                      </a:lnTo>
                      <a:lnTo>
                        <a:pt x="0" y="1226"/>
                      </a:lnTo>
                      <a:lnTo>
                        <a:pt x="0" y="1266"/>
                      </a:lnTo>
                      <a:lnTo>
                        <a:pt x="0" y="1271"/>
                      </a:lnTo>
                      <a:lnTo>
                        <a:pt x="0" y="1275"/>
                      </a:lnTo>
                      <a:lnTo>
                        <a:pt x="0" y="1284"/>
                      </a:lnTo>
                      <a:lnTo>
                        <a:pt x="4" y="1284"/>
                      </a:lnTo>
                      <a:lnTo>
                        <a:pt x="4" y="1288"/>
                      </a:lnTo>
                      <a:lnTo>
                        <a:pt x="4" y="1293"/>
                      </a:lnTo>
                      <a:lnTo>
                        <a:pt x="4" y="1297"/>
                      </a:lnTo>
                      <a:lnTo>
                        <a:pt x="8" y="1297"/>
                      </a:lnTo>
                      <a:lnTo>
                        <a:pt x="8" y="1306"/>
                      </a:lnTo>
                      <a:lnTo>
                        <a:pt x="13" y="1306"/>
                      </a:lnTo>
                      <a:lnTo>
                        <a:pt x="13" y="1310"/>
                      </a:lnTo>
                      <a:lnTo>
                        <a:pt x="17" y="1315"/>
                      </a:lnTo>
                      <a:lnTo>
                        <a:pt x="22" y="1315"/>
                      </a:lnTo>
                      <a:lnTo>
                        <a:pt x="26" y="1319"/>
                      </a:lnTo>
                      <a:lnTo>
                        <a:pt x="30" y="1323"/>
                      </a:lnTo>
                      <a:lnTo>
                        <a:pt x="35" y="1328"/>
                      </a:lnTo>
                      <a:lnTo>
                        <a:pt x="158" y="1416"/>
                      </a:lnTo>
                      <a:lnTo>
                        <a:pt x="551" y="1460"/>
                      </a:lnTo>
                      <a:lnTo>
                        <a:pt x="555" y="1469"/>
                      </a:lnTo>
                      <a:lnTo>
                        <a:pt x="560" y="1473"/>
                      </a:lnTo>
                      <a:lnTo>
                        <a:pt x="564" y="1482"/>
                      </a:lnTo>
                      <a:lnTo>
                        <a:pt x="568" y="1487"/>
                      </a:lnTo>
                      <a:lnTo>
                        <a:pt x="577" y="1491"/>
                      </a:lnTo>
                      <a:lnTo>
                        <a:pt x="582" y="1500"/>
                      </a:lnTo>
                      <a:lnTo>
                        <a:pt x="590" y="1504"/>
                      </a:lnTo>
                      <a:lnTo>
                        <a:pt x="595" y="1509"/>
                      </a:lnTo>
                      <a:lnTo>
                        <a:pt x="604" y="1513"/>
                      </a:lnTo>
                      <a:lnTo>
                        <a:pt x="608" y="1522"/>
                      </a:lnTo>
                      <a:lnTo>
                        <a:pt x="617" y="1526"/>
                      </a:lnTo>
                      <a:lnTo>
                        <a:pt x="621" y="1531"/>
                      </a:lnTo>
                      <a:lnTo>
                        <a:pt x="630" y="1535"/>
                      </a:lnTo>
                      <a:lnTo>
                        <a:pt x="635" y="1544"/>
                      </a:lnTo>
                      <a:lnTo>
                        <a:pt x="643" y="1548"/>
                      </a:lnTo>
                      <a:lnTo>
                        <a:pt x="652" y="1553"/>
                      </a:lnTo>
                      <a:lnTo>
                        <a:pt x="529" y="1539"/>
                      </a:lnTo>
                      <a:lnTo>
                        <a:pt x="229" y="1698"/>
                      </a:lnTo>
                      <a:lnTo>
                        <a:pt x="229" y="175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110120" y="5707080"/>
                  <a:ext cx="425880" cy="32040"/>
                </a:xfrm>
                <a:custGeom>
                  <a:avLst/>
                  <a:gdLst/>
                  <a:ahLst/>
                  <a:rect l="0" t="0" r="r" b="b"/>
                  <a:pathLst>
                    <a:path w="1183" h="89">
                      <a:moveTo>
                        <a:pt x="1179" y="84"/>
                      </a:moveTo>
                      <a:lnTo>
                        <a:pt x="1179" y="84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83" y="89"/>
                      </a:lnTo>
                      <a:lnTo>
                        <a:pt x="1183" y="84"/>
                      </a:lnTo>
                      <a:lnTo>
                        <a:pt x="1179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543560" y="5689440"/>
                  <a:ext cx="62280" cy="49680"/>
                </a:xfrm>
                <a:custGeom>
                  <a:avLst/>
                  <a:gdLst/>
                  <a:ahLst/>
                  <a:rect l="0" t="0" r="r" b="b"/>
                  <a:pathLst>
                    <a:path w="173" h="138">
                      <a:moveTo>
                        <a:pt x="169" y="0"/>
                      </a:moveTo>
                      <a:lnTo>
                        <a:pt x="169" y="0"/>
                      </a:lnTo>
                      <a:lnTo>
                        <a:pt x="0" y="134"/>
                      </a:lnTo>
                      <a:lnTo>
                        <a:pt x="4" y="138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0548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6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484520" y="5653080"/>
                  <a:ext cx="119520" cy="25920"/>
                </a:xfrm>
                <a:custGeom>
                  <a:avLst/>
                  <a:gdLst/>
                  <a:ahLst/>
                  <a:rect l="0" t="0" r="r" b="b"/>
                  <a:pathLst>
                    <a:path w="332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332" y="72"/>
                      </a:lnTo>
                      <a:lnTo>
                        <a:pt x="332" y="48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47840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479840" y="5626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3" y="0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45" y="11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27" y="36"/>
                      </a:lnTo>
                      <a:lnTo>
                        <a:pt x="27" y="3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60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27" y="60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36" y="36"/>
                      </a:lnTo>
                      <a:lnTo>
                        <a:pt x="45" y="36"/>
                      </a:lnTo>
                      <a:lnTo>
                        <a:pt x="45" y="36"/>
                      </a:lnTo>
                      <a:lnTo>
                        <a:pt x="53" y="36"/>
                      </a:lnTo>
                      <a:lnTo>
                        <a:pt x="53" y="24"/>
                      </a:lnTo>
                      <a:lnTo>
                        <a:pt x="53" y="24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500720" y="562284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287" y="36"/>
                      </a:moveTo>
                      <a:lnTo>
                        <a:pt x="287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92" y="0"/>
                      </a:lnTo>
                      <a:lnTo>
                        <a:pt x="28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613400" y="5618160"/>
                  <a:ext cx="60840" cy="25920"/>
                </a:xfrm>
                <a:custGeom>
                  <a:avLst/>
                  <a:gdLst/>
                  <a:ahLst/>
                  <a:rect l="0" t="0" r="r" b="b"/>
                  <a:pathLst>
                    <a:path w="169" h="72">
                      <a:moveTo>
                        <a:pt x="165" y="0"/>
                      </a:moveTo>
                      <a:lnTo>
                        <a:pt x="165" y="0"/>
                      </a:lnTo>
                      <a:lnTo>
                        <a:pt x="0" y="48"/>
                      </a:lnTo>
                      <a:lnTo>
                        <a:pt x="0" y="72"/>
                      </a:lnTo>
                      <a:lnTo>
                        <a:pt x="169" y="24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680000" y="5595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8" y="29"/>
                      </a:lnTo>
                      <a:lnTo>
                        <a:pt x="48" y="36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50"/>
                      </a:lnTo>
                      <a:lnTo>
                        <a:pt x="24" y="50"/>
                      </a:lnTo>
                      <a:lnTo>
                        <a:pt x="24" y="58"/>
                      </a:lnTo>
                      <a:lnTo>
                        <a:pt x="24" y="58"/>
                      </a:lnTo>
                      <a:lnTo>
                        <a:pt x="24" y="65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72"/>
                      </a:lnTo>
                      <a:lnTo>
                        <a:pt x="24" y="72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48" y="58"/>
                      </a:lnTo>
                      <a:lnTo>
                        <a:pt x="48" y="58"/>
                      </a:lnTo>
                      <a:lnTo>
                        <a:pt x="48" y="50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36"/>
                      </a:lnTo>
                      <a:lnTo>
                        <a:pt x="72" y="29"/>
                      </a:lnTo>
                      <a:lnTo>
                        <a:pt x="72" y="29"/>
                      </a:lnTo>
                      <a:lnTo>
                        <a:pt x="72" y="22"/>
                      </a:lnTo>
                      <a:lnTo>
                        <a:pt x="72" y="14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684680" y="5572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7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"/>
                      </a:lnTo>
                      <a:lnTo>
                        <a:pt x="24" y="7"/>
                      </a:lnTo>
                      <a:lnTo>
                        <a:pt x="0" y="7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72" y="7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694400" y="5556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43"/>
                      </a:lnTo>
                      <a:lnTo>
                        <a:pt x="41" y="43"/>
                      </a:lnTo>
                      <a:lnTo>
                        <a:pt x="41" y="4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1" y="43"/>
                      </a:lnTo>
                      <a:lnTo>
                        <a:pt x="21" y="58"/>
                      </a:lnTo>
                      <a:lnTo>
                        <a:pt x="10" y="58"/>
                      </a:lnTo>
                      <a:lnTo>
                        <a:pt x="10" y="58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31" y="58"/>
                      </a:lnTo>
                      <a:lnTo>
                        <a:pt x="41" y="58"/>
                      </a:lnTo>
                      <a:lnTo>
                        <a:pt x="41" y="58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72" y="1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711680" y="5267160"/>
                  <a:ext cx="25920" cy="281520"/>
                </a:xfrm>
                <a:custGeom>
                  <a:avLst/>
                  <a:gdLst/>
                  <a:ahLst/>
                  <a:rect l="0" t="0" r="r" b="b"/>
                  <a:pathLst>
                    <a:path w="72" h="782">
                      <a:moveTo>
                        <a:pt x="66" y="4"/>
                      </a:moveTo>
                      <a:lnTo>
                        <a:pt x="66" y="4"/>
                      </a:lnTo>
                      <a:lnTo>
                        <a:pt x="0" y="782"/>
                      </a:lnTo>
                      <a:lnTo>
                        <a:pt x="6" y="782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29320" y="524664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61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699080" y="52084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7" y="85"/>
                      </a:lnTo>
                      <a:lnTo>
                        <a:pt x="72" y="8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694400" y="5183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689360" y="514980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76"/>
                      </a:lnTo>
                      <a:lnTo>
                        <a:pt x="0" y="76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8468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24" y="14"/>
                      </a:lnTo>
                      <a:lnTo>
                        <a:pt x="24" y="29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58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8"/>
                      </a:lnTo>
                      <a:lnTo>
                        <a:pt x="72" y="43"/>
                      </a:lnTo>
                      <a:lnTo>
                        <a:pt x="72" y="43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14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30680" y="5100480"/>
                  <a:ext cx="47880" cy="27360"/>
                </a:xfrm>
                <a:custGeom>
                  <a:avLst/>
                  <a:gdLst/>
                  <a:ahLst/>
                  <a:rect l="0" t="0" r="r" b="b"/>
                  <a:pathLst>
                    <a:path w="133" h="7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3" y="76"/>
                      </a:lnTo>
                      <a:lnTo>
                        <a:pt x="133" y="7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086360" y="5065560"/>
                  <a:ext cx="536760" cy="27360"/>
                </a:xfrm>
                <a:custGeom>
                  <a:avLst/>
                  <a:gdLst/>
                  <a:ahLst/>
                  <a:rect l="0" t="0" r="r" b="b"/>
                  <a:pathLst>
                    <a:path w="149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8" y="4"/>
                      </a:lnTo>
                      <a:lnTo>
                        <a:pt x="97" y="4"/>
                      </a:lnTo>
                      <a:lnTo>
                        <a:pt x="141" y="4"/>
                      </a:lnTo>
                      <a:lnTo>
                        <a:pt x="189" y="4"/>
                      </a:lnTo>
                      <a:lnTo>
                        <a:pt x="233" y="4"/>
                      </a:lnTo>
                      <a:lnTo>
                        <a:pt x="277" y="4"/>
                      </a:lnTo>
                      <a:lnTo>
                        <a:pt x="326" y="8"/>
                      </a:lnTo>
                      <a:lnTo>
                        <a:pt x="374" y="8"/>
                      </a:lnTo>
                      <a:lnTo>
                        <a:pt x="423" y="8"/>
                      </a:lnTo>
                      <a:lnTo>
                        <a:pt x="467" y="8"/>
                      </a:lnTo>
                      <a:lnTo>
                        <a:pt x="515" y="13"/>
                      </a:lnTo>
                      <a:lnTo>
                        <a:pt x="560" y="13"/>
                      </a:lnTo>
                      <a:lnTo>
                        <a:pt x="608" y="13"/>
                      </a:lnTo>
                      <a:lnTo>
                        <a:pt x="657" y="13"/>
                      </a:lnTo>
                      <a:lnTo>
                        <a:pt x="705" y="17"/>
                      </a:lnTo>
                      <a:lnTo>
                        <a:pt x="750" y="17"/>
                      </a:lnTo>
                      <a:lnTo>
                        <a:pt x="799" y="23"/>
                      </a:lnTo>
                      <a:lnTo>
                        <a:pt x="847" y="23"/>
                      </a:lnTo>
                      <a:lnTo>
                        <a:pt x="891" y="27"/>
                      </a:lnTo>
                      <a:lnTo>
                        <a:pt x="940" y="27"/>
                      </a:lnTo>
                      <a:lnTo>
                        <a:pt x="984" y="31"/>
                      </a:lnTo>
                      <a:lnTo>
                        <a:pt x="1032" y="36"/>
                      </a:lnTo>
                      <a:lnTo>
                        <a:pt x="1081" y="36"/>
                      </a:lnTo>
                      <a:lnTo>
                        <a:pt x="1125" y="40"/>
                      </a:lnTo>
                      <a:lnTo>
                        <a:pt x="1173" y="45"/>
                      </a:lnTo>
                      <a:lnTo>
                        <a:pt x="1218" y="49"/>
                      </a:lnTo>
                      <a:lnTo>
                        <a:pt x="1266" y="49"/>
                      </a:lnTo>
                      <a:lnTo>
                        <a:pt x="1310" y="59"/>
                      </a:lnTo>
                      <a:lnTo>
                        <a:pt x="1354" y="63"/>
                      </a:lnTo>
                      <a:lnTo>
                        <a:pt x="1398" y="68"/>
                      </a:lnTo>
                      <a:lnTo>
                        <a:pt x="1447" y="72"/>
                      </a:lnTo>
                      <a:lnTo>
                        <a:pt x="1491" y="76"/>
                      </a:lnTo>
                      <a:lnTo>
                        <a:pt x="1491" y="72"/>
                      </a:lnTo>
                      <a:lnTo>
                        <a:pt x="1447" y="68"/>
                      </a:lnTo>
                      <a:lnTo>
                        <a:pt x="1403" y="63"/>
                      </a:lnTo>
                      <a:lnTo>
                        <a:pt x="1354" y="59"/>
                      </a:lnTo>
                      <a:lnTo>
                        <a:pt x="1310" y="49"/>
                      </a:lnTo>
                      <a:lnTo>
                        <a:pt x="1266" y="49"/>
                      </a:lnTo>
                      <a:lnTo>
                        <a:pt x="1218" y="45"/>
                      </a:lnTo>
                      <a:lnTo>
                        <a:pt x="1173" y="40"/>
                      </a:lnTo>
                      <a:lnTo>
                        <a:pt x="1125" y="36"/>
                      </a:lnTo>
                      <a:lnTo>
                        <a:pt x="1081" y="31"/>
                      </a:lnTo>
                      <a:lnTo>
                        <a:pt x="1032" y="27"/>
                      </a:lnTo>
                      <a:lnTo>
                        <a:pt x="984" y="27"/>
                      </a:lnTo>
                      <a:lnTo>
                        <a:pt x="940" y="23"/>
                      </a:lnTo>
                      <a:lnTo>
                        <a:pt x="891" y="23"/>
                      </a:lnTo>
                      <a:lnTo>
                        <a:pt x="847" y="17"/>
                      </a:lnTo>
                      <a:lnTo>
                        <a:pt x="799" y="13"/>
                      </a:lnTo>
                      <a:lnTo>
                        <a:pt x="750" y="13"/>
                      </a:lnTo>
                      <a:lnTo>
                        <a:pt x="705" y="13"/>
                      </a:lnTo>
                      <a:lnTo>
                        <a:pt x="657" y="8"/>
                      </a:lnTo>
                      <a:lnTo>
                        <a:pt x="608" y="8"/>
                      </a:lnTo>
                      <a:lnTo>
                        <a:pt x="560" y="4"/>
                      </a:lnTo>
                      <a:lnTo>
                        <a:pt x="515" y="4"/>
                      </a:lnTo>
                      <a:lnTo>
                        <a:pt x="467" y="4"/>
                      </a:lnTo>
                      <a:lnTo>
                        <a:pt x="423" y="4"/>
                      </a:lnTo>
                      <a:lnTo>
                        <a:pt x="374" y="0"/>
                      </a:lnTo>
                      <a:lnTo>
                        <a:pt x="326" y="0"/>
                      </a:lnTo>
                      <a:lnTo>
                        <a:pt x="277" y="0"/>
                      </a:lnTo>
                      <a:lnTo>
                        <a:pt x="233" y="0"/>
                      </a:lnTo>
                      <a:lnTo>
                        <a:pt x="189" y="0"/>
                      </a:lnTo>
                      <a:lnTo>
                        <a:pt x="141" y="0"/>
                      </a:lnTo>
                      <a:lnTo>
                        <a:pt x="97" y="0"/>
                      </a:lnTo>
                      <a:lnTo>
                        <a:pt x="4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064040" y="5065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" y="72"/>
                      </a:moveTo>
                      <a:lnTo>
                        <a:pt x="7" y="72"/>
                      </a:lnTo>
                      <a:lnTo>
                        <a:pt x="7" y="60"/>
                      </a:lnTo>
                      <a:lnTo>
                        <a:pt x="7" y="60"/>
                      </a:lnTo>
                      <a:lnTo>
                        <a:pt x="15" y="48"/>
                      </a:lnTo>
                      <a:lnTo>
                        <a:pt x="15" y="48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11"/>
                      </a:ln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56" y="11"/>
                      </a:lnTo>
                      <a:lnTo>
                        <a:pt x="64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40" y="11"/>
                      </a:lnTo>
                      <a:lnTo>
                        <a:pt x="32" y="11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36"/>
                      </a:lnTo>
                      <a:lnTo>
                        <a:pt x="7" y="36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027320" y="5083200"/>
                  <a:ext cx="30600" cy="438480"/>
                </a:xfrm>
                <a:custGeom>
                  <a:avLst/>
                  <a:gdLst/>
                  <a:ahLst/>
                  <a:rect l="0" t="0" r="r" b="b"/>
                  <a:pathLst>
                    <a:path w="85" h="1218">
                      <a:moveTo>
                        <a:pt x="4" y="1213"/>
                      </a:moveTo>
                      <a:lnTo>
                        <a:pt x="4" y="1213"/>
                      </a:lnTo>
                      <a:lnTo>
                        <a:pt x="4" y="1178"/>
                      </a:lnTo>
                      <a:lnTo>
                        <a:pt x="4" y="1138"/>
                      </a:lnTo>
                      <a:lnTo>
                        <a:pt x="4" y="1103"/>
                      </a:lnTo>
                      <a:lnTo>
                        <a:pt x="8" y="1063"/>
                      </a:lnTo>
                      <a:lnTo>
                        <a:pt x="8" y="1024"/>
                      </a:lnTo>
                      <a:lnTo>
                        <a:pt x="8" y="988"/>
                      </a:lnTo>
                      <a:lnTo>
                        <a:pt x="8" y="949"/>
                      </a:lnTo>
                      <a:lnTo>
                        <a:pt x="8" y="913"/>
                      </a:lnTo>
                      <a:lnTo>
                        <a:pt x="13" y="874"/>
                      </a:lnTo>
                      <a:lnTo>
                        <a:pt x="13" y="838"/>
                      </a:lnTo>
                      <a:lnTo>
                        <a:pt x="13" y="799"/>
                      </a:lnTo>
                      <a:lnTo>
                        <a:pt x="13" y="763"/>
                      </a:lnTo>
                      <a:lnTo>
                        <a:pt x="17" y="724"/>
                      </a:lnTo>
                      <a:lnTo>
                        <a:pt x="17" y="688"/>
                      </a:lnTo>
                      <a:lnTo>
                        <a:pt x="17" y="649"/>
                      </a:lnTo>
                      <a:lnTo>
                        <a:pt x="23" y="613"/>
                      </a:lnTo>
                      <a:lnTo>
                        <a:pt x="23" y="573"/>
                      </a:lnTo>
                      <a:lnTo>
                        <a:pt x="27" y="533"/>
                      </a:lnTo>
                      <a:lnTo>
                        <a:pt x="27" y="498"/>
                      </a:lnTo>
                      <a:lnTo>
                        <a:pt x="31" y="458"/>
                      </a:lnTo>
                      <a:lnTo>
                        <a:pt x="36" y="418"/>
                      </a:lnTo>
                      <a:lnTo>
                        <a:pt x="40" y="383"/>
                      </a:lnTo>
                      <a:lnTo>
                        <a:pt x="40" y="343"/>
                      </a:lnTo>
                      <a:lnTo>
                        <a:pt x="45" y="308"/>
                      </a:lnTo>
                      <a:lnTo>
                        <a:pt x="49" y="268"/>
                      </a:lnTo>
                      <a:lnTo>
                        <a:pt x="53" y="229"/>
                      </a:lnTo>
                      <a:lnTo>
                        <a:pt x="58" y="194"/>
                      </a:lnTo>
                      <a:lnTo>
                        <a:pt x="62" y="154"/>
                      </a:lnTo>
                      <a:lnTo>
                        <a:pt x="68" y="114"/>
                      </a:lnTo>
                      <a:lnTo>
                        <a:pt x="72" y="79"/>
                      </a:lnTo>
                      <a:lnTo>
                        <a:pt x="81" y="39"/>
                      </a:lnTo>
                      <a:lnTo>
                        <a:pt x="85" y="4"/>
                      </a:lnTo>
                      <a:lnTo>
                        <a:pt x="81" y="0"/>
                      </a:lnTo>
                      <a:lnTo>
                        <a:pt x="72" y="39"/>
                      </a:lnTo>
                      <a:lnTo>
                        <a:pt x="68" y="79"/>
                      </a:lnTo>
                      <a:lnTo>
                        <a:pt x="62" y="114"/>
                      </a:lnTo>
                      <a:lnTo>
                        <a:pt x="58" y="154"/>
                      </a:lnTo>
                      <a:lnTo>
                        <a:pt x="53" y="194"/>
                      </a:lnTo>
                      <a:lnTo>
                        <a:pt x="49" y="229"/>
                      </a:lnTo>
                      <a:lnTo>
                        <a:pt x="45" y="268"/>
                      </a:lnTo>
                      <a:lnTo>
                        <a:pt x="40" y="308"/>
                      </a:lnTo>
                      <a:lnTo>
                        <a:pt x="36" y="343"/>
                      </a:lnTo>
                      <a:lnTo>
                        <a:pt x="31" y="383"/>
                      </a:lnTo>
                      <a:lnTo>
                        <a:pt x="27" y="418"/>
                      </a:lnTo>
                      <a:lnTo>
                        <a:pt x="27" y="458"/>
                      </a:lnTo>
                      <a:lnTo>
                        <a:pt x="23" y="498"/>
                      </a:lnTo>
                      <a:lnTo>
                        <a:pt x="23" y="533"/>
                      </a:lnTo>
                      <a:lnTo>
                        <a:pt x="17" y="573"/>
                      </a:lnTo>
                      <a:lnTo>
                        <a:pt x="17" y="613"/>
                      </a:lnTo>
                      <a:lnTo>
                        <a:pt x="13" y="649"/>
                      </a:lnTo>
                      <a:lnTo>
                        <a:pt x="13" y="688"/>
                      </a:lnTo>
                      <a:lnTo>
                        <a:pt x="13" y="724"/>
                      </a:lnTo>
                      <a:lnTo>
                        <a:pt x="8" y="763"/>
                      </a:lnTo>
                      <a:lnTo>
                        <a:pt x="8" y="799"/>
                      </a:lnTo>
                      <a:lnTo>
                        <a:pt x="8" y="838"/>
                      </a:lnTo>
                      <a:lnTo>
                        <a:pt x="4" y="874"/>
                      </a:lnTo>
                      <a:lnTo>
                        <a:pt x="4" y="913"/>
                      </a:lnTo>
                      <a:lnTo>
                        <a:pt x="4" y="949"/>
                      </a:lnTo>
                      <a:lnTo>
                        <a:pt x="4" y="988"/>
                      </a:lnTo>
                      <a:lnTo>
                        <a:pt x="0" y="1024"/>
                      </a:lnTo>
                      <a:lnTo>
                        <a:pt x="0" y="1063"/>
                      </a:lnTo>
                      <a:lnTo>
                        <a:pt x="0" y="1103"/>
                      </a:lnTo>
                      <a:lnTo>
                        <a:pt x="0" y="1138"/>
                      </a:lnTo>
                      <a:lnTo>
                        <a:pt x="0" y="1178"/>
                      </a:lnTo>
                      <a:lnTo>
                        <a:pt x="0" y="1213"/>
                      </a:lnTo>
                      <a:lnTo>
                        <a:pt x="0" y="1218"/>
                      </a:lnTo>
                      <a:lnTo>
                        <a:pt x="0" y="1218"/>
                      </a:lnTo>
                      <a:lnTo>
                        <a:pt x="4" y="1218"/>
                      </a:lnTo>
                      <a:lnTo>
                        <a:pt x="4" y="1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027320" y="552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4"/>
                      </a:move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64"/>
                      </a:lnTo>
                      <a:lnTo>
                        <a:pt x="48" y="64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038480" y="5549760"/>
                  <a:ext cx="39960" cy="25920"/>
                </a:xfrm>
                <a:custGeom>
                  <a:avLst/>
                  <a:gdLst/>
                  <a:ahLst/>
                  <a:rect l="0" t="0" r="r" b="b"/>
                  <a:pathLst>
                    <a:path w="111" h="72">
                      <a:moveTo>
                        <a:pt x="111" y="68"/>
                      </a:moveTo>
                      <a:lnTo>
                        <a:pt x="11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06" y="72"/>
                      </a:lnTo>
                      <a:lnTo>
                        <a:pt x="111" y="72"/>
                      </a:lnTo>
                      <a:lnTo>
                        <a:pt x="111" y="72"/>
                      </a:lnTo>
                      <a:lnTo>
                        <a:pt x="11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086360" y="5581800"/>
                  <a:ext cx="135360" cy="25920"/>
                </a:xfrm>
                <a:custGeom>
                  <a:avLst/>
                  <a:gdLst/>
                  <a:ahLst/>
                  <a:rect l="0" t="0" r="r" b="b"/>
                  <a:pathLst>
                    <a:path w="376" h="72">
                      <a:moveTo>
                        <a:pt x="376" y="62"/>
                      </a:moveTo>
                      <a:lnTo>
                        <a:pt x="372" y="62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372" y="72"/>
                      </a:lnTo>
                      <a:lnTo>
                        <a:pt x="368" y="72"/>
                      </a:lnTo>
                      <a:lnTo>
                        <a:pt x="372" y="72"/>
                      </a:lnTo>
                      <a:lnTo>
                        <a:pt x="372" y="72"/>
                      </a:lnTo>
                      <a:lnTo>
                        <a:pt x="376" y="72"/>
                      </a:lnTo>
                      <a:lnTo>
                        <a:pt x="376" y="62"/>
                      </a:lnTo>
                      <a:lnTo>
                        <a:pt x="372" y="62"/>
                      </a:lnTo>
                      <a:lnTo>
                        <a:pt x="37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227480" y="560052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72"/>
                      </a:moveTo>
                      <a:lnTo>
                        <a:pt x="80" y="67"/>
                      </a:lnTo>
                      <a:lnTo>
                        <a:pt x="75" y="63"/>
                      </a:lnTo>
                      <a:lnTo>
                        <a:pt x="67" y="63"/>
                      </a:lnTo>
                      <a:lnTo>
                        <a:pt x="62" y="58"/>
                      </a:lnTo>
                      <a:lnTo>
                        <a:pt x="58" y="52"/>
                      </a:lnTo>
                      <a:lnTo>
                        <a:pt x="53" y="48"/>
                      </a:lnTo>
                      <a:lnTo>
                        <a:pt x="49" y="43"/>
                      </a:lnTo>
                      <a:lnTo>
                        <a:pt x="45" y="38"/>
                      </a:lnTo>
                      <a:lnTo>
                        <a:pt x="35" y="38"/>
                      </a:lnTo>
                      <a:lnTo>
                        <a:pt x="35" y="33"/>
                      </a:lnTo>
                      <a:lnTo>
                        <a:pt x="26" y="29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8" y="9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30" y="38"/>
                      </a:lnTo>
                      <a:lnTo>
                        <a:pt x="35" y="38"/>
                      </a:lnTo>
                      <a:lnTo>
                        <a:pt x="39" y="43"/>
                      </a:lnTo>
                      <a:lnTo>
                        <a:pt x="45" y="48"/>
                      </a:lnTo>
                      <a:lnTo>
                        <a:pt x="49" y="52"/>
                      </a:lnTo>
                      <a:lnTo>
                        <a:pt x="58" y="58"/>
                      </a:lnTo>
                      <a:lnTo>
                        <a:pt x="58" y="63"/>
                      </a:lnTo>
                      <a:lnTo>
                        <a:pt x="67" y="63"/>
                      </a:lnTo>
                      <a:lnTo>
                        <a:pt x="71" y="67"/>
                      </a:lnTo>
                      <a:lnTo>
                        <a:pt x="75" y="72"/>
                      </a:lnTo>
                      <a:lnTo>
                        <a:pt x="80" y="67"/>
                      </a:lnTo>
                      <a:lnTo>
                        <a:pt x="75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67"/>
                      </a:lnTo>
                      <a:lnTo>
                        <a:pt x="8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219560" y="5624640"/>
                  <a:ext cx="36720" cy="25920"/>
                </a:xfrm>
                <a:custGeom>
                  <a:avLst/>
                  <a:gdLst/>
                  <a:ahLst/>
                  <a:rect l="0" t="0" r="r" b="b"/>
                  <a:pathLst>
                    <a:path w="10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102" y="0"/>
                      </a:lnTo>
                      <a:lnTo>
                        <a:pt x="102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110120" y="5627520"/>
                  <a:ext cx="101880" cy="51120"/>
                </a:xfrm>
                <a:custGeom>
                  <a:avLst/>
                  <a:gdLst/>
                  <a:ahLst/>
                  <a:rect l="0" t="0" r="r" b="b"/>
                  <a:pathLst>
                    <a:path w="283" h="142">
                      <a:moveTo>
                        <a:pt x="8" y="142"/>
                      </a:moveTo>
                      <a:lnTo>
                        <a:pt x="4" y="142"/>
                      </a:lnTo>
                      <a:lnTo>
                        <a:pt x="283" y="4"/>
                      </a:lnTo>
                      <a:lnTo>
                        <a:pt x="278" y="0"/>
                      </a:lnTo>
                      <a:lnTo>
                        <a:pt x="4" y="137"/>
                      </a:lnTo>
                      <a:lnTo>
                        <a:pt x="0" y="142"/>
                      </a:lnTo>
                      <a:lnTo>
                        <a:pt x="4" y="137"/>
                      </a:lnTo>
                      <a:lnTo>
                        <a:pt x="0" y="137"/>
                      </a:lnTo>
                      <a:lnTo>
                        <a:pt x="0" y="142"/>
                      </a:lnTo>
                      <a:lnTo>
                        <a:pt x="4" y="142"/>
                      </a:lnTo>
                      <a:lnTo>
                        <a:pt x="4" y="142"/>
                      </a:lnTo>
                      <a:lnTo>
                        <a:pt x="8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0364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7" y="64"/>
                      </a:move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17" y="72"/>
                      </a:lnTo>
                      <a:lnTo>
                        <a:pt x="0" y="72"/>
                      </a:lnTo>
                      <a:lnTo>
                        <a:pt x="17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027320" y="5067360"/>
                  <a:ext cx="608400" cy="508320"/>
                </a:xfrm>
                <a:custGeom>
                  <a:avLst/>
                  <a:gdLst/>
                  <a:ahLst/>
                  <a:rect l="0" t="0" r="r" b="b"/>
                  <a:pathLst>
                    <a:path w="1690" h="1412">
                      <a:moveTo>
                        <a:pt x="26" y="1271"/>
                      </a:moveTo>
                      <a:lnTo>
                        <a:pt x="1563" y="1412"/>
                      </a:lnTo>
                      <a:lnTo>
                        <a:pt x="1571" y="1376"/>
                      </a:lnTo>
                      <a:lnTo>
                        <a:pt x="1576" y="1337"/>
                      </a:lnTo>
                      <a:lnTo>
                        <a:pt x="1580" y="1301"/>
                      </a:lnTo>
                      <a:lnTo>
                        <a:pt x="1589" y="1262"/>
                      </a:lnTo>
                      <a:lnTo>
                        <a:pt x="1593" y="1222"/>
                      </a:lnTo>
                      <a:lnTo>
                        <a:pt x="1598" y="1187"/>
                      </a:lnTo>
                      <a:lnTo>
                        <a:pt x="1602" y="1147"/>
                      </a:lnTo>
                      <a:lnTo>
                        <a:pt x="1611" y="1107"/>
                      </a:lnTo>
                      <a:lnTo>
                        <a:pt x="1615" y="1068"/>
                      </a:lnTo>
                      <a:lnTo>
                        <a:pt x="1620" y="1028"/>
                      </a:lnTo>
                      <a:lnTo>
                        <a:pt x="1624" y="988"/>
                      </a:lnTo>
                      <a:lnTo>
                        <a:pt x="1633" y="949"/>
                      </a:lnTo>
                      <a:lnTo>
                        <a:pt x="1638" y="913"/>
                      </a:lnTo>
                      <a:lnTo>
                        <a:pt x="1642" y="869"/>
                      </a:lnTo>
                      <a:lnTo>
                        <a:pt x="1642" y="830"/>
                      </a:lnTo>
                      <a:lnTo>
                        <a:pt x="1651" y="790"/>
                      </a:lnTo>
                      <a:lnTo>
                        <a:pt x="1655" y="750"/>
                      </a:lnTo>
                      <a:lnTo>
                        <a:pt x="1655" y="710"/>
                      </a:lnTo>
                      <a:lnTo>
                        <a:pt x="1660" y="670"/>
                      </a:lnTo>
                      <a:lnTo>
                        <a:pt x="1664" y="626"/>
                      </a:lnTo>
                      <a:lnTo>
                        <a:pt x="1668" y="586"/>
                      </a:lnTo>
                      <a:lnTo>
                        <a:pt x="1673" y="546"/>
                      </a:lnTo>
                      <a:lnTo>
                        <a:pt x="1673" y="507"/>
                      </a:lnTo>
                      <a:lnTo>
                        <a:pt x="1677" y="463"/>
                      </a:lnTo>
                      <a:lnTo>
                        <a:pt x="1677" y="423"/>
                      </a:lnTo>
                      <a:lnTo>
                        <a:pt x="1682" y="383"/>
                      </a:lnTo>
                      <a:lnTo>
                        <a:pt x="1682" y="343"/>
                      </a:lnTo>
                      <a:lnTo>
                        <a:pt x="1686" y="299"/>
                      </a:lnTo>
                      <a:lnTo>
                        <a:pt x="1686" y="260"/>
                      </a:lnTo>
                      <a:lnTo>
                        <a:pt x="1686" y="216"/>
                      </a:lnTo>
                      <a:lnTo>
                        <a:pt x="1690" y="176"/>
                      </a:lnTo>
                      <a:lnTo>
                        <a:pt x="1690" y="132"/>
                      </a:lnTo>
                      <a:lnTo>
                        <a:pt x="1690" y="127"/>
                      </a:lnTo>
                      <a:lnTo>
                        <a:pt x="1686" y="119"/>
                      </a:lnTo>
                      <a:lnTo>
                        <a:pt x="1686" y="114"/>
                      </a:lnTo>
                      <a:lnTo>
                        <a:pt x="1682" y="110"/>
                      </a:lnTo>
                      <a:lnTo>
                        <a:pt x="1677" y="105"/>
                      </a:lnTo>
                      <a:lnTo>
                        <a:pt x="1668" y="101"/>
                      </a:lnTo>
                      <a:lnTo>
                        <a:pt x="1664" y="97"/>
                      </a:lnTo>
                      <a:lnTo>
                        <a:pt x="1655" y="92"/>
                      </a:lnTo>
                      <a:lnTo>
                        <a:pt x="1607" y="83"/>
                      </a:lnTo>
                      <a:lnTo>
                        <a:pt x="1558" y="79"/>
                      </a:lnTo>
                      <a:lnTo>
                        <a:pt x="1514" y="74"/>
                      </a:lnTo>
                      <a:lnTo>
                        <a:pt x="1470" y="66"/>
                      </a:lnTo>
                      <a:lnTo>
                        <a:pt x="1421" y="61"/>
                      </a:lnTo>
                      <a:lnTo>
                        <a:pt x="1377" y="57"/>
                      </a:lnTo>
                      <a:lnTo>
                        <a:pt x="1329" y="52"/>
                      </a:lnTo>
                      <a:lnTo>
                        <a:pt x="1285" y="48"/>
                      </a:lnTo>
                      <a:lnTo>
                        <a:pt x="1240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7" y="30"/>
                      </a:lnTo>
                      <a:lnTo>
                        <a:pt x="1059" y="26"/>
                      </a:lnTo>
                      <a:lnTo>
                        <a:pt x="1015" y="26"/>
                      </a:lnTo>
                      <a:lnTo>
                        <a:pt x="971" y="17"/>
                      </a:lnTo>
                      <a:lnTo>
                        <a:pt x="927" y="17"/>
                      </a:lnTo>
                      <a:lnTo>
                        <a:pt x="882" y="13"/>
                      </a:lnTo>
                      <a:lnTo>
                        <a:pt x="838" y="13"/>
                      </a:lnTo>
                      <a:lnTo>
                        <a:pt x="794" y="13"/>
                      </a:lnTo>
                      <a:lnTo>
                        <a:pt x="746" y="8"/>
                      </a:lnTo>
                      <a:lnTo>
                        <a:pt x="702" y="8"/>
                      </a:lnTo>
                      <a:lnTo>
                        <a:pt x="658" y="8"/>
                      </a:lnTo>
                      <a:lnTo>
                        <a:pt x="613" y="4"/>
                      </a:lnTo>
                      <a:lnTo>
                        <a:pt x="565" y="4"/>
                      </a:lnTo>
                      <a:lnTo>
                        <a:pt x="521" y="4"/>
                      </a:lnTo>
                      <a:lnTo>
                        <a:pt x="477" y="4"/>
                      </a:lnTo>
                      <a:lnTo>
                        <a:pt x="433" y="4"/>
                      </a:lnTo>
                      <a:lnTo>
                        <a:pt x="383" y="0"/>
                      </a:lnTo>
                      <a:lnTo>
                        <a:pt x="335" y="0"/>
                      </a:lnTo>
                      <a:lnTo>
                        <a:pt x="291" y="0"/>
                      </a:lnTo>
                      <a:lnTo>
                        <a:pt x="242" y="0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6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8"/>
                      </a:lnTo>
                      <a:lnTo>
                        <a:pt x="119" y="8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30"/>
                      </a:lnTo>
                      <a:lnTo>
                        <a:pt x="105" y="35"/>
                      </a:lnTo>
                      <a:lnTo>
                        <a:pt x="101" y="39"/>
                      </a:lnTo>
                      <a:lnTo>
                        <a:pt x="97" y="61"/>
                      </a:lnTo>
                      <a:lnTo>
                        <a:pt x="92" y="83"/>
                      </a:lnTo>
                      <a:lnTo>
                        <a:pt x="92" y="105"/>
                      </a:lnTo>
                      <a:lnTo>
                        <a:pt x="88" y="123"/>
                      </a:lnTo>
                      <a:lnTo>
                        <a:pt x="83" y="145"/>
                      </a:lnTo>
                      <a:lnTo>
                        <a:pt x="79" y="167"/>
                      </a:lnTo>
                      <a:lnTo>
                        <a:pt x="74" y="185"/>
                      </a:lnTo>
                      <a:lnTo>
                        <a:pt x="70" y="207"/>
                      </a:lnTo>
                      <a:lnTo>
                        <a:pt x="70" y="224"/>
                      </a:lnTo>
                      <a:lnTo>
                        <a:pt x="66" y="246"/>
                      </a:lnTo>
                      <a:lnTo>
                        <a:pt x="61" y="268"/>
                      </a:lnTo>
                      <a:lnTo>
                        <a:pt x="57" y="286"/>
                      </a:lnTo>
                      <a:lnTo>
                        <a:pt x="57" y="308"/>
                      </a:lnTo>
                      <a:lnTo>
                        <a:pt x="52" y="330"/>
                      </a:lnTo>
                      <a:lnTo>
                        <a:pt x="52" y="352"/>
                      </a:lnTo>
                      <a:lnTo>
                        <a:pt x="48" y="370"/>
                      </a:lnTo>
                      <a:lnTo>
                        <a:pt x="48" y="392"/>
                      </a:lnTo>
                      <a:lnTo>
                        <a:pt x="44" y="414"/>
                      </a:lnTo>
                      <a:lnTo>
                        <a:pt x="39" y="432"/>
                      </a:lnTo>
                      <a:lnTo>
                        <a:pt x="39" y="454"/>
                      </a:lnTo>
                      <a:lnTo>
                        <a:pt x="35" y="471"/>
                      </a:lnTo>
                      <a:lnTo>
                        <a:pt x="35" y="493"/>
                      </a:lnTo>
                      <a:lnTo>
                        <a:pt x="30" y="515"/>
                      </a:lnTo>
                      <a:lnTo>
                        <a:pt x="30" y="533"/>
                      </a:lnTo>
                      <a:lnTo>
                        <a:pt x="30" y="555"/>
                      </a:lnTo>
                      <a:lnTo>
                        <a:pt x="26" y="577"/>
                      </a:lnTo>
                      <a:lnTo>
                        <a:pt x="26" y="599"/>
                      </a:lnTo>
                      <a:lnTo>
                        <a:pt x="26" y="617"/>
                      </a:lnTo>
                      <a:lnTo>
                        <a:pt x="22" y="635"/>
                      </a:lnTo>
                      <a:lnTo>
                        <a:pt x="17" y="657"/>
                      </a:lnTo>
                      <a:lnTo>
                        <a:pt x="17" y="679"/>
                      </a:lnTo>
                      <a:lnTo>
                        <a:pt x="17" y="701"/>
                      </a:lnTo>
                      <a:lnTo>
                        <a:pt x="17" y="715"/>
                      </a:lnTo>
                      <a:lnTo>
                        <a:pt x="17" y="733"/>
                      </a:lnTo>
                      <a:lnTo>
                        <a:pt x="13" y="750"/>
                      </a:lnTo>
                      <a:lnTo>
                        <a:pt x="13" y="768"/>
                      </a:lnTo>
                      <a:lnTo>
                        <a:pt x="13" y="781"/>
                      </a:lnTo>
                      <a:lnTo>
                        <a:pt x="13" y="799"/>
                      </a:lnTo>
                      <a:lnTo>
                        <a:pt x="13" y="816"/>
                      </a:lnTo>
                      <a:lnTo>
                        <a:pt x="13" y="830"/>
                      </a:lnTo>
                      <a:lnTo>
                        <a:pt x="8" y="847"/>
                      </a:lnTo>
                      <a:lnTo>
                        <a:pt x="8" y="865"/>
                      </a:lnTo>
                      <a:lnTo>
                        <a:pt x="8" y="882"/>
                      </a:lnTo>
                      <a:lnTo>
                        <a:pt x="8" y="896"/>
                      </a:lnTo>
                      <a:lnTo>
                        <a:pt x="8" y="913"/>
                      </a:lnTo>
                      <a:lnTo>
                        <a:pt x="8" y="931"/>
                      </a:lnTo>
                      <a:lnTo>
                        <a:pt x="8" y="944"/>
                      </a:lnTo>
                      <a:lnTo>
                        <a:pt x="8" y="962"/>
                      </a:lnTo>
                      <a:lnTo>
                        <a:pt x="8" y="979"/>
                      </a:lnTo>
                      <a:lnTo>
                        <a:pt x="4" y="997"/>
                      </a:lnTo>
                      <a:lnTo>
                        <a:pt x="4" y="1010"/>
                      </a:lnTo>
                      <a:lnTo>
                        <a:pt x="4" y="1028"/>
                      </a:lnTo>
                      <a:lnTo>
                        <a:pt x="4" y="1046"/>
                      </a:lnTo>
                      <a:lnTo>
                        <a:pt x="4" y="1063"/>
                      </a:lnTo>
                      <a:lnTo>
                        <a:pt x="4" y="1076"/>
                      </a:lnTo>
                      <a:lnTo>
                        <a:pt x="4" y="1094"/>
                      </a:lnTo>
                      <a:lnTo>
                        <a:pt x="4" y="1112"/>
                      </a:lnTo>
                      <a:lnTo>
                        <a:pt x="4" y="1125"/>
                      </a:lnTo>
                      <a:lnTo>
                        <a:pt x="4" y="1143"/>
                      </a:lnTo>
                      <a:lnTo>
                        <a:pt x="4" y="1160"/>
                      </a:lnTo>
                      <a:lnTo>
                        <a:pt x="0" y="1178"/>
                      </a:lnTo>
                      <a:lnTo>
                        <a:pt x="0" y="1196"/>
                      </a:lnTo>
                      <a:lnTo>
                        <a:pt x="0" y="1209"/>
                      </a:lnTo>
                      <a:lnTo>
                        <a:pt x="0" y="1226"/>
                      </a:lnTo>
                      <a:lnTo>
                        <a:pt x="0" y="1235"/>
                      </a:lnTo>
                      <a:lnTo>
                        <a:pt x="0" y="1244"/>
                      </a:lnTo>
                      <a:lnTo>
                        <a:pt x="4" y="1248"/>
                      </a:lnTo>
                      <a:lnTo>
                        <a:pt x="4" y="1257"/>
                      </a:lnTo>
                      <a:lnTo>
                        <a:pt x="8" y="1262"/>
                      </a:lnTo>
                      <a:lnTo>
                        <a:pt x="13" y="1266"/>
                      </a:lnTo>
                      <a:lnTo>
                        <a:pt x="17" y="1266"/>
                      </a:lnTo>
                      <a:lnTo>
                        <a:pt x="26" y="1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037040" y="5530680"/>
                  <a:ext cx="552960" cy="47880"/>
                </a:xfrm>
                <a:custGeom>
                  <a:avLst/>
                  <a:gdLst/>
                  <a:ahLst/>
                  <a:rect l="0" t="0" r="r" b="b"/>
                  <a:pathLst>
                    <a:path w="1536" h="133">
                      <a:moveTo>
                        <a:pt x="1532" y="128"/>
                      </a:moveTo>
                      <a:lnTo>
                        <a:pt x="1532" y="12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6" y="128"/>
                      </a:lnTo>
                      <a:lnTo>
                        <a:pt x="1532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95760" y="5114880"/>
                  <a:ext cx="39960" cy="462240"/>
                </a:xfrm>
                <a:custGeom>
                  <a:avLst/>
                  <a:gdLst/>
                  <a:ahLst/>
                  <a:rect l="0" t="0" r="r" b="b"/>
                  <a:pathLst>
                    <a:path w="111" h="1284">
                      <a:moveTo>
                        <a:pt x="106" y="4"/>
                      </a:moveTo>
                      <a:lnTo>
                        <a:pt x="106" y="4"/>
                      </a:lnTo>
                      <a:lnTo>
                        <a:pt x="106" y="44"/>
                      </a:lnTo>
                      <a:lnTo>
                        <a:pt x="106" y="83"/>
                      </a:lnTo>
                      <a:lnTo>
                        <a:pt x="102" y="127"/>
                      </a:lnTo>
                      <a:lnTo>
                        <a:pt x="102" y="167"/>
                      </a:lnTo>
                      <a:lnTo>
                        <a:pt x="102" y="211"/>
                      </a:lnTo>
                      <a:lnTo>
                        <a:pt x="98" y="251"/>
                      </a:lnTo>
                      <a:lnTo>
                        <a:pt x="98" y="291"/>
                      </a:lnTo>
                      <a:lnTo>
                        <a:pt x="93" y="330"/>
                      </a:lnTo>
                      <a:lnTo>
                        <a:pt x="93" y="374"/>
                      </a:lnTo>
                      <a:lnTo>
                        <a:pt x="89" y="414"/>
                      </a:lnTo>
                      <a:lnTo>
                        <a:pt x="84" y="454"/>
                      </a:lnTo>
                      <a:lnTo>
                        <a:pt x="84" y="498"/>
                      </a:lnTo>
                      <a:lnTo>
                        <a:pt x="84" y="537"/>
                      </a:lnTo>
                      <a:lnTo>
                        <a:pt x="80" y="577"/>
                      </a:lnTo>
                      <a:lnTo>
                        <a:pt x="75" y="617"/>
                      </a:lnTo>
                      <a:lnTo>
                        <a:pt x="71" y="658"/>
                      </a:lnTo>
                      <a:lnTo>
                        <a:pt x="67" y="702"/>
                      </a:lnTo>
                      <a:lnTo>
                        <a:pt x="62" y="737"/>
                      </a:lnTo>
                      <a:lnTo>
                        <a:pt x="58" y="777"/>
                      </a:lnTo>
                      <a:lnTo>
                        <a:pt x="58" y="821"/>
                      </a:lnTo>
                      <a:lnTo>
                        <a:pt x="52" y="860"/>
                      </a:lnTo>
                      <a:lnTo>
                        <a:pt x="48" y="896"/>
                      </a:lnTo>
                      <a:lnTo>
                        <a:pt x="44" y="935"/>
                      </a:lnTo>
                      <a:lnTo>
                        <a:pt x="39" y="975"/>
                      </a:lnTo>
                      <a:lnTo>
                        <a:pt x="35" y="1015"/>
                      </a:lnTo>
                      <a:lnTo>
                        <a:pt x="30" y="1054"/>
                      </a:lnTo>
                      <a:lnTo>
                        <a:pt x="26" y="1094"/>
                      </a:lnTo>
                      <a:lnTo>
                        <a:pt x="22" y="1129"/>
                      </a:lnTo>
                      <a:lnTo>
                        <a:pt x="13" y="1169"/>
                      </a:lnTo>
                      <a:lnTo>
                        <a:pt x="8" y="1204"/>
                      </a:lnTo>
                      <a:lnTo>
                        <a:pt x="4" y="1244"/>
                      </a:lnTo>
                      <a:lnTo>
                        <a:pt x="0" y="1279"/>
                      </a:lnTo>
                      <a:lnTo>
                        <a:pt x="4" y="1284"/>
                      </a:lnTo>
                      <a:lnTo>
                        <a:pt x="8" y="1244"/>
                      </a:lnTo>
                      <a:lnTo>
                        <a:pt x="13" y="1209"/>
                      </a:lnTo>
                      <a:lnTo>
                        <a:pt x="22" y="1169"/>
                      </a:lnTo>
                      <a:lnTo>
                        <a:pt x="26" y="1134"/>
                      </a:lnTo>
                      <a:lnTo>
                        <a:pt x="30" y="1094"/>
                      </a:lnTo>
                      <a:lnTo>
                        <a:pt x="35" y="1054"/>
                      </a:lnTo>
                      <a:lnTo>
                        <a:pt x="39" y="1019"/>
                      </a:lnTo>
                      <a:lnTo>
                        <a:pt x="44" y="979"/>
                      </a:lnTo>
                      <a:lnTo>
                        <a:pt x="48" y="940"/>
                      </a:lnTo>
                      <a:lnTo>
                        <a:pt x="52" y="896"/>
                      </a:lnTo>
                      <a:lnTo>
                        <a:pt x="58" y="860"/>
                      </a:lnTo>
                      <a:lnTo>
                        <a:pt x="62" y="821"/>
                      </a:lnTo>
                      <a:lnTo>
                        <a:pt x="67" y="781"/>
                      </a:lnTo>
                      <a:lnTo>
                        <a:pt x="71" y="737"/>
                      </a:lnTo>
                      <a:lnTo>
                        <a:pt x="75" y="702"/>
                      </a:lnTo>
                      <a:lnTo>
                        <a:pt x="75" y="658"/>
                      </a:lnTo>
                      <a:lnTo>
                        <a:pt x="80" y="617"/>
                      </a:lnTo>
                      <a:lnTo>
                        <a:pt x="84" y="577"/>
                      </a:lnTo>
                      <a:lnTo>
                        <a:pt x="84" y="537"/>
                      </a:lnTo>
                      <a:lnTo>
                        <a:pt x="89" y="498"/>
                      </a:lnTo>
                      <a:lnTo>
                        <a:pt x="93" y="454"/>
                      </a:lnTo>
                      <a:lnTo>
                        <a:pt x="93" y="414"/>
                      </a:lnTo>
                      <a:lnTo>
                        <a:pt x="98" y="374"/>
                      </a:lnTo>
                      <a:lnTo>
                        <a:pt x="102" y="330"/>
                      </a:lnTo>
                      <a:lnTo>
                        <a:pt x="102" y="291"/>
                      </a:lnTo>
                      <a:lnTo>
                        <a:pt x="106" y="251"/>
                      </a:lnTo>
                      <a:lnTo>
                        <a:pt x="106" y="211"/>
                      </a:lnTo>
                      <a:lnTo>
                        <a:pt x="106" y="167"/>
                      </a:lnTo>
                      <a:lnTo>
                        <a:pt x="111" y="127"/>
                      </a:lnTo>
                      <a:lnTo>
                        <a:pt x="111" y="83"/>
                      </a:lnTo>
                      <a:lnTo>
                        <a:pt x="111" y="44"/>
                      </a:lnTo>
                      <a:lnTo>
                        <a:pt x="111" y="4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06" y="0"/>
                      </a:lnTo>
                      <a:lnTo>
                        <a:pt x="10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629240" y="510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" y="17"/>
                      </a:lnTo>
                      <a:lnTo>
                        <a:pt x="36" y="17"/>
                      </a:lnTo>
                      <a:lnTo>
                        <a:pt x="36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lnTo>
                        <a:pt x="53" y="53"/>
                      </a:lnTo>
                      <a:lnTo>
                        <a:pt x="53" y="53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3"/>
                      </a:lnTo>
                      <a:lnTo>
                        <a:pt x="72" y="53"/>
                      </a:lnTo>
                      <a:lnTo>
                        <a:pt x="72" y="36"/>
                      </a:lnTo>
                      <a:lnTo>
                        <a:pt x="53" y="36"/>
                      </a:lnTo>
                      <a:lnTo>
                        <a:pt x="53" y="17"/>
                      </a:lnTo>
                      <a:lnTo>
                        <a:pt x="36" y="17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097160" y="5065560"/>
                  <a:ext cx="525960" cy="27360"/>
                </a:xfrm>
                <a:custGeom>
                  <a:avLst/>
                  <a:gdLst/>
                  <a:ahLst/>
                  <a:rect l="0" t="0" r="r" b="b"/>
                  <a:pathLst>
                    <a:path w="146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52" y="4"/>
                      </a:lnTo>
                      <a:lnTo>
                        <a:pt x="97" y="4"/>
                      </a:lnTo>
                      <a:lnTo>
                        <a:pt x="145" y="4"/>
                      </a:lnTo>
                      <a:lnTo>
                        <a:pt x="189" y="4"/>
                      </a:lnTo>
                      <a:lnTo>
                        <a:pt x="238" y="4"/>
                      </a:lnTo>
                      <a:lnTo>
                        <a:pt x="282" y="4"/>
                      </a:lnTo>
                      <a:lnTo>
                        <a:pt x="330" y="8"/>
                      </a:lnTo>
                      <a:lnTo>
                        <a:pt x="375" y="8"/>
                      </a:lnTo>
                      <a:lnTo>
                        <a:pt x="419" y="8"/>
                      </a:lnTo>
                      <a:lnTo>
                        <a:pt x="464" y="8"/>
                      </a:lnTo>
                      <a:lnTo>
                        <a:pt x="508" y="13"/>
                      </a:lnTo>
                      <a:lnTo>
                        <a:pt x="552" y="13"/>
                      </a:lnTo>
                      <a:lnTo>
                        <a:pt x="600" y="13"/>
                      </a:lnTo>
                      <a:lnTo>
                        <a:pt x="644" y="13"/>
                      </a:lnTo>
                      <a:lnTo>
                        <a:pt x="688" y="17"/>
                      </a:lnTo>
                      <a:lnTo>
                        <a:pt x="733" y="17"/>
                      </a:lnTo>
                      <a:lnTo>
                        <a:pt x="777" y="23"/>
                      </a:lnTo>
                      <a:lnTo>
                        <a:pt x="821" y="23"/>
                      </a:lnTo>
                      <a:lnTo>
                        <a:pt x="865" y="27"/>
                      </a:lnTo>
                      <a:lnTo>
                        <a:pt x="913" y="27"/>
                      </a:lnTo>
                      <a:lnTo>
                        <a:pt x="957" y="31"/>
                      </a:lnTo>
                      <a:lnTo>
                        <a:pt x="1002" y="36"/>
                      </a:lnTo>
                      <a:lnTo>
                        <a:pt x="1046" y="36"/>
                      </a:lnTo>
                      <a:lnTo>
                        <a:pt x="1090" y="40"/>
                      </a:lnTo>
                      <a:lnTo>
                        <a:pt x="1135" y="45"/>
                      </a:lnTo>
                      <a:lnTo>
                        <a:pt x="1179" y="49"/>
                      </a:lnTo>
                      <a:lnTo>
                        <a:pt x="1227" y="49"/>
                      </a:lnTo>
                      <a:lnTo>
                        <a:pt x="1276" y="59"/>
                      </a:lnTo>
                      <a:lnTo>
                        <a:pt x="1320" y="63"/>
                      </a:lnTo>
                      <a:lnTo>
                        <a:pt x="1364" y="68"/>
                      </a:lnTo>
                      <a:lnTo>
                        <a:pt x="1413" y="72"/>
                      </a:lnTo>
                      <a:lnTo>
                        <a:pt x="1457" y="76"/>
                      </a:lnTo>
                      <a:lnTo>
                        <a:pt x="1461" y="72"/>
                      </a:lnTo>
                      <a:lnTo>
                        <a:pt x="1413" y="68"/>
                      </a:lnTo>
                      <a:lnTo>
                        <a:pt x="1369" y="63"/>
                      </a:lnTo>
                      <a:lnTo>
                        <a:pt x="1320" y="59"/>
                      </a:lnTo>
                      <a:lnTo>
                        <a:pt x="1276" y="49"/>
                      </a:lnTo>
                      <a:lnTo>
                        <a:pt x="1227" y="49"/>
                      </a:lnTo>
                      <a:lnTo>
                        <a:pt x="1183" y="45"/>
                      </a:lnTo>
                      <a:lnTo>
                        <a:pt x="1135" y="40"/>
                      </a:lnTo>
                      <a:lnTo>
                        <a:pt x="1090" y="36"/>
                      </a:lnTo>
                      <a:lnTo>
                        <a:pt x="1046" y="31"/>
                      </a:lnTo>
                      <a:lnTo>
                        <a:pt x="1002" y="27"/>
                      </a:lnTo>
                      <a:lnTo>
                        <a:pt x="957" y="27"/>
                      </a:lnTo>
                      <a:lnTo>
                        <a:pt x="913" y="23"/>
                      </a:lnTo>
                      <a:lnTo>
                        <a:pt x="869" y="23"/>
                      </a:lnTo>
                      <a:lnTo>
                        <a:pt x="821" y="17"/>
                      </a:lnTo>
                      <a:lnTo>
                        <a:pt x="777" y="13"/>
                      </a:lnTo>
                      <a:lnTo>
                        <a:pt x="733" y="13"/>
                      </a:lnTo>
                      <a:lnTo>
                        <a:pt x="688" y="13"/>
                      </a:lnTo>
                      <a:lnTo>
                        <a:pt x="644" y="8"/>
                      </a:lnTo>
                      <a:lnTo>
                        <a:pt x="600" y="8"/>
                      </a:lnTo>
                      <a:lnTo>
                        <a:pt x="552" y="8"/>
                      </a:lnTo>
                      <a:lnTo>
                        <a:pt x="508" y="4"/>
                      </a:lnTo>
                      <a:lnTo>
                        <a:pt x="464" y="4"/>
                      </a:lnTo>
                      <a:lnTo>
                        <a:pt x="419" y="4"/>
                      </a:lnTo>
                      <a:lnTo>
                        <a:pt x="375" y="0"/>
                      </a:lnTo>
                      <a:lnTo>
                        <a:pt x="330" y="0"/>
                      </a:lnTo>
                      <a:lnTo>
                        <a:pt x="282" y="0"/>
                      </a:lnTo>
                      <a:lnTo>
                        <a:pt x="238" y="0"/>
                      </a:lnTo>
                      <a:lnTo>
                        <a:pt x="189" y="0"/>
                      </a:lnTo>
                      <a:lnTo>
                        <a:pt x="145" y="0"/>
                      </a:lnTo>
                      <a:lnTo>
                        <a:pt x="97" y="0"/>
                      </a:lnTo>
                      <a:lnTo>
                        <a:pt x="5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064040" y="506556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8" y="58"/>
                      </a:lnTo>
                      <a:lnTo>
                        <a:pt x="8" y="43"/>
                      </a:lnTo>
                      <a:lnTo>
                        <a:pt x="13" y="43"/>
                      </a:lnTo>
                      <a:lnTo>
                        <a:pt x="13" y="29"/>
                      </a:lnTo>
                      <a:lnTo>
                        <a:pt x="13" y="29"/>
                      </a:lnTo>
                      <a:lnTo>
                        <a:pt x="17" y="29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40" y="14"/>
                      </a:lnTo>
                      <a:lnTo>
                        <a:pt x="45" y="14"/>
                      </a:lnTo>
                      <a:lnTo>
                        <a:pt x="49" y="14"/>
                      </a:lnTo>
                      <a:lnTo>
                        <a:pt x="59" y="14"/>
                      </a:lnTo>
                      <a:lnTo>
                        <a:pt x="68" y="14"/>
                      </a:lnTo>
                      <a:lnTo>
                        <a:pt x="76" y="14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9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3" y="14"/>
                      </a:lnTo>
                      <a:lnTo>
                        <a:pt x="13" y="29"/>
                      </a:lnTo>
                      <a:lnTo>
                        <a:pt x="8" y="29"/>
                      </a:lnTo>
                      <a:lnTo>
                        <a:pt x="8" y="43"/>
                      </a:lnTo>
                      <a:lnTo>
                        <a:pt x="4" y="43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033800" y="5083200"/>
                  <a:ext cx="25920" cy="233640"/>
                </a:xfrm>
                <a:custGeom>
                  <a:avLst/>
                  <a:gdLst/>
                  <a:ahLst/>
                  <a:rect l="0" t="0" r="r" b="b"/>
                  <a:pathLst>
                    <a:path w="72" h="649">
                      <a:moveTo>
                        <a:pt x="4" y="644"/>
                      </a:moveTo>
                      <a:lnTo>
                        <a:pt x="4" y="644"/>
                      </a:lnTo>
                      <a:lnTo>
                        <a:pt x="4" y="627"/>
                      </a:lnTo>
                      <a:lnTo>
                        <a:pt x="9" y="605"/>
                      </a:lnTo>
                      <a:lnTo>
                        <a:pt x="9" y="583"/>
                      </a:lnTo>
                      <a:lnTo>
                        <a:pt x="9" y="565"/>
                      </a:lnTo>
                      <a:lnTo>
                        <a:pt x="9" y="547"/>
                      </a:lnTo>
                      <a:lnTo>
                        <a:pt x="9" y="525"/>
                      </a:lnTo>
                      <a:lnTo>
                        <a:pt x="14" y="503"/>
                      </a:lnTo>
                      <a:lnTo>
                        <a:pt x="14" y="486"/>
                      </a:lnTo>
                      <a:lnTo>
                        <a:pt x="19" y="464"/>
                      </a:lnTo>
                      <a:lnTo>
                        <a:pt x="19" y="446"/>
                      </a:lnTo>
                      <a:lnTo>
                        <a:pt x="19" y="424"/>
                      </a:lnTo>
                      <a:lnTo>
                        <a:pt x="19" y="406"/>
                      </a:lnTo>
                      <a:lnTo>
                        <a:pt x="24" y="384"/>
                      </a:lnTo>
                      <a:lnTo>
                        <a:pt x="24" y="362"/>
                      </a:lnTo>
                      <a:lnTo>
                        <a:pt x="29" y="344"/>
                      </a:lnTo>
                      <a:lnTo>
                        <a:pt x="29" y="321"/>
                      </a:lnTo>
                      <a:lnTo>
                        <a:pt x="29" y="304"/>
                      </a:lnTo>
                      <a:lnTo>
                        <a:pt x="33" y="286"/>
                      </a:lnTo>
                      <a:lnTo>
                        <a:pt x="33" y="264"/>
                      </a:lnTo>
                      <a:lnTo>
                        <a:pt x="38" y="242"/>
                      </a:lnTo>
                      <a:lnTo>
                        <a:pt x="43" y="220"/>
                      </a:lnTo>
                      <a:lnTo>
                        <a:pt x="43" y="202"/>
                      </a:lnTo>
                      <a:lnTo>
                        <a:pt x="43" y="180"/>
                      </a:lnTo>
                      <a:lnTo>
                        <a:pt x="48" y="163"/>
                      </a:lnTo>
                      <a:lnTo>
                        <a:pt x="52" y="145"/>
                      </a:lnTo>
                      <a:lnTo>
                        <a:pt x="52" y="123"/>
                      </a:lnTo>
                      <a:lnTo>
                        <a:pt x="58" y="101"/>
                      </a:lnTo>
                      <a:lnTo>
                        <a:pt x="58" y="79"/>
                      </a:lnTo>
                      <a:lnTo>
                        <a:pt x="63" y="61"/>
                      </a:lnTo>
                      <a:lnTo>
                        <a:pt x="67" y="39"/>
                      </a:lnTo>
                      <a:lnTo>
                        <a:pt x="67" y="22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2"/>
                      </a:lnTo>
                      <a:lnTo>
                        <a:pt x="63" y="39"/>
                      </a:lnTo>
                      <a:lnTo>
                        <a:pt x="58" y="61"/>
                      </a:lnTo>
                      <a:lnTo>
                        <a:pt x="52" y="79"/>
                      </a:lnTo>
                      <a:lnTo>
                        <a:pt x="52" y="101"/>
                      </a:lnTo>
                      <a:lnTo>
                        <a:pt x="48" y="123"/>
                      </a:lnTo>
                      <a:lnTo>
                        <a:pt x="43" y="141"/>
                      </a:lnTo>
                      <a:lnTo>
                        <a:pt x="43" y="163"/>
                      </a:lnTo>
                      <a:lnTo>
                        <a:pt x="43" y="180"/>
                      </a:lnTo>
                      <a:lnTo>
                        <a:pt x="38" y="202"/>
                      </a:lnTo>
                      <a:lnTo>
                        <a:pt x="33" y="220"/>
                      </a:lnTo>
                      <a:lnTo>
                        <a:pt x="33" y="242"/>
                      </a:lnTo>
                      <a:lnTo>
                        <a:pt x="29" y="264"/>
                      </a:lnTo>
                      <a:lnTo>
                        <a:pt x="29" y="282"/>
                      </a:lnTo>
                      <a:lnTo>
                        <a:pt x="29" y="304"/>
                      </a:lnTo>
                      <a:lnTo>
                        <a:pt x="24" y="321"/>
                      </a:lnTo>
                      <a:lnTo>
                        <a:pt x="24" y="344"/>
                      </a:lnTo>
                      <a:lnTo>
                        <a:pt x="19" y="362"/>
                      </a:lnTo>
                      <a:lnTo>
                        <a:pt x="19" y="384"/>
                      </a:lnTo>
                      <a:lnTo>
                        <a:pt x="19" y="406"/>
                      </a:lnTo>
                      <a:lnTo>
                        <a:pt x="14" y="424"/>
                      </a:lnTo>
                      <a:lnTo>
                        <a:pt x="14" y="446"/>
                      </a:lnTo>
                      <a:lnTo>
                        <a:pt x="9" y="464"/>
                      </a:lnTo>
                      <a:lnTo>
                        <a:pt x="9" y="486"/>
                      </a:lnTo>
                      <a:lnTo>
                        <a:pt x="9" y="503"/>
                      </a:lnTo>
                      <a:lnTo>
                        <a:pt x="9" y="525"/>
                      </a:lnTo>
                      <a:lnTo>
                        <a:pt x="4" y="547"/>
                      </a:lnTo>
                      <a:lnTo>
                        <a:pt x="4" y="565"/>
                      </a:lnTo>
                      <a:lnTo>
                        <a:pt x="4" y="583"/>
                      </a:lnTo>
                      <a:lnTo>
                        <a:pt x="0" y="605"/>
                      </a:lnTo>
                      <a:lnTo>
                        <a:pt x="0" y="627"/>
                      </a:lnTo>
                      <a:lnTo>
                        <a:pt x="0" y="644"/>
                      </a:lnTo>
                      <a:lnTo>
                        <a:pt x="0" y="644"/>
                      </a:lnTo>
                      <a:lnTo>
                        <a:pt x="0" y="649"/>
                      </a:lnTo>
                      <a:lnTo>
                        <a:pt x="4" y="649"/>
                      </a:lnTo>
                      <a:lnTo>
                        <a:pt x="4" y="6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027320" y="5324400"/>
                  <a:ext cx="0" cy="182520"/>
                </a:xfrm>
                <a:custGeom>
                  <a:avLst/>
                  <a:gdLst/>
                  <a:ahLst/>
                  <a:rect l="0" t="0" r="r" b="b"/>
                  <a:pathLst>
                    <a:path w="0" h="507">
                      <a:moveTo>
                        <a:pt x="0" y="502"/>
                      </a:moveTo>
                      <a:lnTo>
                        <a:pt x="0" y="502"/>
                      </a:lnTo>
                      <a:lnTo>
                        <a:pt x="0" y="489"/>
                      </a:lnTo>
                      <a:lnTo>
                        <a:pt x="0" y="476"/>
                      </a:lnTo>
                      <a:lnTo>
                        <a:pt x="0" y="458"/>
                      </a:lnTo>
                      <a:lnTo>
                        <a:pt x="0" y="440"/>
                      </a:lnTo>
                      <a:lnTo>
                        <a:pt x="0" y="423"/>
                      </a:lnTo>
                      <a:lnTo>
                        <a:pt x="0" y="410"/>
                      </a:lnTo>
                      <a:lnTo>
                        <a:pt x="0" y="396"/>
                      </a:lnTo>
                      <a:lnTo>
                        <a:pt x="0" y="379"/>
                      </a:lnTo>
                      <a:lnTo>
                        <a:pt x="0" y="361"/>
                      </a:lnTo>
                      <a:lnTo>
                        <a:pt x="0" y="348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0" y="299"/>
                      </a:lnTo>
                      <a:lnTo>
                        <a:pt x="0" y="286"/>
                      </a:lnTo>
                      <a:lnTo>
                        <a:pt x="0" y="268"/>
                      </a:lnTo>
                      <a:lnTo>
                        <a:pt x="0" y="251"/>
                      </a:lnTo>
                      <a:lnTo>
                        <a:pt x="0" y="238"/>
                      </a:lnTo>
                      <a:lnTo>
                        <a:pt x="0" y="220"/>
                      </a:lnTo>
                      <a:lnTo>
                        <a:pt x="0" y="207"/>
                      </a:lnTo>
                      <a:lnTo>
                        <a:pt x="0" y="189"/>
                      </a:lnTo>
                      <a:lnTo>
                        <a:pt x="0" y="176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127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79"/>
                      </a:lnTo>
                      <a:lnTo>
                        <a:pt x="0" y="66"/>
                      </a:lnTo>
                      <a:lnTo>
                        <a:pt x="0" y="48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0" y="66"/>
                      </a:lnTo>
                      <a:lnTo>
                        <a:pt x="0" y="79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7"/>
                      </a:lnTo>
                      <a:lnTo>
                        <a:pt x="0" y="141"/>
                      </a:lnTo>
                      <a:lnTo>
                        <a:pt x="0" y="158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0" y="220"/>
                      </a:lnTo>
                      <a:lnTo>
                        <a:pt x="0" y="238"/>
                      </a:lnTo>
                      <a:lnTo>
                        <a:pt x="0" y="251"/>
                      </a:lnTo>
                      <a:lnTo>
                        <a:pt x="0" y="268"/>
                      </a:lnTo>
                      <a:lnTo>
                        <a:pt x="0" y="286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0" y="330"/>
                      </a:lnTo>
                      <a:lnTo>
                        <a:pt x="0" y="348"/>
                      </a:lnTo>
                      <a:lnTo>
                        <a:pt x="0" y="361"/>
                      </a:lnTo>
                      <a:lnTo>
                        <a:pt x="0" y="379"/>
                      </a:lnTo>
                      <a:lnTo>
                        <a:pt x="0" y="396"/>
                      </a:lnTo>
                      <a:lnTo>
                        <a:pt x="0" y="410"/>
                      </a:lnTo>
                      <a:lnTo>
                        <a:pt x="0" y="423"/>
                      </a:lnTo>
                      <a:lnTo>
                        <a:pt x="0" y="440"/>
                      </a:lnTo>
                      <a:lnTo>
                        <a:pt x="0" y="458"/>
                      </a:lnTo>
                      <a:lnTo>
                        <a:pt x="0" y="476"/>
                      </a:lnTo>
                      <a:lnTo>
                        <a:pt x="0" y="489"/>
                      </a:lnTo>
                      <a:lnTo>
                        <a:pt x="0" y="502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27320" y="5514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0"/>
                      </a:move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36"/>
                      </a:lnTo>
                      <a:lnTo>
                        <a:pt x="0" y="2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24"/>
                      </a:lnTo>
                      <a:lnTo>
                        <a:pt x="0" y="36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075200" y="5126040"/>
                  <a:ext cx="498960" cy="394200"/>
                </a:xfrm>
                <a:custGeom>
                  <a:avLst/>
                  <a:gdLst/>
                  <a:ahLst/>
                  <a:rect l="0" t="0" r="r" b="b"/>
                  <a:pathLst>
                    <a:path w="1386" h="1095">
                      <a:moveTo>
                        <a:pt x="83" y="35"/>
                      </a:moveTo>
                      <a:lnTo>
                        <a:pt x="79" y="61"/>
                      </a:lnTo>
                      <a:lnTo>
                        <a:pt x="79" y="88"/>
                      </a:lnTo>
                      <a:lnTo>
                        <a:pt x="74" y="114"/>
                      </a:lnTo>
                      <a:lnTo>
                        <a:pt x="70" y="141"/>
                      </a:lnTo>
                      <a:lnTo>
                        <a:pt x="70" y="167"/>
                      </a:lnTo>
                      <a:lnTo>
                        <a:pt x="66" y="198"/>
                      </a:lnTo>
                      <a:lnTo>
                        <a:pt x="61" y="224"/>
                      </a:lnTo>
                      <a:lnTo>
                        <a:pt x="57" y="251"/>
                      </a:lnTo>
                      <a:lnTo>
                        <a:pt x="57" y="283"/>
                      </a:lnTo>
                      <a:lnTo>
                        <a:pt x="52" y="309"/>
                      </a:lnTo>
                      <a:lnTo>
                        <a:pt x="48" y="336"/>
                      </a:lnTo>
                      <a:lnTo>
                        <a:pt x="44" y="362"/>
                      </a:lnTo>
                      <a:lnTo>
                        <a:pt x="39" y="393"/>
                      </a:lnTo>
                      <a:lnTo>
                        <a:pt x="39" y="419"/>
                      </a:lnTo>
                      <a:lnTo>
                        <a:pt x="35" y="446"/>
                      </a:lnTo>
                      <a:lnTo>
                        <a:pt x="30" y="477"/>
                      </a:lnTo>
                      <a:lnTo>
                        <a:pt x="30" y="503"/>
                      </a:lnTo>
                      <a:lnTo>
                        <a:pt x="26" y="530"/>
                      </a:lnTo>
                      <a:lnTo>
                        <a:pt x="26" y="561"/>
                      </a:lnTo>
                      <a:lnTo>
                        <a:pt x="22" y="591"/>
                      </a:lnTo>
                      <a:lnTo>
                        <a:pt x="17" y="618"/>
                      </a:lnTo>
                      <a:lnTo>
                        <a:pt x="17" y="644"/>
                      </a:lnTo>
                      <a:lnTo>
                        <a:pt x="13" y="675"/>
                      </a:lnTo>
                      <a:lnTo>
                        <a:pt x="13" y="702"/>
                      </a:lnTo>
                      <a:lnTo>
                        <a:pt x="8" y="733"/>
                      </a:lnTo>
                      <a:lnTo>
                        <a:pt x="8" y="763"/>
                      </a:lnTo>
                      <a:lnTo>
                        <a:pt x="8" y="790"/>
                      </a:lnTo>
                      <a:lnTo>
                        <a:pt x="4" y="816"/>
                      </a:lnTo>
                      <a:lnTo>
                        <a:pt x="4" y="848"/>
                      </a:lnTo>
                      <a:lnTo>
                        <a:pt x="4" y="879"/>
                      </a:lnTo>
                      <a:lnTo>
                        <a:pt x="0" y="905"/>
                      </a:lnTo>
                      <a:lnTo>
                        <a:pt x="0" y="936"/>
                      </a:lnTo>
                      <a:lnTo>
                        <a:pt x="0" y="941"/>
                      </a:lnTo>
                      <a:lnTo>
                        <a:pt x="0" y="950"/>
                      </a:lnTo>
                      <a:lnTo>
                        <a:pt x="4" y="958"/>
                      </a:lnTo>
                      <a:lnTo>
                        <a:pt x="4" y="963"/>
                      </a:lnTo>
                      <a:lnTo>
                        <a:pt x="4" y="967"/>
                      </a:lnTo>
                      <a:lnTo>
                        <a:pt x="4" y="976"/>
                      </a:lnTo>
                      <a:lnTo>
                        <a:pt x="8" y="980"/>
                      </a:lnTo>
                      <a:lnTo>
                        <a:pt x="8" y="985"/>
                      </a:lnTo>
                      <a:lnTo>
                        <a:pt x="13" y="985"/>
                      </a:lnTo>
                      <a:lnTo>
                        <a:pt x="13" y="989"/>
                      </a:lnTo>
                      <a:lnTo>
                        <a:pt x="17" y="994"/>
                      </a:lnTo>
                      <a:lnTo>
                        <a:pt x="22" y="994"/>
                      </a:lnTo>
                      <a:lnTo>
                        <a:pt x="26" y="998"/>
                      </a:lnTo>
                      <a:lnTo>
                        <a:pt x="30" y="1003"/>
                      </a:lnTo>
                      <a:lnTo>
                        <a:pt x="35" y="1003"/>
                      </a:lnTo>
                      <a:lnTo>
                        <a:pt x="39" y="1003"/>
                      </a:lnTo>
                      <a:lnTo>
                        <a:pt x="1232" y="1095"/>
                      </a:lnTo>
                      <a:lnTo>
                        <a:pt x="1241" y="1095"/>
                      </a:lnTo>
                      <a:lnTo>
                        <a:pt x="1249" y="1095"/>
                      </a:lnTo>
                      <a:lnTo>
                        <a:pt x="1258" y="1091"/>
                      </a:lnTo>
                      <a:lnTo>
                        <a:pt x="1263" y="1091"/>
                      </a:lnTo>
                      <a:lnTo>
                        <a:pt x="1272" y="1086"/>
                      </a:lnTo>
                      <a:lnTo>
                        <a:pt x="1276" y="1082"/>
                      </a:lnTo>
                      <a:lnTo>
                        <a:pt x="1280" y="1077"/>
                      </a:lnTo>
                      <a:lnTo>
                        <a:pt x="1285" y="1073"/>
                      </a:lnTo>
                      <a:lnTo>
                        <a:pt x="1289" y="1069"/>
                      </a:lnTo>
                      <a:lnTo>
                        <a:pt x="1294" y="1060"/>
                      </a:lnTo>
                      <a:lnTo>
                        <a:pt x="1298" y="1055"/>
                      </a:lnTo>
                      <a:lnTo>
                        <a:pt x="1302" y="1051"/>
                      </a:lnTo>
                      <a:lnTo>
                        <a:pt x="1302" y="1042"/>
                      </a:lnTo>
                      <a:lnTo>
                        <a:pt x="1307" y="1033"/>
                      </a:lnTo>
                      <a:lnTo>
                        <a:pt x="1307" y="1029"/>
                      </a:lnTo>
                      <a:lnTo>
                        <a:pt x="1311" y="1020"/>
                      </a:lnTo>
                      <a:lnTo>
                        <a:pt x="1386" y="154"/>
                      </a:lnTo>
                      <a:lnTo>
                        <a:pt x="1386" y="145"/>
                      </a:lnTo>
                      <a:lnTo>
                        <a:pt x="1386" y="136"/>
                      </a:lnTo>
                      <a:lnTo>
                        <a:pt x="1386" y="127"/>
                      </a:lnTo>
                      <a:lnTo>
                        <a:pt x="1386" y="119"/>
                      </a:lnTo>
                      <a:lnTo>
                        <a:pt x="1386" y="114"/>
                      </a:lnTo>
                      <a:lnTo>
                        <a:pt x="1386" y="110"/>
                      </a:lnTo>
                      <a:lnTo>
                        <a:pt x="1382" y="101"/>
                      </a:lnTo>
                      <a:lnTo>
                        <a:pt x="1382" y="97"/>
                      </a:lnTo>
                      <a:lnTo>
                        <a:pt x="1382" y="92"/>
                      </a:lnTo>
                      <a:lnTo>
                        <a:pt x="1377" y="88"/>
                      </a:lnTo>
                      <a:lnTo>
                        <a:pt x="1377" y="83"/>
                      </a:lnTo>
                      <a:lnTo>
                        <a:pt x="1373" y="79"/>
                      </a:lnTo>
                      <a:lnTo>
                        <a:pt x="1369" y="74"/>
                      </a:lnTo>
                      <a:lnTo>
                        <a:pt x="1364" y="70"/>
                      </a:lnTo>
                      <a:lnTo>
                        <a:pt x="1355" y="70"/>
                      </a:lnTo>
                      <a:lnTo>
                        <a:pt x="1351" y="66"/>
                      </a:lnTo>
                      <a:lnTo>
                        <a:pt x="1316" y="61"/>
                      </a:lnTo>
                      <a:lnTo>
                        <a:pt x="1280" y="57"/>
                      </a:lnTo>
                      <a:lnTo>
                        <a:pt x="1245" y="52"/>
                      </a:lnTo>
                      <a:lnTo>
                        <a:pt x="1210" y="48"/>
                      </a:lnTo>
                      <a:lnTo>
                        <a:pt x="1174" y="44"/>
                      </a:lnTo>
                      <a:lnTo>
                        <a:pt x="1135" y="39"/>
                      </a:lnTo>
                      <a:lnTo>
                        <a:pt x="1104" y="35"/>
                      </a:lnTo>
                      <a:lnTo>
                        <a:pt x="1064" y="30"/>
                      </a:lnTo>
                      <a:lnTo>
                        <a:pt x="1028" y="30"/>
                      </a:lnTo>
                      <a:lnTo>
                        <a:pt x="993" y="26"/>
                      </a:lnTo>
                      <a:lnTo>
                        <a:pt x="953" y="22"/>
                      </a:lnTo>
                      <a:lnTo>
                        <a:pt x="913" y="17"/>
                      </a:lnTo>
                      <a:lnTo>
                        <a:pt x="878" y="17"/>
                      </a:lnTo>
                      <a:lnTo>
                        <a:pt x="843" y="13"/>
                      </a:lnTo>
                      <a:lnTo>
                        <a:pt x="803" y="13"/>
                      </a:lnTo>
                      <a:lnTo>
                        <a:pt x="763" y="8"/>
                      </a:lnTo>
                      <a:lnTo>
                        <a:pt x="728" y="8"/>
                      </a:lnTo>
                      <a:lnTo>
                        <a:pt x="693" y="8"/>
                      </a:lnTo>
                      <a:lnTo>
                        <a:pt x="653" y="4"/>
                      </a:lnTo>
                      <a:lnTo>
                        <a:pt x="613" y="4"/>
                      </a:lnTo>
                      <a:lnTo>
                        <a:pt x="578" y="4"/>
                      </a:lnTo>
                      <a:lnTo>
                        <a:pt x="538" y="4"/>
                      </a:lnTo>
                      <a:lnTo>
                        <a:pt x="499" y="4"/>
                      </a:lnTo>
                      <a:lnTo>
                        <a:pt x="464" y="0"/>
                      </a:lnTo>
                      <a:lnTo>
                        <a:pt x="424" y="0"/>
                      </a:lnTo>
                      <a:lnTo>
                        <a:pt x="389" y="0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73" y="0"/>
                      </a:lnTo>
                      <a:lnTo>
                        <a:pt x="233" y="0"/>
                      </a:lnTo>
                      <a:lnTo>
                        <a:pt x="198" y="4"/>
                      </a:lnTo>
                      <a:lnTo>
                        <a:pt x="163" y="4"/>
                      </a:lnTo>
                      <a:lnTo>
                        <a:pt x="154" y="4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8"/>
                      </a:lnTo>
                      <a:lnTo>
                        <a:pt x="105" y="8"/>
                      </a:lnTo>
                      <a:lnTo>
                        <a:pt x="105" y="8"/>
                      </a:lnTo>
                      <a:lnTo>
                        <a:pt x="101" y="13"/>
                      </a:lnTo>
                      <a:lnTo>
                        <a:pt x="97" y="17"/>
                      </a:lnTo>
                      <a:lnTo>
                        <a:pt x="92" y="17"/>
                      </a:lnTo>
                      <a:lnTo>
                        <a:pt x="92" y="22"/>
                      </a:lnTo>
                      <a:lnTo>
                        <a:pt x="88" y="26"/>
                      </a:lnTo>
                      <a:lnTo>
                        <a:pt x="83" y="30"/>
                      </a:lnTo>
                      <a:lnTo>
                        <a:pt x="83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073400" y="5137200"/>
                  <a:ext cx="25920" cy="325800"/>
                </a:xfrm>
                <a:custGeom>
                  <a:avLst/>
                  <a:gdLst/>
                  <a:ahLst/>
                  <a:rect l="0" t="0" r="r" b="b"/>
                  <a:pathLst>
                    <a:path w="72" h="905">
                      <a:moveTo>
                        <a:pt x="4" y="901"/>
                      </a:moveTo>
                      <a:lnTo>
                        <a:pt x="4" y="901"/>
                      </a:lnTo>
                      <a:lnTo>
                        <a:pt x="4" y="870"/>
                      </a:lnTo>
                      <a:lnTo>
                        <a:pt x="4" y="844"/>
                      </a:lnTo>
                      <a:lnTo>
                        <a:pt x="9" y="813"/>
                      </a:lnTo>
                      <a:lnTo>
                        <a:pt x="9" y="786"/>
                      </a:lnTo>
                      <a:lnTo>
                        <a:pt x="9" y="756"/>
                      </a:lnTo>
                      <a:lnTo>
                        <a:pt x="9" y="729"/>
                      </a:lnTo>
                      <a:lnTo>
                        <a:pt x="9" y="698"/>
                      </a:lnTo>
                      <a:lnTo>
                        <a:pt x="14" y="671"/>
                      </a:lnTo>
                      <a:lnTo>
                        <a:pt x="14" y="640"/>
                      </a:lnTo>
                      <a:lnTo>
                        <a:pt x="19" y="609"/>
                      </a:lnTo>
                      <a:lnTo>
                        <a:pt x="19" y="583"/>
                      </a:lnTo>
                      <a:lnTo>
                        <a:pt x="19" y="556"/>
                      </a:lnTo>
                      <a:lnTo>
                        <a:pt x="24" y="525"/>
                      </a:lnTo>
                      <a:lnTo>
                        <a:pt x="24" y="499"/>
                      </a:lnTo>
                      <a:lnTo>
                        <a:pt x="29" y="472"/>
                      </a:lnTo>
                      <a:lnTo>
                        <a:pt x="29" y="441"/>
                      </a:lnTo>
                      <a:lnTo>
                        <a:pt x="33" y="415"/>
                      </a:lnTo>
                      <a:lnTo>
                        <a:pt x="33" y="384"/>
                      </a:lnTo>
                      <a:lnTo>
                        <a:pt x="38" y="358"/>
                      </a:lnTo>
                      <a:lnTo>
                        <a:pt x="43" y="331"/>
                      </a:lnTo>
                      <a:lnTo>
                        <a:pt x="43" y="300"/>
                      </a:lnTo>
                      <a:lnTo>
                        <a:pt x="43" y="274"/>
                      </a:lnTo>
                      <a:lnTo>
                        <a:pt x="48" y="247"/>
                      </a:lnTo>
                      <a:lnTo>
                        <a:pt x="52" y="216"/>
                      </a:lnTo>
                      <a:lnTo>
                        <a:pt x="52" y="189"/>
                      </a:lnTo>
                      <a:lnTo>
                        <a:pt x="58" y="163"/>
                      </a:lnTo>
                      <a:lnTo>
                        <a:pt x="58" y="136"/>
                      </a:lnTo>
                      <a:lnTo>
                        <a:pt x="63" y="110"/>
                      </a:lnTo>
                      <a:lnTo>
                        <a:pt x="63" y="83"/>
                      </a:lnTo>
                      <a:lnTo>
                        <a:pt x="67" y="57"/>
                      </a:lnTo>
                      <a:lnTo>
                        <a:pt x="72" y="30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6"/>
                      </a:lnTo>
                      <a:lnTo>
                        <a:pt x="63" y="57"/>
                      </a:lnTo>
                      <a:lnTo>
                        <a:pt x="58" y="83"/>
                      </a:lnTo>
                      <a:lnTo>
                        <a:pt x="58" y="110"/>
                      </a:lnTo>
                      <a:lnTo>
                        <a:pt x="52" y="136"/>
                      </a:lnTo>
                      <a:lnTo>
                        <a:pt x="52" y="163"/>
                      </a:lnTo>
                      <a:lnTo>
                        <a:pt x="48" y="189"/>
                      </a:lnTo>
                      <a:lnTo>
                        <a:pt x="48" y="216"/>
                      </a:lnTo>
                      <a:lnTo>
                        <a:pt x="43" y="247"/>
                      </a:lnTo>
                      <a:lnTo>
                        <a:pt x="43" y="274"/>
                      </a:lnTo>
                      <a:lnTo>
                        <a:pt x="38" y="300"/>
                      </a:lnTo>
                      <a:lnTo>
                        <a:pt x="33" y="331"/>
                      </a:lnTo>
                      <a:lnTo>
                        <a:pt x="33" y="358"/>
                      </a:lnTo>
                      <a:lnTo>
                        <a:pt x="29" y="384"/>
                      </a:lnTo>
                      <a:lnTo>
                        <a:pt x="29" y="411"/>
                      </a:lnTo>
                      <a:lnTo>
                        <a:pt x="24" y="441"/>
                      </a:lnTo>
                      <a:lnTo>
                        <a:pt x="24" y="472"/>
                      </a:lnTo>
                      <a:lnTo>
                        <a:pt x="19" y="499"/>
                      </a:lnTo>
                      <a:lnTo>
                        <a:pt x="19" y="525"/>
                      </a:lnTo>
                      <a:lnTo>
                        <a:pt x="19" y="556"/>
                      </a:lnTo>
                      <a:lnTo>
                        <a:pt x="14" y="583"/>
                      </a:lnTo>
                      <a:lnTo>
                        <a:pt x="9" y="609"/>
                      </a:lnTo>
                      <a:lnTo>
                        <a:pt x="9" y="640"/>
                      </a:lnTo>
                      <a:lnTo>
                        <a:pt x="9" y="671"/>
                      </a:lnTo>
                      <a:lnTo>
                        <a:pt x="9" y="698"/>
                      </a:lnTo>
                      <a:lnTo>
                        <a:pt x="4" y="725"/>
                      </a:lnTo>
                      <a:lnTo>
                        <a:pt x="4" y="756"/>
                      </a:lnTo>
                      <a:lnTo>
                        <a:pt x="4" y="786"/>
                      </a:lnTo>
                      <a:lnTo>
                        <a:pt x="0" y="813"/>
                      </a:lnTo>
                      <a:lnTo>
                        <a:pt x="0" y="844"/>
                      </a:lnTo>
                      <a:lnTo>
                        <a:pt x="0" y="870"/>
                      </a:lnTo>
                      <a:lnTo>
                        <a:pt x="0" y="901"/>
                      </a:lnTo>
                      <a:lnTo>
                        <a:pt x="0" y="901"/>
                      </a:lnTo>
                      <a:lnTo>
                        <a:pt x="0" y="905"/>
                      </a:lnTo>
                      <a:lnTo>
                        <a:pt x="4" y="9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073400" y="5470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6"/>
                      </a:moveTo>
                      <a:lnTo>
                        <a:pt x="72" y="66"/>
                      </a:lnTo>
                      <a:lnTo>
                        <a:pt x="60" y="66"/>
                      </a:lnTo>
                      <a:lnTo>
                        <a:pt x="48" y="59"/>
                      </a:lnTo>
                      <a:lnTo>
                        <a:pt x="48" y="59"/>
                      </a:lnTo>
                      <a:lnTo>
                        <a:pt x="36" y="59"/>
                      </a:lnTo>
                      <a:lnTo>
                        <a:pt x="36" y="59"/>
                      </a:lnTo>
                      <a:lnTo>
                        <a:pt x="24" y="52"/>
                      </a:lnTo>
                      <a:lnTo>
                        <a:pt x="24" y="52"/>
                      </a:lnTo>
                      <a:lnTo>
                        <a:pt x="24" y="45"/>
                      </a:lnTo>
                      <a:lnTo>
                        <a:pt x="24" y="39"/>
                      </a:lnTo>
                      <a:lnTo>
                        <a:pt x="11" y="39"/>
                      </a:lnTo>
                      <a:lnTo>
                        <a:pt x="11" y="33"/>
                      </a:lnTo>
                      <a:lnTo>
                        <a:pt x="11" y="26"/>
                      </a:lnTo>
                      <a:lnTo>
                        <a:pt x="11" y="20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1" y="39"/>
                      </a:lnTo>
                      <a:lnTo>
                        <a:pt x="11" y="45"/>
                      </a:lnTo>
                      <a:lnTo>
                        <a:pt x="11" y="52"/>
                      </a:lnTo>
                      <a:lnTo>
                        <a:pt x="24" y="52"/>
                      </a:lnTo>
                      <a:lnTo>
                        <a:pt x="24" y="59"/>
                      </a:lnTo>
                      <a:lnTo>
                        <a:pt x="24" y="59"/>
                      </a:lnTo>
                      <a:lnTo>
                        <a:pt x="36" y="66"/>
                      </a:lnTo>
                      <a:lnTo>
                        <a:pt x="36" y="66"/>
                      </a:lnTo>
                      <a:lnTo>
                        <a:pt x="48" y="72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089240" y="5494320"/>
                  <a:ext cx="429120" cy="27360"/>
                </a:xfrm>
                <a:custGeom>
                  <a:avLst/>
                  <a:gdLst/>
                  <a:ahLst/>
                  <a:rect l="0" t="0" r="r" b="b"/>
                  <a:pathLst>
                    <a:path w="1192" h="76">
                      <a:moveTo>
                        <a:pt x="1188" y="72"/>
                      </a:moveTo>
                      <a:lnTo>
                        <a:pt x="1188" y="72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88" y="76"/>
                      </a:lnTo>
                      <a:lnTo>
                        <a:pt x="1188" y="76"/>
                      </a:lnTo>
                      <a:lnTo>
                        <a:pt x="1192" y="76"/>
                      </a:lnTo>
                      <a:lnTo>
                        <a:pt x="1192" y="72"/>
                      </a:lnTo>
                      <a:lnTo>
                        <a:pt x="118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525920" y="5500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61" y="15"/>
                      </a:lnTo>
                      <a:lnTo>
                        <a:pt x="61" y="21"/>
                      </a:lnTo>
                      <a:lnTo>
                        <a:pt x="61" y="26"/>
                      </a:lnTo>
                      <a:lnTo>
                        <a:pt x="56" y="31"/>
                      </a:lnTo>
                      <a:lnTo>
                        <a:pt x="56" y="36"/>
                      </a:lnTo>
                      <a:lnTo>
                        <a:pt x="49" y="41"/>
                      </a:lnTo>
                      <a:lnTo>
                        <a:pt x="44" y="46"/>
                      </a:lnTo>
                      <a:lnTo>
                        <a:pt x="38" y="51"/>
                      </a:lnTo>
                      <a:lnTo>
                        <a:pt x="38" y="57"/>
                      </a:lnTo>
                      <a:lnTo>
                        <a:pt x="33" y="62"/>
                      </a:lnTo>
                      <a:lnTo>
                        <a:pt x="28" y="62"/>
                      </a:lnTo>
                      <a:lnTo>
                        <a:pt x="22" y="62"/>
                      </a:lnTo>
                      <a:lnTo>
                        <a:pt x="16" y="67"/>
                      </a:lnTo>
                      <a:lnTo>
                        <a:pt x="10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6" y="72"/>
                      </a:lnTo>
                      <a:lnTo>
                        <a:pt x="22" y="67"/>
                      </a:lnTo>
                      <a:lnTo>
                        <a:pt x="33" y="67"/>
                      </a:lnTo>
                      <a:lnTo>
                        <a:pt x="38" y="62"/>
                      </a:lnTo>
                      <a:lnTo>
                        <a:pt x="38" y="62"/>
                      </a:lnTo>
                      <a:lnTo>
                        <a:pt x="44" y="57"/>
                      </a:lnTo>
                      <a:lnTo>
                        <a:pt x="49" y="51"/>
                      </a:lnTo>
                      <a:lnTo>
                        <a:pt x="56" y="46"/>
                      </a:lnTo>
                      <a:lnTo>
                        <a:pt x="61" y="41"/>
                      </a:lnTo>
                      <a:lnTo>
                        <a:pt x="61" y="36"/>
                      </a:lnTo>
                      <a:lnTo>
                        <a:pt x="67" y="26"/>
                      </a:lnTo>
                      <a:lnTo>
                        <a:pt x="67" y="21"/>
                      </a:lnTo>
                      <a:lnTo>
                        <a:pt x="72" y="15"/>
                      </a:lnTo>
                      <a:lnTo>
                        <a:pt x="72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551480" y="5181480"/>
                  <a:ext cx="25920" cy="311400"/>
                </a:xfrm>
                <a:custGeom>
                  <a:avLst/>
                  <a:gdLst/>
                  <a:ahLst/>
                  <a:rect l="0" t="0" r="r" b="b"/>
                  <a:pathLst>
                    <a:path w="72" h="865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65"/>
                      </a:lnTo>
                      <a:lnTo>
                        <a:pt x="5" y="865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568760" y="5149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7" y="5"/>
                      </a:lnTo>
                      <a:lnTo>
                        <a:pt x="17" y="10"/>
                      </a:lnTo>
                      <a:lnTo>
                        <a:pt x="36" y="10"/>
                      </a:lnTo>
                      <a:lnTo>
                        <a:pt x="36" y="10"/>
                      </a:lnTo>
                      <a:lnTo>
                        <a:pt x="36" y="15"/>
                      </a:lnTo>
                      <a:lnTo>
                        <a:pt x="53" y="21"/>
                      </a:lnTo>
                      <a:lnTo>
                        <a:pt x="53" y="21"/>
                      </a:lnTo>
                      <a:lnTo>
                        <a:pt x="53" y="26"/>
                      </a:lnTo>
                      <a:lnTo>
                        <a:pt x="53" y="31"/>
                      </a:lnTo>
                      <a:lnTo>
                        <a:pt x="53" y="36"/>
                      </a:lnTo>
                      <a:lnTo>
                        <a:pt x="53" y="41"/>
                      </a:lnTo>
                      <a:lnTo>
                        <a:pt x="53" y="46"/>
                      </a:lnTo>
                      <a:lnTo>
                        <a:pt x="53" y="51"/>
                      </a:lnTo>
                      <a:lnTo>
                        <a:pt x="53" y="57"/>
                      </a:lnTo>
                      <a:lnTo>
                        <a:pt x="53" y="67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72" y="67"/>
                      </a:lnTo>
                      <a:lnTo>
                        <a:pt x="72" y="62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53" y="21"/>
                      </a:lnTo>
                      <a:lnTo>
                        <a:pt x="53" y="15"/>
                      </a:lnTo>
                      <a:lnTo>
                        <a:pt x="53" y="10"/>
                      </a:lnTo>
                      <a:lnTo>
                        <a:pt x="36" y="10"/>
                      </a:lnTo>
                      <a:lnTo>
                        <a:pt x="36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32440" y="5124600"/>
                  <a:ext cx="427320" cy="25920"/>
                </a:xfrm>
                <a:custGeom>
                  <a:avLst/>
                  <a:gdLst/>
                  <a:ahLst/>
                  <a:rect l="0" t="0" r="r" b="b"/>
                  <a:pathLst>
                    <a:path w="1187" h="72"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39" y="5"/>
                      </a:lnTo>
                      <a:lnTo>
                        <a:pt x="79" y="5"/>
                      </a:lnTo>
                      <a:lnTo>
                        <a:pt x="119" y="5"/>
                      </a:lnTo>
                      <a:lnTo>
                        <a:pt x="154" y="5"/>
                      </a:lnTo>
                      <a:lnTo>
                        <a:pt x="194" y="5"/>
                      </a:lnTo>
                      <a:lnTo>
                        <a:pt x="229" y="5"/>
                      </a:lnTo>
                      <a:lnTo>
                        <a:pt x="264" y="5"/>
                      </a:lnTo>
                      <a:lnTo>
                        <a:pt x="304" y="5"/>
                      </a:lnTo>
                      <a:lnTo>
                        <a:pt x="339" y="5"/>
                      </a:lnTo>
                      <a:lnTo>
                        <a:pt x="379" y="5"/>
                      </a:lnTo>
                      <a:lnTo>
                        <a:pt x="414" y="11"/>
                      </a:lnTo>
                      <a:lnTo>
                        <a:pt x="454" y="11"/>
                      </a:lnTo>
                      <a:lnTo>
                        <a:pt x="493" y="11"/>
                      </a:lnTo>
                      <a:lnTo>
                        <a:pt x="529" y="11"/>
                      </a:lnTo>
                      <a:lnTo>
                        <a:pt x="568" y="11"/>
                      </a:lnTo>
                      <a:lnTo>
                        <a:pt x="605" y="17"/>
                      </a:lnTo>
                      <a:lnTo>
                        <a:pt x="640" y="17"/>
                      </a:lnTo>
                      <a:lnTo>
                        <a:pt x="680" y="17"/>
                      </a:lnTo>
                      <a:lnTo>
                        <a:pt x="715" y="17"/>
                      </a:lnTo>
                      <a:lnTo>
                        <a:pt x="755" y="24"/>
                      </a:lnTo>
                      <a:lnTo>
                        <a:pt x="790" y="30"/>
                      </a:lnTo>
                      <a:lnTo>
                        <a:pt x="830" y="30"/>
                      </a:lnTo>
                      <a:lnTo>
                        <a:pt x="865" y="30"/>
                      </a:lnTo>
                      <a:lnTo>
                        <a:pt x="900" y="36"/>
                      </a:lnTo>
                      <a:lnTo>
                        <a:pt x="940" y="42"/>
                      </a:lnTo>
                      <a:lnTo>
                        <a:pt x="971" y="42"/>
                      </a:lnTo>
                      <a:lnTo>
                        <a:pt x="1010" y="48"/>
                      </a:lnTo>
                      <a:lnTo>
                        <a:pt x="1046" y="53"/>
                      </a:lnTo>
                      <a:lnTo>
                        <a:pt x="1081" y="53"/>
                      </a:lnTo>
                      <a:lnTo>
                        <a:pt x="1116" y="60"/>
                      </a:lnTo>
                      <a:lnTo>
                        <a:pt x="1151" y="66"/>
                      </a:lnTo>
                      <a:lnTo>
                        <a:pt x="1187" y="72"/>
                      </a:lnTo>
                      <a:lnTo>
                        <a:pt x="1187" y="66"/>
                      </a:lnTo>
                      <a:lnTo>
                        <a:pt x="1151" y="60"/>
                      </a:lnTo>
                      <a:lnTo>
                        <a:pt x="1116" y="53"/>
                      </a:lnTo>
                      <a:lnTo>
                        <a:pt x="1081" y="53"/>
                      </a:lnTo>
                      <a:lnTo>
                        <a:pt x="1046" y="48"/>
                      </a:lnTo>
                      <a:lnTo>
                        <a:pt x="1010" y="42"/>
                      </a:lnTo>
                      <a:lnTo>
                        <a:pt x="975" y="36"/>
                      </a:lnTo>
                      <a:lnTo>
                        <a:pt x="940" y="36"/>
                      </a:lnTo>
                      <a:lnTo>
                        <a:pt x="900" y="30"/>
                      </a:lnTo>
                      <a:lnTo>
                        <a:pt x="865" y="30"/>
                      </a:lnTo>
                      <a:lnTo>
                        <a:pt x="830" y="24"/>
                      </a:lnTo>
                      <a:lnTo>
                        <a:pt x="794" y="17"/>
                      </a:lnTo>
                      <a:lnTo>
                        <a:pt x="755" y="17"/>
                      </a:lnTo>
                      <a:lnTo>
                        <a:pt x="715" y="17"/>
                      </a:lnTo>
                      <a:lnTo>
                        <a:pt x="680" y="11"/>
                      </a:lnTo>
                      <a:lnTo>
                        <a:pt x="644" y="11"/>
                      </a:lnTo>
                      <a:lnTo>
                        <a:pt x="605" y="11"/>
                      </a:lnTo>
                      <a:lnTo>
                        <a:pt x="568" y="5"/>
                      </a:lnTo>
                      <a:lnTo>
                        <a:pt x="529" y="5"/>
                      </a:lnTo>
                      <a:lnTo>
                        <a:pt x="493" y="5"/>
                      </a:lnTo>
                      <a:lnTo>
                        <a:pt x="454" y="0"/>
                      </a:lnTo>
                      <a:lnTo>
                        <a:pt x="414" y="0"/>
                      </a:lnTo>
                      <a:lnTo>
                        <a:pt x="379" y="0"/>
                      </a:lnTo>
                      <a:lnTo>
                        <a:pt x="339" y="0"/>
                      </a:lnTo>
                      <a:lnTo>
                        <a:pt x="304" y="0"/>
                      </a:lnTo>
                      <a:lnTo>
                        <a:pt x="264" y="0"/>
                      </a:lnTo>
                      <a:lnTo>
                        <a:pt x="229" y="0"/>
                      </a:lnTo>
                      <a:lnTo>
                        <a:pt x="194" y="0"/>
                      </a:lnTo>
                      <a:lnTo>
                        <a:pt x="154" y="0"/>
                      </a:lnTo>
                      <a:lnTo>
                        <a:pt x="119" y="0"/>
                      </a:lnTo>
                      <a:lnTo>
                        <a:pt x="79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103640" y="512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6" y="17"/>
                      </a:lnTo>
                      <a:lnTo>
                        <a:pt x="31" y="17"/>
                      </a:lnTo>
                      <a:lnTo>
                        <a:pt x="36" y="17"/>
                      </a:lnTo>
                      <a:lnTo>
                        <a:pt x="41" y="17"/>
                      </a:lnTo>
                      <a:lnTo>
                        <a:pt x="46" y="17"/>
                      </a:lnTo>
                      <a:lnTo>
                        <a:pt x="51" y="17"/>
                      </a:lnTo>
                      <a:lnTo>
                        <a:pt x="57" y="17"/>
                      </a:lnTo>
                      <a:lnTo>
                        <a:pt x="67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17"/>
                      </a:lnTo>
                      <a:lnTo>
                        <a:pt x="26" y="17"/>
                      </a:lnTo>
                      <a:lnTo>
                        <a:pt x="21" y="17"/>
                      </a:lnTo>
                      <a:lnTo>
                        <a:pt x="15" y="17"/>
                      </a:lnTo>
                      <a:lnTo>
                        <a:pt x="15" y="36"/>
                      </a:lnTo>
                      <a:lnTo>
                        <a:pt x="10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095720" y="5135400"/>
                  <a:ext cx="473400" cy="371880"/>
                </a:xfrm>
                <a:custGeom>
                  <a:avLst/>
                  <a:gdLst/>
                  <a:ahLst/>
                  <a:rect l="0" t="0" r="r" b="b"/>
                  <a:pathLst>
                    <a:path w="1315" h="1033">
                      <a:moveTo>
                        <a:pt x="79" y="30"/>
                      </a:moveTo>
                      <a:lnTo>
                        <a:pt x="74" y="57"/>
                      </a:lnTo>
                      <a:lnTo>
                        <a:pt x="74" y="83"/>
                      </a:lnTo>
                      <a:lnTo>
                        <a:pt x="70" y="110"/>
                      </a:lnTo>
                      <a:lnTo>
                        <a:pt x="70" y="136"/>
                      </a:lnTo>
                      <a:lnTo>
                        <a:pt x="66" y="158"/>
                      </a:lnTo>
                      <a:lnTo>
                        <a:pt x="61" y="185"/>
                      </a:lnTo>
                      <a:lnTo>
                        <a:pt x="57" y="211"/>
                      </a:lnTo>
                      <a:lnTo>
                        <a:pt x="57" y="238"/>
                      </a:lnTo>
                      <a:lnTo>
                        <a:pt x="52" y="265"/>
                      </a:lnTo>
                      <a:lnTo>
                        <a:pt x="48" y="292"/>
                      </a:lnTo>
                      <a:lnTo>
                        <a:pt x="48" y="318"/>
                      </a:lnTo>
                      <a:lnTo>
                        <a:pt x="44" y="340"/>
                      </a:lnTo>
                      <a:lnTo>
                        <a:pt x="39" y="367"/>
                      </a:lnTo>
                      <a:lnTo>
                        <a:pt x="35" y="397"/>
                      </a:lnTo>
                      <a:lnTo>
                        <a:pt x="35" y="424"/>
                      </a:lnTo>
                      <a:lnTo>
                        <a:pt x="30" y="450"/>
                      </a:lnTo>
                      <a:lnTo>
                        <a:pt x="30" y="477"/>
                      </a:lnTo>
                      <a:lnTo>
                        <a:pt x="26" y="503"/>
                      </a:lnTo>
                      <a:lnTo>
                        <a:pt x="22" y="530"/>
                      </a:lnTo>
                      <a:lnTo>
                        <a:pt x="17" y="556"/>
                      </a:lnTo>
                      <a:lnTo>
                        <a:pt x="17" y="583"/>
                      </a:lnTo>
                      <a:lnTo>
                        <a:pt x="13" y="609"/>
                      </a:lnTo>
                      <a:lnTo>
                        <a:pt x="13" y="636"/>
                      </a:lnTo>
                      <a:lnTo>
                        <a:pt x="13" y="666"/>
                      </a:lnTo>
                      <a:lnTo>
                        <a:pt x="8" y="693"/>
                      </a:lnTo>
                      <a:lnTo>
                        <a:pt x="8" y="719"/>
                      </a:lnTo>
                      <a:lnTo>
                        <a:pt x="4" y="746"/>
                      </a:lnTo>
                      <a:lnTo>
                        <a:pt x="4" y="772"/>
                      </a:lnTo>
                      <a:lnTo>
                        <a:pt x="4" y="800"/>
                      </a:lnTo>
                      <a:lnTo>
                        <a:pt x="4" y="826"/>
                      </a:lnTo>
                      <a:lnTo>
                        <a:pt x="0" y="857"/>
                      </a:lnTo>
                      <a:lnTo>
                        <a:pt x="0" y="883"/>
                      </a:lnTo>
                      <a:lnTo>
                        <a:pt x="0" y="892"/>
                      </a:lnTo>
                      <a:lnTo>
                        <a:pt x="0" y="897"/>
                      </a:lnTo>
                      <a:lnTo>
                        <a:pt x="4" y="901"/>
                      </a:lnTo>
                      <a:lnTo>
                        <a:pt x="4" y="910"/>
                      </a:lnTo>
                      <a:lnTo>
                        <a:pt x="4" y="914"/>
                      </a:lnTo>
                      <a:lnTo>
                        <a:pt x="4" y="919"/>
                      </a:lnTo>
                      <a:lnTo>
                        <a:pt x="8" y="923"/>
                      </a:lnTo>
                      <a:lnTo>
                        <a:pt x="8" y="928"/>
                      </a:lnTo>
                      <a:lnTo>
                        <a:pt x="8" y="932"/>
                      </a:lnTo>
                      <a:lnTo>
                        <a:pt x="13" y="932"/>
                      </a:lnTo>
                      <a:lnTo>
                        <a:pt x="17" y="936"/>
                      </a:lnTo>
                      <a:lnTo>
                        <a:pt x="17" y="941"/>
                      </a:lnTo>
                      <a:lnTo>
                        <a:pt x="26" y="941"/>
                      </a:lnTo>
                      <a:lnTo>
                        <a:pt x="30" y="945"/>
                      </a:lnTo>
                      <a:lnTo>
                        <a:pt x="35" y="945"/>
                      </a:lnTo>
                      <a:lnTo>
                        <a:pt x="39" y="945"/>
                      </a:lnTo>
                      <a:lnTo>
                        <a:pt x="1169" y="1033"/>
                      </a:lnTo>
                      <a:lnTo>
                        <a:pt x="1178" y="1033"/>
                      </a:lnTo>
                      <a:lnTo>
                        <a:pt x="1182" y="1033"/>
                      </a:lnTo>
                      <a:lnTo>
                        <a:pt x="1191" y="1033"/>
                      </a:lnTo>
                      <a:lnTo>
                        <a:pt x="1196" y="1029"/>
                      </a:lnTo>
                      <a:lnTo>
                        <a:pt x="1204" y="1025"/>
                      </a:lnTo>
                      <a:lnTo>
                        <a:pt x="1209" y="1025"/>
                      </a:lnTo>
                      <a:lnTo>
                        <a:pt x="1213" y="1020"/>
                      </a:lnTo>
                      <a:lnTo>
                        <a:pt x="1218" y="1016"/>
                      </a:lnTo>
                      <a:lnTo>
                        <a:pt x="1222" y="1011"/>
                      </a:lnTo>
                      <a:lnTo>
                        <a:pt x="1226" y="1003"/>
                      </a:lnTo>
                      <a:lnTo>
                        <a:pt x="1231" y="998"/>
                      </a:lnTo>
                      <a:lnTo>
                        <a:pt x="1235" y="989"/>
                      </a:lnTo>
                      <a:lnTo>
                        <a:pt x="1235" y="980"/>
                      </a:lnTo>
                      <a:lnTo>
                        <a:pt x="1235" y="976"/>
                      </a:lnTo>
                      <a:lnTo>
                        <a:pt x="1240" y="972"/>
                      </a:lnTo>
                      <a:lnTo>
                        <a:pt x="1240" y="963"/>
                      </a:lnTo>
                      <a:lnTo>
                        <a:pt x="1310" y="141"/>
                      </a:lnTo>
                      <a:lnTo>
                        <a:pt x="1310" y="136"/>
                      </a:lnTo>
                      <a:lnTo>
                        <a:pt x="1315" y="127"/>
                      </a:lnTo>
                      <a:lnTo>
                        <a:pt x="1315" y="119"/>
                      </a:lnTo>
                      <a:lnTo>
                        <a:pt x="1315" y="114"/>
                      </a:lnTo>
                      <a:lnTo>
                        <a:pt x="1315" y="110"/>
                      </a:lnTo>
                      <a:lnTo>
                        <a:pt x="1310" y="101"/>
                      </a:lnTo>
                      <a:lnTo>
                        <a:pt x="1310" y="97"/>
                      </a:lnTo>
                      <a:lnTo>
                        <a:pt x="1310" y="88"/>
                      </a:lnTo>
                      <a:lnTo>
                        <a:pt x="1310" y="83"/>
                      </a:lnTo>
                      <a:lnTo>
                        <a:pt x="1306" y="79"/>
                      </a:lnTo>
                      <a:lnTo>
                        <a:pt x="1306" y="79"/>
                      </a:lnTo>
                      <a:lnTo>
                        <a:pt x="1301" y="70"/>
                      </a:lnTo>
                      <a:lnTo>
                        <a:pt x="1297" y="70"/>
                      </a:lnTo>
                      <a:lnTo>
                        <a:pt x="1293" y="66"/>
                      </a:lnTo>
                      <a:lnTo>
                        <a:pt x="1288" y="66"/>
                      </a:lnTo>
                      <a:lnTo>
                        <a:pt x="1279" y="66"/>
                      </a:lnTo>
                      <a:lnTo>
                        <a:pt x="1248" y="57"/>
                      </a:lnTo>
                      <a:lnTo>
                        <a:pt x="1213" y="52"/>
                      </a:lnTo>
                      <a:lnTo>
                        <a:pt x="1178" y="52"/>
                      </a:lnTo>
                      <a:lnTo>
                        <a:pt x="1147" y="44"/>
                      </a:lnTo>
                      <a:lnTo>
                        <a:pt x="1112" y="39"/>
                      </a:lnTo>
                      <a:lnTo>
                        <a:pt x="1076" y="35"/>
                      </a:lnTo>
                      <a:lnTo>
                        <a:pt x="1041" y="35"/>
                      </a:lnTo>
                      <a:lnTo>
                        <a:pt x="1006" y="30"/>
                      </a:lnTo>
                      <a:lnTo>
                        <a:pt x="975" y="26"/>
                      </a:lnTo>
                      <a:lnTo>
                        <a:pt x="940" y="22"/>
                      </a:lnTo>
                      <a:lnTo>
                        <a:pt x="904" y="17"/>
                      </a:lnTo>
                      <a:lnTo>
                        <a:pt x="869" y="17"/>
                      </a:lnTo>
                      <a:lnTo>
                        <a:pt x="834" y="13"/>
                      </a:lnTo>
                      <a:lnTo>
                        <a:pt x="794" y="13"/>
                      </a:lnTo>
                      <a:lnTo>
                        <a:pt x="763" y="13"/>
                      </a:lnTo>
                      <a:lnTo>
                        <a:pt x="724" y="8"/>
                      </a:lnTo>
                      <a:lnTo>
                        <a:pt x="693" y="8"/>
                      </a:lnTo>
                      <a:lnTo>
                        <a:pt x="652" y="4"/>
                      </a:lnTo>
                      <a:lnTo>
                        <a:pt x="617" y="4"/>
                      </a:lnTo>
                      <a:lnTo>
                        <a:pt x="582" y="4"/>
                      </a:lnTo>
                      <a:lnTo>
                        <a:pt x="546" y="4"/>
                      </a:lnTo>
                      <a:lnTo>
                        <a:pt x="511" y="0"/>
                      </a:lnTo>
                      <a:lnTo>
                        <a:pt x="476" y="0"/>
                      </a:lnTo>
                      <a:lnTo>
                        <a:pt x="440" y="0"/>
                      </a:lnTo>
                      <a:lnTo>
                        <a:pt x="401" y="0"/>
                      </a:lnTo>
                      <a:lnTo>
                        <a:pt x="366" y="0"/>
                      </a:lnTo>
                      <a:lnTo>
                        <a:pt x="330" y="0"/>
                      </a:lnTo>
                      <a:lnTo>
                        <a:pt x="295" y="0"/>
                      </a:lnTo>
                      <a:lnTo>
                        <a:pt x="260" y="0"/>
                      </a:lnTo>
                      <a:lnTo>
                        <a:pt x="224" y="0"/>
                      </a:lnTo>
                      <a:lnTo>
                        <a:pt x="189" y="0"/>
                      </a:lnTo>
                      <a:lnTo>
                        <a:pt x="154" y="0"/>
                      </a:lnTo>
                      <a:lnTo>
                        <a:pt x="145" y="0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4"/>
                      </a:lnTo>
                      <a:lnTo>
                        <a:pt x="110" y="4"/>
                      </a:lnTo>
                      <a:lnTo>
                        <a:pt x="101" y="8"/>
                      </a:lnTo>
                      <a:lnTo>
                        <a:pt x="97" y="8"/>
                      </a:lnTo>
                      <a:lnTo>
                        <a:pt x="97" y="13"/>
                      </a:lnTo>
                      <a:lnTo>
                        <a:pt x="92" y="13"/>
                      </a:lnTo>
                      <a:lnTo>
                        <a:pt x="88" y="17"/>
                      </a:lnTo>
                      <a:lnTo>
                        <a:pt x="83" y="17"/>
                      </a:lnTo>
                      <a:lnTo>
                        <a:pt x="83" y="22"/>
                      </a:lnTo>
                      <a:lnTo>
                        <a:pt x="79" y="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95720" y="5146560"/>
                  <a:ext cx="25920" cy="306720"/>
                </a:xfrm>
                <a:custGeom>
                  <a:avLst/>
                  <a:gdLst/>
                  <a:ahLst/>
                  <a:rect l="0" t="0" r="r" b="b"/>
                  <a:pathLst>
                    <a:path w="72" h="852">
                      <a:moveTo>
                        <a:pt x="5" y="847"/>
                      </a:moveTo>
                      <a:lnTo>
                        <a:pt x="5" y="847"/>
                      </a:lnTo>
                      <a:lnTo>
                        <a:pt x="5" y="821"/>
                      </a:lnTo>
                      <a:lnTo>
                        <a:pt x="5" y="794"/>
                      </a:lnTo>
                      <a:lnTo>
                        <a:pt x="10" y="768"/>
                      </a:lnTo>
                      <a:lnTo>
                        <a:pt x="10" y="741"/>
                      </a:lnTo>
                      <a:lnTo>
                        <a:pt x="10" y="715"/>
                      </a:lnTo>
                      <a:lnTo>
                        <a:pt x="10" y="684"/>
                      </a:lnTo>
                      <a:lnTo>
                        <a:pt x="10" y="658"/>
                      </a:lnTo>
                      <a:lnTo>
                        <a:pt x="15" y="631"/>
                      </a:lnTo>
                      <a:lnTo>
                        <a:pt x="15" y="605"/>
                      </a:lnTo>
                      <a:lnTo>
                        <a:pt x="21" y="578"/>
                      </a:lnTo>
                      <a:lnTo>
                        <a:pt x="21" y="547"/>
                      </a:lnTo>
                      <a:lnTo>
                        <a:pt x="21" y="521"/>
                      </a:lnTo>
                      <a:lnTo>
                        <a:pt x="26" y="494"/>
                      </a:lnTo>
                      <a:lnTo>
                        <a:pt x="26" y="468"/>
                      </a:lnTo>
                      <a:lnTo>
                        <a:pt x="31" y="441"/>
                      </a:lnTo>
                      <a:lnTo>
                        <a:pt x="31" y="414"/>
                      </a:lnTo>
                      <a:lnTo>
                        <a:pt x="31" y="388"/>
                      </a:lnTo>
                      <a:lnTo>
                        <a:pt x="36" y="361"/>
                      </a:lnTo>
                      <a:lnTo>
                        <a:pt x="41" y="335"/>
                      </a:lnTo>
                      <a:lnTo>
                        <a:pt x="41" y="313"/>
                      </a:lnTo>
                      <a:lnTo>
                        <a:pt x="41" y="286"/>
                      </a:lnTo>
                      <a:lnTo>
                        <a:pt x="46" y="260"/>
                      </a:lnTo>
                      <a:lnTo>
                        <a:pt x="51" y="233"/>
                      </a:lnTo>
                      <a:lnTo>
                        <a:pt x="51" y="207"/>
                      </a:lnTo>
                      <a:lnTo>
                        <a:pt x="51" y="180"/>
                      </a:lnTo>
                      <a:lnTo>
                        <a:pt x="57" y="154"/>
                      </a:lnTo>
                      <a:lnTo>
                        <a:pt x="62" y="127"/>
                      </a:lnTo>
                      <a:lnTo>
                        <a:pt x="62" y="105"/>
                      </a:lnTo>
                      <a:lnTo>
                        <a:pt x="62" y="79"/>
                      </a:lnTo>
                      <a:lnTo>
                        <a:pt x="67" y="52"/>
                      </a:lnTo>
                      <a:lnTo>
                        <a:pt x="72" y="26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2" y="26"/>
                      </a:lnTo>
                      <a:lnTo>
                        <a:pt x="62" y="52"/>
                      </a:lnTo>
                      <a:lnTo>
                        <a:pt x="62" y="79"/>
                      </a:lnTo>
                      <a:lnTo>
                        <a:pt x="57" y="101"/>
                      </a:lnTo>
                      <a:lnTo>
                        <a:pt x="51" y="127"/>
                      </a:lnTo>
                      <a:lnTo>
                        <a:pt x="51" y="154"/>
                      </a:lnTo>
                      <a:lnTo>
                        <a:pt x="51" y="180"/>
                      </a:lnTo>
                      <a:lnTo>
                        <a:pt x="46" y="207"/>
                      </a:lnTo>
                      <a:lnTo>
                        <a:pt x="41" y="233"/>
                      </a:lnTo>
                      <a:lnTo>
                        <a:pt x="41" y="260"/>
                      </a:lnTo>
                      <a:lnTo>
                        <a:pt x="41" y="282"/>
                      </a:lnTo>
                      <a:lnTo>
                        <a:pt x="36" y="308"/>
                      </a:lnTo>
                      <a:lnTo>
                        <a:pt x="31" y="335"/>
                      </a:lnTo>
                      <a:lnTo>
                        <a:pt x="31" y="361"/>
                      </a:lnTo>
                      <a:lnTo>
                        <a:pt x="31" y="388"/>
                      </a:lnTo>
                      <a:lnTo>
                        <a:pt x="26" y="414"/>
                      </a:lnTo>
                      <a:lnTo>
                        <a:pt x="21" y="441"/>
                      </a:lnTo>
                      <a:lnTo>
                        <a:pt x="21" y="468"/>
                      </a:lnTo>
                      <a:lnTo>
                        <a:pt x="21" y="494"/>
                      </a:lnTo>
                      <a:lnTo>
                        <a:pt x="15" y="521"/>
                      </a:lnTo>
                      <a:lnTo>
                        <a:pt x="15" y="547"/>
                      </a:lnTo>
                      <a:lnTo>
                        <a:pt x="10" y="574"/>
                      </a:lnTo>
                      <a:lnTo>
                        <a:pt x="10" y="605"/>
                      </a:lnTo>
                      <a:lnTo>
                        <a:pt x="10" y="631"/>
                      </a:lnTo>
                      <a:lnTo>
                        <a:pt x="10" y="658"/>
                      </a:lnTo>
                      <a:lnTo>
                        <a:pt x="5" y="684"/>
                      </a:lnTo>
                      <a:lnTo>
                        <a:pt x="5" y="710"/>
                      </a:lnTo>
                      <a:lnTo>
                        <a:pt x="5" y="741"/>
                      </a:lnTo>
                      <a:lnTo>
                        <a:pt x="0" y="768"/>
                      </a:lnTo>
                      <a:lnTo>
                        <a:pt x="0" y="794"/>
                      </a:lnTo>
                      <a:lnTo>
                        <a:pt x="0" y="821"/>
                      </a:lnTo>
                      <a:lnTo>
                        <a:pt x="0" y="847"/>
                      </a:lnTo>
                      <a:lnTo>
                        <a:pt x="0" y="852"/>
                      </a:lnTo>
                      <a:lnTo>
                        <a:pt x="0" y="852"/>
                      </a:lnTo>
                      <a:lnTo>
                        <a:pt x="5" y="852"/>
                      </a:lnTo>
                      <a:lnTo>
                        <a:pt x="5" y="8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095720" y="5460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5"/>
                      </a:moveTo>
                      <a:lnTo>
                        <a:pt x="72" y="65"/>
                      </a:lnTo>
                      <a:lnTo>
                        <a:pt x="58" y="65"/>
                      </a:lnTo>
                      <a:lnTo>
                        <a:pt x="43" y="65"/>
                      </a:lnTo>
                      <a:lnTo>
                        <a:pt x="43" y="58"/>
                      </a:lnTo>
                      <a:lnTo>
                        <a:pt x="43" y="58"/>
                      </a:lnTo>
                      <a:lnTo>
                        <a:pt x="29" y="58"/>
                      </a:lnTo>
                      <a:lnTo>
                        <a:pt x="29" y="50"/>
                      </a:lnTo>
                      <a:lnTo>
                        <a:pt x="29" y="50"/>
                      </a:lnTo>
                      <a:lnTo>
                        <a:pt x="14" y="43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2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14" y="36"/>
                      </a:lnTo>
                      <a:lnTo>
                        <a:pt x="14" y="43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65"/>
                      </a:lnTo>
                      <a:lnTo>
                        <a:pt x="43" y="65"/>
                      </a:lnTo>
                      <a:lnTo>
                        <a:pt x="43" y="65"/>
                      </a:lnTo>
                      <a:lnTo>
                        <a:pt x="58" y="72"/>
                      </a:lnTo>
                      <a:lnTo>
                        <a:pt x="58" y="72"/>
                      </a:lnTo>
                      <a:lnTo>
                        <a:pt x="72" y="72"/>
                      </a:lnTo>
                      <a:lnTo>
                        <a:pt x="72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110120" y="5483160"/>
                  <a:ext cx="405000" cy="25920"/>
                </a:xfrm>
                <a:custGeom>
                  <a:avLst/>
                  <a:gdLst/>
                  <a:ahLst/>
                  <a:rect l="0" t="0" r="r" b="b"/>
                  <a:pathLst>
                    <a:path w="1125" h="72">
                      <a:moveTo>
                        <a:pt x="1121" y="68"/>
                      </a:moveTo>
                      <a:lnTo>
                        <a:pt x="112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21" y="72"/>
                      </a:lnTo>
                      <a:lnTo>
                        <a:pt x="1121" y="72"/>
                      </a:lnTo>
                      <a:lnTo>
                        <a:pt x="1125" y="68"/>
                      </a:lnTo>
                      <a:lnTo>
                        <a:pt x="112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522680" y="5489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5"/>
                      </a:lnTo>
                      <a:lnTo>
                        <a:pt x="60" y="17"/>
                      </a:lnTo>
                      <a:lnTo>
                        <a:pt x="60" y="24"/>
                      </a:lnTo>
                      <a:lnTo>
                        <a:pt x="60" y="30"/>
                      </a:lnTo>
                      <a:lnTo>
                        <a:pt x="53" y="30"/>
                      </a:lnTo>
                      <a:lnTo>
                        <a:pt x="53" y="42"/>
                      </a:lnTo>
                      <a:lnTo>
                        <a:pt x="53" y="42"/>
                      </a:lnTo>
                      <a:lnTo>
                        <a:pt x="48" y="48"/>
                      </a:lnTo>
                      <a:lnTo>
                        <a:pt x="42" y="53"/>
                      </a:lnTo>
                      <a:lnTo>
                        <a:pt x="36" y="53"/>
                      </a:lnTo>
                      <a:lnTo>
                        <a:pt x="30" y="60"/>
                      </a:lnTo>
                      <a:lnTo>
                        <a:pt x="30" y="60"/>
                      </a:lnTo>
                      <a:lnTo>
                        <a:pt x="17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0" y="72"/>
                      </a:lnTo>
                      <a:lnTo>
                        <a:pt x="11" y="72"/>
                      </a:lnTo>
                      <a:lnTo>
                        <a:pt x="17" y="72"/>
                      </a:lnTo>
                      <a:lnTo>
                        <a:pt x="24" y="72"/>
                      </a:lnTo>
                      <a:lnTo>
                        <a:pt x="30" y="66"/>
                      </a:lnTo>
                      <a:lnTo>
                        <a:pt x="36" y="66"/>
                      </a:lnTo>
                      <a:lnTo>
                        <a:pt x="42" y="60"/>
                      </a:lnTo>
                      <a:lnTo>
                        <a:pt x="48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60" y="42"/>
                      </a:lnTo>
                      <a:lnTo>
                        <a:pt x="60" y="36"/>
                      </a:lnTo>
                      <a:lnTo>
                        <a:pt x="66" y="30"/>
                      </a:lnTo>
                      <a:lnTo>
                        <a:pt x="66" y="24"/>
                      </a:lnTo>
                      <a:lnTo>
                        <a:pt x="72" y="17"/>
                      </a:lnTo>
                      <a:lnTo>
                        <a:pt x="72" y="11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548240" y="5186520"/>
                  <a:ext cx="25920" cy="295560"/>
                </a:xfrm>
                <a:custGeom>
                  <a:avLst/>
                  <a:gdLst/>
                  <a:ahLst/>
                  <a:rect l="0" t="0" r="r" b="b"/>
                  <a:pathLst>
                    <a:path w="72" h="821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21"/>
                      </a:lnTo>
                      <a:lnTo>
                        <a:pt x="5" y="821"/>
                      </a:ln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564080" y="5157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4" y="5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48" y="10"/>
                      </a:lnTo>
                      <a:lnTo>
                        <a:pt x="48" y="15"/>
                      </a:lnTo>
                      <a:lnTo>
                        <a:pt x="48" y="21"/>
                      </a:lnTo>
                      <a:lnTo>
                        <a:pt x="48" y="21"/>
                      </a:lnTo>
                      <a:lnTo>
                        <a:pt x="48" y="26"/>
                      </a:lnTo>
                      <a:lnTo>
                        <a:pt x="48" y="31"/>
                      </a:lnTo>
                      <a:lnTo>
                        <a:pt x="48" y="36"/>
                      </a:lnTo>
                      <a:lnTo>
                        <a:pt x="48" y="41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48" y="57"/>
                      </a:lnTo>
                      <a:lnTo>
                        <a:pt x="48" y="62"/>
                      </a:lnTo>
                      <a:lnTo>
                        <a:pt x="48" y="72"/>
                      </a:lnTo>
                      <a:lnTo>
                        <a:pt x="72" y="7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2" y="21"/>
                      </a:lnTo>
                      <a:lnTo>
                        <a:pt x="48" y="15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151160" y="5133960"/>
                  <a:ext cx="403560" cy="25920"/>
                </a:xfrm>
                <a:custGeom>
                  <a:avLst/>
                  <a:gdLst/>
                  <a:ahLst/>
                  <a:rect l="0" t="0" r="r" b="b"/>
                  <a:pathLst>
                    <a:path w="1121" h="72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39" y="6"/>
                      </a:lnTo>
                      <a:lnTo>
                        <a:pt x="74" y="6"/>
                      </a:lnTo>
                      <a:lnTo>
                        <a:pt x="110" y="6"/>
                      </a:lnTo>
                      <a:lnTo>
                        <a:pt x="145" y="6"/>
                      </a:lnTo>
                      <a:lnTo>
                        <a:pt x="180" y="6"/>
                      </a:lnTo>
                      <a:lnTo>
                        <a:pt x="216" y="6"/>
                      </a:lnTo>
                      <a:lnTo>
                        <a:pt x="251" y="6"/>
                      </a:lnTo>
                      <a:lnTo>
                        <a:pt x="286" y="6"/>
                      </a:lnTo>
                      <a:lnTo>
                        <a:pt x="321" y="6"/>
                      </a:lnTo>
                      <a:lnTo>
                        <a:pt x="357" y="6"/>
                      </a:lnTo>
                      <a:lnTo>
                        <a:pt x="392" y="6"/>
                      </a:lnTo>
                      <a:lnTo>
                        <a:pt x="427" y="12"/>
                      </a:lnTo>
                      <a:lnTo>
                        <a:pt x="463" y="12"/>
                      </a:lnTo>
                      <a:lnTo>
                        <a:pt x="498" y="12"/>
                      </a:lnTo>
                      <a:lnTo>
                        <a:pt x="533" y="12"/>
                      </a:lnTo>
                      <a:lnTo>
                        <a:pt x="569" y="20"/>
                      </a:lnTo>
                      <a:lnTo>
                        <a:pt x="605" y="20"/>
                      </a:lnTo>
                      <a:lnTo>
                        <a:pt x="640" y="20"/>
                      </a:lnTo>
                      <a:lnTo>
                        <a:pt x="680" y="26"/>
                      </a:lnTo>
                      <a:lnTo>
                        <a:pt x="710" y="26"/>
                      </a:lnTo>
                      <a:lnTo>
                        <a:pt x="746" y="26"/>
                      </a:lnTo>
                      <a:lnTo>
                        <a:pt x="781" y="33"/>
                      </a:lnTo>
                      <a:lnTo>
                        <a:pt x="816" y="33"/>
                      </a:lnTo>
                      <a:lnTo>
                        <a:pt x="852" y="39"/>
                      </a:lnTo>
                      <a:lnTo>
                        <a:pt x="882" y="39"/>
                      </a:lnTo>
                      <a:lnTo>
                        <a:pt x="918" y="45"/>
                      </a:lnTo>
                      <a:lnTo>
                        <a:pt x="953" y="45"/>
                      </a:lnTo>
                      <a:lnTo>
                        <a:pt x="988" y="52"/>
                      </a:lnTo>
                      <a:lnTo>
                        <a:pt x="1019" y="59"/>
                      </a:lnTo>
                      <a:lnTo>
                        <a:pt x="1054" y="66"/>
                      </a:lnTo>
                      <a:lnTo>
                        <a:pt x="1085" y="66"/>
                      </a:lnTo>
                      <a:lnTo>
                        <a:pt x="1121" y="72"/>
                      </a:lnTo>
                      <a:lnTo>
                        <a:pt x="1121" y="66"/>
                      </a:lnTo>
                      <a:lnTo>
                        <a:pt x="1090" y="59"/>
                      </a:lnTo>
                      <a:lnTo>
                        <a:pt x="1054" y="52"/>
                      </a:lnTo>
                      <a:lnTo>
                        <a:pt x="1019" y="52"/>
                      </a:lnTo>
                      <a:lnTo>
                        <a:pt x="988" y="45"/>
                      </a:lnTo>
                      <a:lnTo>
                        <a:pt x="953" y="45"/>
                      </a:lnTo>
                      <a:lnTo>
                        <a:pt x="922" y="39"/>
                      </a:lnTo>
                      <a:lnTo>
                        <a:pt x="887" y="39"/>
                      </a:lnTo>
                      <a:lnTo>
                        <a:pt x="852" y="33"/>
                      </a:lnTo>
                      <a:lnTo>
                        <a:pt x="816" y="26"/>
                      </a:lnTo>
                      <a:lnTo>
                        <a:pt x="781" y="26"/>
                      </a:lnTo>
                      <a:lnTo>
                        <a:pt x="750" y="20"/>
                      </a:lnTo>
                      <a:lnTo>
                        <a:pt x="710" y="20"/>
                      </a:lnTo>
                      <a:lnTo>
                        <a:pt x="680" y="20"/>
                      </a:lnTo>
                      <a:lnTo>
                        <a:pt x="640" y="12"/>
                      </a:lnTo>
                      <a:lnTo>
                        <a:pt x="605" y="12"/>
                      </a:lnTo>
                      <a:lnTo>
                        <a:pt x="569" y="6"/>
                      </a:lnTo>
                      <a:lnTo>
                        <a:pt x="533" y="6"/>
                      </a:lnTo>
                      <a:lnTo>
                        <a:pt x="498" y="6"/>
                      </a:lnTo>
                      <a:lnTo>
                        <a:pt x="463" y="6"/>
                      </a:lnTo>
                      <a:lnTo>
                        <a:pt x="427" y="6"/>
                      </a:lnTo>
                      <a:lnTo>
                        <a:pt x="392" y="6"/>
                      </a:lnTo>
                      <a:lnTo>
                        <a:pt x="357" y="0"/>
                      </a:lnTo>
                      <a:lnTo>
                        <a:pt x="321" y="0"/>
                      </a:lnTo>
                      <a:lnTo>
                        <a:pt x="286" y="0"/>
                      </a:lnTo>
                      <a:lnTo>
                        <a:pt x="251" y="0"/>
                      </a:lnTo>
                      <a:lnTo>
                        <a:pt x="216" y="0"/>
                      </a:lnTo>
                      <a:lnTo>
                        <a:pt x="180" y="0"/>
                      </a:lnTo>
                      <a:lnTo>
                        <a:pt x="145" y="0"/>
                      </a:lnTo>
                      <a:lnTo>
                        <a:pt x="110" y="0"/>
                      </a:lnTo>
                      <a:lnTo>
                        <a:pt x="74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12416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36"/>
                      </a:lnTo>
                      <a:lnTo>
                        <a:pt x="17" y="36"/>
                      </a:lnTo>
                      <a:lnTo>
                        <a:pt x="17" y="36"/>
                      </a:lnTo>
                      <a:lnTo>
                        <a:pt x="24" y="36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36" y="17"/>
                      </a:lnTo>
                      <a:lnTo>
                        <a:pt x="42" y="17"/>
                      </a:lnTo>
                      <a:lnTo>
                        <a:pt x="48" y="17"/>
                      </a:lnTo>
                      <a:lnTo>
                        <a:pt x="53" y="17"/>
                      </a:lnTo>
                      <a:lnTo>
                        <a:pt x="60" y="17"/>
                      </a:lnTo>
                      <a:lnTo>
                        <a:pt x="66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3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6" y="17"/>
                      </a:lnTo>
                      <a:lnTo>
                        <a:pt x="30" y="17"/>
                      </a:lnTo>
                      <a:lnTo>
                        <a:pt x="24" y="17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1" y="36"/>
                      </a:lnTo>
                      <a:lnTo>
                        <a:pt x="11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227480" y="5600520"/>
                  <a:ext cx="265320" cy="51120"/>
                </a:xfrm>
                <a:custGeom>
                  <a:avLst/>
                  <a:gdLst/>
                  <a:ahLst/>
                  <a:rect l="0" t="0" r="r" b="b"/>
                  <a:pathLst>
                    <a:path w="737" h="142">
                      <a:moveTo>
                        <a:pt x="0" y="0"/>
                      </a:moveTo>
                      <a:lnTo>
                        <a:pt x="737" y="61"/>
                      </a:lnTo>
                      <a:lnTo>
                        <a:pt x="728" y="70"/>
                      </a:lnTo>
                      <a:lnTo>
                        <a:pt x="719" y="80"/>
                      </a:lnTo>
                      <a:lnTo>
                        <a:pt x="710" y="84"/>
                      </a:lnTo>
                      <a:lnTo>
                        <a:pt x="702" y="93"/>
                      </a:lnTo>
                      <a:lnTo>
                        <a:pt x="693" y="102"/>
                      </a:lnTo>
                      <a:lnTo>
                        <a:pt x="680" y="106"/>
                      </a:lnTo>
                      <a:lnTo>
                        <a:pt x="671" y="111"/>
                      </a:lnTo>
                      <a:lnTo>
                        <a:pt x="658" y="115"/>
                      </a:lnTo>
                      <a:lnTo>
                        <a:pt x="649" y="120"/>
                      </a:lnTo>
                      <a:lnTo>
                        <a:pt x="636" y="124"/>
                      </a:lnTo>
                      <a:lnTo>
                        <a:pt x="627" y="124"/>
                      </a:lnTo>
                      <a:lnTo>
                        <a:pt x="613" y="128"/>
                      </a:lnTo>
                      <a:lnTo>
                        <a:pt x="605" y="133"/>
                      </a:lnTo>
                      <a:lnTo>
                        <a:pt x="591" y="133"/>
                      </a:lnTo>
                      <a:lnTo>
                        <a:pt x="583" y="137"/>
                      </a:lnTo>
                      <a:lnTo>
                        <a:pt x="569" y="137"/>
                      </a:lnTo>
                      <a:lnTo>
                        <a:pt x="556" y="142"/>
                      </a:lnTo>
                      <a:lnTo>
                        <a:pt x="547" y="142"/>
                      </a:lnTo>
                      <a:lnTo>
                        <a:pt x="534" y="142"/>
                      </a:lnTo>
                      <a:lnTo>
                        <a:pt x="521" y="142"/>
                      </a:lnTo>
                      <a:lnTo>
                        <a:pt x="512" y="142"/>
                      </a:lnTo>
                      <a:lnTo>
                        <a:pt x="494" y="142"/>
                      </a:lnTo>
                      <a:lnTo>
                        <a:pt x="486" y="142"/>
                      </a:lnTo>
                      <a:lnTo>
                        <a:pt x="472" y="142"/>
                      </a:lnTo>
                      <a:lnTo>
                        <a:pt x="459" y="142"/>
                      </a:lnTo>
                      <a:lnTo>
                        <a:pt x="446" y="142"/>
                      </a:lnTo>
                      <a:lnTo>
                        <a:pt x="437" y="142"/>
                      </a:lnTo>
                      <a:lnTo>
                        <a:pt x="419" y="142"/>
                      </a:lnTo>
                      <a:lnTo>
                        <a:pt x="411" y="142"/>
                      </a:lnTo>
                      <a:lnTo>
                        <a:pt x="397" y="142"/>
                      </a:lnTo>
                      <a:lnTo>
                        <a:pt x="384" y="142"/>
                      </a:lnTo>
                      <a:lnTo>
                        <a:pt x="371" y="142"/>
                      </a:lnTo>
                      <a:lnTo>
                        <a:pt x="352" y="142"/>
                      </a:lnTo>
                      <a:lnTo>
                        <a:pt x="339" y="142"/>
                      </a:lnTo>
                      <a:lnTo>
                        <a:pt x="326" y="137"/>
                      </a:lnTo>
                      <a:lnTo>
                        <a:pt x="313" y="137"/>
                      </a:lnTo>
                      <a:lnTo>
                        <a:pt x="299" y="137"/>
                      </a:lnTo>
                      <a:lnTo>
                        <a:pt x="286" y="133"/>
                      </a:lnTo>
                      <a:lnTo>
                        <a:pt x="273" y="133"/>
                      </a:lnTo>
                      <a:lnTo>
                        <a:pt x="260" y="133"/>
                      </a:lnTo>
                      <a:lnTo>
                        <a:pt x="246" y="128"/>
                      </a:lnTo>
                      <a:lnTo>
                        <a:pt x="233" y="124"/>
                      </a:lnTo>
                      <a:lnTo>
                        <a:pt x="220" y="124"/>
                      </a:lnTo>
                      <a:lnTo>
                        <a:pt x="207" y="120"/>
                      </a:lnTo>
                      <a:lnTo>
                        <a:pt x="194" y="115"/>
                      </a:lnTo>
                      <a:lnTo>
                        <a:pt x="180" y="111"/>
                      </a:lnTo>
                      <a:lnTo>
                        <a:pt x="171" y="106"/>
                      </a:lnTo>
                      <a:lnTo>
                        <a:pt x="158" y="106"/>
                      </a:lnTo>
                      <a:lnTo>
                        <a:pt x="145" y="102"/>
                      </a:lnTo>
                      <a:lnTo>
                        <a:pt x="136" y="93"/>
                      </a:lnTo>
                      <a:lnTo>
                        <a:pt x="123" y="89"/>
                      </a:lnTo>
                      <a:lnTo>
                        <a:pt x="110" y="84"/>
                      </a:lnTo>
                      <a:lnTo>
                        <a:pt x="101" y="80"/>
                      </a:lnTo>
                      <a:lnTo>
                        <a:pt x="88" y="70"/>
                      </a:lnTo>
                      <a:lnTo>
                        <a:pt x="79" y="66"/>
                      </a:lnTo>
                      <a:lnTo>
                        <a:pt x="70" y="61"/>
                      </a:lnTo>
                      <a:lnTo>
                        <a:pt x="61" y="52"/>
                      </a:lnTo>
                      <a:lnTo>
                        <a:pt x="52" y="48"/>
                      </a:lnTo>
                      <a:lnTo>
                        <a:pt x="39" y="39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17" y="17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227480" y="5599080"/>
                  <a:ext cx="265320" cy="25920"/>
                </a:xfrm>
                <a:custGeom>
                  <a:avLst/>
                  <a:gdLst/>
                  <a:ahLst/>
                  <a:rect l="0" t="0" r="r" b="b"/>
                  <a:pathLst>
                    <a:path w="737" h="72">
                      <a:moveTo>
                        <a:pt x="737" y="72"/>
                      </a:moveTo>
                      <a:lnTo>
                        <a:pt x="733" y="67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33" y="72"/>
                      </a:lnTo>
                      <a:lnTo>
                        <a:pt x="733" y="67"/>
                      </a:lnTo>
                      <a:lnTo>
                        <a:pt x="733" y="72"/>
                      </a:lnTo>
                      <a:lnTo>
                        <a:pt x="737" y="72"/>
                      </a:lnTo>
                      <a:lnTo>
                        <a:pt x="737" y="67"/>
                      </a:lnTo>
                      <a:lnTo>
                        <a:pt x="737" y="67"/>
                      </a:lnTo>
                      <a:lnTo>
                        <a:pt x="733" y="67"/>
                      </a:lnTo>
                      <a:lnTo>
                        <a:pt x="73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362480" y="5626080"/>
                  <a:ext cx="130680" cy="27360"/>
                </a:xfrm>
                <a:custGeom>
                  <a:avLst/>
                  <a:gdLst/>
                  <a:ahLst/>
                  <a:rect l="0" t="0" r="r" b="b"/>
                  <a:pathLst>
                    <a:path w="363" h="76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7" y="72"/>
                      </a:lnTo>
                      <a:lnTo>
                        <a:pt x="30" y="76"/>
                      </a:lnTo>
                      <a:lnTo>
                        <a:pt x="44" y="76"/>
                      </a:lnTo>
                      <a:lnTo>
                        <a:pt x="52" y="76"/>
                      </a:lnTo>
                      <a:lnTo>
                        <a:pt x="66" y="76"/>
                      </a:lnTo>
                      <a:lnTo>
                        <a:pt x="79" y="76"/>
                      </a:lnTo>
                      <a:lnTo>
                        <a:pt x="93" y="76"/>
                      </a:lnTo>
                      <a:lnTo>
                        <a:pt x="102" y="76"/>
                      </a:lnTo>
                      <a:lnTo>
                        <a:pt x="115" y="76"/>
                      </a:lnTo>
                      <a:lnTo>
                        <a:pt x="128" y="76"/>
                      </a:lnTo>
                      <a:lnTo>
                        <a:pt x="142" y="76"/>
                      </a:lnTo>
                      <a:lnTo>
                        <a:pt x="155" y="76"/>
                      </a:lnTo>
                      <a:lnTo>
                        <a:pt x="164" y="76"/>
                      </a:lnTo>
                      <a:lnTo>
                        <a:pt x="177" y="72"/>
                      </a:lnTo>
                      <a:lnTo>
                        <a:pt x="186" y="72"/>
                      </a:lnTo>
                      <a:lnTo>
                        <a:pt x="199" y="72"/>
                      </a:lnTo>
                      <a:lnTo>
                        <a:pt x="208" y="72"/>
                      </a:lnTo>
                      <a:lnTo>
                        <a:pt x="221" y="68"/>
                      </a:lnTo>
                      <a:lnTo>
                        <a:pt x="234" y="68"/>
                      </a:lnTo>
                      <a:lnTo>
                        <a:pt x="243" y="63"/>
                      </a:lnTo>
                      <a:lnTo>
                        <a:pt x="256" y="63"/>
                      </a:lnTo>
                      <a:lnTo>
                        <a:pt x="265" y="59"/>
                      </a:lnTo>
                      <a:lnTo>
                        <a:pt x="275" y="53"/>
                      </a:lnTo>
                      <a:lnTo>
                        <a:pt x="288" y="49"/>
                      </a:lnTo>
                      <a:lnTo>
                        <a:pt x="297" y="45"/>
                      </a:lnTo>
                      <a:lnTo>
                        <a:pt x="306" y="45"/>
                      </a:lnTo>
                      <a:lnTo>
                        <a:pt x="315" y="36"/>
                      </a:lnTo>
                      <a:lnTo>
                        <a:pt x="323" y="31"/>
                      </a:lnTo>
                      <a:lnTo>
                        <a:pt x="337" y="23"/>
                      </a:lnTo>
                      <a:lnTo>
                        <a:pt x="345" y="17"/>
                      </a:lnTo>
                      <a:lnTo>
                        <a:pt x="354" y="8"/>
                      </a:lnTo>
                      <a:lnTo>
                        <a:pt x="363" y="4"/>
                      </a:lnTo>
                      <a:lnTo>
                        <a:pt x="359" y="0"/>
                      </a:lnTo>
                      <a:lnTo>
                        <a:pt x="350" y="8"/>
                      </a:lnTo>
                      <a:lnTo>
                        <a:pt x="341" y="13"/>
                      </a:lnTo>
                      <a:lnTo>
                        <a:pt x="332" y="23"/>
                      </a:lnTo>
                      <a:lnTo>
                        <a:pt x="323" y="27"/>
                      </a:lnTo>
                      <a:lnTo>
                        <a:pt x="315" y="31"/>
                      </a:lnTo>
                      <a:lnTo>
                        <a:pt x="306" y="36"/>
                      </a:lnTo>
                      <a:lnTo>
                        <a:pt x="297" y="45"/>
                      </a:lnTo>
                      <a:lnTo>
                        <a:pt x="284" y="45"/>
                      </a:lnTo>
                      <a:lnTo>
                        <a:pt x="275" y="49"/>
                      </a:lnTo>
                      <a:lnTo>
                        <a:pt x="265" y="53"/>
                      </a:lnTo>
                      <a:lnTo>
                        <a:pt x="252" y="53"/>
                      </a:lnTo>
                      <a:lnTo>
                        <a:pt x="243" y="59"/>
                      </a:lnTo>
                      <a:lnTo>
                        <a:pt x="230" y="63"/>
                      </a:lnTo>
                      <a:lnTo>
                        <a:pt x="221" y="63"/>
                      </a:lnTo>
                      <a:lnTo>
                        <a:pt x="208" y="68"/>
                      </a:lnTo>
                      <a:lnTo>
                        <a:pt x="199" y="68"/>
                      </a:lnTo>
                      <a:lnTo>
                        <a:pt x="186" y="68"/>
                      </a:lnTo>
                      <a:lnTo>
                        <a:pt x="172" y="68"/>
                      </a:lnTo>
                      <a:lnTo>
                        <a:pt x="164" y="68"/>
                      </a:lnTo>
                      <a:lnTo>
                        <a:pt x="155" y="72"/>
                      </a:lnTo>
                      <a:lnTo>
                        <a:pt x="142" y="72"/>
                      </a:lnTo>
                      <a:lnTo>
                        <a:pt x="128" y="72"/>
                      </a:lnTo>
                      <a:lnTo>
                        <a:pt x="115" y="72"/>
                      </a:lnTo>
                      <a:lnTo>
                        <a:pt x="102" y="72"/>
                      </a:lnTo>
                      <a:lnTo>
                        <a:pt x="93" y="72"/>
                      </a:lnTo>
                      <a:lnTo>
                        <a:pt x="79" y="72"/>
                      </a:lnTo>
                      <a:lnTo>
                        <a:pt x="66" y="72"/>
                      </a:lnTo>
                      <a:lnTo>
                        <a:pt x="52" y="68"/>
                      </a:lnTo>
                      <a:lnTo>
                        <a:pt x="44" y="68"/>
                      </a:lnTo>
                      <a:lnTo>
                        <a:pt x="30" y="68"/>
                      </a:lnTo>
                      <a:lnTo>
                        <a:pt x="17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227480" y="5599080"/>
                  <a:ext cx="127440" cy="52920"/>
                </a:xfrm>
                <a:custGeom>
                  <a:avLst/>
                  <a:gdLst/>
                  <a:ahLst/>
                  <a:rect l="0" t="0" r="r" b="b"/>
                  <a:pathLst>
                    <a:path w="354" h="147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17" y="22"/>
                      </a:lnTo>
                      <a:lnTo>
                        <a:pt x="22" y="30"/>
                      </a:lnTo>
                      <a:lnTo>
                        <a:pt x="30" y="40"/>
                      </a:lnTo>
                      <a:lnTo>
                        <a:pt x="39" y="45"/>
                      </a:lnTo>
                      <a:lnTo>
                        <a:pt x="48" y="53"/>
                      </a:lnTo>
                      <a:lnTo>
                        <a:pt x="57" y="58"/>
                      </a:lnTo>
                      <a:lnTo>
                        <a:pt x="66" y="67"/>
                      </a:lnTo>
                      <a:lnTo>
                        <a:pt x="74" y="71"/>
                      </a:lnTo>
                      <a:lnTo>
                        <a:pt x="89" y="80"/>
                      </a:lnTo>
                      <a:lnTo>
                        <a:pt x="98" y="84"/>
                      </a:lnTo>
                      <a:lnTo>
                        <a:pt x="111" y="93"/>
                      </a:lnTo>
                      <a:lnTo>
                        <a:pt x="120" y="98"/>
                      </a:lnTo>
                      <a:lnTo>
                        <a:pt x="128" y="102"/>
                      </a:lnTo>
                      <a:lnTo>
                        <a:pt x="142" y="106"/>
                      </a:lnTo>
                      <a:lnTo>
                        <a:pt x="155" y="112"/>
                      </a:lnTo>
                      <a:lnTo>
                        <a:pt x="164" y="116"/>
                      </a:lnTo>
                      <a:lnTo>
                        <a:pt x="177" y="121"/>
                      </a:lnTo>
                      <a:lnTo>
                        <a:pt x="186" y="125"/>
                      </a:lnTo>
                      <a:lnTo>
                        <a:pt x="199" y="129"/>
                      </a:lnTo>
                      <a:lnTo>
                        <a:pt x="212" y="129"/>
                      </a:lnTo>
                      <a:lnTo>
                        <a:pt x="225" y="134"/>
                      </a:lnTo>
                      <a:lnTo>
                        <a:pt x="234" y="138"/>
                      </a:lnTo>
                      <a:lnTo>
                        <a:pt x="247" y="138"/>
                      </a:lnTo>
                      <a:lnTo>
                        <a:pt x="261" y="143"/>
                      </a:lnTo>
                      <a:lnTo>
                        <a:pt x="275" y="143"/>
                      </a:lnTo>
                      <a:lnTo>
                        <a:pt x="288" y="143"/>
                      </a:lnTo>
                      <a:lnTo>
                        <a:pt x="301" y="147"/>
                      </a:lnTo>
                      <a:lnTo>
                        <a:pt x="315" y="147"/>
                      </a:lnTo>
                      <a:lnTo>
                        <a:pt x="328" y="147"/>
                      </a:lnTo>
                      <a:lnTo>
                        <a:pt x="341" y="147"/>
                      </a:lnTo>
                      <a:lnTo>
                        <a:pt x="354" y="147"/>
                      </a:lnTo>
                      <a:lnTo>
                        <a:pt x="354" y="143"/>
                      </a:lnTo>
                      <a:lnTo>
                        <a:pt x="341" y="143"/>
                      </a:lnTo>
                      <a:lnTo>
                        <a:pt x="328" y="143"/>
                      </a:lnTo>
                      <a:lnTo>
                        <a:pt x="315" y="143"/>
                      </a:lnTo>
                      <a:lnTo>
                        <a:pt x="301" y="143"/>
                      </a:lnTo>
                      <a:lnTo>
                        <a:pt x="288" y="138"/>
                      </a:lnTo>
                      <a:lnTo>
                        <a:pt x="275" y="138"/>
                      </a:lnTo>
                      <a:lnTo>
                        <a:pt x="266" y="134"/>
                      </a:lnTo>
                      <a:lnTo>
                        <a:pt x="247" y="134"/>
                      </a:lnTo>
                      <a:lnTo>
                        <a:pt x="239" y="129"/>
                      </a:lnTo>
                      <a:lnTo>
                        <a:pt x="225" y="129"/>
                      </a:lnTo>
                      <a:lnTo>
                        <a:pt x="212" y="125"/>
                      </a:lnTo>
                      <a:lnTo>
                        <a:pt x="199" y="121"/>
                      </a:lnTo>
                      <a:lnTo>
                        <a:pt x="190" y="116"/>
                      </a:lnTo>
                      <a:lnTo>
                        <a:pt x="177" y="116"/>
                      </a:lnTo>
                      <a:lnTo>
                        <a:pt x="168" y="112"/>
                      </a:lnTo>
                      <a:lnTo>
                        <a:pt x="155" y="106"/>
                      </a:lnTo>
                      <a:lnTo>
                        <a:pt x="142" y="98"/>
                      </a:lnTo>
                      <a:lnTo>
                        <a:pt x="133" y="98"/>
                      </a:lnTo>
                      <a:lnTo>
                        <a:pt x="124" y="93"/>
                      </a:lnTo>
                      <a:lnTo>
                        <a:pt x="111" y="84"/>
                      </a:lnTo>
                      <a:lnTo>
                        <a:pt x="98" y="80"/>
                      </a:lnTo>
                      <a:lnTo>
                        <a:pt x="89" y="75"/>
                      </a:lnTo>
                      <a:lnTo>
                        <a:pt x="79" y="67"/>
                      </a:lnTo>
                      <a:lnTo>
                        <a:pt x="70" y="62"/>
                      </a:lnTo>
                      <a:lnTo>
                        <a:pt x="61" y="53"/>
                      </a:lnTo>
                      <a:lnTo>
                        <a:pt x="52" y="49"/>
                      </a:lnTo>
                      <a:lnTo>
                        <a:pt x="44" y="40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22" y="17"/>
                      </a:lnTo>
                      <a:lnTo>
                        <a:pt x="13" y="8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086360" y="5559480"/>
                  <a:ext cx="449640" cy="178200"/>
                </a:xfrm>
                <a:custGeom>
                  <a:avLst/>
                  <a:gdLst/>
                  <a:ahLst/>
                  <a:rect l="0" t="0" r="r" b="b"/>
                  <a:pathLst>
                    <a:path w="1249" h="495">
                      <a:moveTo>
                        <a:pt x="79" y="336"/>
                      </a:moveTo>
                      <a:lnTo>
                        <a:pt x="1249" y="442"/>
                      </a:lnTo>
                      <a:lnTo>
                        <a:pt x="1249" y="495"/>
                      </a:lnTo>
                      <a:lnTo>
                        <a:pt x="79" y="390"/>
                      </a:lnTo>
                      <a:lnTo>
                        <a:pt x="79" y="336"/>
                      </a:lnTo>
                      <a:lnTo>
                        <a:pt x="4" y="0"/>
                      </a:lnTo>
                      <a:lnTo>
                        <a:pt x="1227" y="110"/>
                      </a:lnTo>
                      <a:lnTo>
                        <a:pt x="1219" y="168"/>
                      </a:lnTo>
                      <a:lnTo>
                        <a:pt x="0" y="48"/>
                      </a:lnTo>
                      <a:lnTo>
                        <a:pt x="4" y="0"/>
                      </a:lnTo>
                      <a:lnTo>
                        <a:pt x="79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255920" y="5640480"/>
                  <a:ext cx="230400" cy="41760"/>
                </a:xfrm>
                <a:custGeom>
                  <a:avLst/>
                  <a:gdLst/>
                  <a:ahLst/>
                  <a:rect l="0" t="0" r="r" b="b"/>
                  <a:pathLst>
                    <a:path w="640" h="116">
                      <a:moveTo>
                        <a:pt x="57" y="0"/>
                      </a:moveTo>
                      <a:lnTo>
                        <a:pt x="4" y="67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4" y="75"/>
                      </a:lnTo>
                      <a:lnTo>
                        <a:pt x="4" y="80"/>
                      </a:lnTo>
                      <a:lnTo>
                        <a:pt x="8" y="80"/>
                      </a:lnTo>
                      <a:lnTo>
                        <a:pt x="13" y="84"/>
                      </a:lnTo>
                      <a:lnTo>
                        <a:pt x="17" y="84"/>
                      </a:lnTo>
                      <a:lnTo>
                        <a:pt x="26" y="90"/>
                      </a:lnTo>
                      <a:lnTo>
                        <a:pt x="35" y="90"/>
                      </a:lnTo>
                      <a:lnTo>
                        <a:pt x="39" y="90"/>
                      </a:lnTo>
                      <a:lnTo>
                        <a:pt x="48" y="94"/>
                      </a:lnTo>
                      <a:lnTo>
                        <a:pt x="61" y="94"/>
                      </a:lnTo>
                      <a:lnTo>
                        <a:pt x="70" y="99"/>
                      </a:lnTo>
                      <a:lnTo>
                        <a:pt x="83" y="99"/>
                      </a:lnTo>
                      <a:lnTo>
                        <a:pt x="97" y="103"/>
                      </a:lnTo>
                      <a:lnTo>
                        <a:pt x="110" y="103"/>
                      </a:lnTo>
                      <a:lnTo>
                        <a:pt x="119" y="107"/>
                      </a:lnTo>
                      <a:lnTo>
                        <a:pt x="132" y="107"/>
                      </a:lnTo>
                      <a:lnTo>
                        <a:pt x="145" y="107"/>
                      </a:lnTo>
                      <a:lnTo>
                        <a:pt x="163" y="112"/>
                      </a:lnTo>
                      <a:lnTo>
                        <a:pt x="171" y="112"/>
                      </a:lnTo>
                      <a:lnTo>
                        <a:pt x="189" y="112"/>
                      </a:lnTo>
                      <a:lnTo>
                        <a:pt x="202" y="112"/>
                      </a:lnTo>
                      <a:lnTo>
                        <a:pt x="216" y="116"/>
                      </a:lnTo>
                      <a:lnTo>
                        <a:pt x="229" y="116"/>
                      </a:lnTo>
                      <a:lnTo>
                        <a:pt x="242" y="116"/>
                      </a:lnTo>
                      <a:lnTo>
                        <a:pt x="255" y="116"/>
                      </a:lnTo>
                      <a:lnTo>
                        <a:pt x="268" y="116"/>
                      </a:lnTo>
                      <a:lnTo>
                        <a:pt x="282" y="116"/>
                      </a:lnTo>
                      <a:lnTo>
                        <a:pt x="295" y="116"/>
                      </a:lnTo>
                      <a:lnTo>
                        <a:pt x="308" y="116"/>
                      </a:lnTo>
                      <a:lnTo>
                        <a:pt x="322" y="116"/>
                      </a:lnTo>
                      <a:lnTo>
                        <a:pt x="331" y="116"/>
                      </a:lnTo>
                      <a:lnTo>
                        <a:pt x="340" y="116"/>
                      </a:lnTo>
                      <a:lnTo>
                        <a:pt x="353" y="116"/>
                      </a:lnTo>
                      <a:lnTo>
                        <a:pt x="367" y="116"/>
                      </a:lnTo>
                      <a:lnTo>
                        <a:pt x="380" y="116"/>
                      </a:lnTo>
                      <a:lnTo>
                        <a:pt x="393" y="116"/>
                      </a:lnTo>
                      <a:lnTo>
                        <a:pt x="406" y="116"/>
                      </a:lnTo>
                      <a:lnTo>
                        <a:pt x="419" y="116"/>
                      </a:lnTo>
                      <a:lnTo>
                        <a:pt x="433" y="112"/>
                      </a:lnTo>
                      <a:lnTo>
                        <a:pt x="446" y="112"/>
                      </a:lnTo>
                      <a:lnTo>
                        <a:pt x="459" y="112"/>
                      </a:lnTo>
                      <a:lnTo>
                        <a:pt x="472" y="112"/>
                      </a:lnTo>
                      <a:lnTo>
                        <a:pt x="490" y="107"/>
                      </a:lnTo>
                      <a:lnTo>
                        <a:pt x="499" y="107"/>
                      </a:lnTo>
                      <a:lnTo>
                        <a:pt x="516" y="107"/>
                      </a:lnTo>
                      <a:lnTo>
                        <a:pt x="525" y="103"/>
                      </a:lnTo>
                      <a:lnTo>
                        <a:pt x="538" y="103"/>
                      </a:lnTo>
                      <a:lnTo>
                        <a:pt x="552" y="103"/>
                      </a:lnTo>
                      <a:lnTo>
                        <a:pt x="565" y="99"/>
                      </a:lnTo>
                      <a:lnTo>
                        <a:pt x="574" y="99"/>
                      </a:lnTo>
                      <a:lnTo>
                        <a:pt x="583" y="94"/>
                      </a:lnTo>
                      <a:lnTo>
                        <a:pt x="596" y="94"/>
                      </a:lnTo>
                      <a:lnTo>
                        <a:pt x="605" y="90"/>
                      </a:lnTo>
                      <a:lnTo>
                        <a:pt x="609" y="90"/>
                      </a:lnTo>
                      <a:lnTo>
                        <a:pt x="618" y="90"/>
                      </a:lnTo>
                      <a:lnTo>
                        <a:pt x="627" y="84"/>
                      </a:lnTo>
                      <a:lnTo>
                        <a:pt x="631" y="84"/>
                      </a:lnTo>
                      <a:lnTo>
                        <a:pt x="636" y="80"/>
                      </a:lnTo>
                      <a:lnTo>
                        <a:pt x="636" y="75"/>
                      </a:lnTo>
                      <a:lnTo>
                        <a:pt x="640" y="75"/>
                      </a:lnTo>
                      <a:lnTo>
                        <a:pt x="640" y="71"/>
                      </a:lnTo>
                      <a:lnTo>
                        <a:pt x="640" y="67"/>
                      </a:lnTo>
                      <a:lnTo>
                        <a:pt x="600" y="4"/>
                      </a:lnTo>
                      <a:lnTo>
                        <a:pt x="591" y="8"/>
                      </a:lnTo>
                      <a:lnTo>
                        <a:pt x="583" y="13"/>
                      </a:lnTo>
                      <a:lnTo>
                        <a:pt x="578" y="13"/>
                      </a:lnTo>
                      <a:lnTo>
                        <a:pt x="569" y="17"/>
                      </a:lnTo>
                      <a:lnTo>
                        <a:pt x="565" y="17"/>
                      </a:lnTo>
                      <a:lnTo>
                        <a:pt x="556" y="22"/>
                      </a:lnTo>
                      <a:lnTo>
                        <a:pt x="547" y="22"/>
                      </a:lnTo>
                      <a:lnTo>
                        <a:pt x="538" y="26"/>
                      </a:lnTo>
                      <a:lnTo>
                        <a:pt x="530" y="26"/>
                      </a:lnTo>
                      <a:lnTo>
                        <a:pt x="521" y="31"/>
                      </a:lnTo>
                      <a:lnTo>
                        <a:pt x="516" y="31"/>
                      </a:lnTo>
                      <a:lnTo>
                        <a:pt x="503" y="31"/>
                      </a:lnTo>
                      <a:lnTo>
                        <a:pt x="499" y="31"/>
                      </a:lnTo>
                      <a:lnTo>
                        <a:pt x="490" y="31"/>
                      </a:lnTo>
                      <a:lnTo>
                        <a:pt x="481" y="36"/>
                      </a:lnTo>
                      <a:lnTo>
                        <a:pt x="472" y="36"/>
                      </a:lnTo>
                      <a:lnTo>
                        <a:pt x="464" y="36"/>
                      </a:lnTo>
                      <a:lnTo>
                        <a:pt x="455" y="36"/>
                      </a:lnTo>
                      <a:lnTo>
                        <a:pt x="446" y="36"/>
                      </a:lnTo>
                      <a:lnTo>
                        <a:pt x="437" y="40"/>
                      </a:lnTo>
                      <a:lnTo>
                        <a:pt x="428" y="40"/>
                      </a:lnTo>
                      <a:lnTo>
                        <a:pt x="419" y="40"/>
                      </a:lnTo>
                      <a:lnTo>
                        <a:pt x="411" y="40"/>
                      </a:lnTo>
                      <a:lnTo>
                        <a:pt x="402" y="40"/>
                      </a:lnTo>
                      <a:lnTo>
                        <a:pt x="393" y="40"/>
                      </a:lnTo>
                      <a:lnTo>
                        <a:pt x="384" y="40"/>
                      </a:lnTo>
                      <a:lnTo>
                        <a:pt x="375" y="40"/>
                      </a:lnTo>
                      <a:lnTo>
                        <a:pt x="367" y="40"/>
                      </a:lnTo>
                      <a:lnTo>
                        <a:pt x="358" y="40"/>
                      </a:lnTo>
                      <a:lnTo>
                        <a:pt x="349" y="40"/>
                      </a:lnTo>
                      <a:lnTo>
                        <a:pt x="340" y="40"/>
                      </a:lnTo>
                      <a:lnTo>
                        <a:pt x="331" y="40"/>
                      </a:lnTo>
                      <a:lnTo>
                        <a:pt x="322" y="40"/>
                      </a:lnTo>
                      <a:lnTo>
                        <a:pt x="313" y="40"/>
                      </a:lnTo>
                      <a:lnTo>
                        <a:pt x="299" y="40"/>
                      </a:lnTo>
                      <a:lnTo>
                        <a:pt x="291" y="40"/>
                      </a:lnTo>
                      <a:lnTo>
                        <a:pt x="277" y="40"/>
                      </a:lnTo>
                      <a:lnTo>
                        <a:pt x="268" y="40"/>
                      </a:lnTo>
                      <a:lnTo>
                        <a:pt x="255" y="40"/>
                      </a:lnTo>
                      <a:lnTo>
                        <a:pt x="242" y="40"/>
                      </a:lnTo>
                      <a:lnTo>
                        <a:pt x="229" y="40"/>
                      </a:lnTo>
                      <a:lnTo>
                        <a:pt x="220" y="40"/>
                      </a:lnTo>
                      <a:lnTo>
                        <a:pt x="202" y="40"/>
                      </a:lnTo>
                      <a:lnTo>
                        <a:pt x="194" y="36"/>
                      </a:lnTo>
                      <a:lnTo>
                        <a:pt x="180" y="36"/>
                      </a:lnTo>
                      <a:lnTo>
                        <a:pt x="167" y="36"/>
                      </a:lnTo>
                      <a:lnTo>
                        <a:pt x="158" y="36"/>
                      </a:lnTo>
                      <a:lnTo>
                        <a:pt x="145" y="31"/>
                      </a:lnTo>
                      <a:lnTo>
                        <a:pt x="136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26"/>
                      </a:lnTo>
                      <a:lnTo>
                        <a:pt x="88" y="26"/>
                      </a:lnTo>
                      <a:lnTo>
                        <a:pt x="79" y="22"/>
                      </a:lnTo>
                      <a:lnTo>
                        <a:pt x="70" y="22"/>
                      </a:lnTo>
                      <a:lnTo>
                        <a:pt x="66" y="17"/>
                      </a:lnTo>
                      <a:lnTo>
                        <a:pt x="61" y="17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2" y="8"/>
                      </a:lnTo>
                      <a:lnTo>
                        <a:pt x="52" y="4"/>
                      </a:lnTo>
                      <a:lnTo>
                        <a:pt x="52" y="4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255920" y="564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8" y="72"/>
                      </a:moveTo>
                      <a:lnTo>
                        <a:pt x="8" y="72"/>
                      </a:lnTo>
                      <a:lnTo>
                        <a:pt x="72" y="5"/>
                      </a:lnTo>
                      <a:lnTo>
                        <a:pt x="63" y="0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255920" y="5670720"/>
                  <a:ext cx="113040" cy="25920"/>
                </a:xfrm>
                <a:custGeom>
                  <a:avLst/>
                  <a:gdLst/>
                  <a:ahLst/>
                  <a:rect l="0" t="0" r="r" b="b"/>
                  <a:pathLst>
                    <a:path w="314" h="72">
                      <a:moveTo>
                        <a:pt x="309" y="64"/>
                      </a:moveTo>
                      <a:lnTo>
                        <a:pt x="309" y="64"/>
                      </a:lnTo>
                      <a:lnTo>
                        <a:pt x="296" y="64"/>
                      </a:lnTo>
                      <a:lnTo>
                        <a:pt x="287" y="64"/>
                      </a:lnTo>
                      <a:lnTo>
                        <a:pt x="274" y="64"/>
                      </a:lnTo>
                      <a:lnTo>
                        <a:pt x="261" y="64"/>
                      </a:lnTo>
                      <a:lnTo>
                        <a:pt x="247" y="64"/>
                      </a:lnTo>
                      <a:lnTo>
                        <a:pt x="234" y="64"/>
                      </a:lnTo>
                      <a:lnTo>
                        <a:pt x="225" y="64"/>
                      </a:lnTo>
                      <a:lnTo>
                        <a:pt x="212" y="56"/>
                      </a:lnTo>
                      <a:lnTo>
                        <a:pt x="195" y="56"/>
                      </a:lnTo>
                      <a:lnTo>
                        <a:pt x="181" y="56"/>
                      </a:lnTo>
                      <a:lnTo>
                        <a:pt x="168" y="56"/>
                      </a:lnTo>
                      <a:lnTo>
                        <a:pt x="159" y="56"/>
                      </a:lnTo>
                      <a:lnTo>
                        <a:pt x="141" y="56"/>
                      </a:lnTo>
                      <a:lnTo>
                        <a:pt x="127" y="48"/>
                      </a:lnTo>
                      <a:lnTo>
                        <a:pt x="119" y="48"/>
                      </a:lnTo>
                      <a:lnTo>
                        <a:pt x="105" y="48"/>
                      </a:lnTo>
                      <a:lnTo>
                        <a:pt x="92" y="48"/>
                      </a:lnTo>
                      <a:lnTo>
                        <a:pt x="83" y="40"/>
                      </a:lnTo>
                      <a:lnTo>
                        <a:pt x="70" y="40"/>
                      </a:lnTo>
                      <a:lnTo>
                        <a:pt x="61" y="40"/>
                      </a:lnTo>
                      <a:lnTo>
                        <a:pt x="52" y="32"/>
                      </a:lnTo>
                      <a:lnTo>
                        <a:pt x="44" y="32"/>
                      </a:lnTo>
                      <a:lnTo>
                        <a:pt x="35" y="24"/>
                      </a:lnTo>
                      <a:lnTo>
                        <a:pt x="26" y="24"/>
                      </a:lnTo>
                      <a:lnTo>
                        <a:pt x="22" y="24"/>
                      </a:lnTo>
                      <a:lnTo>
                        <a:pt x="17" y="15"/>
                      </a:lnTo>
                      <a:lnTo>
                        <a:pt x="13" y="15"/>
                      </a:lnTo>
                      <a:lnTo>
                        <a:pt x="8" y="15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8" y="24"/>
                      </a:lnTo>
                      <a:lnTo>
                        <a:pt x="13" y="24"/>
                      </a:lnTo>
                      <a:lnTo>
                        <a:pt x="17" y="24"/>
                      </a:lnTo>
                      <a:lnTo>
                        <a:pt x="26" y="32"/>
                      </a:lnTo>
                      <a:lnTo>
                        <a:pt x="35" y="40"/>
                      </a:lnTo>
                      <a:lnTo>
                        <a:pt x="39" y="40"/>
                      </a:lnTo>
                      <a:lnTo>
                        <a:pt x="48" y="40"/>
                      </a:lnTo>
                      <a:lnTo>
                        <a:pt x="61" y="48"/>
                      </a:lnTo>
                      <a:lnTo>
                        <a:pt x="70" y="48"/>
                      </a:lnTo>
                      <a:lnTo>
                        <a:pt x="79" y="48"/>
                      </a:lnTo>
                      <a:lnTo>
                        <a:pt x="92" y="48"/>
                      </a:lnTo>
                      <a:lnTo>
                        <a:pt x="101" y="56"/>
                      </a:lnTo>
                      <a:lnTo>
                        <a:pt x="119" y="56"/>
                      </a:lnTo>
                      <a:lnTo>
                        <a:pt x="127" y="56"/>
                      </a:lnTo>
                      <a:lnTo>
                        <a:pt x="141" y="56"/>
                      </a:lnTo>
                      <a:lnTo>
                        <a:pt x="154" y="64"/>
                      </a:lnTo>
                      <a:lnTo>
                        <a:pt x="168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12" y="64"/>
                      </a:lnTo>
                      <a:lnTo>
                        <a:pt x="221" y="72"/>
                      </a:lnTo>
                      <a:lnTo>
                        <a:pt x="234" y="72"/>
                      </a:lnTo>
                      <a:lnTo>
                        <a:pt x="247" y="72"/>
                      </a:lnTo>
                      <a:lnTo>
                        <a:pt x="261" y="72"/>
                      </a:lnTo>
                      <a:lnTo>
                        <a:pt x="274" y="72"/>
                      </a:lnTo>
                      <a:lnTo>
                        <a:pt x="287" y="72"/>
                      </a:lnTo>
                      <a:lnTo>
                        <a:pt x="296" y="72"/>
                      </a:lnTo>
                      <a:lnTo>
                        <a:pt x="309" y="72"/>
                      </a:lnTo>
                      <a:lnTo>
                        <a:pt x="309" y="72"/>
                      </a:lnTo>
                      <a:lnTo>
                        <a:pt x="314" y="64"/>
                      </a:lnTo>
                      <a:lnTo>
                        <a:pt x="30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376880" y="5670720"/>
                  <a:ext cx="111600" cy="25920"/>
                </a:xfrm>
                <a:custGeom>
                  <a:avLst/>
                  <a:gdLst/>
                  <a:ahLst/>
                  <a:rect l="0" t="0" r="r" b="b"/>
                  <a:pathLst>
                    <a:path w="310" h="72">
                      <a:moveTo>
                        <a:pt x="306" y="7"/>
                      </a:moveTo>
                      <a:lnTo>
                        <a:pt x="301" y="7"/>
                      </a:lnTo>
                      <a:lnTo>
                        <a:pt x="306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1" y="15"/>
                      </a:lnTo>
                      <a:lnTo>
                        <a:pt x="297" y="15"/>
                      </a:lnTo>
                      <a:lnTo>
                        <a:pt x="293" y="24"/>
                      </a:lnTo>
                      <a:lnTo>
                        <a:pt x="284" y="24"/>
                      </a:lnTo>
                      <a:lnTo>
                        <a:pt x="279" y="24"/>
                      </a:lnTo>
                      <a:lnTo>
                        <a:pt x="270" y="32"/>
                      </a:lnTo>
                      <a:lnTo>
                        <a:pt x="262" y="32"/>
                      </a:lnTo>
                      <a:lnTo>
                        <a:pt x="253" y="40"/>
                      </a:lnTo>
                      <a:lnTo>
                        <a:pt x="244" y="40"/>
                      </a:lnTo>
                      <a:lnTo>
                        <a:pt x="235" y="40"/>
                      </a:lnTo>
                      <a:lnTo>
                        <a:pt x="221" y="48"/>
                      </a:lnTo>
                      <a:lnTo>
                        <a:pt x="212" y="48"/>
                      </a:lnTo>
                      <a:lnTo>
                        <a:pt x="199" y="48"/>
                      </a:lnTo>
                      <a:lnTo>
                        <a:pt x="186" y="48"/>
                      </a:lnTo>
                      <a:lnTo>
                        <a:pt x="172" y="48"/>
                      </a:lnTo>
                      <a:lnTo>
                        <a:pt x="159" y="56"/>
                      </a:lnTo>
                      <a:lnTo>
                        <a:pt x="146" y="56"/>
                      </a:lnTo>
                      <a:lnTo>
                        <a:pt x="133" y="56"/>
                      </a:lnTo>
                      <a:lnTo>
                        <a:pt x="124" y="56"/>
                      </a:lnTo>
                      <a:lnTo>
                        <a:pt x="111" y="56"/>
                      </a:lnTo>
                      <a:lnTo>
                        <a:pt x="93" y="56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7" y="64"/>
                      </a:lnTo>
                      <a:lnTo>
                        <a:pt x="44" y="64"/>
                      </a:lnTo>
                      <a:lnTo>
                        <a:pt x="30" y="64"/>
                      </a:lnTo>
                      <a:lnTo>
                        <a:pt x="22" y="64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44" y="72"/>
                      </a:lnTo>
                      <a:lnTo>
                        <a:pt x="57" y="72"/>
                      </a:lnTo>
                      <a:lnTo>
                        <a:pt x="70" y="72"/>
                      </a:lnTo>
                      <a:lnTo>
                        <a:pt x="84" y="64"/>
                      </a:lnTo>
                      <a:lnTo>
                        <a:pt x="93" y="64"/>
                      </a:lnTo>
                      <a:lnTo>
                        <a:pt x="111" y="64"/>
                      </a:lnTo>
                      <a:lnTo>
                        <a:pt x="124" y="64"/>
                      </a:lnTo>
                      <a:lnTo>
                        <a:pt x="133" y="64"/>
                      </a:lnTo>
                      <a:lnTo>
                        <a:pt x="146" y="64"/>
                      </a:lnTo>
                      <a:lnTo>
                        <a:pt x="164" y="64"/>
                      </a:lnTo>
                      <a:lnTo>
                        <a:pt x="172" y="56"/>
                      </a:lnTo>
                      <a:lnTo>
                        <a:pt x="186" y="56"/>
                      </a:lnTo>
                      <a:lnTo>
                        <a:pt x="199" y="56"/>
                      </a:lnTo>
                      <a:lnTo>
                        <a:pt x="212" y="56"/>
                      </a:lnTo>
                      <a:lnTo>
                        <a:pt x="221" y="48"/>
                      </a:lnTo>
                      <a:lnTo>
                        <a:pt x="235" y="48"/>
                      </a:lnTo>
                      <a:lnTo>
                        <a:pt x="244" y="48"/>
                      </a:lnTo>
                      <a:lnTo>
                        <a:pt x="253" y="40"/>
                      </a:lnTo>
                      <a:lnTo>
                        <a:pt x="266" y="40"/>
                      </a:lnTo>
                      <a:lnTo>
                        <a:pt x="275" y="40"/>
                      </a:lnTo>
                      <a:lnTo>
                        <a:pt x="279" y="32"/>
                      </a:lnTo>
                      <a:lnTo>
                        <a:pt x="288" y="32"/>
                      </a:lnTo>
                      <a:lnTo>
                        <a:pt x="293" y="24"/>
                      </a:lnTo>
                      <a:lnTo>
                        <a:pt x="301" y="24"/>
                      </a:lnTo>
                      <a:lnTo>
                        <a:pt x="301" y="24"/>
                      </a:lnTo>
                      <a:lnTo>
                        <a:pt x="306" y="15"/>
                      </a:lnTo>
                      <a:lnTo>
                        <a:pt x="310" y="15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1" y="7"/>
                      </a:lnTo>
                      <a:lnTo>
                        <a:pt x="30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47984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4" y="5"/>
                      </a:moveTo>
                      <a:lnTo>
                        <a:pt x="0" y="5"/>
                      </a:lnTo>
                      <a:lnTo>
                        <a:pt x="58" y="72"/>
                      </a:lnTo>
                      <a:lnTo>
                        <a:pt x="72" y="6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378320" y="564372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44" y="72"/>
                      </a:lnTo>
                      <a:lnTo>
                        <a:pt x="52" y="72"/>
                      </a:lnTo>
                      <a:lnTo>
                        <a:pt x="61" y="72"/>
                      </a:lnTo>
                      <a:lnTo>
                        <a:pt x="70" y="72"/>
                      </a:lnTo>
                      <a:lnTo>
                        <a:pt x="79" y="72"/>
                      </a:lnTo>
                      <a:lnTo>
                        <a:pt x="88" y="72"/>
                      </a:lnTo>
                      <a:lnTo>
                        <a:pt x="97" y="72"/>
                      </a:lnTo>
                      <a:lnTo>
                        <a:pt x="105" y="72"/>
                      </a:lnTo>
                      <a:lnTo>
                        <a:pt x="110" y="58"/>
                      </a:lnTo>
                      <a:lnTo>
                        <a:pt x="119" y="58"/>
                      </a:lnTo>
                      <a:lnTo>
                        <a:pt x="133" y="58"/>
                      </a:lnTo>
                      <a:lnTo>
                        <a:pt x="137" y="58"/>
                      </a:lnTo>
                      <a:lnTo>
                        <a:pt x="146" y="58"/>
                      </a:lnTo>
                      <a:lnTo>
                        <a:pt x="155" y="58"/>
                      </a:lnTo>
                      <a:lnTo>
                        <a:pt x="164" y="58"/>
                      </a:lnTo>
                      <a:lnTo>
                        <a:pt x="168" y="58"/>
                      </a:lnTo>
                      <a:lnTo>
                        <a:pt x="177" y="58"/>
                      </a:lnTo>
                      <a:lnTo>
                        <a:pt x="186" y="43"/>
                      </a:lnTo>
                      <a:lnTo>
                        <a:pt x="195" y="43"/>
                      </a:lnTo>
                      <a:lnTo>
                        <a:pt x="203" y="43"/>
                      </a:lnTo>
                      <a:lnTo>
                        <a:pt x="212" y="43"/>
                      </a:lnTo>
                      <a:lnTo>
                        <a:pt x="217" y="43"/>
                      </a:lnTo>
                      <a:lnTo>
                        <a:pt x="225" y="29"/>
                      </a:lnTo>
                      <a:lnTo>
                        <a:pt x="230" y="29"/>
                      </a:lnTo>
                      <a:lnTo>
                        <a:pt x="239" y="29"/>
                      </a:lnTo>
                      <a:lnTo>
                        <a:pt x="247" y="14"/>
                      </a:lnTo>
                      <a:lnTo>
                        <a:pt x="252" y="14"/>
                      </a:lnTo>
                      <a:lnTo>
                        <a:pt x="261" y="14"/>
                      </a:lnTo>
                      <a:lnTo>
                        <a:pt x="256" y="0"/>
                      </a:lnTo>
                      <a:lnTo>
                        <a:pt x="252" y="0"/>
                      </a:lnTo>
                      <a:lnTo>
                        <a:pt x="243" y="14"/>
                      </a:lnTo>
                      <a:lnTo>
                        <a:pt x="239" y="14"/>
                      </a:lnTo>
                      <a:lnTo>
                        <a:pt x="230" y="14"/>
                      </a:lnTo>
                      <a:lnTo>
                        <a:pt x="221" y="29"/>
                      </a:lnTo>
                      <a:lnTo>
                        <a:pt x="217" y="29"/>
                      </a:lnTo>
                      <a:lnTo>
                        <a:pt x="208" y="29"/>
                      </a:lnTo>
                      <a:lnTo>
                        <a:pt x="203" y="29"/>
                      </a:lnTo>
                      <a:lnTo>
                        <a:pt x="190" y="43"/>
                      </a:lnTo>
                      <a:lnTo>
                        <a:pt x="186" y="43"/>
                      </a:lnTo>
                      <a:lnTo>
                        <a:pt x="177" y="43"/>
                      </a:lnTo>
                      <a:lnTo>
                        <a:pt x="168" y="43"/>
                      </a:lnTo>
                      <a:lnTo>
                        <a:pt x="159" y="43"/>
                      </a:lnTo>
                      <a:lnTo>
                        <a:pt x="155" y="43"/>
                      </a:lnTo>
                      <a:lnTo>
                        <a:pt x="146" y="43"/>
                      </a:lnTo>
                      <a:lnTo>
                        <a:pt x="137" y="58"/>
                      </a:lnTo>
                      <a:lnTo>
                        <a:pt x="127" y="58"/>
                      </a:lnTo>
                      <a:lnTo>
                        <a:pt x="119" y="58"/>
                      </a:lnTo>
                      <a:lnTo>
                        <a:pt x="110" y="58"/>
                      </a:lnTo>
                      <a:lnTo>
                        <a:pt x="101" y="58"/>
                      </a:lnTo>
                      <a:lnTo>
                        <a:pt x="97" y="58"/>
                      </a:lnTo>
                      <a:lnTo>
                        <a:pt x="88" y="58"/>
                      </a:lnTo>
                      <a:lnTo>
                        <a:pt x="79" y="58"/>
                      </a:lnTo>
                      <a:lnTo>
                        <a:pt x="70" y="58"/>
                      </a:lnTo>
                      <a:lnTo>
                        <a:pt x="61" y="58"/>
                      </a:lnTo>
                      <a:lnTo>
                        <a:pt x="52" y="58"/>
                      </a:lnTo>
                      <a:lnTo>
                        <a:pt x="44" y="58"/>
                      </a:lnTo>
                      <a:lnTo>
                        <a:pt x="35" y="58"/>
                      </a:lnTo>
                      <a:lnTo>
                        <a:pt x="30" y="58"/>
                      </a:lnTo>
                      <a:lnTo>
                        <a:pt x="22" y="58"/>
                      </a:lnTo>
                      <a:lnTo>
                        <a:pt x="13" y="58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275000" y="5640480"/>
                  <a:ext cx="97200" cy="25920"/>
                </a:xfrm>
                <a:custGeom>
                  <a:avLst/>
                  <a:gdLst/>
                  <a:ahLst/>
                  <a:rect l="0" t="0" r="r" b="b"/>
                  <a:pathLst>
                    <a:path w="270" h="72">
                      <a:moveTo>
                        <a:pt x="8" y="1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8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2" y="41"/>
                      </a:lnTo>
                      <a:lnTo>
                        <a:pt x="30" y="41"/>
                      </a:lnTo>
                      <a:lnTo>
                        <a:pt x="35" y="41"/>
                      </a:lnTo>
                      <a:lnTo>
                        <a:pt x="44" y="51"/>
                      </a:lnTo>
                      <a:lnTo>
                        <a:pt x="52" y="51"/>
                      </a:lnTo>
                      <a:lnTo>
                        <a:pt x="61" y="51"/>
                      </a:lnTo>
                      <a:lnTo>
                        <a:pt x="71" y="51"/>
                      </a:lnTo>
                      <a:lnTo>
                        <a:pt x="84" y="51"/>
                      </a:lnTo>
                      <a:lnTo>
                        <a:pt x="93" y="62"/>
                      </a:lnTo>
                      <a:lnTo>
                        <a:pt x="102" y="62"/>
                      </a:lnTo>
                      <a:lnTo>
                        <a:pt x="115" y="62"/>
                      </a:lnTo>
                      <a:lnTo>
                        <a:pt x="124" y="62"/>
                      </a:lnTo>
                      <a:lnTo>
                        <a:pt x="137" y="62"/>
                      </a:lnTo>
                      <a:lnTo>
                        <a:pt x="150" y="62"/>
                      </a:lnTo>
                      <a:lnTo>
                        <a:pt x="164" y="62"/>
                      </a:lnTo>
                      <a:lnTo>
                        <a:pt x="172" y="72"/>
                      </a:lnTo>
                      <a:lnTo>
                        <a:pt x="186" y="72"/>
                      </a:lnTo>
                      <a:lnTo>
                        <a:pt x="195" y="72"/>
                      </a:lnTo>
                      <a:lnTo>
                        <a:pt x="209" y="72"/>
                      </a:lnTo>
                      <a:lnTo>
                        <a:pt x="222" y="72"/>
                      </a:lnTo>
                      <a:lnTo>
                        <a:pt x="231" y="72"/>
                      </a:lnTo>
                      <a:lnTo>
                        <a:pt x="240" y="72"/>
                      </a:lnTo>
                      <a:lnTo>
                        <a:pt x="253" y="72"/>
                      </a:lnTo>
                      <a:lnTo>
                        <a:pt x="262" y="72"/>
                      </a:lnTo>
                      <a:lnTo>
                        <a:pt x="270" y="72"/>
                      </a:lnTo>
                      <a:lnTo>
                        <a:pt x="270" y="62"/>
                      </a:lnTo>
                      <a:lnTo>
                        <a:pt x="262" y="62"/>
                      </a:lnTo>
                      <a:lnTo>
                        <a:pt x="253" y="62"/>
                      </a:lnTo>
                      <a:lnTo>
                        <a:pt x="240" y="62"/>
                      </a:lnTo>
                      <a:lnTo>
                        <a:pt x="231" y="62"/>
                      </a:lnTo>
                      <a:lnTo>
                        <a:pt x="222" y="62"/>
                      </a:lnTo>
                      <a:lnTo>
                        <a:pt x="209" y="62"/>
                      </a:lnTo>
                      <a:lnTo>
                        <a:pt x="195" y="62"/>
                      </a:lnTo>
                      <a:lnTo>
                        <a:pt x="186" y="62"/>
                      </a:lnTo>
                      <a:lnTo>
                        <a:pt x="172" y="62"/>
                      </a:lnTo>
                      <a:lnTo>
                        <a:pt x="164" y="51"/>
                      </a:lnTo>
                      <a:lnTo>
                        <a:pt x="150" y="51"/>
                      </a:lnTo>
                      <a:lnTo>
                        <a:pt x="137" y="51"/>
                      </a:lnTo>
                      <a:lnTo>
                        <a:pt x="124" y="51"/>
                      </a:lnTo>
                      <a:lnTo>
                        <a:pt x="115" y="51"/>
                      </a:lnTo>
                      <a:lnTo>
                        <a:pt x="106" y="51"/>
                      </a:lnTo>
                      <a:lnTo>
                        <a:pt x="93" y="51"/>
                      </a:lnTo>
                      <a:lnTo>
                        <a:pt x="84" y="51"/>
                      </a:lnTo>
                      <a:lnTo>
                        <a:pt x="75" y="51"/>
                      </a:lnTo>
                      <a:lnTo>
                        <a:pt x="61" y="41"/>
                      </a:lnTo>
                      <a:lnTo>
                        <a:pt x="52" y="41"/>
                      </a:lnTo>
                      <a:lnTo>
                        <a:pt x="44" y="41"/>
                      </a:lnTo>
                      <a:lnTo>
                        <a:pt x="39" y="41"/>
                      </a:lnTo>
                      <a:lnTo>
                        <a:pt x="30" y="31"/>
                      </a:lnTo>
                      <a:lnTo>
                        <a:pt x="26" y="31"/>
                      </a:lnTo>
                      <a:lnTo>
                        <a:pt x="17" y="31"/>
                      </a:lnTo>
                      <a:lnTo>
                        <a:pt x="17" y="21"/>
                      </a:lnTo>
                      <a:lnTo>
                        <a:pt x="13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4" y="0"/>
                      </a:lnTo>
                      <a:lnTo>
                        <a:pt x="8" y="1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27680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4" y="0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99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71" y="43"/>
                      </a:lnTo>
                      <a:lnTo>
                        <a:pt x="62" y="43"/>
                      </a:lnTo>
                      <a:lnTo>
                        <a:pt x="58" y="43"/>
                      </a:lnTo>
                      <a:lnTo>
                        <a:pt x="49" y="29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26" y="14"/>
                      </a:lnTo>
                      <a:lnTo>
                        <a:pt x="17" y="14"/>
                      </a:lnTo>
                      <a:lnTo>
                        <a:pt x="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27680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129" y="72"/>
                      </a:move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67" y="58"/>
                      </a:lnTo>
                      <a:lnTo>
                        <a:pt x="53" y="58"/>
                      </a:lnTo>
                      <a:lnTo>
                        <a:pt x="45" y="58"/>
                      </a:lnTo>
                      <a:lnTo>
                        <a:pt x="30" y="43"/>
                      </a:lnTo>
                      <a:lnTo>
                        <a:pt x="22" y="43"/>
                      </a:lnTo>
                      <a:lnTo>
                        <a:pt x="13" y="43"/>
                      </a:lnTo>
                      <a:lnTo>
                        <a:pt x="8" y="29"/>
                      </a:lnTo>
                      <a:lnTo>
                        <a:pt x="4" y="29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278240" y="5640480"/>
                  <a:ext cx="44640" cy="25920"/>
                </a:xfrm>
                <a:custGeom>
                  <a:avLst/>
                  <a:gdLst/>
                  <a:ahLst/>
                  <a:rect l="0" t="0" r="r" b="b"/>
                  <a:pathLst>
                    <a:path w="124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13" y="14"/>
                      </a:lnTo>
                      <a:lnTo>
                        <a:pt x="22" y="14"/>
                      </a:lnTo>
                      <a:lnTo>
                        <a:pt x="30" y="29"/>
                      </a:lnTo>
                      <a:lnTo>
                        <a:pt x="35" y="29"/>
                      </a:lnTo>
                      <a:lnTo>
                        <a:pt x="44" y="29"/>
                      </a:lnTo>
                      <a:lnTo>
                        <a:pt x="52" y="43"/>
                      </a:lnTo>
                      <a:lnTo>
                        <a:pt x="57" y="43"/>
                      </a:lnTo>
                      <a:lnTo>
                        <a:pt x="67" y="43"/>
                      </a:lnTo>
                      <a:lnTo>
                        <a:pt x="75" y="58"/>
                      </a:lnTo>
                      <a:lnTo>
                        <a:pt x="84" y="58"/>
                      </a:lnTo>
                      <a:lnTo>
                        <a:pt x="93" y="58"/>
                      </a:lnTo>
                      <a:lnTo>
                        <a:pt x="98" y="58"/>
                      </a:lnTo>
                      <a:lnTo>
                        <a:pt x="106" y="72"/>
                      </a:lnTo>
                      <a:lnTo>
                        <a:pt x="115" y="72"/>
                      </a:lnTo>
                      <a:lnTo>
                        <a:pt x="124" y="72"/>
                      </a:lnTo>
                      <a:lnTo>
                        <a:pt x="115" y="72"/>
                      </a:lnTo>
                      <a:lnTo>
                        <a:pt x="106" y="58"/>
                      </a:lnTo>
                      <a:lnTo>
                        <a:pt x="98" y="58"/>
                      </a:lnTo>
                      <a:lnTo>
                        <a:pt x="93" y="58"/>
                      </a:lnTo>
                      <a:lnTo>
                        <a:pt x="84" y="58"/>
                      </a:lnTo>
                      <a:lnTo>
                        <a:pt x="75" y="58"/>
                      </a:lnTo>
                      <a:lnTo>
                        <a:pt x="67" y="43"/>
                      </a:lnTo>
                      <a:lnTo>
                        <a:pt x="57" y="43"/>
                      </a:lnTo>
                      <a:lnTo>
                        <a:pt x="52" y="43"/>
                      </a:lnTo>
                      <a:lnTo>
                        <a:pt x="44" y="29"/>
                      </a:lnTo>
                      <a:lnTo>
                        <a:pt x="35" y="29"/>
                      </a:lnTo>
                      <a:lnTo>
                        <a:pt x="30" y="29"/>
                      </a:lnTo>
                      <a:lnTo>
                        <a:pt x="22" y="14"/>
                      </a:lnTo>
                      <a:lnTo>
                        <a:pt x="13" y="14"/>
                      </a:lnTo>
                      <a:lnTo>
                        <a:pt x="4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68720" y="5618160"/>
                <a:ext cx="836640" cy="4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14" name=""/>
          <p:cNvGrpSpPr/>
          <p:nvPr/>
        </p:nvGrpSpPr>
        <p:grpSpPr>
          <a:xfrm>
            <a:off x="5016600" y="4657680"/>
            <a:ext cx="1057320" cy="1363680"/>
            <a:chOff x="5016600" y="4657680"/>
            <a:chExt cx="1057320" cy="1363680"/>
          </a:xfrm>
        </p:grpSpPr>
        <p:sp>
          <p:nvSpPr>
            <p:cNvPr id="615" name=""/>
            <p:cNvSpPr/>
            <p:nvPr/>
          </p:nvSpPr>
          <p:spPr>
            <a:xfrm>
              <a:off x="5562720" y="4657680"/>
              <a:ext cx="0" cy="420840"/>
            </a:xfrm>
            <a:prstGeom prst="line">
              <a:avLst/>
            </a:prstGeom>
            <a:ln w="2556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016600" y="5065560"/>
              <a:ext cx="1057320" cy="955800"/>
              <a:chOff x="5016600" y="5065560"/>
              <a:chExt cx="1057320" cy="95580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5016600" y="5657760"/>
                <a:ext cx="329040" cy="167400"/>
                <a:chOff x="5016600" y="5657760"/>
                <a:chExt cx="329040" cy="1674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221440" y="5665680"/>
                  <a:ext cx="98640" cy="25920"/>
                </a:xfrm>
                <a:custGeom>
                  <a:avLst/>
                  <a:gdLst/>
                  <a:ahLst/>
                  <a:rect l="0" t="0" r="r" b="b"/>
                  <a:pathLst>
                    <a:path w="274" h="72">
                      <a:moveTo>
                        <a:pt x="265" y="0"/>
                      </a:moveTo>
                      <a:lnTo>
                        <a:pt x="256" y="4"/>
                      </a:lnTo>
                      <a:lnTo>
                        <a:pt x="252" y="8"/>
                      </a:lnTo>
                      <a:lnTo>
                        <a:pt x="243" y="13"/>
                      </a:lnTo>
                      <a:lnTo>
                        <a:pt x="234" y="17"/>
                      </a:lnTo>
                      <a:lnTo>
                        <a:pt x="230" y="23"/>
                      </a:lnTo>
                      <a:lnTo>
                        <a:pt x="221" y="23"/>
                      </a:lnTo>
                      <a:lnTo>
                        <a:pt x="212" y="23"/>
                      </a:lnTo>
                      <a:lnTo>
                        <a:pt x="203" y="27"/>
                      </a:lnTo>
                      <a:lnTo>
                        <a:pt x="195" y="27"/>
                      </a:lnTo>
                      <a:lnTo>
                        <a:pt x="186" y="27"/>
                      </a:lnTo>
                      <a:lnTo>
                        <a:pt x="177" y="27"/>
                      </a:lnTo>
                      <a:lnTo>
                        <a:pt x="168" y="31"/>
                      </a:lnTo>
                      <a:lnTo>
                        <a:pt x="159" y="31"/>
                      </a:lnTo>
                      <a:lnTo>
                        <a:pt x="150" y="31"/>
                      </a:lnTo>
                      <a:lnTo>
                        <a:pt x="142" y="31"/>
                      </a:lnTo>
                      <a:lnTo>
                        <a:pt x="132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31"/>
                      </a:lnTo>
                      <a:lnTo>
                        <a:pt x="88" y="36"/>
                      </a:lnTo>
                      <a:lnTo>
                        <a:pt x="79" y="36"/>
                      </a:lnTo>
                      <a:lnTo>
                        <a:pt x="70" y="36"/>
                      </a:lnTo>
                      <a:lnTo>
                        <a:pt x="61" y="36"/>
                      </a:lnTo>
                      <a:lnTo>
                        <a:pt x="52" y="40"/>
                      </a:lnTo>
                      <a:lnTo>
                        <a:pt x="44" y="40"/>
                      </a:lnTo>
                      <a:lnTo>
                        <a:pt x="39" y="45"/>
                      </a:lnTo>
                      <a:lnTo>
                        <a:pt x="30" y="45"/>
                      </a:lnTo>
                      <a:lnTo>
                        <a:pt x="22" y="49"/>
                      </a:lnTo>
                      <a:lnTo>
                        <a:pt x="13" y="53"/>
                      </a:lnTo>
                      <a:lnTo>
                        <a:pt x="8" y="59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4" y="6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8" y="72"/>
                      </a:lnTo>
                      <a:lnTo>
                        <a:pt x="8" y="72"/>
                      </a:lnTo>
                      <a:lnTo>
                        <a:pt x="17" y="68"/>
                      </a:lnTo>
                      <a:lnTo>
                        <a:pt x="22" y="63"/>
                      </a:lnTo>
                      <a:lnTo>
                        <a:pt x="30" y="59"/>
                      </a:lnTo>
                      <a:lnTo>
                        <a:pt x="39" y="53"/>
                      </a:lnTo>
                      <a:lnTo>
                        <a:pt x="48" y="53"/>
                      </a:lnTo>
                      <a:lnTo>
                        <a:pt x="57" y="49"/>
                      </a:lnTo>
                      <a:lnTo>
                        <a:pt x="61" y="49"/>
                      </a:lnTo>
                      <a:lnTo>
                        <a:pt x="70" y="45"/>
                      </a:lnTo>
                      <a:lnTo>
                        <a:pt x="79" y="45"/>
                      </a:lnTo>
                      <a:lnTo>
                        <a:pt x="88" y="45"/>
                      </a:lnTo>
                      <a:lnTo>
                        <a:pt x="97" y="45"/>
                      </a:lnTo>
                      <a:lnTo>
                        <a:pt x="105" y="45"/>
                      </a:lnTo>
                      <a:lnTo>
                        <a:pt x="114" y="45"/>
                      </a:lnTo>
                      <a:lnTo>
                        <a:pt x="123" y="40"/>
                      </a:lnTo>
                      <a:lnTo>
                        <a:pt x="132" y="40"/>
                      </a:lnTo>
                      <a:lnTo>
                        <a:pt x="142" y="40"/>
                      </a:lnTo>
                      <a:lnTo>
                        <a:pt x="150" y="40"/>
                      </a:lnTo>
                      <a:lnTo>
                        <a:pt x="159" y="40"/>
                      </a:lnTo>
                      <a:lnTo>
                        <a:pt x="168" y="40"/>
                      </a:lnTo>
                      <a:lnTo>
                        <a:pt x="177" y="40"/>
                      </a:lnTo>
                      <a:lnTo>
                        <a:pt x="186" y="40"/>
                      </a:lnTo>
                      <a:lnTo>
                        <a:pt x="195" y="36"/>
                      </a:lnTo>
                      <a:lnTo>
                        <a:pt x="203" y="36"/>
                      </a:lnTo>
                      <a:lnTo>
                        <a:pt x="212" y="36"/>
                      </a:lnTo>
                      <a:lnTo>
                        <a:pt x="221" y="36"/>
                      </a:lnTo>
                      <a:lnTo>
                        <a:pt x="230" y="31"/>
                      </a:lnTo>
                      <a:lnTo>
                        <a:pt x="234" y="27"/>
                      </a:lnTo>
                      <a:lnTo>
                        <a:pt x="243" y="27"/>
                      </a:lnTo>
                      <a:lnTo>
                        <a:pt x="252" y="23"/>
                      </a:lnTo>
                      <a:lnTo>
                        <a:pt x="261" y="17"/>
                      </a:lnTo>
                      <a:lnTo>
                        <a:pt x="269" y="13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69" y="8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65" y="4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221440" y="566568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8" y="67"/>
                      </a:lnTo>
                      <a:lnTo>
                        <a:pt x="13" y="61"/>
                      </a:lnTo>
                      <a:lnTo>
                        <a:pt x="22" y="56"/>
                      </a:lnTo>
                      <a:lnTo>
                        <a:pt x="30" y="49"/>
                      </a:lnTo>
                      <a:lnTo>
                        <a:pt x="35" y="49"/>
                      </a:lnTo>
                      <a:lnTo>
                        <a:pt x="44" y="44"/>
                      </a:lnTo>
                      <a:lnTo>
                        <a:pt x="52" y="44"/>
                      </a:lnTo>
                      <a:lnTo>
                        <a:pt x="61" y="38"/>
                      </a:lnTo>
                      <a:lnTo>
                        <a:pt x="70" y="38"/>
                      </a:lnTo>
                      <a:lnTo>
                        <a:pt x="79" y="38"/>
                      </a:lnTo>
                      <a:lnTo>
                        <a:pt x="83" y="38"/>
                      </a:lnTo>
                      <a:lnTo>
                        <a:pt x="97" y="38"/>
                      </a:lnTo>
                      <a:lnTo>
                        <a:pt x="101" y="38"/>
                      </a:lnTo>
                      <a:lnTo>
                        <a:pt x="114" y="33"/>
                      </a:lnTo>
                      <a:lnTo>
                        <a:pt x="119" y="33"/>
                      </a:lnTo>
                      <a:lnTo>
                        <a:pt x="133" y="33"/>
                      </a:lnTo>
                      <a:lnTo>
                        <a:pt x="137" y="33"/>
                      </a:lnTo>
                      <a:lnTo>
                        <a:pt x="146" y="33"/>
                      </a:lnTo>
                      <a:lnTo>
                        <a:pt x="155" y="33"/>
                      </a:lnTo>
                      <a:lnTo>
                        <a:pt x="164" y="33"/>
                      </a:lnTo>
                      <a:lnTo>
                        <a:pt x="172" y="33"/>
                      </a:lnTo>
                      <a:lnTo>
                        <a:pt x="181" y="33"/>
                      </a:lnTo>
                      <a:lnTo>
                        <a:pt x="190" y="33"/>
                      </a:lnTo>
                      <a:lnTo>
                        <a:pt x="199" y="28"/>
                      </a:lnTo>
                      <a:lnTo>
                        <a:pt x="208" y="28"/>
                      </a:lnTo>
                      <a:lnTo>
                        <a:pt x="212" y="28"/>
                      </a:lnTo>
                      <a:lnTo>
                        <a:pt x="225" y="22"/>
                      </a:lnTo>
                      <a:lnTo>
                        <a:pt x="230" y="22"/>
                      </a:lnTo>
                      <a:lnTo>
                        <a:pt x="239" y="16"/>
                      </a:lnTo>
                      <a:lnTo>
                        <a:pt x="243" y="10"/>
                      </a:lnTo>
                      <a:lnTo>
                        <a:pt x="252" y="5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52" y="5"/>
                      </a:lnTo>
                      <a:lnTo>
                        <a:pt x="243" y="10"/>
                      </a:lnTo>
                      <a:lnTo>
                        <a:pt x="239" y="16"/>
                      </a:lnTo>
                      <a:lnTo>
                        <a:pt x="230" y="22"/>
                      </a:lnTo>
                      <a:lnTo>
                        <a:pt x="225" y="22"/>
                      </a:lnTo>
                      <a:lnTo>
                        <a:pt x="217" y="28"/>
                      </a:lnTo>
                      <a:lnTo>
                        <a:pt x="208" y="28"/>
                      </a:lnTo>
                      <a:lnTo>
                        <a:pt x="199" y="33"/>
                      </a:lnTo>
                      <a:lnTo>
                        <a:pt x="190" y="33"/>
                      </a:lnTo>
                      <a:lnTo>
                        <a:pt x="181" y="33"/>
                      </a:lnTo>
                      <a:lnTo>
                        <a:pt x="172" y="33"/>
                      </a:lnTo>
                      <a:lnTo>
                        <a:pt x="164" y="33"/>
                      </a:lnTo>
                      <a:lnTo>
                        <a:pt x="155" y="33"/>
                      </a:lnTo>
                      <a:lnTo>
                        <a:pt x="146" y="33"/>
                      </a:lnTo>
                      <a:lnTo>
                        <a:pt x="137" y="38"/>
                      </a:lnTo>
                      <a:lnTo>
                        <a:pt x="133" y="38"/>
                      </a:lnTo>
                      <a:lnTo>
                        <a:pt x="119" y="38"/>
                      </a:lnTo>
                      <a:lnTo>
                        <a:pt x="114" y="38"/>
                      </a:lnTo>
                      <a:lnTo>
                        <a:pt x="101" y="38"/>
                      </a:lnTo>
                      <a:lnTo>
                        <a:pt x="97" y="38"/>
                      </a:lnTo>
                      <a:lnTo>
                        <a:pt x="83" y="38"/>
                      </a:lnTo>
                      <a:lnTo>
                        <a:pt x="79" y="38"/>
                      </a:lnTo>
                      <a:lnTo>
                        <a:pt x="70" y="38"/>
                      </a:lnTo>
                      <a:lnTo>
                        <a:pt x="61" y="44"/>
                      </a:lnTo>
                      <a:lnTo>
                        <a:pt x="52" y="44"/>
                      </a:lnTo>
                      <a:lnTo>
                        <a:pt x="44" y="44"/>
                      </a:lnTo>
                      <a:lnTo>
                        <a:pt x="35" y="49"/>
                      </a:lnTo>
                      <a:lnTo>
                        <a:pt x="30" y="49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8" y="6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1640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48" y="72"/>
                      </a:lnTo>
                      <a:lnTo>
                        <a:pt x="48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36"/>
                      </a:lnTo>
                      <a:lnTo>
                        <a:pt x="48" y="36"/>
                      </a:lnTo>
                      <a:lnTo>
                        <a:pt x="48" y="36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24320" y="5672160"/>
                  <a:ext cx="95760" cy="25920"/>
                </a:xfrm>
                <a:custGeom>
                  <a:avLst/>
                  <a:gdLst/>
                  <a:ahLst/>
                  <a:rect l="0" t="0" r="r" b="b"/>
                  <a:pathLst>
                    <a:path w="266" h="72">
                      <a:moveTo>
                        <a:pt x="266" y="0"/>
                      </a:moveTo>
                      <a:lnTo>
                        <a:pt x="266" y="0"/>
                      </a:lnTo>
                      <a:lnTo>
                        <a:pt x="262" y="5"/>
                      </a:lnTo>
                      <a:lnTo>
                        <a:pt x="253" y="11"/>
                      </a:lnTo>
                      <a:lnTo>
                        <a:pt x="244" y="17"/>
                      </a:lnTo>
                      <a:lnTo>
                        <a:pt x="235" y="17"/>
                      </a:lnTo>
                      <a:lnTo>
                        <a:pt x="231" y="24"/>
                      </a:lnTo>
                      <a:lnTo>
                        <a:pt x="222" y="24"/>
                      </a:lnTo>
                      <a:lnTo>
                        <a:pt x="213" y="30"/>
                      </a:lnTo>
                      <a:lnTo>
                        <a:pt x="204" y="30"/>
                      </a:lnTo>
                      <a:lnTo>
                        <a:pt x="195" y="30"/>
                      </a:lnTo>
                      <a:lnTo>
                        <a:pt x="186" y="36"/>
                      </a:lnTo>
                      <a:lnTo>
                        <a:pt x="177" y="36"/>
                      </a:lnTo>
                      <a:lnTo>
                        <a:pt x="168" y="36"/>
                      </a:lnTo>
                      <a:lnTo>
                        <a:pt x="159" y="36"/>
                      </a:lnTo>
                      <a:lnTo>
                        <a:pt x="150" y="36"/>
                      </a:lnTo>
                      <a:lnTo>
                        <a:pt x="142" y="36"/>
                      </a:lnTo>
                      <a:lnTo>
                        <a:pt x="133" y="36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06" y="36"/>
                      </a:lnTo>
                      <a:lnTo>
                        <a:pt x="98" y="36"/>
                      </a:lnTo>
                      <a:lnTo>
                        <a:pt x="89" y="42"/>
                      </a:lnTo>
                      <a:lnTo>
                        <a:pt x="80" y="42"/>
                      </a:lnTo>
                      <a:lnTo>
                        <a:pt x="71" y="42"/>
                      </a:lnTo>
                      <a:lnTo>
                        <a:pt x="61" y="42"/>
                      </a:lnTo>
                      <a:lnTo>
                        <a:pt x="52" y="42"/>
                      </a:lnTo>
                      <a:lnTo>
                        <a:pt x="44" y="48"/>
                      </a:lnTo>
                      <a:lnTo>
                        <a:pt x="39" y="48"/>
                      </a:lnTo>
                      <a:lnTo>
                        <a:pt x="30" y="53"/>
                      </a:lnTo>
                      <a:lnTo>
                        <a:pt x="22" y="60"/>
                      </a:lnTo>
                      <a:lnTo>
                        <a:pt x="13" y="60"/>
                      </a:lnTo>
                      <a:lnTo>
                        <a:pt x="8" y="66"/>
                      </a:lnTo>
                      <a:lnTo>
                        <a:pt x="0" y="72"/>
                      </a:lnTo>
                      <a:lnTo>
                        <a:pt x="4" y="66"/>
                      </a:lnTo>
                      <a:lnTo>
                        <a:pt x="13" y="60"/>
                      </a:lnTo>
                      <a:lnTo>
                        <a:pt x="22" y="53"/>
                      </a:lnTo>
                      <a:lnTo>
                        <a:pt x="30" y="53"/>
                      </a:lnTo>
                      <a:lnTo>
                        <a:pt x="39" y="48"/>
                      </a:lnTo>
                      <a:lnTo>
                        <a:pt x="44" y="48"/>
                      </a:lnTo>
                      <a:lnTo>
                        <a:pt x="52" y="42"/>
                      </a:lnTo>
                      <a:lnTo>
                        <a:pt x="61" y="42"/>
                      </a:lnTo>
                      <a:lnTo>
                        <a:pt x="71" y="42"/>
                      </a:lnTo>
                      <a:lnTo>
                        <a:pt x="80" y="36"/>
                      </a:lnTo>
                      <a:lnTo>
                        <a:pt x="89" y="36"/>
                      </a:lnTo>
                      <a:lnTo>
                        <a:pt x="98" y="36"/>
                      </a:lnTo>
                      <a:lnTo>
                        <a:pt x="106" y="36"/>
                      </a:lnTo>
                      <a:lnTo>
                        <a:pt x="115" y="36"/>
                      </a:lnTo>
                      <a:lnTo>
                        <a:pt x="124" y="36"/>
                      </a:lnTo>
                      <a:lnTo>
                        <a:pt x="133" y="3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59" y="36"/>
                      </a:lnTo>
                      <a:lnTo>
                        <a:pt x="168" y="36"/>
                      </a:lnTo>
                      <a:lnTo>
                        <a:pt x="177" y="30"/>
                      </a:lnTo>
                      <a:lnTo>
                        <a:pt x="186" y="30"/>
                      </a:lnTo>
                      <a:lnTo>
                        <a:pt x="195" y="30"/>
                      </a:lnTo>
                      <a:lnTo>
                        <a:pt x="204" y="30"/>
                      </a:lnTo>
                      <a:lnTo>
                        <a:pt x="213" y="30"/>
                      </a:lnTo>
                      <a:lnTo>
                        <a:pt x="222" y="24"/>
                      </a:lnTo>
                      <a:lnTo>
                        <a:pt x="226" y="24"/>
                      </a:lnTo>
                      <a:lnTo>
                        <a:pt x="235" y="17"/>
                      </a:lnTo>
                      <a:lnTo>
                        <a:pt x="244" y="11"/>
                      </a:lnTo>
                      <a:lnTo>
                        <a:pt x="253" y="11"/>
                      </a:lnTo>
                      <a:lnTo>
                        <a:pt x="257" y="5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1972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21280" y="5657760"/>
                  <a:ext cx="225720" cy="141480"/>
                </a:xfrm>
                <a:custGeom>
                  <a:avLst/>
                  <a:gdLst/>
                  <a:ahLst/>
                  <a:rect l="0" t="0" r="r" b="b"/>
                  <a:pathLst>
                    <a:path w="627" h="393">
                      <a:moveTo>
                        <a:pt x="622" y="189"/>
                      </a:moveTo>
                      <a:lnTo>
                        <a:pt x="224" y="389"/>
                      </a:lnTo>
                      <a:lnTo>
                        <a:pt x="224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16" y="393"/>
                      </a:lnTo>
                      <a:lnTo>
                        <a:pt x="216" y="393"/>
                      </a:lnTo>
                      <a:lnTo>
                        <a:pt x="211" y="393"/>
                      </a:lnTo>
                      <a:lnTo>
                        <a:pt x="211" y="393"/>
                      </a:lnTo>
                      <a:lnTo>
                        <a:pt x="207" y="393"/>
                      </a:lnTo>
                      <a:lnTo>
                        <a:pt x="207" y="393"/>
                      </a:lnTo>
                      <a:lnTo>
                        <a:pt x="202" y="393"/>
                      </a:lnTo>
                      <a:lnTo>
                        <a:pt x="202" y="393"/>
                      </a:lnTo>
                      <a:lnTo>
                        <a:pt x="198" y="393"/>
                      </a:lnTo>
                      <a:lnTo>
                        <a:pt x="198" y="389"/>
                      </a:lnTo>
                      <a:lnTo>
                        <a:pt x="4" y="217"/>
                      </a:lnTo>
                      <a:lnTo>
                        <a:pt x="0" y="203"/>
                      </a:lnTo>
                      <a:lnTo>
                        <a:pt x="13" y="132"/>
                      </a:lnTo>
                      <a:lnTo>
                        <a:pt x="44" y="97"/>
                      </a:lnTo>
                      <a:lnTo>
                        <a:pt x="233" y="22"/>
                      </a:lnTo>
                      <a:lnTo>
                        <a:pt x="238" y="22"/>
                      </a:lnTo>
                      <a:lnTo>
                        <a:pt x="242" y="22"/>
                      </a:lnTo>
                      <a:lnTo>
                        <a:pt x="251" y="22"/>
                      </a:lnTo>
                      <a:lnTo>
                        <a:pt x="251" y="22"/>
                      </a:lnTo>
                      <a:lnTo>
                        <a:pt x="260" y="22"/>
                      </a:lnTo>
                      <a:lnTo>
                        <a:pt x="264" y="22"/>
                      </a:lnTo>
                      <a:lnTo>
                        <a:pt x="268" y="22"/>
                      </a:lnTo>
                      <a:lnTo>
                        <a:pt x="277" y="22"/>
                      </a:lnTo>
                      <a:lnTo>
                        <a:pt x="282" y="22"/>
                      </a:lnTo>
                      <a:lnTo>
                        <a:pt x="286" y="22"/>
                      </a:lnTo>
                      <a:lnTo>
                        <a:pt x="291" y="17"/>
                      </a:lnTo>
                      <a:lnTo>
                        <a:pt x="299" y="17"/>
                      </a:lnTo>
                      <a:lnTo>
                        <a:pt x="304" y="17"/>
                      </a:lnTo>
                      <a:lnTo>
                        <a:pt x="308" y="17"/>
                      </a:lnTo>
                      <a:lnTo>
                        <a:pt x="314" y="17"/>
                      </a:lnTo>
                      <a:lnTo>
                        <a:pt x="318" y="13"/>
                      </a:lnTo>
                      <a:lnTo>
                        <a:pt x="327" y="13"/>
                      </a:lnTo>
                      <a:lnTo>
                        <a:pt x="331" y="13"/>
                      </a:lnTo>
                      <a:lnTo>
                        <a:pt x="336" y="13"/>
                      </a:lnTo>
                      <a:lnTo>
                        <a:pt x="344" y="13"/>
                      </a:lnTo>
                      <a:lnTo>
                        <a:pt x="349" y="8"/>
                      </a:lnTo>
                      <a:lnTo>
                        <a:pt x="353" y="8"/>
                      </a:lnTo>
                      <a:lnTo>
                        <a:pt x="358" y="8"/>
                      </a:lnTo>
                      <a:lnTo>
                        <a:pt x="362" y="8"/>
                      </a:lnTo>
                      <a:lnTo>
                        <a:pt x="371" y="4"/>
                      </a:lnTo>
                      <a:lnTo>
                        <a:pt x="375" y="4"/>
                      </a:lnTo>
                      <a:lnTo>
                        <a:pt x="380" y="4"/>
                      </a:lnTo>
                      <a:lnTo>
                        <a:pt x="384" y="4"/>
                      </a:lnTo>
                      <a:lnTo>
                        <a:pt x="389" y="0"/>
                      </a:lnTo>
                      <a:lnTo>
                        <a:pt x="397" y="0"/>
                      </a:lnTo>
                      <a:lnTo>
                        <a:pt x="402" y="0"/>
                      </a:lnTo>
                      <a:lnTo>
                        <a:pt x="406" y="0"/>
                      </a:lnTo>
                      <a:lnTo>
                        <a:pt x="600" y="132"/>
                      </a:lnTo>
                      <a:lnTo>
                        <a:pt x="622" y="154"/>
                      </a:lnTo>
                      <a:lnTo>
                        <a:pt x="627" y="176"/>
                      </a:lnTo>
                      <a:lnTo>
                        <a:pt x="622" y="189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10552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09580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02452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01660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1984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02776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03712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10840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17212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24664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24664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2466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021280" y="5726160"/>
                  <a:ext cx="225720" cy="73440"/>
                </a:xfrm>
                <a:custGeom>
                  <a:avLst/>
                  <a:gdLst/>
                  <a:ahLst/>
                  <a:rect l="0" t="0" r="r" b="b"/>
                  <a:pathLst>
                    <a:path w="627" h="204">
                      <a:moveTo>
                        <a:pt x="0" y="26"/>
                      </a:moveTo>
                      <a:lnTo>
                        <a:pt x="198" y="187"/>
                      </a:lnTo>
                      <a:lnTo>
                        <a:pt x="202" y="187"/>
                      </a:lnTo>
                      <a:lnTo>
                        <a:pt x="202" y="191"/>
                      </a:lnTo>
                      <a:lnTo>
                        <a:pt x="202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11" y="191"/>
                      </a:lnTo>
                      <a:lnTo>
                        <a:pt x="211" y="191"/>
                      </a:lnTo>
                      <a:lnTo>
                        <a:pt x="216" y="191"/>
                      </a:lnTo>
                      <a:lnTo>
                        <a:pt x="216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4" y="187"/>
                      </a:lnTo>
                      <a:lnTo>
                        <a:pt x="224" y="187"/>
                      </a:lnTo>
                      <a:lnTo>
                        <a:pt x="627" y="0"/>
                      </a:lnTo>
                      <a:lnTo>
                        <a:pt x="622" y="13"/>
                      </a:lnTo>
                      <a:lnTo>
                        <a:pt x="224" y="200"/>
                      </a:lnTo>
                      <a:lnTo>
                        <a:pt x="224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16" y="204"/>
                      </a:lnTo>
                      <a:lnTo>
                        <a:pt x="216" y="204"/>
                      </a:lnTo>
                      <a:lnTo>
                        <a:pt x="211" y="204"/>
                      </a:lnTo>
                      <a:lnTo>
                        <a:pt x="211" y="204"/>
                      </a:lnTo>
                      <a:lnTo>
                        <a:pt x="207" y="204"/>
                      </a:lnTo>
                      <a:lnTo>
                        <a:pt x="207" y="204"/>
                      </a:lnTo>
                      <a:lnTo>
                        <a:pt x="202" y="204"/>
                      </a:lnTo>
                      <a:lnTo>
                        <a:pt x="202" y="204"/>
                      </a:lnTo>
                      <a:lnTo>
                        <a:pt x="198" y="204"/>
                      </a:lnTo>
                      <a:lnTo>
                        <a:pt x="198" y="200"/>
                      </a:lnTo>
                      <a:lnTo>
                        <a:pt x="4" y="39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021280" y="5735520"/>
                  <a:ext cx="66960" cy="57600"/>
                </a:xfrm>
                <a:custGeom>
                  <a:avLst/>
                  <a:gdLst/>
                  <a:ahLst/>
                  <a:rect l="0" t="0" r="r" b="b"/>
                  <a:pathLst>
                    <a:path w="186" h="160">
                      <a:moveTo>
                        <a:pt x="186" y="160"/>
                      </a:moveTo>
                      <a:lnTo>
                        <a:pt x="186" y="160"/>
                      </a:lnTo>
                      <a:lnTo>
                        <a:pt x="0" y="0"/>
                      </a:lnTo>
                      <a:lnTo>
                        <a:pt x="18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095800" y="5794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6960" y="5726160"/>
                  <a:ext cx="140040" cy="66960"/>
                </a:xfrm>
                <a:custGeom>
                  <a:avLst/>
                  <a:gdLst/>
                  <a:ahLst/>
                  <a:rect l="0" t="0" r="r" b="b"/>
                  <a:pathLst>
                    <a:path w="389" h="186">
                      <a:moveTo>
                        <a:pt x="389" y="0"/>
                      </a:moveTo>
                      <a:lnTo>
                        <a:pt x="389" y="0"/>
                      </a:lnTo>
                      <a:lnTo>
                        <a:pt x="0" y="186"/>
                      </a:lnTo>
                      <a:lnTo>
                        <a:pt x="3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2466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10552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09580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024520" y="5742000"/>
                  <a:ext cx="62280" cy="57600"/>
                </a:xfrm>
                <a:custGeom>
                  <a:avLst/>
                  <a:gdLst/>
                  <a:ahLst/>
                  <a:rect l="0" t="0" r="r" b="b"/>
                  <a:pathLst>
                    <a:path w="173" h="16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0"/>
                      </a:lnTo>
                      <a:lnTo>
                        <a:pt x="173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1660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027760" y="5695920"/>
                  <a:ext cx="219600" cy="68760"/>
                </a:xfrm>
                <a:custGeom>
                  <a:avLst/>
                  <a:gdLst/>
                  <a:ahLst/>
                  <a:rect l="0" t="0" r="r" b="b"/>
                  <a:pathLst>
                    <a:path w="610" h="191">
                      <a:moveTo>
                        <a:pt x="610" y="53"/>
                      </a:moveTo>
                      <a:lnTo>
                        <a:pt x="217" y="191"/>
                      </a:lnTo>
                      <a:lnTo>
                        <a:pt x="212" y="191"/>
                      </a:lnTo>
                      <a:lnTo>
                        <a:pt x="212" y="191"/>
                      </a:lnTo>
                      <a:lnTo>
                        <a:pt x="208" y="191"/>
                      </a:lnTo>
                      <a:lnTo>
                        <a:pt x="208" y="191"/>
                      </a:lnTo>
                      <a:lnTo>
                        <a:pt x="203" y="191"/>
                      </a:lnTo>
                      <a:lnTo>
                        <a:pt x="203" y="191"/>
                      </a:lnTo>
                      <a:lnTo>
                        <a:pt x="199" y="191"/>
                      </a:lnTo>
                      <a:lnTo>
                        <a:pt x="0" y="30"/>
                      </a:lnTo>
                      <a:lnTo>
                        <a:pt x="30" y="0"/>
                      </a:lnTo>
                      <a:lnTo>
                        <a:pt x="221" y="142"/>
                      </a:lnTo>
                      <a:lnTo>
                        <a:pt x="411" y="67"/>
                      </a:lnTo>
                      <a:lnTo>
                        <a:pt x="415" y="67"/>
                      </a:lnTo>
                      <a:lnTo>
                        <a:pt x="419" y="67"/>
                      </a:lnTo>
                      <a:lnTo>
                        <a:pt x="428" y="67"/>
                      </a:lnTo>
                      <a:lnTo>
                        <a:pt x="433" y="62"/>
                      </a:lnTo>
                      <a:lnTo>
                        <a:pt x="441" y="62"/>
                      </a:lnTo>
                      <a:lnTo>
                        <a:pt x="446" y="62"/>
                      </a:lnTo>
                      <a:lnTo>
                        <a:pt x="450" y="62"/>
                      </a:lnTo>
                      <a:lnTo>
                        <a:pt x="455" y="62"/>
                      </a:lnTo>
                      <a:lnTo>
                        <a:pt x="460" y="62"/>
                      </a:lnTo>
                      <a:lnTo>
                        <a:pt x="469" y="62"/>
                      </a:lnTo>
                      <a:lnTo>
                        <a:pt x="473" y="58"/>
                      </a:lnTo>
                      <a:lnTo>
                        <a:pt x="478" y="58"/>
                      </a:lnTo>
                      <a:lnTo>
                        <a:pt x="482" y="58"/>
                      </a:lnTo>
                      <a:lnTo>
                        <a:pt x="491" y="53"/>
                      </a:lnTo>
                      <a:lnTo>
                        <a:pt x="495" y="53"/>
                      </a:lnTo>
                      <a:lnTo>
                        <a:pt x="500" y="53"/>
                      </a:lnTo>
                      <a:lnTo>
                        <a:pt x="509" y="49"/>
                      </a:lnTo>
                      <a:lnTo>
                        <a:pt x="513" y="49"/>
                      </a:lnTo>
                      <a:lnTo>
                        <a:pt x="517" y="49"/>
                      </a:lnTo>
                      <a:lnTo>
                        <a:pt x="522" y="49"/>
                      </a:lnTo>
                      <a:lnTo>
                        <a:pt x="531" y="49"/>
                      </a:lnTo>
                      <a:lnTo>
                        <a:pt x="535" y="44"/>
                      </a:lnTo>
                      <a:lnTo>
                        <a:pt x="539" y="44"/>
                      </a:lnTo>
                      <a:lnTo>
                        <a:pt x="544" y="44"/>
                      </a:lnTo>
                      <a:lnTo>
                        <a:pt x="548" y="39"/>
                      </a:lnTo>
                      <a:lnTo>
                        <a:pt x="557" y="39"/>
                      </a:lnTo>
                      <a:lnTo>
                        <a:pt x="562" y="39"/>
                      </a:lnTo>
                      <a:lnTo>
                        <a:pt x="566" y="39"/>
                      </a:lnTo>
                      <a:lnTo>
                        <a:pt x="575" y="35"/>
                      </a:lnTo>
                      <a:lnTo>
                        <a:pt x="579" y="35"/>
                      </a:lnTo>
                      <a:lnTo>
                        <a:pt x="584" y="35"/>
                      </a:lnTo>
                      <a:lnTo>
                        <a:pt x="588" y="30"/>
                      </a:lnTo>
                      <a:lnTo>
                        <a:pt x="610" y="5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37120" y="5657760"/>
                  <a:ext cx="200520" cy="87840"/>
                </a:xfrm>
                <a:custGeom>
                  <a:avLst/>
                  <a:gdLst/>
                  <a:ahLst/>
                  <a:rect l="0" t="0" r="r" b="b"/>
                  <a:pathLst>
                    <a:path w="557" h="244">
                      <a:moveTo>
                        <a:pt x="0" y="98"/>
                      </a:moveTo>
                      <a:lnTo>
                        <a:pt x="190" y="244"/>
                      </a:lnTo>
                      <a:lnTo>
                        <a:pt x="380" y="164"/>
                      </a:lnTo>
                      <a:lnTo>
                        <a:pt x="384" y="164"/>
                      </a:lnTo>
                      <a:lnTo>
                        <a:pt x="389" y="164"/>
                      </a:lnTo>
                      <a:lnTo>
                        <a:pt x="397" y="164"/>
                      </a:lnTo>
                      <a:lnTo>
                        <a:pt x="402" y="164"/>
                      </a:lnTo>
                      <a:lnTo>
                        <a:pt x="406" y="164"/>
                      </a:lnTo>
                      <a:lnTo>
                        <a:pt x="411" y="164"/>
                      </a:lnTo>
                      <a:lnTo>
                        <a:pt x="420" y="159"/>
                      </a:lnTo>
                      <a:lnTo>
                        <a:pt x="425" y="159"/>
                      </a:lnTo>
                      <a:lnTo>
                        <a:pt x="429" y="159"/>
                      </a:lnTo>
                      <a:lnTo>
                        <a:pt x="438" y="159"/>
                      </a:lnTo>
                      <a:lnTo>
                        <a:pt x="442" y="155"/>
                      </a:lnTo>
                      <a:lnTo>
                        <a:pt x="447" y="155"/>
                      </a:lnTo>
                      <a:lnTo>
                        <a:pt x="451" y="155"/>
                      </a:lnTo>
                      <a:lnTo>
                        <a:pt x="460" y="155"/>
                      </a:lnTo>
                      <a:lnTo>
                        <a:pt x="465" y="150"/>
                      </a:lnTo>
                      <a:lnTo>
                        <a:pt x="469" y="150"/>
                      </a:lnTo>
                      <a:lnTo>
                        <a:pt x="473" y="150"/>
                      </a:lnTo>
                      <a:lnTo>
                        <a:pt x="482" y="146"/>
                      </a:lnTo>
                      <a:lnTo>
                        <a:pt x="487" y="146"/>
                      </a:lnTo>
                      <a:lnTo>
                        <a:pt x="491" y="146"/>
                      </a:lnTo>
                      <a:lnTo>
                        <a:pt x="500" y="146"/>
                      </a:lnTo>
                      <a:lnTo>
                        <a:pt x="504" y="142"/>
                      </a:lnTo>
                      <a:lnTo>
                        <a:pt x="509" y="142"/>
                      </a:lnTo>
                      <a:lnTo>
                        <a:pt x="513" y="142"/>
                      </a:lnTo>
                      <a:lnTo>
                        <a:pt x="522" y="137"/>
                      </a:lnTo>
                      <a:lnTo>
                        <a:pt x="526" y="137"/>
                      </a:lnTo>
                      <a:lnTo>
                        <a:pt x="531" y="137"/>
                      </a:lnTo>
                      <a:lnTo>
                        <a:pt x="535" y="133"/>
                      </a:lnTo>
                      <a:lnTo>
                        <a:pt x="539" y="133"/>
                      </a:lnTo>
                      <a:lnTo>
                        <a:pt x="548" y="128"/>
                      </a:lnTo>
                      <a:lnTo>
                        <a:pt x="553" y="128"/>
                      </a:lnTo>
                      <a:lnTo>
                        <a:pt x="557" y="128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3" y="0"/>
                      </a:lnTo>
                      <a:lnTo>
                        <a:pt x="344" y="0"/>
                      </a:lnTo>
                      <a:lnTo>
                        <a:pt x="340" y="4"/>
                      </a:lnTo>
                      <a:lnTo>
                        <a:pt x="336" y="4"/>
                      </a:lnTo>
                      <a:lnTo>
                        <a:pt x="327" y="4"/>
                      </a:lnTo>
                      <a:lnTo>
                        <a:pt x="322" y="4"/>
                      </a:lnTo>
                      <a:lnTo>
                        <a:pt x="318" y="8"/>
                      </a:lnTo>
                      <a:lnTo>
                        <a:pt x="314" y="8"/>
                      </a:lnTo>
                      <a:lnTo>
                        <a:pt x="309" y="8"/>
                      </a:lnTo>
                      <a:lnTo>
                        <a:pt x="300" y="8"/>
                      </a:lnTo>
                      <a:lnTo>
                        <a:pt x="296" y="13"/>
                      </a:lnTo>
                      <a:lnTo>
                        <a:pt x="292" y="13"/>
                      </a:lnTo>
                      <a:lnTo>
                        <a:pt x="287" y="13"/>
                      </a:lnTo>
                      <a:lnTo>
                        <a:pt x="283" y="13"/>
                      </a:lnTo>
                      <a:lnTo>
                        <a:pt x="274" y="13"/>
                      </a:lnTo>
                      <a:lnTo>
                        <a:pt x="269" y="17"/>
                      </a:lnTo>
                      <a:lnTo>
                        <a:pt x="265" y="17"/>
                      </a:lnTo>
                      <a:lnTo>
                        <a:pt x="261" y="17"/>
                      </a:lnTo>
                      <a:lnTo>
                        <a:pt x="256" y="17"/>
                      </a:lnTo>
                      <a:lnTo>
                        <a:pt x="247" y="17"/>
                      </a:lnTo>
                      <a:lnTo>
                        <a:pt x="243" y="17"/>
                      </a:lnTo>
                      <a:lnTo>
                        <a:pt x="239" y="17"/>
                      </a:lnTo>
                      <a:lnTo>
                        <a:pt x="234" y="17"/>
                      </a:lnTo>
                      <a:lnTo>
                        <a:pt x="230" y="22"/>
                      </a:lnTo>
                      <a:lnTo>
                        <a:pt x="221" y="22"/>
                      </a:lnTo>
                      <a:lnTo>
                        <a:pt x="217" y="22"/>
                      </a:lnTo>
                      <a:lnTo>
                        <a:pt x="212" y="22"/>
                      </a:lnTo>
                      <a:lnTo>
                        <a:pt x="203" y="22"/>
                      </a:lnTo>
                      <a:lnTo>
                        <a:pt x="199" y="22"/>
                      </a:lnTo>
                      <a:lnTo>
                        <a:pt x="195" y="22"/>
                      </a:lnTo>
                      <a:lnTo>
                        <a:pt x="190" y="22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10552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09580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02452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01660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01984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02776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03712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10840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17212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24664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24664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24664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130720" y="5657760"/>
                  <a:ext cx="90720" cy="49680"/>
                </a:xfrm>
                <a:custGeom>
                  <a:avLst/>
                  <a:gdLst/>
                  <a:ahLst/>
                  <a:rect l="0" t="0" r="r" b="b"/>
                  <a:pathLst>
                    <a:path w="252" h="138">
                      <a:moveTo>
                        <a:pt x="252" y="116"/>
                      </a:moveTo>
                      <a:lnTo>
                        <a:pt x="155" y="138"/>
                      </a:lnTo>
                      <a:lnTo>
                        <a:pt x="105" y="102"/>
                      </a:lnTo>
                      <a:lnTo>
                        <a:pt x="110" y="102"/>
                      </a:lnTo>
                      <a:lnTo>
                        <a:pt x="110" y="98"/>
                      </a:lnTo>
                      <a:lnTo>
                        <a:pt x="101" y="102"/>
                      </a:lnTo>
                      <a:lnTo>
                        <a:pt x="52" y="67"/>
                      </a:lnTo>
                      <a:lnTo>
                        <a:pt x="57" y="67"/>
                      </a:lnTo>
                      <a:lnTo>
                        <a:pt x="57" y="62"/>
                      </a:lnTo>
                      <a:lnTo>
                        <a:pt x="48" y="67"/>
                      </a:lnTo>
                      <a:lnTo>
                        <a:pt x="0" y="30"/>
                      </a:lnTo>
                      <a:lnTo>
                        <a:pt x="4" y="30"/>
                      </a:lnTo>
                      <a:lnTo>
                        <a:pt x="4" y="26"/>
                      </a:lnTo>
                      <a:lnTo>
                        <a:pt x="61" y="13"/>
                      </a:lnTo>
                      <a:lnTo>
                        <a:pt x="92" y="0"/>
                      </a:lnTo>
                      <a:lnTo>
                        <a:pt x="137" y="2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95" y="62"/>
                      </a:lnTo>
                      <a:lnTo>
                        <a:pt x="195" y="75"/>
                      </a:lnTo>
                      <a:lnTo>
                        <a:pt x="203" y="71"/>
                      </a:lnTo>
                      <a:lnTo>
                        <a:pt x="247" y="102"/>
                      </a:lnTo>
                      <a:lnTo>
                        <a:pt x="252" y="112"/>
                      </a:lnTo>
                      <a:lnTo>
                        <a:pt x="25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191200" y="5707080"/>
                  <a:ext cx="29880" cy="0"/>
                </a:xfrm>
                <a:custGeom>
                  <a:avLst/>
                  <a:gdLst/>
                  <a:ahLst/>
                  <a:rect l="0" t="0" r="r" b="b"/>
                  <a:pathLst>
                    <a:path w="8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7032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1656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48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1656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48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6564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24" y="48"/>
                      </a:moveTo>
                      <a:lnTo>
                        <a:pt x="0" y="48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0" y="72"/>
                      </a:lnTo>
                      <a:lnTo>
                        <a:pt x="2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15160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14512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53" y="0"/>
                      </a:ln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14512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14512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13072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12604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12604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13396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15448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16744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18004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36" y="72"/>
                      </a:moveTo>
                      <a:lnTo>
                        <a:pt x="36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8004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18796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20056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20236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21028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22144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21440" y="56973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133960" y="5657760"/>
                  <a:ext cx="86040" cy="46440"/>
                </a:xfrm>
                <a:custGeom>
                  <a:avLst/>
                  <a:gdLst/>
                  <a:ahLst/>
                  <a:rect l="0" t="0" r="r" b="b"/>
                  <a:pathLst>
                    <a:path w="239" h="129">
                      <a:moveTo>
                        <a:pt x="133" y="26"/>
                      </a:moveTo>
                      <a:lnTo>
                        <a:pt x="101" y="45"/>
                      </a:lnTo>
                      <a:lnTo>
                        <a:pt x="44" y="58"/>
                      </a:lnTo>
                      <a:lnTo>
                        <a:pt x="0" y="26"/>
                      </a:lnTo>
                      <a:lnTo>
                        <a:pt x="57" y="13"/>
                      </a:lnTo>
                      <a:lnTo>
                        <a:pt x="88" y="0"/>
                      </a:lnTo>
                      <a:lnTo>
                        <a:pt x="133" y="26"/>
                      </a:lnTo>
                      <a:lnTo>
                        <a:pt x="186" y="62"/>
                      </a:lnTo>
                      <a:lnTo>
                        <a:pt x="150" y="80"/>
                      </a:lnTo>
                      <a:lnTo>
                        <a:pt x="97" y="93"/>
                      </a:lnTo>
                      <a:lnTo>
                        <a:pt x="52" y="62"/>
                      </a:lnTo>
                      <a:lnTo>
                        <a:pt x="105" y="49"/>
                      </a:lnTo>
                      <a:lnTo>
                        <a:pt x="142" y="36"/>
                      </a:lnTo>
                      <a:lnTo>
                        <a:pt x="186" y="62"/>
                      </a:lnTo>
                      <a:lnTo>
                        <a:pt x="239" y="99"/>
                      </a:lnTo>
                      <a:lnTo>
                        <a:pt x="208" y="116"/>
                      </a:lnTo>
                      <a:lnTo>
                        <a:pt x="150" y="129"/>
                      </a:lnTo>
                      <a:lnTo>
                        <a:pt x="105" y="99"/>
                      </a:lnTo>
                      <a:lnTo>
                        <a:pt x="164" y="84"/>
                      </a:lnTo>
                      <a:lnTo>
                        <a:pt x="195" y="71"/>
                      </a:lnTo>
                      <a:lnTo>
                        <a:pt x="239" y="99"/>
                      </a:lnTo>
                      <a:lnTo>
                        <a:pt x="133" y="2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17212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14980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13396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13396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15448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6744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178600" y="5672160"/>
                  <a:ext cx="252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92640" y="5684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170320" y="568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15304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15304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75360" y="5672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18796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197320" y="5684760"/>
                  <a:ext cx="1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214960" y="5699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192640" y="5703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175360" y="569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7536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9732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21028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154480" y="5664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17680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97320" y="569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5195880" y="5065560"/>
                <a:ext cx="710280" cy="673560"/>
                <a:chOff x="5195880" y="5065560"/>
                <a:chExt cx="710280" cy="6735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195880" y="5067360"/>
                  <a:ext cx="702000" cy="671760"/>
                </a:xfrm>
                <a:custGeom>
                  <a:avLst/>
                  <a:gdLst/>
                  <a:ahLst/>
                  <a:rect l="0" t="0" r="r" b="b"/>
                  <a:pathLst>
                    <a:path w="1950" h="1866">
                      <a:moveTo>
                        <a:pt x="229" y="1756"/>
                      </a:moveTo>
                      <a:lnTo>
                        <a:pt x="1420" y="1866"/>
                      </a:lnTo>
                      <a:lnTo>
                        <a:pt x="1606" y="1707"/>
                      </a:lnTo>
                      <a:lnTo>
                        <a:pt x="1606" y="1641"/>
                      </a:lnTo>
                      <a:lnTo>
                        <a:pt x="1262" y="1610"/>
                      </a:lnTo>
                      <a:lnTo>
                        <a:pt x="1244" y="1579"/>
                      </a:lnTo>
                      <a:lnTo>
                        <a:pt x="1248" y="1579"/>
                      </a:lnTo>
                      <a:lnTo>
                        <a:pt x="1253" y="1575"/>
                      </a:lnTo>
                      <a:lnTo>
                        <a:pt x="1257" y="1575"/>
                      </a:lnTo>
                      <a:lnTo>
                        <a:pt x="1257" y="1570"/>
                      </a:lnTo>
                      <a:lnTo>
                        <a:pt x="1262" y="1570"/>
                      </a:lnTo>
                      <a:lnTo>
                        <a:pt x="1266" y="1566"/>
                      </a:lnTo>
                      <a:lnTo>
                        <a:pt x="1271" y="1562"/>
                      </a:lnTo>
                      <a:lnTo>
                        <a:pt x="1275" y="1557"/>
                      </a:lnTo>
                      <a:lnTo>
                        <a:pt x="1275" y="1557"/>
                      </a:lnTo>
                      <a:lnTo>
                        <a:pt x="1279" y="1553"/>
                      </a:lnTo>
                      <a:lnTo>
                        <a:pt x="1284" y="1553"/>
                      </a:lnTo>
                      <a:lnTo>
                        <a:pt x="1284" y="1548"/>
                      </a:lnTo>
                      <a:lnTo>
                        <a:pt x="1288" y="1544"/>
                      </a:lnTo>
                      <a:lnTo>
                        <a:pt x="1293" y="1544"/>
                      </a:lnTo>
                      <a:lnTo>
                        <a:pt x="1297" y="1535"/>
                      </a:lnTo>
                      <a:lnTo>
                        <a:pt x="1297" y="1535"/>
                      </a:lnTo>
                      <a:lnTo>
                        <a:pt x="1606" y="1548"/>
                      </a:lnTo>
                      <a:lnTo>
                        <a:pt x="1795" y="1513"/>
                      </a:lnTo>
                      <a:lnTo>
                        <a:pt x="1800" y="1513"/>
                      </a:lnTo>
                      <a:lnTo>
                        <a:pt x="1804" y="1509"/>
                      </a:lnTo>
                      <a:lnTo>
                        <a:pt x="1808" y="1509"/>
                      </a:lnTo>
                      <a:lnTo>
                        <a:pt x="1813" y="1504"/>
                      </a:lnTo>
                      <a:lnTo>
                        <a:pt x="1813" y="1504"/>
                      </a:lnTo>
                      <a:lnTo>
                        <a:pt x="1817" y="1500"/>
                      </a:lnTo>
                      <a:lnTo>
                        <a:pt x="1817" y="1495"/>
                      </a:lnTo>
                      <a:lnTo>
                        <a:pt x="1822" y="1491"/>
                      </a:lnTo>
                      <a:lnTo>
                        <a:pt x="1822" y="1487"/>
                      </a:lnTo>
                      <a:lnTo>
                        <a:pt x="1822" y="1482"/>
                      </a:lnTo>
                      <a:lnTo>
                        <a:pt x="1826" y="1478"/>
                      </a:lnTo>
                      <a:lnTo>
                        <a:pt x="1831" y="1478"/>
                      </a:lnTo>
                      <a:lnTo>
                        <a:pt x="1831" y="1469"/>
                      </a:lnTo>
                      <a:lnTo>
                        <a:pt x="1831" y="1465"/>
                      </a:lnTo>
                      <a:lnTo>
                        <a:pt x="1831" y="1460"/>
                      </a:lnTo>
                      <a:lnTo>
                        <a:pt x="1831" y="1451"/>
                      </a:lnTo>
                      <a:lnTo>
                        <a:pt x="1831" y="1385"/>
                      </a:lnTo>
                      <a:lnTo>
                        <a:pt x="1835" y="1385"/>
                      </a:lnTo>
                      <a:lnTo>
                        <a:pt x="1835" y="1381"/>
                      </a:lnTo>
                      <a:lnTo>
                        <a:pt x="1839" y="1381"/>
                      </a:lnTo>
                      <a:lnTo>
                        <a:pt x="1844" y="1376"/>
                      </a:lnTo>
                      <a:lnTo>
                        <a:pt x="1848" y="1376"/>
                      </a:lnTo>
                      <a:lnTo>
                        <a:pt x="1853" y="1376"/>
                      </a:lnTo>
                      <a:lnTo>
                        <a:pt x="1857" y="1372"/>
                      </a:lnTo>
                      <a:lnTo>
                        <a:pt x="1861" y="1372"/>
                      </a:lnTo>
                      <a:lnTo>
                        <a:pt x="1861" y="1372"/>
                      </a:lnTo>
                      <a:lnTo>
                        <a:pt x="1870" y="1368"/>
                      </a:lnTo>
                      <a:lnTo>
                        <a:pt x="1870" y="1363"/>
                      </a:lnTo>
                      <a:lnTo>
                        <a:pt x="1875" y="1363"/>
                      </a:lnTo>
                      <a:lnTo>
                        <a:pt x="1875" y="1359"/>
                      </a:lnTo>
                      <a:lnTo>
                        <a:pt x="1879" y="1354"/>
                      </a:lnTo>
                      <a:lnTo>
                        <a:pt x="1879" y="1350"/>
                      </a:lnTo>
                      <a:lnTo>
                        <a:pt x="1879" y="1341"/>
                      </a:lnTo>
                      <a:lnTo>
                        <a:pt x="1950" y="551"/>
                      </a:lnTo>
                      <a:lnTo>
                        <a:pt x="1950" y="546"/>
                      </a:lnTo>
                      <a:lnTo>
                        <a:pt x="1950" y="546"/>
                      </a:lnTo>
                      <a:lnTo>
                        <a:pt x="1950" y="537"/>
                      </a:lnTo>
                      <a:lnTo>
                        <a:pt x="1950" y="533"/>
                      </a:lnTo>
                      <a:lnTo>
                        <a:pt x="1950" y="533"/>
                      </a:lnTo>
                      <a:lnTo>
                        <a:pt x="1945" y="529"/>
                      </a:lnTo>
                      <a:lnTo>
                        <a:pt x="1945" y="524"/>
                      </a:lnTo>
                      <a:lnTo>
                        <a:pt x="1945" y="520"/>
                      </a:lnTo>
                      <a:lnTo>
                        <a:pt x="1945" y="515"/>
                      </a:lnTo>
                      <a:lnTo>
                        <a:pt x="1945" y="511"/>
                      </a:lnTo>
                      <a:lnTo>
                        <a:pt x="1941" y="511"/>
                      </a:lnTo>
                      <a:lnTo>
                        <a:pt x="1941" y="507"/>
                      </a:lnTo>
                      <a:lnTo>
                        <a:pt x="1936" y="502"/>
                      </a:lnTo>
                      <a:lnTo>
                        <a:pt x="1936" y="502"/>
                      </a:lnTo>
                      <a:lnTo>
                        <a:pt x="1936" y="493"/>
                      </a:lnTo>
                      <a:lnTo>
                        <a:pt x="1932" y="493"/>
                      </a:lnTo>
                      <a:lnTo>
                        <a:pt x="1848" y="388"/>
                      </a:lnTo>
                      <a:lnTo>
                        <a:pt x="1839" y="321"/>
                      </a:lnTo>
                      <a:lnTo>
                        <a:pt x="1839" y="229"/>
                      </a:lnTo>
                      <a:lnTo>
                        <a:pt x="1839" y="224"/>
                      </a:lnTo>
                      <a:lnTo>
                        <a:pt x="1835" y="216"/>
                      </a:lnTo>
                      <a:lnTo>
                        <a:pt x="1835" y="211"/>
                      </a:lnTo>
                      <a:lnTo>
                        <a:pt x="1831" y="207"/>
                      </a:lnTo>
                      <a:lnTo>
                        <a:pt x="1831" y="202"/>
                      </a:lnTo>
                      <a:lnTo>
                        <a:pt x="1822" y="198"/>
                      </a:lnTo>
                      <a:lnTo>
                        <a:pt x="1817" y="189"/>
                      </a:lnTo>
                      <a:lnTo>
                        <a:pt x="1813" y="185"/>
                      </a:lnTo>
                      <a:lnTo>
                        <a:pt x="1659" y="92"/>
                      </a:lnTo>
                      <a:lnTo>
                        <a:pt x="1614" y="83"/>
                      </a:lnTo>
                      <a:lnTo>
                        <a:pt x="1570" y="79"/>
                      </a:lnTo>
                      <a:lnTo>
                        <a:pt x="1522" y="74"/>
                      </a:lnTo>
                      <a:lnTo>
                        <a:pt x="1478" y="66"/>
                      </a:lnTo>
                      <a:lnTo>
                        <a:pt x="1434" y="61"/>
                      </a:lnTo>
                      <a:lnTo>
                        <a:pt x="1385" y="57"/>
                      </a:lnTo>
                      <a:lnTo>
                        <a:pt x="1337" y="52"/>
                      </a:lnTo>
                      <a:lnTo>
                        <a:pt x="1293" y="48"/>
                      </a:lnTo>
                      <a:lnTo>
                        <a:pt x="1244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3" y="30"/>
                      </a:lnTo>
                      <a:lnTo>
                        <a:pt x="1054" y="26"/>
                      </a:lnTo>
                      <a:lnTo>
                        <a:pt x="1010" y="26"/>
                      </a:lnTo>
                      <a:lnTo>
                        <a:pt x="961" y="17"/>
                      </a:lnTo>
                      <a:lnTo>
                        <a:pt x="912" y="17"/>
                      </a:lnTo>
                      <a:lnTo>
                        <a:pt x="864" y="13"/>
                      </a:lnTo>
                      <a:lnTo>
                        <a:pt x="820" y="13"/>
                      </a:lnTo>
                      <a:lnTo>
                        <a:pt x="771" y="13"/>
                      </a:lnTo>
                      <a:lnTo>
                        <a:pt x="723" y="8"/>
                      </a:lnTo>
                      <a:lnTo>
                        <a:pt x="674" y="8"/>
                      </a:lnTo>
                      <a:lnTo>
                        <a:pt x="630" y="8"/>
                      </a:lnTo>
                      <a:lnTo>
                        <a:pt x="582" y="4"/>
                      </a:lnTo>
                      <a:lnTo>
                        <a:pt x="533" y="4"/>
                      </a:lnTo>
                      <a:lnTo>
                        <a:pt x="485" y="4"/>
                      </a:lnTo>
                      <a:lnTo>
                        <a:pt x="440" y="4"/>
                      </a:lnTo>
                      <a:lnTo>
                        <a:pt x="396" y="4"/>
                      </a:lnTo>
                      <a:lnTo>
                        <a:pt x="348" y="0"/>
                      </a:lnTo>
                      <a:lnTo>
                        <a:pt x="299" y="0"/>
                      </a:lnTo>
                      <a:lnTo>
                        <a:pt x="255" y="0"/>
                      </a:lnTo>
                      <a:lnTo>
                        <a:pt x="207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9" y="0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7" y="8"/>
                      </a:lnTo>
                      <a:lnTo>
                        <a:pt x="123" y="8"/>
                      </a:lnTo>
                      <a:lnTo>
                        <a:pt x="119" y="13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26"/>
                      </a:lnTo>
                      <a:lnTo>
                        <a:pt x="105" y="30"/>
                      </a:lnTo>
                      <a:lnTo>
                        <a:pt x="105" y="35"/>
                      </a:lnTo>
                      <a:lnTo>
                        <a:pt x="101" y="35"/>
                      </a:lnTo>
                      <a:lnTo>
                        <a:pt x="101" y="39"/>
                      </a:lnTo>
                      <a:lnTo>
                        <a:pt x="97" y="79"/>
                      </a:lnTo>
                      <a:lnTo>
                        <a:pt x="88" y="119"/>
                      </a:lnTo>
                      <a:lnTo>
                        <a:pt x="79" y="158"/>
                      </a:lnTo>
                      <a:lnTo>
                        <a:pt x="74" y="198"/>
                      </a:lnTo>
                      <a:lnTo>
                        <a:pt x="70" y="238"/>
                      </a:lnTo>
                      <a:lnTo>
                        <a:pt x="61" y="273"/>
                      </a:lnTo>
                      <a:lnTo>
                        <a:pt x="57" y="313"/>
                      </a:lnTo>
                      <a:lnTo>
                        <a:pt x="52" y="352"/>
                      </a:lnTo>
                      <a:lnTo>
                        <a:pt x="48" y="388"/>
                      </a:lnTo>
                      <a:lnTo>
                        <a:pt x="44" y="427"/>
                      </a:lnTo>
                      <a:lnTo>
                        <a:pt x="39" y="467"/>
                      </a:lnTo>
                      <a:lnTo>
                        <a:pt x="35" y="507"/>
                      </a:lnTo>
                      <a:lnTo>
                        <a:pt x="30" y="542"/>
                      </a:lnTo>
                      <a:lnTo>
                        <a:pt x="26" y="582"/>
                      </a:lnTo>
                      <a:lnTo>
                        <a:pt x="26" y="621"/>
                      </a:lnTo>
                      <a:lnTo>
                        <a:pt x="22" y="657"/>
                      </a:lnTo>
                      <a:lnTo>
                        <a:pt x="17" y="696"/>
                      </a:lnTo>
                      <a:lnTo>
                        <a:pt x="17" y="732"/>
                      </a:lnTo>
                      <a:lnTo>
                        <a:pt x="13" y="771"/>
                      </a:lnTo>
                      <a:lnTo>
                        <a:pt x="13" y="811"/>
                      </a:lnTo>
                      <a:lnTo>
                        <a:pt x="13" y="846"/>
                      </a:lnTo>
                      <a:lnTo>
                        <a:pt x="8" y="886"/>
                      </a:lnTo>
                      <a:lnTo>
                        <a:pt x="8" y="921"/>
                      </a:lnTo>
                      <a:lnTo>
                        <a:pt x="8" y="962"/>
                      </a:lnTo>
                      <a:lnTo>
                        <a:pt x="8" y="1002"/>
                      </a:lnTo>
                      <a:lnTo>
                        <a:pt x="4" y="1037"/>
                      </a:lnTo>
                      <a:lnTo>
                        <a:pt x="4" y="1076"/>
                      </a:lnTo>
                      <a:lnTo>
                        <a:pt x="4" y="1116"/>
                      </a:lnTo>
                      <a:lnTo>
                        <a:pt x="4" y="1151"/>
                      </a:lnTo>
                      <a:lnTo>
                        <a:pt x="4" y="1191"/>
                      </a:lnTo>
                      <a:lnTo>
                        <a:pt x="0" y="1226"/>
                      </a:lnTo>
                      <a:lnTo>
                        <a:pt x="0" y="1266"/>
                      </a:lnTo>
                      <a:lnTo>
                        <a:pt x="0" y="1271"/>
                      </a:lnTo>
                      <a:lnTo>
                        <a:pt x="0" y="1275"/>
                      </a:lnTo>
                      <a:lnTo>
                        <a:pt x="0" y="1284"/>
                      </a:lnTo>
                      <a:lnTo>
                        <a:pt x="4" y="1284"/>
                      </a:lnTo>
                      <a:lnTo>
                        <a:pt x="4" y="1288"/>
                      </a:lnTo>
                      <a:lnTo>
                        <a:pt x="4" y="1293"/>
                      </a:lnTo>
                      <a:lnTo>
                        <a:pt x="4" y="1297"/>
                      </a:lnTo>
                      <a:lnTo>
                        <a:pt x="8" y="1297"/>
                      </a:lnTo>
                      <a:lnTo>
                        <a:pt x="8" y="1306"/>
                      </a:lnTo>
                      <a:lnTo>
                        <a:pt x="13" y="1306"/>
                      </a:lnTo>
                      <a:lnTo>
                        <a:pt x="13" y="1310"/>
                      </a:lnTo>
                      <a:lnTo>
                        <a:pt x="17" y="1315"/>
                      </a:lnTo>
                      <a:lnTo>
                        <a:pt x="22" y="1315"/>
                      </a:lnTo>
                      <a:lnTo>
                        <a:pt x="26" y="1319"/>
                      </a:lnTo>
                      <a:lnTo>
                        <a:pt x="30" y="1323"/>
                      </a:lnTo>
                      <a:lnTo>
                        <a:pt x="35" y="1328"/>
                      </a:lnTo>
                      <a:lnTo>
                        <a:pt x="158" y="1416"/>
                      </a:lnTo>
                      <a:lnTo>
                        <a:pt x="551" y="1460"/>
                      </a:lnTo>
                      <a:lnTo>
                        <a:pt x="555" y="1469"/>
                      </a:lnTo>
                      <a:lnTo>
                        <a:pt x="560" y="1473"/>
                      </a:lnTo>
                      <a:lnTo>
                        <a:pt x="564" y="1482"/>
                      </a:lnTo>
                      <a:lnTo>
                        <a:pt x="568" y="1487"/>
                      </a:lnTo>
                      <a:lnTo>
                        <a:pt x="577" y="1491"/>
                      </a:lnTo>
                      <a:lnTo>
                        <a:pt x="582" y="1500"/>
                      </a:lnTo>
                      <a:lnTo>
                        <a:pt x="590" y="1504"/>
                      </a:lnTo>
                      <a:lnTo>
                        <a:pt x="595" y="1509"/>
                      </a:lnTo>
                      <a:lnTo>
                        <a:pt x="604" y="1513"/>
                      </a:lnTo>
                      <a:lnTo>
                        <a:pt x="608" y="1522"/>
                      </a:lnTo>
                      <a:lnTo>
                        <a:pt x="617" y="1526"/>
                      </a:lnTo>
                      <a:lnTo>
                        <a:pt x="621" y="1531"/>
                      </a:lnTo>
                      <a:lnTo>
                        <a:pt x="630" y="1535"/>
                      </a:lnTo>
                      <a:lnTo>
                        <a:pt x="635" y="1544"/>
                      </a:lnTo>
                      <a:lnTo>
                        <a:pt x="643" y="1548"/>
                      </a:lnTo>
                      <a:lnTo>
                        <a:pt x="652" y="1553"/>
                      </a:lnTo>
                      <a:lnTo>
                        <a:pt x="529" y="1539"/>
                      </a:lnTo>
                      <a:lnTo>
                        <a:pt x="229" y="1698"/>
                      </a:lnTo>
                      <a:lnTo>
                        <a:pt x="229" y="175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278320" y="5707080"/>
                  <a:ext cx="425880" cy="32040"/>
                </a:xfrm>
                <a:custGeom>
                  <a:avLst/>
                  <a:gdLst/>
                  <a:ahLst/>
                  <a:rect l="0" t="0" r="r" b="b"/>
                  <a:pathLst>
                    <a:path w="1183" h="89">
                      <a:moveTo>
                        <a:pt x="1179" y="84"/>
                      </a:moveTo>
                      <a:lnTo>
                        <a:pt x="1179" y="84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83" y="89"/>
                      </a:lnTo>
                      <a:lnTo>
                        <a:pt x="1183" y="84"/>
                      </a:lnTo>
                      <a:lnTo>
                        <a:pt x="1179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711760" y="5689440"/>
                  <a:ext cx="62280" cy="49680"/>
                </a:xfrm>
                <a:custGeom>
                  <a:avLst/>
                  <a:gdLst/>
                  <a:ahLst/>
                  <a:rect l="0" t="0" r="r" b="b"/>
                  <a:pathLst>
                    <a:path w="173" h="138">
                      <a:moveTo>
                        <a:pt x="169" y="0"/>
                      </a:moveTo>
                      <a:lnTo>
                        <a:pt x="169" y="0"/>
                      </a:lnTo>
                      <a:lnTo>
                        <a:pt x="0" y="134"/>
                      </a:lnTo>
                      <a:lnTo>
                        <a:pt x="4" y="138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77368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6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53080" y="5653080"/>
                  <a:ext cx="119520" cy="25920"/>
                </a:xfrm>
                <a:custGeom>
                  <a:avLst/>
                  <a:gdLst/>
                  <a:ahLst/>
                  <a:rect l="0" t="0" r="r" b="b"/>
                  <a:pathLst>
                    <a:path w="332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332" y="72"/>
                      </a:lnTo>
                      <a:lnTo>
                        <a:pt x="332" y="48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4660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8400" y="5626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3" y="0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45" y="11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27" y="36"/>
                      </a:lnTo>
                      <a:lnTo>
                        <a:pt x="27" y="3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60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27" y="60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36" y="36"/>
                      </a:lnTo>
                      <a:lnTo>
                        <a:pt x="45" y="36"/>
                      </a:lnTo>
                      <a:lnTo>
                        <a:pt x="45" y="36"/>
                      </a:lnTo>
                      <a:lnTo>
                        <a:pt x="53" y="36"/>
                      </a:lnTo>
                      <a:lnTo>
                        <a:pt x="53" y="24"/>
                      </a:lnTo>
                      <a:lnTo>
                        <a:pt x="53" y="24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68920" y="562284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287" y="36"/>
                      </a:moveTo>
                      <a:lnTo>
                        <a:pt x="287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92" y="0"/>
                      </a:lnTo>
                      <a:lnTo>
                        <a:pt x="28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781600" y="5618160"/>
                  <a:ext cx="60840" cy="25920"/>
                </a:xfrm>
                <a:custGeom>
                  <a:avLst/>
                  <a:gdLst/>
                  <a:ahLst/>
                  <a:rect l="0" t="0" r="r" b="b"/>
                  <a:pathLst>
                    <a:path w="169" h="72">
                      <a:moveTo>
                        <a:pt x="165" y="0"/>
                      </a:moveTo>
                      <a:lnTo>
                        <a:pt x="165" y="0"/>
                      </a:lnTo>
                      <a:lnTo>
                        <a:pt x="0" y="48"/>
                      </a:lnTo>
                      <a:lnTo>
                        <a:pt x="0" y="72"/>
                      </a:lnTo>
                      <a:lnTo>
                        <a:pt x="169" y="24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848200" y="5595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8" y="29"/>
                      </a:lnTo>
                      <a:lnTo>
                        <a:pt x="48" y="36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50"/>
                      </a:lnTo>
                      <a:lnTo>
                        <a:pt x="24" y="50"/>
                      </a:lnTo>
                      <a:lnTo>
                        <a:pt x="24" y="58"/>
                      </a:lnTo>
                      <a:lnTo>
                        <a:pt x="24" y="58"/>
                      </a:lnTo>
                      <a:lnTo>
                        <a:pt x="24" y="65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72"/>
                      </a:lnTo>
                      <a:lnTo>
                        <a:pt x="24" y="72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48" y="58"/>
                      </a:lnTo>
                      <a:lnTo>
                        <a:pt x="48" y="58"/>
                      </a:lnTo>
                      <a:lnTo>
                        <a:pt x="48" y="50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36"/>
                      </a:lnTo>
                      <a:lnTo>
                        <a:pt x="72" y="29"/>
                      </a:lnTo>
                      <a:lnTo>
                        <a:pt x="72" y="29"/>
                      </a:lnTo>
                      <a:lnTo>
                        <a:pt x="72" y="22"/>
                      </a:lnTo>
                      <a:lnTo>
                        <a:pt x="72" y="14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853240" y="5572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7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"/>
                      </a:lnTo>
                      <a:lnTo>
                        <a:pt x="24" y="7"/>
                      </a:lnTo>
                      <a:lnTo>
                        <a:pt x="0" y="7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72" y="7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62600" y="5556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43"/>
                      </a:lnTo>
                      <a:lnTo>
                        <a:pt x="41" y="43"/>
                      </a:lnTo>
                      <a:lnTo>
                        <a:pt x="41" y="4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1" y="43"/>
                      </a:lnTo>
                      <a:lnTo>
                        <a:pt x="21" y="58"/>
                      </a:lnTo>
                      <a:lnTo>
                        <a:pt x="10" y="58"/>
                      </a:lnTo>
                      <a:lnTo>
                        <a:pt x="10" y="58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31" y="58"/>
                      </a:lnTo>
                      <a:lnTo>
                        <a:pt x="41" y="58"/>
                      </a:lnTo>
                      <a:lnTo>
                        <a:pt x="41" y="58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72" y="1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880240" y="5267160"/>
                  <a:ext cx="25920" cy="281520"/>
                </a:xfrm>
                <a:custGeom>
                  <a:avLst/>
                  <a:gdLst/>
                  <a:ahLst/>
                  <a:rect l="0" t="0" r="r" b="b"/>
                  <a:pathLst>
                    <a:path w="72" h="782">
                      <a:moveTo>
                        <a:pt x="66" y="4"/>
                      </a:moveTo>
                      <a:lnTo>
                        <a:pt x="66" y="4"/>
                      </a:lnTo>
                      <a:lnTo>
                        <a:pt x="0" y="782"/>
                      </a:lnTo>
                      <a:lnTo>
                        <a:pt x="6" y="782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897520" y="524664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61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867280" y="52084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7" y="85"/>
                      </a:lnTo>
                      <a:lnTo>
                        <a:pt x="72" y="8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862600" y="5183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857920" y="514980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76"/>
                      </a:lnTo>
                      <a:lnTo>
                        <a:pt x="0" y="76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85324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24" y="14"/>
                      </a:lnTo>
                      <a:lnTo>
                        <a:pt x="24" y="29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58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8"/>
                      </a:lnTo>
                      <a:lnTo>
                        <a:pt x="72" y="43"/>
                      </a:lnTo>
                      <a:lnTo>
                        <a:pt x="72" y="43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14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99240" y="5100480"/>
                  <a:ext cx="47880" cy="27360"/>
                </a:xfrm>
                <a:custGeom>
                  <a:avLst/>
                  <a:gdLst/>
                  <a:ahLst/>
                  <a:rect l="0" t="0" r="r" b="b"/>
                  <a:pathLst>
                    <a:path w="133" h="7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3" y="76"/>
                      </a:lnTo>
                      <a:lnTo>
                        <a:pt x="133" y="7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254560" y="5065560"/>
                  <a:ext cx="536760" cy="27360"/>
                </a:xfrm>
                <a:custGeom>
                  <a:avLst/>
                  <a:gdLst/>
                  <a:ahLst/>
                  <a:rect l="0" t="0" r="r" b="b"/>
                  <a:pathLst>
                    <a:path w="149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8" y="4"/>
                      </a:lnTo>
                      <a:lnTo>
                        <a:pt x="97" y="4"/>
                      </a:lnTo>
                      <a:lnTo>
                        <a:pt x="141" y="4"/>
                      </a:lnTo>
                      <a:lnTo>
                        <a:pt x="189" y="4"/>
                      </a:lnTo>
                      <a:lnTo>
                        <a:pt x="233" y="4"/>
                      </a:lnTo>
                      <a:lnTo>
                        <a:pt x="277" y="4"/>
                      </a:lnTo>
                      <a:lnTo>
                        <a:pt x="326" y="8"/>
                      </a:lnTo>
                      <a:lnTo>
                        <a:pt x="374" y="8"/>
                      </a:lnTo>
                      <a:lnTo>
                        <a:pt x="423" y="8"/>
                      </a:lnTo>
                      <a:lnTo>
                        <a:pt x="467" y="8"/>
                      </a:lnTo>
                      <a:lnTo>
                        <a:pt x="515" y="13"/>
                      </a:lnTo>
                      <a:lnTo>
                        <a:pt x="560" y="13"/>
                      </a:lnTo>
                      <a:lnTo>
                        <a:pt x="608" y="13"/>
                      </a:lnTo>
                      <a:lnTo>
                        <a:pt x="657" y="13"/>
                      </a:lnTo>
                      <a:lnTo>
                        <a:pt x="705" y="17"/>
                      </a:lnTo>
                      <a:lnTo>
                        <a:pt x="750" y="17"/>
                      </a:lnTo>
                      <a:lnTo>
                        <a:pt x="799" y="23"/>
                      </a:lnTo>
                      <a:lnTo>
                        <a:pt x="847" y="23"/>
                      </a:lnTo>
                      <a:lnTo>
                        <a:pt x="891" y="27"/>
                      </a:lnTo>
                      <a:lnTo>
                        <a:pt x="940" y="27"/>
                      </a:lnTo>
                      <a:lnTo>
                        <a:pt x="984" y="31"/>
                      </a:lnTo>
                      <a:lnTo>
                        <a:pt x="1032" y="36"/>
                      </a:lnTo>
                      <a:lnTo>
                        <a:pt x="1081" y="36"/>
                      </a:lnTo>
                      <a:lnTo>
                        <a:pt x="1125" y="40"/>
                      </a:lnTo>
                      <a:lnTo>
                        <a:pt x="1173" y="45"/>
                      </a:lnTo>
                      <a:lnTo>
                        <a:pt x="1218" y="49"/>
                      </a:lnTo>
                      <a:lnTo>
                        <a:pt x="1266" y="49"/>
                      </a:lnTo>
                      <a:lnTo>
                        <a:pt x="1310" y="59"/>
                      </a:lnTo>
                      <a:lnTo>
                        <a:pt x="1354" y="63"/>
                      </a:lnTo>
                      <a:lnTo>
                        <a:pt x="1398" y="68"/>
                      </a:lnTo>
                      <a:lnTo>
                        <a:pt x="1447" y="72"/>
                      </a:lnTo>
                      <a:lnTo>
                        <a:pt x="1491" y="76"/>
                      </a:lnTo>
                      <a:lnTo>
                        <a:pt x="1491" y="72"/>
                      </a:lnTo>
                      <a:lnTo>
                        <a:pt x="1447" y="68"/>
                      </a:lnTo>
                      <a:lnTo>
                        <a:pt x="1403" y="63"/>
                      </a:lnTo>
                      <a:lnTo>
                        <a:pt x="1354" y="59"/>
                      </a:lnTo>
                      <a:lnTo>
                        <a:pt x="1310" y="49"/>
                      </a:lnTo>
                      <a:lnTo>
                        <a:pt x="1266" y="49"/>
                      </a:lnTo>
                      <a:lnTo>
                        <a:pt x="1218" y="45"/>
                      </a:lnTo>
                      <a:lnTo>
                        <a:pt x="1173" y="40"/>
                      </a:lnTo>
                      <a:lnTo>
                        <a:pt x="1125" y="36"/>
                      </a:lnTo>
                      <a:lnTo>
                        <a:pt x="1081" y="31"/>
                      </a:lnTo>
                      <a:lnTo>
                        <a:pt x="1032" y="27"/>
                      </a:lnTo>
                      <a:lnTo>
                        <a:pt x="984" y="27"/>
                      </a:lnTo>
                      <a:lnTo>
                        <a:pt x="940" y="23"/>
                      </a:lnTo>
                      <a:lnTo>
                        <a:pt x="891" y="23"/>
                      </a:lnTo>
                      <a:lnTo>
                        <a:pt x="847" y="17"/>
                      </a:lnTo>
                      <a:lnTo>
                        <a:pt x="799" y="13"/>
                      </a:lnTo>
                      <a:lnTo>
                        <a:pt x="750" y="13"/>
                      </a:lnTo>
                      <a:lnTo>
                        <a:pt x="705" y="13"/>
                      </a:lnTo>
                      <a:lnTo>
                        <a:pt x="657" y="8"/>
                      </a:lnTo>
                      <a:lnTo>
                        <a:pt x="608" y="8"/>
                      </a:lnTo>
                      <a:lnTo>
                        <a:pt x="560" y="4"/>
                      </a:lnTo>
                      <a:lnTo>
                        <a:pt x="515" y="4"/>
                      </a:lnTo>
                      <a:lnTo>
                        <a:pt x="467" y="4"/>
                      </a:lnTo>
                      <a:lnTo>
                        <a:pt x="423" y="4"/>
                      </a:lnTo>
                      <a:lnTo>
                        <a:pt x="374" y="0"/>
                      </a:lnTo>
                      <a:lnTo>
                        <a:pt x="326" y="0"/>
                      </a:lnTo>
                      <a:lnTo>
                        <a:pt x="277" y="0"/>
                      </a:lnTo>
                      <a:lnTo>
                        <a:pt x="233" y="0"/>
                      </a:lnTo>
                      <a:lnTo>
                        <a:pt x="189" y="0"/>
                      </a:lnTo>
                      <a:lnTo>
                        <a:pt x="141" y="0"/>
                      </a:lnTo>
                      <a:lnTo>
                        <a:pt x="97" y="0"/>
                      </a:lnTo>
                      <a:lnTo>
                        <a:pt x="4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232240" y="5065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" y="72"/>
                      </a:moveTo>
                      <a:lnTo>
                        <a:pt x="7" y="72"/>
                      </a:lnTo>
                      <a:lnTo>
                        <a:pt x="7" y="60"/>
                      </a:lnTo>
                      <a:lnTo>
                        <a:pt x="7" y="60"/>
                      </a:lnTo>
                      <a:lnTo>
                        <a:pt x="15" y="48"/>
                      </a:lnTo>
                      <a:lnTo>
                        <a:pt x="15" y="48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11"/>
                      </a:ln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56" y="11"/>
                      </a:lnTo>
                      <a:lnTo>
                        <a:pt x="64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40" y="11"/>
                      </a:lnTo>
                      <a:lnTo>
                        <a:pt x="32" y="11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36"/>
                      </a:lnTo>
                      <a:lnTo>
                        <a:pt x="7" y="36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195880" y="5083200"/>
                  <a:ext cx="30600" cy="438480"/>
                </a:xfrm>
                <a:custGeom>
                  <a:avLst/>
                  <a:gdLst/>
                  <a:ahLst/>
                  <a:rect l="0" t="0" r="r" b="b"/>
                  <a:pathLst>
                    <a:path w="85" h="1218">
                      <a:moveTo>
                        <a:pt x="4" y="1213"/>
                      </a:moveTo>
                      <a:lnTo>
                        <a:pt x="4" y="1213"/>
                      </a:lnTo>
                      <a:lnTo>
                        <a:pt x="4" y="1178"/>
                      </a:lnTo>
                      <a:lnTo>
                        <a:pt x="4" y="1138"/>
                      </a:lnTo>
                      <a:lnTo>
                        <a:pt x="4" y="1103"/>
                      </a:lnTo>
                      <a:lnTo>
                        <a:pt x="8" y="1063"/>
                      </a:lnTo>
                      <a:lnTo>
                        <a:pt x="8" y="1024"/>
                      </a:lnTo>
                      <a:lnTo>
                        <a:pt x="8" y="988"/>
                      </a:lnTo>
                      <a:lnTo>
                        <a:pt x="8" y="949"/>
                      </a:lnTo>
                      <a:lnTo>
                        <a:pt x="8" y="913"/>
                      </a:lnTo>
                      <a:lnTo>
                        <a:pt x="13" y="874"/>
                      </a:lnTo>
                      <a:lnTo>
                        <a:pt x="13" y="838"/>
                      </a:lnTo>
                      <a:lnTo>
                        <a:pt x="13" y="799"/>
                      </a:lnTo>
                      <a:lnTo>
                        <a:pt x="13" y="763"/>
                      </a:lnTo>
                      <a:lnTo>
                        <a:pt x="17" y="724"/>
                      </a:lnTo>
                      <a:lnTo>
                        <a:pt x="17" y="688"/>
                      </a:lnTo>
                      <a:lnTo>
                        <a:pt x="17" y="649"/>
                      </a:lnTo>
                      <a:lnTo>
                        <a:pt x="23" y="613"/>
                      </a:lnTo>
                      <a:lnTo>
                        <a:pt x="23" y="573"/>
                      </a:lnTo>
                      <a:lnTo>
                        <a:pt x="27" y="533"/>
                      </a:lnTo>
                      <a:lnTo>
                        <a:pt x="27" y="498"/>
                      </a:lnTo>
                      <a:lnTo>
                        <a:pt x="31" y="458"/>
                      </a:lnTo>
                      <a:lnTo>
                        <a:pt x="36" y="418"/>
                      </a:lnTo>
                      <a:lnTo>
                        <a:pt x="40" y="383"/>
                      </a:lnTo>
                      <a:lnTo>
                        <a:pt x="40" y="343"/>
                      </a:lnTo>
                      <a:lnTo>
                        <a:pt x="45" y="308"/>
                      </a:lnTo>
                      <a:lnTo>
                        <a:pt x="49" y="268"/>
                      </a:lnTo>
                      <a:lnTo>
                        <a:pt x="53" y="229"/>
                      </a:lnTo>
                      <a:lnTo>
                        <a:pt x="58" y="194"/>
                      </a:lnTo>
                      <a:lnTo>
                        <a:pt x="62" y="154"/>
                      </a:lnTo>
                      <a:lnTo>
                        <a:pt x="68" y="114"/>
                      </a:lnTo>
                      <a:lnTo>
                        <a:pt x="72" y="79"/>
                      </a:lnTo>
                      <a:lnTo>
                        <a:pt x="81" y="39"/>
                      </a:lnTo>
                      <a:lnTo>
                        <a:pt x="85" y="4"/>
                      </a:lnTo>
                      <a:lnTo>
                        <a:pt x="81" y="0"/>
                      </a:lnTo>
                      <a:lnTo>
                        <a:pt x="72" y="39"/>
                      </a:lnTo>
                      <a:lnTo>
                        <a:pt x="68" y="79"/>
                      </a:lnTo>
                      <a:lnTo>
                        <a:pt x="62" y="114"/>
                      </a:lnTo>
                      <a:lnTo>
                        <a:pt x="58" y="154"/>
                      </a:lnTo>
                      <a:lnTo>
                        <a:pt x="53" y="194"/>
                      </a:lnTo>
                      <a:lnTo>
                        <a:pt x="49" y="229"/>
                      </a:lnTo>
                      <a:lnTo>
                        <a:pt x="45" y="268"/>
                      </a:lnTo>
                      <a:lnTo>
                        <a:pt x="40" y="308"/>
                      </a:lnTo>
                      <a:lnTo>
                        <a:pt x="36" y="343"/>
                      </a:lnTo>
                      <a:lnTo>
                        <a:pt x="31" y="383"/>
                      </a:lnTo>
                      <a:lnTo>
                        <a:pt x="27" y="418"/>
                      </a:lnTo>
                      <a:lnTo>
                        <a:pt x="27" y="458"/>
                      </a:lnTo>
                      <a:lnTo>
                        <a:pt x="23" y="498"/>
                      </a:lnTo>
                      <a:lnTo>
                        <a:pt x="23" y="533"/>
                      </a:lnTo>
                      <a:lnTo>
                        <a:pt x="17" y="573"/>
                      </a:lnTo>
                      <a:lnTo>
                        <a:pt x="17" y="613"/>
                      </a:lnTo>
                      <a:lnTo>
                        <a:pt x="13" y="649"/>
                      </a:lnTo>
                      <a:lnTo>
                        <a:pt x="13" y="688"/>
                      </a:lnTo>
                      <a:lnTo>
                        <a:pt x="13" y="724"/>
                      </a:lnTo>
                      <a:lnTo>
                        <a:pt x="8" y="763"/>
                      </a:lnTo>
                      <a:lnTo>
                        <a:pt x="8" y="799"/>
                      </a:lnTo>
                      <a:lnTo>
                        <a:pt x="8" y="838"/>
                      </a:lnTo>
                      <a:lnTo>
                        <a:pt x="4" y="874"/>
                      </a:lnTo>
                      <a:lnTo>
                        <a:pt x="4" y="913"/>
                      </a:lnTo>
                      <a:lnTo>
                        <a:pt x="4" y="949"/>
                      </a:lnTo>
                      <a:lnTo>
                        <a:pt x="4" y="988"/>
                      </a:lnTo>
                      <a:lnTo>
                        <a:pt x="0" y="1024"/>
                      </a:lnTo>
                      <a:lnTo>
                        <a:pt x="0" y="1063"/>
                      </a:lnTo>
                      <a:lnTo>
                        <a:pt x="0" y="1103"/>
                      </a:lnTo>
                      <a:lnTo>
                        <a:pt x="0" y="1138"/>
                      </a:lnTo>
                      <a:lnTo>
                        <a:pt x="0" y="1178"/>
                      </a:lnTo>
                      <a:lnTo>
                        <a:pt x="0" y="1213"/>
                      </a:lnTo>
                      <a:lnTo>
                        <a:pt x="0" y="1218"/>
                      </a:lnTo>
                      <a:lnTo>
                        <a:pt x="0" y="1218"/>
                      </a:lnTo>
                      <a:lnTo>
                        <a:pt x="4" y="1218"/>
                      </a:lnTo>
                      <a:lnTo>
                        <a:pt x="4" y="1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195880" y="552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4"/>
                      </a:move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64"/>
                      </a:lnTo>
                      <a:lnTo>
                        <a:pt x="48" y="64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207040" y="5549760"/>
                  <a:ext cx="39960" cy="25920"/>
                </a:xfrm>
                <a:custGeom>
                  <a:avLst/>
                  <a:gdLst/>
                  <a:ahLst/>
                  <a:rect l="0" t="0" r="r" b="b"/>
                  <a:pathLst>
                    <a:path w="111" h="72">
                      <a:moveTo>
                        <a:pt x="111" y="68"/>
                      </a:moveTo>
                      <a:lnTo>
                        <a:pt x="11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06" y="72"/>
                      </a:lnTo>
                      <a:lnTo>
                        <a:pt x="111" y="72"/>
                      </a:lnTo>
                      <a:lnTo>
                        <a:pt x="111" y="72"/>
                      </a:lnTo>
                      <a:lnTo>
                        <a:pt x="11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254560" y="5581800"/>
                  <a:ext cx="135360" cy="25920"/>
                </a:xfrm>
                <a:custGeom>
                  <a:avLst/>
                  <a:gdLst/>
                  <a:ahLst/>
                  <a:rect l="0" t="0" r="r" b="b"/>
                  <a:pathLst>
                    <a:path w="376" h="72">
                      <a:moveTo>
                        <a:pt x="376" y="62"/>
                      </a:moveTo>
                      <a:lnTo>
                        <a:pt x="372" y="62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372" y="72"/>
                      </a:lnTo>
                      <a:lnTo>
                        <a:pt x="368" y="72"/>
                      </a:lnTo>
                      <a:lnTo>
                        <a:pt x="372" y="72"/>
                      </a:lnTo>
                      <a:lnTo>
                        <a:pt x="372" y="72"/>
                      </a:lnTo>
                      <a:lnTo>
                        <a:pt x="376" y="72"/>
                      </a:lnTo>
                      <a:lnTo>
                        <a:pt x="376" y="62"/>
                      </a:lnTo>
                      <a:lnTo>
                        <a:pt x="372" y="62"/>
                      </a:lnTo>
                      <a:lnTo>
                        <a:pt x="37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396040" y="560052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72"/>
                      </a:moveTo>
                      <a:lnTo>
                        <a:pt x="80" y="67"/>
                      </a:lnTo>
                      <a:lnTo>
                        <a:pt x="75" y="63"/>
                      </a:lnTo>
                      <a:lnTo>
                        <a:pt x="67" y="63"/>
                      </a:lnTo>
                      <a:lnTo>
                        <a:pt x="62" y="58"/>
                      </a:lnTo>
                      <a:lnTo>
                        <a:pt x="58" y="52"/>
                      </a:lnTo>
                      <a:lnTo>
                        <a:pt x="53" y="48"/>
                      </a:lnTo>
                      <a:lnTo>
                        <a:pt x="49" y="43"/>
                      </a:lnTo>
                      <a:lnTo>
                        <a:pt x="45" y="38"/>
                      </a:lnTo>
                      <a:lnTo>
                        <a:pt x="35" y="38"/>
                      </a:lnTo>
                      <a:lnTo>
                        <a:pt x="35" y="33"/>
                      </a:lnTo>
                      <a:lnTo>
                        <a:pt x="26" y="29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8" y="9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30" y="38"/>
                      </a:lnTo>
                      <a:lnTo>
                        <a:pt x="35" y="38"/>
                      </a:lnTo>
                      <a:lnTo>
                        <a:pt x="39" y="43"/>
                      </a:lnTo>
                      <a:lnTo>
                        <a:pt x="45" y="48"/>
                      </a:lnTo>
                      <a:lnTo>
                        <a:pt x="49" y="52"/>
                      </a:lnTo>
                      <a:lnTo>
                        <a:pt x="58" y="58"/>
                      </a:lnTo>
                      <a:lnTo>
                        <a:pt x="58" y="63"/>
                      </a:lnTo>
                      <a:lnTo>
                        <a:pt x="67" y="63"/>
                      </a:lnTo>
                      <a:lnTo>
                        <a:pt x="71" y="67"/>
                      </a:lnTo>
                      <a:lnTo>
                        <a:pt x="75" y="72"/>
                      </a:lnTo>
                      <a:lnTo>
                        <a:pt x="80" y="67"/>
                      </a:lnTo>
                      <a:lnTo>
                        <a:pt x="75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67"/>
                      </a:lnTo>
                      <a:lnTo>
                        <a:pt x="8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388120" y="5624640"/>
                  <a:ext cx="36720" cy="25920"/>
                </a:xfrm>
                <a:custGeom>
                  <a:avLst/>
                  <a:gdLst/>
                  <a:ahLst/>
                  <a:rect l="0" t="0" r="r" b="b"/>
                  <a:pathLst>
                    <a:path w="10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102" y="0"/>
                      </a:lnTo>
                      <a:lnTo>
                        <a:pt x="102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278320" y="5627520"/>
                  <a:ext cx="101880" cy="51120"/>
                </a:xfrm>
                <a:custGeom>
                  <a:avLst/>
                  <a:gdLst/>
                  <a:ahLst/>
                  <a:rect l="0" t="0" r="r" b="b"/>
                  <a:pathLst>
                    <a:path w="283" h="142">
                      <a:moveTo>
                        <a:pt x="8" y="142"/>
                      </a:moveTo>
                      <a:lnTo>
                        <a:pt x="4" y="142"/>
                      </a:lnTo>
                      <a:lnTo>
                        <a:pt x="283" y="4"/>
                      </a:lnTo>
                      <a:lnTo>
                        <a:pt x="278" y="0"/>
                      </a:lnTo>
                      <a:lnTo>
                        <a:pt x="4" y="137"/>
                      </a:lnTo>
                      <a:lnTo>
                        <a:pt x="0" y="142"/>
                      </a:lnTo>
                      <a:lnTo>
                        <a:pt x="4" y="137"/>
                      </a:lnTo>
                      <a:lnTo>
                        <a:pt x="0" y="137"/>
                      </a:lnTo>
                      <a:lnTo>
                        <a:pt x="0" y="142"/>
                      </a:lnTo>
                      <a:lnTo>
                        <a:pt x="4" y="142"/>
                      </a:lnTo>
                      <a:lnTo>
                        <a:pt x="4" y="142"/>
                      </a:lnTo>
                      <a:lnTo>
                        <a:pt x="8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27220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7" y="64"/>
                      </a:move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17" y="72"/>
                      </a:lnTo>
                      <a:lnTo>
                        <a:pt x="0" y="72"/>
                      </a:lnTo>
                      <a:lnTo>
                        <a:pt x="17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195880" y="5067360"/>
                  <a:ext cx="608400" cy="508320"/>
                </a:xfrm>
                <a:custGeom>
                  <a:avLst/>
                  <a:gdLst/>
                  <a:ahLst/>
                  <a:rect l="0" t="0" r="r" b="b"/>
                  <a:pathLst>
                    <a:path w="1690" h="1412">
                      <a:moveTo>
                        <a:pt x="26" y="1271"/>
                      </a:moveTo>
                      <a:lnTo>
                        <a:pt x="1563" y="1412"/>
                      </a:lnTo>
                      <a:lnTo>
                        <a:pt x="1571" y="1376"/>
                      </a:lnTo>
                      <a:lnTo>
                        <a:pt x="1576" y="1337"/>
                      </a:lnTo>
                      <a:lnTo>
                        <a:pt x="1580" y="1301"/>
                      </a:lnTo>
                      <a:lnTo>
                        <a:pt x="1589" y="1262"/>
                      </a:lnTo>
                      <a:lnTo>
                        <a:pt x="1593" y="1222"/>
                      </a:lnTo>
                      <a:lnTo>
                        <a:pt x="1598" y="1187"/>
                      </a:lnTo>
                      <a:lnTo>
                        <a:pt x="1602" y="1147"/>
                      </a:lnTo>
                      <a:lnTo>
                        <a:pt x="1611" y="1107"/>
                      </a:lnTo>
                      <a:lnTo>
                        <a:pt x="1615" y="1068"/>
                      </a:lnTo>
                      <a:lnTo>
                        <a:pt x="1620" y="1028"/>
                      </a:lnTo>
                      <a:lnTo>
                        <a:pt x="1624" y="988"/>
                      </a:lnTo>
                      <a:lnTo>
                        <a:pt x="1633" y="949"/>
                      </a:lnTo>
                      <a:lnTo>
                        <a:pt x="1638" y="913"/>
                      </a:lnTo>
                      <a:lnTo>
                        <a:pt x="1642" y="869"/>
                      </a:lnTo>
                      <a:lnTo>
                        <a:pt x="1642" y="830"/>
                      </a:lnTo>
                      <a:lnTo>
                        <a:pt x="1651" y="790"/>
                      </a:lnTo>
                      <a:lnTo>
                        <a:pt x="1655" y="750"/>
                      </a:lnTo>
                      <a:lnTo>
                        <a:pt x="1655" y="710"/>
                      </a:lnTo>
                      <a:lnTo>
                        <a:pt x="1660" y="670"/>
                      </a:lnTo>
                      <a:lnTo>
                        <a:pt x="1664" y="626"/>
                      </a:lnTo>
                      <a:lnTo>
                        <a:pt x="1668" y="586"/>
                      </a:lnTo>
                      <a:lnTo>
                        <a:pt x="1673" y="546"/>
                      </a:lnTo>
                      <a:lnTo>
                        <a:pt x="1673" y="507"/>
                      </a:lnTo>
                      <a:lnTo>
                        <a:pt x="1677" y="463"/>
                      </a:lnTo>
                      <a:lnTo>
                        <a:pt x="1677" y="423"/>
                      </a:lnTo>
                      <a:lnTo>
                        <a:pt x="1682" y="383"/>
                      </a:lnTo>
                      <a:lnTo>
                        <a:pt x="1682" y="343"/>
                      </a:lnTo>
                      <a:lnTo>
                        <a:pt x="1686" y="299"/>
                      </a:lnTo>
                      <a:lnTo>
                        <a:pt x="1686" y="260"/>
                      </a:lnTo>
                      <a:lnTo>
                        <a:pt x="1686" y="216"/>
                      </a:lnTo>
                      <a:lnTo>
                        <a:pt x="1690" y="176"/>
                      </a:lnTo>
                      <a:lnTo>
                        <a:pt x="1690" y="132"/>
                      </a:lnTo>
                      <a:lnTo>
                        <a:pt x="1690" y="127"/>
                      </a:lnTo>
                      <a:lnTo>
                        <a:pt x="1686" y="119"/>
                      </a:lnTo>
                      <a:lnTo>
                        <a:pt x="1686" y="114"/>
                      </a:lnTo>
                      <a:lnTo>
                        <a:pt x="1682" y="110"/>
                      </a:lnTo>
                      <a:lnTo>
                        <a:pt x="1677" y="105"/>
                      </a:lnTo>
                      <a:lnTo>
                        <a:pt x="1668" y="101"/>
                      </a:lnTo>
                      <a:lnTo>
                        <a:pt x="1664" y="97"/>
                      </a:lnTo>
                      <a:lnTo>
                        <a:pt x="1655" y="92"/>
                      </a:lnTo>
                      <a:lnTo>
                        <a:pt x="1607" y="83"/>
                      </a:lnTo>
                      <a:lnTo>
                        <a:pt x="1558" y="79"/>
                      </a:lnTo>
                      <a:lnTo>
                        <a:pt x="1514" y="74"/>
                      </a:lnTo>
                      <a:lnTo>
                        <a:pt x="1470" y="66"/>
                      </a:lnTo>
                      <a:lnTo>
                        <a:pt x="1421" y="61"/>
                      </a:lnTo>
                      <a:lnTo>
                        <a:pt x="1377" y="57"/>
                      </a:lnTo>
                      <a:lnTo>
                        <a:pt x="1329" y="52"/>
                      </a:lnTo>
                      <a:lnTo>
                        <a:pt x="1285" y="48"/>
                      </a:lnTo>
                      <a:lnTo>
                        <a:pt x="1240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7" y="30"/>
                      </a:lnTo>
                      <a:lnTo>
                        <a:pt x="1059" y="26"/>
                      </a:lnTo>
                      <a:lnTo>
                        <a:pt x="1015" y="26"/>
                      </a:lnTo>
                      <a:lnTo>
                        <a:pt x="971" y="17"/>
                      </a:lnTo>
                      <a:lnTo>
                        <a:pt x="927" y="17"/>
                      </a:lnTo>
                      <a:lnTo>
                        <a:pt x="882" y="13"/>
                      </a:lnTo>
                      <a:lnTo>
                        <a:pt x="838" y="13"/>
                      </a:lnTo>
                      <a:lnTo>
                        <a:pt x="794" y="13"/>
                      </a:lnTo>
                      <a:lnTo>
                        <a:pt x="746" y="8"/>
                      </a:lnTo>
                      <a:lnTo>
                        <a:pt x="702" y="8"/>
                      </a:lnTo>
                      <a:lnTo>
                        <a:pt x="658" y="8"/>
                      </a:lnTo>
                      <a:lnTo>
                        <a:pt x="613" y="4"/>
                      </a:lnTo>
                      <a:lnTo>
                        <a:pt x="565" y="4"/>
                      </a:lnTo>
                      <a:lnTo>
                        <a:pt x="521" y="4"/>
                      </a:lnTo>
                      <a:lnTo>
                        <a:pt x="477" y="4"/>
                      </a:lnTo>
                      <a:lnTo>
                        <a:pt x="433" y="4"/>
                      </a:lnTo>
                      <a:lnTo>
                        <a:pt x="383" y="0"/>
                      </a:lnTo>
                      <a:lnTo>
                        <a:pt x="335" y="0"/>
                      </a:lnTo>
                      <a:lnTo>
                        <a:pt x="291" y="0"/>
                      </a:lnTo>
                      <a:lnTo>
                        <a:pt x="242" y="0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6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8"/>
                      </a:lnTo>
                      <a:lnTo>
                        <a:pt x="119" y="8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30"/>
                      </a:lnTo>
                      <a:lnTo>
                        <a:pt x="105" y="35"/>
                      </a:lnTo>
                      <a:lnTo>
                        <a:pt x="101" y="39"/>
                      </a:lnTo>
                      <a:lnTo>
                        <a:pt x="97" y="61"/>
                      </a:lnTo>
                      <a:lnTo>
                        <a:pt x="92" y="83"/>
                      </a:lnTo>
                      <a:lnTo>
                        <a:pt x="92" y="105"/>
                      </a:lnTo>
                      <a:lnTo>
                        <a:pt x="88" y="123"/>
                      </a:lnTo>
                      <a:lnTo>
                        <a:pt x="83" y="145"/>
                      </a:lnTo>
                      <a:lnTo>
                        <a:pt x="79" y="167"/>
                      </a:lnTo>
                      <a:lnTo>
                        <a:pt x="74" y="185"/>
                      </a:lnTo>
                      <a:lnTo>
                        <a:pt x="70" y="207"/>
                      </a:lnTo>
                      <a:lnTo>
                        <a:pt x="70" y="224"/>
                      </a:lnTo>
                      <a:lnTo>
                        <a:pt x="66" y="246"/>
                      </a:lnTo>
                      <a:lnTo>
                        <a:pt x="61" y="268"/>
                      </a:lnTo>
                      <a:lnTo>
                        <a:pt x="57" y="286"/>
                      </a:lnTo>
                      <a:lnTo>
                        <a:pt x="57" y="308"/>
                      </a:lnTo>
                      <a:lnTo>
                        <a:pt x="52" y="330"/>
                      </a:lnTo>
                      <a:lnTo>
                        <a:pt x="52" y="352"/>
                      </a:lnTo>
                      <a:lnTo>
                        <a:pt x="48" y="370"/>
                      </a:lnTo>
                      <a:lnTo>
                        <a:pt x="48" y="392"/>
                      </a:lnTo>
                      <a:lnTo>
                        <a:pt x="44" y="414"/>
                      </a:lnTo>
                      <a:lnTo>
                        <a:pt x="39" y="432"/>
                      </a:lnTo>
                      <a:lnTo>
                        <a:pt x="39" y="454"/>
                      </a:lnTo>
                      <a:lnTo>
                        <a:pt x="35" y="471"/>
                      </a:lnTo>
                      <a:lnTo>
                        <a:pt x="35" y="493"/>
                      </a:lnTo>
                      <a:lnTo>
                        <a:pt x="30" y="515"/>
                      </a:lnTo>
                      <a:lnTo>
                        <a:pt x="30" y="533"/>
                      </a:lnTo>
                      <a:lnTo>
                        <a:pt x="30" y="555"/>
                      </a:lnTo>
                      <a:lnTo>
                        <a:pt x="26" y="577"/>
                      </a:lnTo>
                      <a:lnTo>
                        <a:pt x="26" y="599"/>
                      </a:lnTo>
                      <a:lnTo>
                        <a:pt x="26" y="617"/>
                      </a:lnTo>
                      <a:lnTo>
                        <a:pt x="22" y="635"/>
                      </a:lnTo>
                      <a:lnTo>
                        <a:pt x="17" y="657"/>
                      </a:lnTo>
                      <a:lnTo>
                        <a:pt x="17" y="679"/>
                      </a:lnTo>
                      <a:lnTo>
                        <a:pt x="17" y="701"/>
                      </a:lnTo>
                      <a:lnTo>
                        <a:pt x="17" y="715"/>
                      </a:lnTo>
                      <a:lnTo>
                        <a:pt x="17" y="733"/>
                      </a:lnTo>
                      <a:lnTo>
                        <a:pt x="13" y="750"/>
                      </a:lnTo>
                      <a:lnTo>
                        <a:pt x="13" y="768"/>
                      </a:lnTo>
                      <a:lnTo>
                        <a:pt x="13" y="781"/>
                      </a:lnTo>
                      <a:lnTo>
                        <a:pt x="13" y="799"/>
                      </a:lnTo>
                      <a:lnTo>
                        <a:pt x="13" y="816"/>
                      </a:lnTo>
                      <a:lnTo>
                        <a:pt x="13" y="830"/>
                      </a:lnTo>
                      <a:lnTo>
                        <a:pt x="8" y="847"/>
                      </a:lnTo>
                      <a:lnTo>
                        <a:pt x="8" y="865"/>
                      </a:lnTo>
                      <a:lnTo>
                        <a:pt x="8" y="882"/>
                      </a:lnTo>
                      <a:lnTo>
                        <a:pt x="8" y="896"/>
                      </a:lnTo>
                      <a:lnTo>
                        <a:pt x="8" y="913"/>
                      </a:lnTo>
                      <a:lnTo>
                        <a:pt x="8" y="931"/>
                      </a:lnTo>
                      <a:lnTo>
                        <a:pt x="8" y="944"/>
                      </a:lnTo>
                      <a:lnTo>
                        <a:pt x="8" y="962"/>
                      </a:lnTo>
                      <a:lnTo>
                        <a:pt x="8" y="979"/>
                      </a:lnTo>
                      <a:lnTo>
                        <a:pt x="4" y="997"/>
                      </a:lnTo>
                      <a:lnTo>
                        <a:pt x="4" y="1010"/>
                      </a:lnTo>
                      <a:lnTo>
                        <a:pt x="4" y="1028"/>
                      </a:lnTo>
                      <a:lnTo>
                        <a:pt x="4" y="1046"/>
                      </a:lnTo>
                      <a:lnTo>
                        <a:pt x="4" y="1063"/>
                      </a:lnTo>
                      <a:lnTo>
                        <a:pt x="4" y="1076"/>
                      </a:lnTo>
                      <a:lnTo>
                        <a:pt x="4" y="1094"/>
                      </a:lnTo>
                      <a:lnTo>
                        <a:pt x="4" y="1112"/>
                      </a:lnTo>
                      <a:lnTo>
                        <a:pt x="4" y="1125"/>
                      </a:lnTo>
                      <a:lnTo>
                        <a:pt x="4" y="1143"/>
                      </a:lnTo>
                      <a:lnTo>
                        <a:pt x="4" y="1160"/>
                      </a:lnTo>
                      <a:lnTo>
                        <a:pt x="0" y="1178"/>
                      </a:lnTo>
                      <a:lnTo>
                        <a:pt x="0" y="1196"/>
                      </a:lnTo>
                      <a:lnTo>
                        <a:pt x="0" y="1209"/>
                      </a:lnTo>
                      <a:lnTo>
                        <a:pt x="0" y="1226"/>
                      </a:lnTo>
                      <a:lnTo>
                        <a:pt x="0" y="1235"/>
                      </a:lnTo>
                      <a:lnTo>
                        <a:pt x="0" y="1244"/>
                      </a:lnTo>
                      <a:lnTo>
                        <a:pt x="4" y="1248"/>
                      </a:lnTo>
                      <a:lnTo>
                        <a:pt x="4" y="1257"/>
                      </a:lnTo>
                      <a:lnTo>
                        <a:pt x="8" y="1262"/>
                      </a:lnTo>
                      <a:lnTo>
                        <a:pt x="13" y="1266"/>
                      </a:lnTo>
                      <a:lnTo>
                        <a:pt x="17" y="1266"/>
                      </a:lnTo>
                      <a:lnTo>
                        <a:pt x="26" y="1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205240" y="5530680"/>
                  <a:ext cx="552960" cy="47880"/>
                </a:xfrm>
                <a:custGeom>
                  <a:avLst/>
                  <a:gdLst/>
                  <a:ahLst/>
                  <a:rect l="0" t="0" r="r" b="b"/>
                  <a:pathLst>
                    <a:path w="1536" h="133">
                      <a:moveTo>
                        <a:pt x="1532" y="128"/>
                      </a:moveTo>
                      <a:lnTo>
                        <a:pt x="1532" y="12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6" y="128"/>
                      </a:lnTo>
                      <a:lnTo>
                        <a:pt x="1532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764320" y="5114880"/>
                  <a:ext cx="39960" cy="462240"/>
                </a:xfrm>
                <a:custGeom>
                  <a:avLst/>
                  <a:gdLst/>
                  <a:ahLst/>
                  <a:rect l="0" t="0" r="r" b="b"/>
                  <a:pathLst>
                    <a:path w="111" h="1284">
                      <a:moveTo>
                        <a:pt x="106" y="4"/>
                      </a:moveTo>
                      <a:lnTo>
                        <a:pt x="106" y="4"/>
                      </a:lnTo>
                      <a:lnTo>
                        <a:pt x="106" y="44"/>
                      </a:lnTo>
                      <a:lnTo>
                        <a:pt x="106" y="83"/>
                      </a:lnTo>
                      <a:lnTo>
                        <a:pt x="102" y="127"/>
                      </a:lnTo>
                      <a:lnTo>
                        <a:pt x="102" y="167"/>
                      </a:lnTo>
                      <a:lnTo>
                        <a:pt x="102" y="211"/>
                      </a:lnTo>
                      <a:lnTo>
                        <a:pt x="98" y="251"/>
                      </a:lnTo>
                      <a:lnTo>
                        <a:pt x="98" y="291"/>
                      </a:lnTo>
                      <a:lnTo>
                        <a:pt x="93" y="330"/>
                      </a:lnTo>
                      <a:lnTo>
                        <a:pt x="93" y="374"/>
                      </a:lnTo>
                      <a:lnTo>
                        <a:pt x="89" y="414"/>
                      </a:lnTo>
                      <a:lnTo>
                        <a:pt x="84" y="454"/>
                      </a:lnTo>
                      <a:lnTo>
                        <a:pt x="84" y="498"/>
                      </a:lnTo>
                      <a:lnTo>
                        <a:pt x="84" y="537"/>
                      </a:lnTo>
                      <a:lnTo>
                        <a:pt x="80" y="577"/>
                      </a:lnTo>
                      <a:lnTo>
                        <a:pt x="75" y="617"/>
                      </a:lnTo>
                      <a:lnTo>
                        <a:pt x="71" y="658"/>
                      </a:lnTo>
                      <a:lnTo>
                        <a:pt x="67" y="702"/>
                      </a:lnTo>
                      <a:lnTo>
                        <a:pt x="62" y="737"/>
                      </a:lnTo>
                      <a:lnTo>
                        <a:pt x="58" y="777"/>
                      </a:lnTo>
                      <a:lnTo>
                        <a:pt x="58" y="821"/>
                      </a:lnTo>
                      <a:lnTo>
                        <a:pt x="52" y="860"/>
                      </a:lnTo>
                      <a:lnTo>
                        <a:pt x="48" y="896"/>
                      </a:lnTo>
                      <a:lnTo>
                        <a:pt x="44" y="935"/>
                      </a:lnTo>
                      <a:lnTo>
                        <a:pt x="39" y="975"/>
                      </a:lnTo>
                      <a:lnTo>
                        <a:pt x="35" y="1015"/>
                      </a:lnTo>
                      <a:lnTo>
                        <a:pt x="30" y="1054"/>
                      </a:lnTo>
                      <a:lnTo>
                        <a:pt x="26" y="1094"/>
                      </a:lnTo>
                      <a:lnTo>
                        <a:pt x="22" y="1129"/>
                      </a:lnTo>
                      <a:lnTo>
                        <a:pt x="13" y="1169"/>
                      </a:lnTo>
                      <a:lnTo>
                        <a:pt x="8" y="1204"/>
                      </a:lnTo>
                      <a:lnTo>
                        <a:pt x="4" y="1244"/>
                      </a:lnTo>
                      <a:lnTo>
                        <a:pt x="0" y="1279"/>
                      </a:lnTo>
                      <a:lnTo>
                        <a:pt x="4" y="1284"/>
                      </a:lnTo>
                      <a:lnTo>
                        <a:pt x="8" y="1244"/>
                      </a:lnTo>
                      <a:lnTo>
                        <a:pt x="13" y="1209"/>
                      </a:lnTo>
                      <a:lnTo>
                        <a:pt x="22" y="1169"/>
                      </a:lnTo>
                      <a:lnTo>
                        <a:pt x="26" y="1134"/>
                      </a:lnTo>
                      <a:lnTo>
                        <a:pt x="30" y="1094"/>
                      </a:lnTo>
                      <a:lnTo>
                        <a:pt x="35" y="1054"/>
                      </a:lnTo>
                      <a:lnTo>
                        <a:pt x="39" y="1019"/>
                      </a:lnTo>
                      <a:lnTo>
                        <a:pt x="44" y="979"/>
                      </a:lnTo>
                      <a:lnTo>
                        <a:pt x="48" y="940"/>
                      </a:lnTo>
                      <a:lnTo>
                        <a:pt x="52" y="896"/>
                      </a:lnTo>
                      <a:lnTo>
                        <a:pt x="58" y="860"/>
                      </a:lnTo>
                      <a:lnTo>
                        <a:pt x="62" y="821"/>
                      </a:lnTo>
                      <a:lnTo>
                        <a:pt x="67" y="781"/>
                      </a:lnTo>
                      <a:lnTo>
                        <a:pt x="71" y="737"/>
                      </a:lnTo>
                      <a:lnTo>
                        <a:pt x="75" y="702"/>
                      </a:lnTo>
                      <a:lnTo>
                        <a:pt x="75" y="658"/>
                      </a:lnTo>
                      <a:lnTo>
                        <a:pt x="80" y="617"/>
                      </a:lnTo>
                      <a:lnTo>
                        <a:pt x="84" y="577"/>
                      </a:lnTo>
                      <a:lnTo>
                        <a:pt x="84" y="537"/>
                      </a:lnTo>
                      <a:lnTo>
                        <a:pt x="89" y="498"/>
                      </a:lnTo>
                      <a:lnTo>
                        <a:pt x="93" y="454"/>
                      </a:lnTo>
                      <a:lnTo>
                        <a:pt x="93" y="414"/>
                      </a:lnTo>
                      <a:lnTo>
                        <a:pt x="98" y="374"/>
                      </a:lnTo>
                      <a:lnTo>
                        <a:pt x="102" y="330"/>
                      </a:lnTo>
                      <a:lnTo>
                        <a:pt x="102" y="291"/>
                      </a:lnTo>
                      <a:lnTo>
                        <a:pt x="106" y="251"/>
                      </a:lnTo>
                      <a:lnTo>
                        <a:pt x="106" y="211"/>
                      </a:lnTo>
                      <a:lnTo>
                        <a:pt x="106" y="167"/>
                      </a:lnTo>
                      <a:lnTo>
                        <a:pt x="111" y="127"/>
                      </a:lnTo>
                      <a:lnTo>
                        <a:pt x="111" y="83"/>
                      </a:lnTo>
                      <a:lnTo>
                        <a:pt x="111" y="44"/>
                      </a:lnTo>
                      <a:lnTo>
                        <a:pt x="111" y="4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06" y="0"/>
                      </a:lnTo>
                      <a:lnTo>
                        <a:pt x="10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797440" y="510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" y="17"/>
                      </a:lnTo>
                      <a:lnTo>
                        <a:pt x="36" y="17"/>
                      </a:lnTo>
                      <a:lnTo>
                        <a:pt x="36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lnTo>
                        <a:pt x="53" y="53"/>
                      </a:lnTo>
                      <a:lnTo>
                        <a:pt x="53" y="53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3"/>
                      </a:lnTo>
                      <a:lnTo>
                        <a:pt x="72" y="53"/>
                      </a:lnTo>
                      <a:lnTo>
                        <a:pt x="72" y="36"/>
                      </a:lnTo>
                      <a:lnTo>
                        <a:pt x="53" y="36"/>
                      </a:lnTo>
                      <a:lnTo>
                        <a:pt x="53" y="17"/>
                      </a:lnTo>
                      <a:lnTo>
                        <a:pt x="36" y="17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65720" y="5065560"/>
                  <a:ext cx="525960" cy="27360"/>
                </a:xfrm>
                <a:custGeom>
                  <a:avLst/>
                  <a:gdLst/>
                  <a:ahLst/>
                  <a:rect l="0" t="0" r="r" b="b"/>
                  <a:pathLst>
                    <a:path w="146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52" y="4"/>
                      </a:lnTo>
                      <a:lnTo>
                        <a:pt x="97" y="4"/>
                      </a:lnTo>
                      <a:lnTo>
                        <a:pt x="145" y="4"/>
                      </a:lnTo>
                      <a:lnTo>
                        <a:pt x="189" y="4"/>
                      </a:lnTo>
                      <a:lnTo>
                        <a:pt x="238" y="4"/>
                      </a:lnTo>
                      <a:lnTo>
                        <a:pt x="282" y="4"/>
                      </a:lnTo>
                      <a:lnTo>
                        <a:pt x="330" y="8"/>
                      </a:lnTo>
                      <a:lnTo>
                        <a:pt x="375" y="8"/>
                      </a:lnTo>
                      <a:lnTo>
                        <a:pt x="419" y="8"/>
                      </a:lnTo>
                      <a:lnTo>
                        <a:pt x="464" y="8"/>
                      </a:lnTo>
                      <a:lnTo>
                        <a:pt x="508" y="13"/>
                      </a:lnTo>
                      <a:lnTo>
                        <a:pt x="552" y="13"/>
                      </a:lnTo>
                      <a:lnTo>
                        <a:pt x="600" y="13"/>
                      </a:lnTo>
                      <a:lnTo>
                        <a:pt x="644" y="13"/>
                      </a:lnTo>
                      <a:lnTo>
                        <a:pt x="688" y="17"/>
                      </a:lnTo>
                      <a:lnTo>
                        <a:pt x="733" y="17"/>
                      </a:lnTo>
                      <a:lnTo>
                        <a:pt x="777" y="23"/>
                      </a:lnTo>
                      <a:lnTo>
                        <a:pt x="821" y="23"/>
                      </a:lnTo>
                      <a:lnTo>
                        <a:pt x="865" y="27"/>
                      </a:lnTo>
                      <a:lnTo>
                        <a:pt x="913" y="27"/>
                      </a:lnTo>
                      <a:lnTo>
                        <a:pt x="957" y="31"/>
                      </a:lnTo>
                      <a:lnTo>
                        <a:pt x="1002" y="36"/>
                      </a:lnTo>
                      <a:lnTo>
                        <a:pt x="1046" y="36"/>
                      </a:lnTo>
                      <a:lnTo>
                        <a:pt x="1090" y="40"/>
                      </a:lnTo>
                      <a:lnTo>
                        <a:pt x="1135" y="45"/>
                      </a:lnTo>
                      <a:lnTo>
                        <a:pt x="1179" y="49"/>
                      </a:lnTo>
                      <a:lnTo>
                        <a:pt x="1227" y="49"/>
                      </a:lnTo>
                      <a:lnTo>
                        <a:pt x="1276" y="59"/>
                      </a:lnTo>
                      <a:lnTo>
                        <a:pt x="1320" y="63"/>
                      </a:lnTo>
                      <a:lnTo>
                        <a:pt x="1364" y="68"/>
                      </a:lnTo>
                      <a:lnTo>
                        <a:pt x="1413" y="72"/>
                      </a:lnTo>
                      <a:lnTo>
                        <a:pt x="1457" y="76"/>
                      </a:lnTo>
                      <a:lnTo>
                        <a:pt x="1461" y="72"/>
                      </a:lnTo>
                      <a:lnTo>
                        <a:pt x="1413" y="68"/>
                      </a:lnTo>
                      <a:lnTo>
                        <a:pt x="1369" y="63"/>
                      </a:lnTo>
                      <a:lnTo>
                        <a:pt x="1320" y="59"/>
                      </a:lnTo>
                      <a:lnTo>
                        <a:pt x="1276" y="49"/>
                      </a:lnTo>
                      <a:lnTo>
                        <a:pt x="1227" y="49"/>
                      </a:lnTo>
                      <a:lnTo>
                        <a:pt x="1183" y="45"/>
                      </a:lnTo>
                      <a:lnTo>
                        <a:pt x="1135" y="40"/>
                      </a:lnTo>
                      <a:lnTo>
                        <a:pt x="1090" y="36"/>
                      </a:lnTo>
                      <a:lnTo>
                        <a:pt x="1046" y="31"/>
                      </a:lnTo>
                      <a:lnTo>
                        <a:pt x="1002" y="27"/>
                      </a:lnTo>
                      <a:lnTo>
                        <a:pt x="957" y="27"/>
                      </a:lnTo>
                      <a:lnTo>
                        <a:pt x="913" y="23"/>
                      </a:lnTo>
                      <a:lnTo>
                        <a:pt x="869" y="23"/>
                      </a:lnTo>
                      <a:lnTo>
                        <a:pt x="821" y="17"/>
                      </a:lnTo>
                      <a:lnTo>
                        <a:pt x="777" y="13"/>
                      </a:lnTo>
                      <a:lnTo>
                        <a:pt x="733" y="13"/>
                      </a:lnTo>
                      <a:lnTo>
                        <a:pt x="688" y="13"/>
                      </a:lnTo>
                      <a:lnTo>
                        <a:pt x="644" y="8"/>
                      </a:lnTo>
                      <a:lnTo>
                        <a:pt x="600" y="8"/>
                      </a:lnTo>
                      <a:lnTo>
                        <a:pt x="552" y="8"/>
                      </a:lnTo>
                      <a:lnTo>
                        <a:pt x="508" y="4"/>
                      </a:lnTo>
                      <a:lnTo>
                        <a:pt x="464" y="4"/>
                      </a:lnTo>
                      <a:lnTo>
                        <a:pt x="419" y="4"/>
                      </a:lnTo>
                      <a:lnTo>
                        <a:pt x="375" y="0"/>
                      </a:lnTo>
                      <a:lnTo>
                        <a:pt x="330" y="0"/>
                      </a:lnTo>
                      <a:lnTo>
                        <a:pt x="282" y="0"/>
                      </a:lnTo>
                      <a:lnTo>
                        <a:pt x="238" y="0"/>
                      </a:lnTo>
                      <a:lnTo>
                        <a:pt x="189" y="0"/>
                      </a:lnTo>
                      <a:lnTo>
                        <a:pt x="145" y="0"/>
                      </a:lnTo>
                      <a:lnTo>
                        <a:pt x="97" y="0"/>
                      </a:lnTo>
                      <a:lnTo>
                        <a:pt x="5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232240" y="506556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8" y="58"/>
                      </a:lnTo>
                      <a:lnTo>
                        <a:pt x="8" y="43"/>
                      </a:lnTo>
                      <a:lnTo>
                        <a:pt x="13" y="43"/>
                      </a:lnTo>
                      <a:lnTo>
                        <a:pt x="13" y="29"/>
                      </a:lnTo>
                      <a:lnTo>
                        <a:pt x="13" y="29"/>
                      </a:lnTo>
                      <a:lnTo>
                        <a:pt x="17" y="29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40" y="14"/>
                      </a:lnTo>
                      <a:lnTo>
                        <a:pt x="45" y="14"/>
                      </a:lnTo>
                      <a:lnTo>
                        <a:pt x="49" y="14"/>
                      </a:lnTo>
                      <a:lnTo>
                        <a:pt x="59" y="14"/>
                      </a:lnTo>
                      <a:lnTo>
                        <a:pt x="68" y="14"/>
                      </a:lnTo>
                      <a:lnTo>
                        <a:pt x="76" y="14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9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3" y="14"/>
                      </a:lnTo>
                      <a:lnTo>
                        <a:pt x="13" y="29"/>
                      </a:lnTo>
                      <a:lnTo>
                        <a:pt x="8" y="29"/>
                      </a:lnTo>
                      <a:lnTo>
                        <a:pt x="8" y="43"/>
                      </a:lnTo>
                      <a:lnTo>
                        <a:pt x="4" y="43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02360" y="5083200"/>
                  <a:ext cx="25920" cy="233640"/>
                </a:xfrm>
                <a:custGeom>
                  <a:avLst/>
                  <a:gdLst/>
                  <a:ahLst/>
                  <a:rect l="0" t="0" r="r" b="b"/>
                  <a:pathLst>
                    <a:path w="72" h="649">
                      <a:moveTo>
                        <a:pt x="4" y="644"/>
                      </a:moveTo>
                      <a:lnTo>
                        <a:pt x="4" y="644"/>
                      </a:lnTo>
                      <a:lnTo>
                        <a:pt x="4" y="627"/>
                      </a:lnTo>
                      <a:lnTo>
                        <a:pt x="9" y="605"/>
                      </a:lnTo>
                      <a:lnTo>
                        <a:pt x="9" y="583"/>
                      </a:lnTo>
                      <a:lnTo>
                        <a:pt x="9" y="565"/>
                      </a:lnTo>
                      <a:lnTo>
                        <a:pt x="9" y="547"/>
                      </a:lnTo>
                      <a:lnTo>
                        <a:pt x="9" y="525"/>
                      </a:lnTo>
                      <a:lnTo>
                        <a:pt x="14" y="503"/>
                      </a:lnTo>
                      <a:lnTo>
                        <a:pt x="14" y="486"/>
                      </a:lnTo>
                      <a:lnTo>
                        <a:pt x="19" y="464"/>
                      </a:lnTo>
                      <a:lnTo>
                        <a:pt x="19" y="446"/>
                      </a:lnTo>
                      <a:lnTo>
                        <a:pt x="19" y="424"/>
                      </a:lnTo>
                      <a:lnTo>
                        <a:pt x="19" y="406"/>
                      </a:lnTo>
                      <a:lnTo>
                        <a:pt x="24" y="384"/>
                      </a:lnTo>
                      <a:lnTo>
                        <a:pt x="24" y="362"/>
                      </a:lnTo>
                      <a:lnTo>
                        <a:pt x="29" y="344"/>
                      </a:lnTo>
                      <a:lnTo>
                        <a:pt x="29" y="321"/>
                      </a:lnTo>
                      <a:lnTo>
                        <a:pt x="29" y="304"/>
                      </a:lnTo>
                      <a:lnTo>
                        <a:pt x="33" y="286"/>
                      </a:lnTo>
                      <a:lnTo>
                        <a:pt x="33" y="264"/>
                      </a:lnTo>
                      <a:lnTo>
                        <a:pt x="38" y="242"/>
                      </a:lnTo>
                      <a:lnTo>
                        <a:pt x="43" y="220"/>
                      </a:lnTo>
                      <a:lnTo>
                        <a:pt x="43" y="202"/>
                      </a:lnTo>
                      <a:lnTo>
                        <a:pt x="43" y="180"/>
                      </a:lnTo>
                      <a:lnTo>
                        <a:pt x="48" y="163"/>
                      </a:lnTo>
                      <a:lnTo>
                        <a:pt x="52" y="145"/>
                      </a:lnTo>
                      <a:lnTo>
                        <a:pt x="52" y="123"/>
                      </a:lnTo>
                      <a:lnTo>
                        <a:pt x="58" y="101"/>
                      </a:lnTo>
                      <a:lnTo>
                        <a:pt x="58" y="79"/>
                      </a:lnTo>
                      <a:lnTo>
                        <a:pt x="63" y="61"/>
                      </a:lnTo>
                      <a:lnTo>
                        <a:pt x="67" y="39"/>
                      </a:lnTo>
                      <a:lnTo>
                        <a:pt x="67" y="22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2"/>
                      </a:lnTo>
                      <a:lnTo>
                        <a:pt x="63" y="39"/>
                      </a:lnTo>
                      <a:lnTo>
                        <a:pt x="58" y="61"/>
                      </a:lnTo>
                      <a:lnTo>
                        <a:pt x="52" y="79"/>
                      </a:lnTo>
                      <a:lnTo>
                        <a:pt x="52" y="101"/>
                      </a:lnTo>
                      <a:lnTo>
                        <a:pt x="48" y="123"/>
                      </a:lnTo>
                      <a:lnTo>
                        <a:pt x="43" y="141"/>
                      </a:lnTo>
                      <a:lnTo>
                        <a:pt x="43" y="163"/>
                      </a:lnTo>
                      <a:lnTo>
                        <a:pt x="43" y="180"/>
                      </a:lnTo>
                      <a:lnTo>
                        <a:pt x="38" y="202"/>
                      </a:lnTo>
                      <a:lnTo>
                        <a:pt x="33" y="220"/>
                      </a:lnTo>
                      <a:lnTo>
                        <a:pt x="33" y="242"/>
                      </a:lnTo>
                      <a:lnTo>
                        <a:pt x="29" y="264"/>
                      </a:lnTo>
                      <a:lnTo>
                        <a:pt x="29" y="282"/>
                      </a:lnTo>
                      <a:lnTo>
                        <a:pt x="29" y="304"/>
                      </a:lnTo>
                      <a:lnTo>
                        <a:pt x="24" y="321"/>
                      </a:lnTo>
                      <a:lnTo>
                        <a:pt x="24" y="344"/>
                      </a:lnTo>
                      <a:lnTo>
                        <a:pt x="19" y="362"/>
                      </a:lnTo>
                      <a:lnTo>
                        <a:pt x="19" y="384"/>
                      </a:lnTo>
                      <a:lnTo>
                        <a:pt x="19" y="406"/>
                      </a:lnTo>
                      <a:lnTo>
                        <a:pt x="14" y="424"/>
                      </a:lnTo>
                      <a:lnTo>
                        <a:pt x="14" y="446"/>
                      </a:lnTo>
                      <a:lnTo>
                        <a:pt x="9" y="464"/>
                      </a:lnTo>
                      <a:lnTo>
                        <a:pt x="9" y="486"/>
                      </a:lnTo>
                      <a:lnTo>
                        <a:pt x="9" y="503"/>
                      </a:lnTo>
                      <a:lnTo>
                        <a:pt x="9" y="525"/>
                      </a:lnTo>
                      <a:lnTo>
                        <a:pt x="4" y="547"/>
                      </a:lnTo>
                      <a:lnTo>
                        <a:pt x="4" y="565"/>
                      </a:lnTo>
                      <a:lnTo>
                        <a:pt x="4" y="583"/>
                      </a:lnTo>
                      <a:lnTo>
                        <a:pt x="0" y="605"/>
                      </a:lnTo>
                      <a:lnTo>
                        <a:pt x="0" y="627"/>
                      </a:lnTo>
                      <a:lnTo>
                        <a:pt x="0" y="644"/>
                      </a:lnTo>
                      <a:lnTo>
                        <a:pt x="0" y="644"/>
                      </a:lnTo>
                      <a:lnTo>
                        <a:pt x="0" y="649"/>
                      </a:lnTo>
                      <a:lnTo>
                        <a:pt x="4" y="649"/>
                      </a:lnTo>
                      <a:lnTo>
                        <a:pt x="4" y="6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95880" y="5324400"/>
                  <a:ext cx="0" cy="182520"/>
                </a:xfrm>
                <a:custGeom>
                  <a:avLst/>
                  <a:gdLst/>
                  <a:ahLst/>
                  <a:rect l="0" t="0" r="r" b="b"/>
                  <a:pathLst>
                    <a:path w="0" h="507">
                      <a:moveTo>
                        <a:pt x="0" y="502"/>
                      </a:moveTo>
                      <a:lnTo>
                        <a:pt x="0" y="502"/>
                      </a:lnTo>
                      <a:lnTo>
                        <a:pt x="0" y="489"/>
                      </a:lnTo>
                      <a:lnTo>
                        <a:pt x="0" y="476"/>
                      </a:lnTo>
                      <a:lnTo>
                        <a:pt x="0" y="458"/>
                      </a:lnTo>
                      <a:lnTo>
                        <a:pt x="0" y="440"/>
                      </a:lnTo>
                      <a:lnTo>
                        <a:pt x="0" y="423"/>
                      </a:lnTo>
                      <a:lnTo>
                        <a:pt x="0" y="410"/>
                      </a:lnTo>
                      <a:lnTo>
                        <a:pt x="0" y="396"/>
                      </a:lnTo>
                      <a:lnTo>
                        <a:pt x="0" y="379"/>
                      </a:lnTo>
                      <a:lnTo>
                        <a:pt x="0" y="361"/>
                      </a:lnTo>
                      <a:lnTo>
                        <a:pt x="0" y="348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0" y="299"/>
                      </a:lnTo>
                      <a:lnTo>
                        <a:pt x="0" y="286"/>
                      </a:lnTo>
                      <a:lnTo>
                        <a:pt x="0" y="268"/>
                      </a:lnTo>
                      <a:lnTo>
                        <a:pt x="0" y="251"/>
                      </a:lnTo>
                      <a:lnTo>
                        <a:pt x="0" y="238"/>
                      </a:lnTo>
                      <a:lnTo>
                        <a:pt x="0" y="220"/>
                      </a:lnTo>
                      <a:lnTo>
                        <a:pt x="0" y="207"/>
                      </a:lnTo>
                      <a:lnTo>
                        <a:pt x="0" y="189"/>
                      </a:lnTo>
                      <a:lnTo>
                        <a:pt x="0" y="176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127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79"/>
                      </a:lnTo>
                      <a:lnTo>
                        <a:pt x="0" y="66"/>
                      </a:lnTo>
                      <a:lnTo>
                        <a:pt x="0" y="48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0" y="66"/>
                      </a:lnTo>
                      <a:lnTo>
                        <a:pt x="0" y="79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7"/>
                      </a:lnTo>
                      <a:lnTo>
                        <a:pt x="0" y="141"/>
                      </a:lnTo>
                      <a:lnTo>
                        <a:pt x="0" y="158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0" y="220"/>
                      </a:lnTo>
                      <a:lnTo>
                        <a:pt x="0" y="238"/>
                      </a:lnTo>
                      <a:lnTo>
                        <a:pt x="0" y="251"/>
                      </a:lnTo>
                      <a:lnTo>
                        <a:pt x="0" y="268"/>
                      </a:lnTo>
                      <a:lnTo>
                        <a:pt x="0" y="286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0" y="330"/>
                      </a:lnTo>
                      <a:lnTo>
                        <a:pt x="0" y="348"/>
                      </a:lnTo>
                      <a:lnTo>
                        <a:pt x="0" y="361"/>
                      </a:lnTo>
                      <a:lnTo>
                        <a:pt x="0" y="379"/>
                      </a:lnTo>
                      <a:lnTo>
                        <a:pt x="0" y="396"/>
                      </a:lnTo>
                      <a:lnTo>
                        <a:pt x="0" y="410"/>
                      </a:lnTo>
                      <a:lnTo>
                        <a:pt x="0" y="423"/>
                      </a:lnTo>
                      <a:lnTo>
                        <a:pt x="0" y="440"/>
                      </a:lnTo>
                      <a:lnTo>
                        <a:pt x="0" y="458"/>
                      </a:lnTo>
                      <a:lnTo>
                        <a:pt x="0" y="476"/>
                      </a:lnTo>
                      <a:lnTo>
                        <a:pt x="0" y="489"/>
                      </a:lnTo>
                      <a:lnTo>
                        <a:pt x="0" y="502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195880" y="5514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0"/>
                      </a:move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36"/>
                      </a:lnTo>
                      <a:lnTo>
                        <a:pt x="0" y="2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24"/>
                      </a:lnTo>
                      <a:lnTo>
                        <a:pt x="0" y="36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243400" y="5126040"/>
                  <a:ext cx="498960" cy="394200"/>
                </a:xfrm>
                <a:custGeom>
                  <a:avLst/>
                  <a:gdLst/>
                  <a:ahLst/>
                  <a:rect l="0" t="0" r="r" b="b"/>
                  <a:pathLst>
                    <a:path w="1386" h="1095">
                      <a:moveTo>
                        <a:pt x="83" y="35"/>
                      </a:moveTo>
                      <a:lnTo>
                        <a:pt x="79" y="61"/>
                      </a:lnTo>
                      <a:lnTo>
                        <a:pt x="79" y="88"/>
                      </a:lnTo>
                      <a:lnTo>
                        <a:pt x="74" y="114"/>
                      </a:lnTo>
                      <a:lnTo>
                        <a:pt x="70" y="141"/>
                      </a:lnTo>
                      <a:lnTo>
                        <a:pt x="70" y="167"/>
                      </a:lnTo>
                      <a:lnTo>
                        <a:pt x="66" y="198"/>
                      </a:lnTo>
                      <a:lnTo>
                        <a:pt x="61" y="224"/>
                      </a:lnTo>
                      <a:lnTo>
                        <a:pt x="57" y="251"/>
                      </a:lnTo>
                      <a:lnTo>
                        <a:pt x="57" y="283"/>
                      </a:lnTo>
                      <a:lnTo>
                        <a:pt x="52" y="309"/>
                      </a:lnTo>
                      <a:lnTo>
                        <a:pt x="48" y="336"/>
                      </a:lnTo>
                      <a:lnTo>
                        <a:pt x="44" y="362"/>
                      </a:lnTo>
                      <a:lnTo>
                        <a:pt x="39" y="393"/>
                      </a:lnTo>
                      <a:lnTo>
                        <a:pt x="39" y="419"/>
                      </a:lnTo>
                      <a:lnTo>
                        <a:pt x="35" y="446"/>
                      </a:lnTo>
                      <a:lnTo>
                        <a:pt x="30" y="477"/>
                      </a:lnTo>
                      <a:lnTo>
                        <a:pt x="30" y="503"/>
                      </a:lnTo>
                      <a:lnTo>
                        <a:pt x="26" y="530"/>
                      </a:lnTo>
                      <a:lnTo>
                        <a:pt x="26" y="561"/>
                      </a:lnTo>
                      <a:lnTo>
                        <a:pt x="22" y="591"/>
                      </a:lnTo>
                      <a:lnTo>
                        <a:pt x="17" y="618"/>
                      </a:lnTo>
                      <a:lnTo>
                        <a:pt x="17" y="644"/>
                      </a:lnTo>
                      <a:lnTo>
                        <a:pt x="13" y="675"/>
                      </a:lnTo>
                      <a:lnTo>
                        <a:pt x="13" y="702"/>
                      </a:lnTo>
                      <a:lnTo>
                        <a:pt x="8" y="733"/>
                      </a:lnTo>
                      <a:lnTo>
                        <a:pt x="8" y="763"/>
                      </a:lnTo>
                      <a:lnTo>
                        <a:pt x="8" y="790"/>
                      </a:lnTo>
                      <a:lnTo>
                        <a:pt x="4" y="816"/>
                      </a:lnTo>
                      <a:lnTo>
                        <a:pt x="4" y="848"/>
                      </a:lnTo>
                      <a:lnTo>
                        <a:pt x="4" y="879"/>
                      </a:lnTo>
                      <a:lnTo>
                        <a:pt x="0" y="905"/>
                      </a:lnTo>
                      <a:lnTo>
                        <a:pt x="0" y="936"/>
                      </a:lnTo>
                      <a:lnTo>
                        <a:pt x="0" y="941"/>
                      </a:lnTo>
                      <a:lnTo>
                        <a:pt x="0" y="950"/>
                      </a:lnTo>
                      <a:lnTo>
                        <a:pt x="4" y="958"/>
                      </a:lnTo>
                      <a:lnTo>
                        <a:pt x="4" y="963"/>
                      </a:lnTo>
                      <a:lnTo>
                        <a:pt x="4" y="967"/>
                      </a:lnTo>
                      <a:lnTo>
                        <a:pt x="4" y="976"/>
                      </a:lnTo>
                      <a:lnTo>
                        <a:pt x="8" y="980"/>
                      </a:lnTo>
                      <a:lnTo>
                        <a:pt x="8" y="985"/>
                      </a:lnTo>
                      <a:lnTo>
                        <a:pt x="13" y="985"/>
                      </a:lnTo>
                      <a:lnTo>
                        <a:pt x="13" y="989"/>
                      </a:lnTo>
                      <a:lnTo>
                        <a:pt x="17" y="994"/>
                      </a:lnTo>
                      <a:lnTo>
                        <a:pt x="22" y="994"/>
                      </a:lnTo>
                      <a:lnTo>
                        <a:pt x="26" y="998"/>
                      </a:lnTo>
                      <a:lnTo>
                        <a:pt x="30" y="1003"/>
                      </a:lnTo>
                      <a:lnTo>
                        <a:pt x="35" y="1003"/>
                      </a:lnTo>
                      <a:lnTo>
                        <a:pt x="39" y="1003"/>
                      </a:lnTo>
                      <a:lnTo>
                        <a:pt x="1232" y="1095"/>
                      </a:lnTo>
                      <a:lnTo>
                        <a:pt x="1241" y="1095"/>
                      </a:lnTo>
                      <a:lnTo>
                        <a:pt x="1249" y="1095"/>
                      </a:lnTo>
                      <a:lnTo>
                        <a:pt x="1258" y="1091"/>
                      </a:lnTo>
                      <a:lnTo>
                        <a:pt x="1263" y="1091"/>
                      </a:lnTo>
                      <a:lnTo>
                        <a:pt x="1272" y="1086"/>
                      </a:lnTo>
                      <a:lnTo>
                        <a:pt x="1276" y="1082"/>
                      </a:lnTo>
                      <a:lnTo>
                        <a:pt x="1280" y="1077"/>
                      </a:lnTo>
                      <a:lnTo>
                        <a:pt x="1285" y="1073"/>
                      </a:lnTo>
                      <a:lnTo>
                        <a:pt x="1289" y="1069"/>
                      </a:lnTo>
                      <a:lnTo>
                        <a:pt x="1294" y="1060"/>
                      </a:lnTo>
                      <a:lnTo>
                        <a:pt x="1298" y="1055"/>
                      </a:lnTo>
                      <a:lnTo>
                        <a:pt x="1302" y="1051"/>
                      </a:lnTo>
                      <a:lnTo>
                        <a:pt x="1302" y="1042"/>
                      </a:lnTo>
                      <a:lnTo>
                        <a:pt x="1307" y="1033"/>
                      </a:lnTo>
                      <a:lnTo>
                        <a:pt x="1307" y="1029"/>
                      </a:lnTo>
                      <a:lnTo>
                        <a:pt x="1311" y="1020"/>
                      </a:lnTo>
                      <a:lnTo>
                        <a:pt x="1386" y="154"/>
                      </a:lnTo>
                      <a:lnTo>
                        <a:pt x="1386" y="145"/>
                      </a:lnTo>
                      <a:lnTo>
                        <a:pt x="1386" y="136"/>
                      </a:lnTo>
                      <a:lnTo>
                        <a:pt x="1386" y="127"/>
                      </a:lnTo>
                      <a:lnTo>
                        <a:pt x="1386" y="119"/>
                      </a:lnTo>
                      <a:lnTo>
                        <a:pt x="1386" y="114"/>
                      </a:lnTo>
                      <a:lnTo>
                        <a:pt x="1386" y="110"/>
                      </a:lnTo>
                      <a:lnTo>
                        <a:pt x="1382" y="101"/>
                      </a:lnTo>
                      <a:lnTo>
                        <a:pt x="1382" y="97"/>
                      </a:lnTo>
                      <a:lnTo>
                        <a:pt x="1382" y="92"/>
                      </a:lnTo>
                      <a:lnTo>
                        <a:pt x="1377" y="88"/>
                      </a:lnTo>
                      <a:lnTo>
                        <a:pt x="1377" y="83"/>
                      </a:lnTo>
                      <a:lnTo>
                        <a:pt x="1373" y="79"/>
                      </a:lnTo>
                      <a:lnTo>
                        <a:pt x="1369" y="74"/>
                      </a:lnTo>
                      <a:lnTo>
                        <a:pt x="1364" y="70"/>
                      </a:lnTo>
                      <a:lnTo>
                        <a:pt x="1355" y="70"/>
                      </a:lnTo>
                      <a:lnTo>
                        <a:pt x="1351" y="66"/>
                      </a:lnTo>
                      <a:lnTo>
                        <a:pt x="1316" y="61"/>
                      </a:lnTo>
                      <a:lnTo>
                        <a:pt x="1280" y="57"/>
                      </a:lnTo>
                      <a:lnTo>
                        <a:pt x="1245" y="52"/>
                      </a:lnTo>
                      <a:lnTo>
                        <a:pt x="1210" y="48"/>
                      </a:lnTo>
                      <a:lnTo>
                        <a:pt x="1174" y="44"/>
                      </a:lnTo>
                      <a:lnTo>
                        <a:pt x="1135" y="39"/>
                      </a:lnTo>
                      <a:lnTo>
                        <a:pt x="1104" y="35"/>
                      </a:lnTo>
                      <a:lnTo>
                        <a:pt x="1064" y="30"/>
                      </a:lnTo>
                      <a:lnTo>
                        <a:pt x="1028" y="30"/>
                      </a:lnTo>
                      <a:lnTo>
                        <a:pt x="993" y="26"/>
                      </a:lnTo>
                      <a:lnTo>
                        <a:pt x="953" y="22"/>
                      </a:lnTo>
                      <a:lnTo>
                        <a:pt x="913" y="17"/>
                      </a:lnTo>
                      <a:lnTo>
                        <a:pt x="878" y="17"/>
                      </a:lnTo>
                      <a:lnTo>
                        <a:pt x="843" y="13"/>
                      </a:lnTo>
                      <a:lnTo>
                        <a:pt x="803" y="13"/>
                      </a:lnTo>
                      <a:lnTo>
                        <a:pt x="763" y="8"/>
                      </a:lnTo>
                      <a:lnTo>
                        <a:pt x="728" y="8"/>
                      </a:lnTo>
                      <a:lnTo>
                        <a:pt x="693" y="8"/>
                      </a:lnTo>
                      <a:lnTo>
                        <a:pt x="653" y="4"/>
                      </a:lnTo>
                      <a:lnTo>
                        <a:pt x="613" y="4"/>
                      </a:lnTo>
                      <a:lnTo>
                        <a:pt x="578" y="4"/>
                      </a:lnTo>
                      <a:lnTo>
                        <a:pt x="538" y="4"/>
                      </a:lnTo>
                      <a:lnTo>
                        <a:pt x="499" y="4"/>
                      </a:lnTo>
                      <a:lnTo>
                        <a:pt x="464" y="0"/>
                      </a:lnTo>
                      <a:lnTo>
                        <a:pt x="424" y="0"/>
                      </a:lnTo>
                      <a:lnTo>
                        <a:pt x="389" y="0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73" y="0"/>
                      </a:lnTo>
                      <a:lnTo>
                        <a:pt x="233" y="0"/>
                      </a:lnTo>
                      <a:lnTo>
                        <a:pt x="198" y="4"/>
                      </a:lnTo>
                      <a:lnTo>
                        <a:pt x="163" y="4"/>
                      </a:lnTo>
                      <a:lnTo>
                        <a:pt x="154" y="4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8"/>
                      </a:lnTo>
                      <a:lnTo>
                        <a:pt x="105" y="8"/>
                      </a:lnTo>
                      <a:lnTo>
                        <a:pt x="105" y="8"/>
                      </a:lnTo>
                      <a:lnTo>
                        <a:pt x="101" y="13"/>
                      </a:lnTo>
                      <a:lnTo>
                        <a:pt x="97" y="17"/>
                      </a:lnTo>
                      <a:lnTo>
                        <a:pt x="92" y="17"/>
                      </a:lnTo>
                      <a:lnTo>
                        <a:pt x="92" y="22"/>
                      </a:lnTo>
                      <a:lnTo>
                        <a:pt x="88" y="26"/>
                      </a:lnTo>
                      <a:lnTo>
                        <a:pt x="83" y="30"/>
                      </a:lnTo>
                      <a:lnTo>
                        <a:pt x="83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241960" y="5137200"/>
                  <a:ext cx="25920" cy="325800"/>
                </a:xfrm>
                <a:custGeom>
                  <a:avLst/>
                  <a:gdLst/>
                  <a:ahLst/>
                  <a:rect l="0" t="0" r="r" b="b"/>
                  <a:pathLst>
                    <a:path w="72" h="905">
                      <a:moveTo>
                        <a:pt x="4" y="901"/>
                      </a:moveTo>
                      <a:lnTo>
                        <a:pt x="4" y="901"/>
                      </a:lnTo>
                      <a:lnTo>
                        <a:pt x="4" y="870"/>
                      </a:lnTo>
                      <a:lnTo>
                        <a:pt x="4" y="844"/>
                      </a:lnTo>
                      <a:lnTo>
                        <a:pt x="9" y="813"/>
                      </a:lnTo>
                      <a:lnTo>
                        <a:pt x="9" y="786"/>
                      </a:lnTo>
                      <a:lnTo>
                        <a:pt x="9" y="756"/>
                      </a:lnTo>
                      <a:lnTo>
                        <a:pt x="9" y="729"/>
                      </a:lnTo>
                      <a:lnTo>
                        <a:pt x="9" y="698"/>
                      </a:lnTo>
                      <a:lnTo>
                        <a:pt x="14" y="671"/>
                      </a:lnTo>
                      <a:lnTo>
                        <a:pt x="14" y="640"/>
                      </a:lnTo>
                      <a:lnTo>
                        <a:pt x="19" y="609"/>
                      </a:lnTo>
                      <a:lnTo>
                        <a:pt x="19" y="583"/>
                      </a:lnTo>
                      <a:lnTo>
                        <a:pt x="19" y="556"/>
                      </a:lnTo>
                      <a:lnTo>
                        <a:pt x="24" y="525"/>
                      </a:lnTo>
                      <a:lnTo>
                        <a:pt x="24" y="499"/>
                      </a:lnTo>
                      <a:lnTo>
                        <a:pt x="29" y="472"/>
                      </a:lnTo>
                      <a:lnTo>
                        <a:pt x="29" y="441"/>
                      </a:lnTo>
                      <a:lnTo>
                        <a:pt x="33" y="415"/>
                      </a:lnTo>
                      <a:lnTo>
                        <a:pt x="33" y="384"/>
                      </a:lnTo>
                      <a:lnTo>
                        <a:pt x="38" y="358"/>
                      </a:lnTo>
                      <a:lnTo>
                        <a:pt x="43" y="331"/>
                      </a:lnTo>
                      <a:lnTo>
                        <a:pt x="43" y="300"/>
                      </a:lnTo>
                      <a:lnTo>
                        <a:pt x="43" y="274"/>
                      </a:lnTo>
                      <a:lnTo>
                        <a:pt x="48" y="247"/>
                      </a:lnTo>
                      <a:lnTo>
                        <a:pt x="52" y="216"/>
                      </a:lnTo>
                      <a:lnTo>
                        <a:pt x="52" y="189"/>
                      </a:lnTo>
                      <a:lnTo>
                        <a:pt x="58" y="163"/>
                      </a:lnTo>
                      <a:lnTo>
                        <a:pt x="58" y="136"/>
                      </a:lnTo>
                      <a:lnTo>
                        <a:pt x="63" y="110"/>
                      </a:lnTo>
                      <a:lnTo>
                        <a:pt x="63" y="83"/>
                      </a:lnTo>
                      <a:lnTo>
                        <a:pt x="67" y="57"/>
                      </a:lnTo>
                      <a:lnTo>
                        <a:pt x="72" y="30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6"/>
                      </a:lnTo>
                      <a:lnTo>
                        <a:pt x="63" y="57"/>
                      </a:lnTo>
                      <a:lnTo>
                        <a:pt x="58" y="83"/>
                      </a:lnTo>
                      <a:lnTo>
                        <a:pt x="58" y="110"/>
                      </a:lnTo>
                      <a:lnTo>
                        <a:pt x="52" y="136"/>
                      </a:lnTo>
                      <a:lnTo>
                        <a:pt x="52" y="163"/>
                      </a:lnTo>
                      <a:lnTo>
                        <a:pt x="48" y="189"/>
                      </a:lnTo>
                      <a:lnTo>
                        <a:pt x="48" y="216"/>
                      </a:lnTo>
                      <a:lnTo>
                        <a:pt x="43" y="247"/>
                      </a:lnTo>
                      <a:lnTo>
                        <a:pt x="43" y="274"/>
                      </a:lnTo>
                      <a:lnTo>
                        <a:pt x="38" y="300"/>
                      </a:lnTo>
                      <a:lnTo>
                        <a:pt x="33" y="331"/>
                      </a:lnTo>
                      <a:lnTo>
                        <a:pt x="33" y="358"/>
                      </a:lnTo>
                      <a:lnTo>
                        <a:pt x="29" y="384"/>
                      </a:lnTo>
                      <a:lnTo>
                        <a:pt x="29" y="411"/>
                      </a:lnTo>
                      <a:lnTo>
                        <a:pt x="24" y="441"/>
                      </a:lnTo>
                      <a:lnTo>
                        <a:pt x="24" y="472"/>
                      </a:lnTo>
                      <a:lnTo>
                        <a:pt x="19" y="499"/>
                      </a:lnTo>
                      <a:lnTo>
                        <a:pt x="19" y="525"/>
                      </a:lnTo>
                      <a:lnTo>
                        <a:pt x="19" y="556"/>
                      </a:lnTo>
                      <a:lnTo>
                        <a:pt x="14" y="583"/>
                      </a:lnTo>
                      <a:lnTo>
                        <a:pt x="9" y="609"/>
                      </a:lnTo>
                      <a:lnTo>
                        <a:pt x="9" y="640"/>
                      </a:lnTo>
                      <a:lnTo>
                        <a:pt x="9" y="671"/>
                      </a:lnTo>
                      <a:lnTo>
                        <a:pt x="9" y="698"/>
                      </a:lnTo>
                      <a:lnTo>
                        <a:pt x="4" y="725"/>
                      </a:lnTo>
                      <a:lnTo>
                        <a:pt x="4" y="756"/>
                      </a:lnTo>
                      <a:lnTo>
                        <a:pt x="4" y="786"/>
                      </a:lnTo>
                      <a:lnTo>
                        <a:pt x="0" y="813"/>
                      </a:lnTo>
                      <a:lnTo>
                        <a:pt x="0" y="844"/>
                      </a:lnTo>
                      <a:lnTo>
                        <a:pt x="0" y="870"/>
                      </a:lnTo>
                      <a:lnTo>
                        <a:pt x="0" y="901"/>
                      </a:lnTo>
                      <a:lnTo>
                        <a:pt x="0" y="901"/>
                      </a:lnTo>
                      <a:lnTo>
                        <a:pt x="0" y="905"/>
                      </a:lnTo>
                      <a:lnTo>
                        <a:pt x="4" y="9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41960" y="5470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6"/>
                      </a:moveTo>
                      <a:lnTo>
                        <a:pt x="72" y="66"/>
                      </a:lnTo>
                      <a:lnTo>
                        <a:pt x="60" y="66"/>
                      </a:lnTo>
                      <a:lnTo>
                        <a:pt x="48" y="59"/>
                      </a:lnTo>
                      <a:lnTo>
                        <a:pt x="48" y="59"/>
                      </a:lnTo>
                      <a:lnTo>
                        <a:pt x="36" y="59"/>
                      </a:lnTo>
                      <a:lnTo>
                        <a:pt x="36" y="59"/>
                      </a:lnTo>
                      <a:lnTo>
                        <a:pt x="24" y="52"/>
                      </a:lnTo>
                      <a:lnTo>
                        <a:pt x="24" y="52"/>
                      </a:lnTo>
                      <a:lnTo>
                        <a:pt x="24" y="45"/>
                      </a:lnTo>
                      <a:lnTo>
                        <a:pt x="24" y="39"/>
                      </a:lnTo>
                      <a:lnTo>
                        <a:pt x="11" y="39"/>
                      </a:lnTo>
                      <a:lnTo>
                        <a:pt x="11" y="33"/>
                      </a:lnTo>
                      <a:lnTo>
                        <a:pt x="11" y="26"/>
                      </a:lnTo>
                      <a:lnTo>
                        <a:pt x="11" y="20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1" y="39"/>
                      </a:lnTo>
                      <a:lnTo>
                        <a:pt x="11" y="45"/>
                      </a:lnTo>
                      <a:lnTo>
                        <a:pt x="11" y="52"/>
                      </a:lnTo>
                      <a:lnTo>
                        <a:pt x="24" y="52"/>
                      </a:lnTo>
                      <a:lnTo>
                        <a:pt x="24" y="59"/>
                      </a:lnTo>
                      <a:lnTo>
                        <a:pt x="24" y="59"/>
                      </a:lnTo>
                      <a:lnTo>
                        <a:pt x="36" y="66"/>
                      </a:lnTo>
                      <a:lnTo>
                        <a:pt x="36" y="66"/>
                      </a:lnTo>
                      <a:lnTo>
                        <a:pt x="48" y="72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257800" y="5494320"/>
                  <a:ext cx="429120" cy="27360"/>
                </a:xfrm>
                <a:custGeom>
                  <a:avLst/>
                  <a:gdLst/>
                  <a:ahLst/>
                  <a:rect l="0" t="0" r="r" b="b"/>
                  <a:pathLst>
                    <a:path w="1192" h="76">
                      <a:moveTo>
                        <a:pt x="1188" y="72"/>
                      </a:moveTo>
                      <a:lnTo>
                        <a:pt x="1188" y="72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88" y="76"/>
                      </a:lnTo>
                      <a:lnTo>
                        <a:pt x="1188" y="76"/>
                      </a:lnTo>
                      <a:lnTo>
                        <a:pt x="1192" y="76"/>
                      </a:lnTo>
                      <a:lnTo>
                        <a:pt x="1192" y="72"/>
                      </a:lnTo>
                      <a:lnTo>
                        <a:pt x="118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694480" y="5500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61" y="15"/>
                      </a:lnTo>
                      <a:lnTo>
                        <a:pt x="61" y="21"/>
                      </a:lnTo>
                      <a:lnTo>
                        <a:pt x="61" y="26"/>
                      </a:lnTo>
                      <a:lnTo>
                        <a:pt x="56" y="31"/>
                      </a:lnTo>
                      <a:lnTo>
                        <a:pt x="56" y="36"/>
                      </a:lnTo>
                      <a:lnTo>
                        <a:pt x="49" y="41"/>
                      </a:lnTo>
                      <a:lnTo>
                        <a:pt x="44" y="46"/>
                      </a:lnTo>
                      <a:lnTo>
                        <a:pt x="38" y="51"/>
                      </a:lnTo>
                      <a:lnTo>
                        <a:pt x="38" y="57"/>
                      </a:lnTo>
                      <a:lnTo>
                        <a:pt x="33" y="62"/>
                      </a:lnTo>
                      <a:lnTo>
                        <a:pt x="28" y="62"/>
                      </a:lnTo>
                      <a:lnTo>
                        <a:pt x="22" y="62"/>
                      </a:lnTo>
                      <a:lnTo>
                        <a:pt x="16" y="67"/>
                      </a:lnTo>
                      <a:lnTo>
                        <a:pt x="10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6" y="72"/>
                      </a:lnTo>
                      <a:lnTo>
                        <a:pt x="22" y="67"/>
                      </a:lnTo>
                      <a:lnTo>
                        <a:pt x="33" y="67"/>
                      </a:lnTo>
                      <a:lnTo>
                        <a:pt x="38" y="62"/>
                      </a:lnTo>
                      <a:lnTo>
                        <a:pt x="38" y="62"/>
                      </a:lnTo>
                      <a:lnTo>
                        <a:pt x="44" y="57"/>
                      </a:lnTo>
                      <a:lnTo>
                        <a:pt x="49" y="51"/>
                      </a:lnTo>
                      <a:lnTo>
                        <a:pt x="56" y="46"/>
                      </a:lnTo>
                      <a:lnTo>
                        <a:pt x="61" y="41"/>
                      </a:lnTo>
                      <a:lnTo>
                        <a:pt x="61" y="36"/>
                      </a:lnTo>
                      <a:lnTo>
                        <a:pt x="67" y="26"/>
                      </a:lnTo>
                      <a:lnTo>
                        <a:pt x="67" y="21"/>
                      </a:lnTo>
                      <a:lnTo>
                        <a:pt x="72" y="15"/>
                      </a:lnTo>
                      <a:lnTo>
                        <a:pt x="72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719680" y="5181480"/>
                  <a:ext cx="25920" cy="311400"/>
                </a:xfrm>
                <a:custGeom>
                  <a:avLst/>
                  <a:gdLst/>
                  <a:ahLst/>
                  <a:rect l="0" t="0" r="r" b="b"/>
                  <a:pathLst>
                    <a:path w="72" h="865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65"/>
                      </a:lnTo>
                      <a:lnTo>
                        <a:pt x="5" y="865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737320" y="5149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7" y="5"/>
                      </a:lnTo>
                      <a:lnTo>
                        <a:pt x="17" y="10"/>
                      </a:lnTo>
                      <a:lnTo>
                        <a:pt x="36" y="10"/>
                      </a:lnTo>
                      <a:lnTo>
                        <a:pt x="36" y="10"/>
                      </a:lnTo>
                      <a:lnTo>
                        <a:pt x="36" y="15"/>
                      </a:lnTo>
                      <a:lnTo>
                        <a:pt x="53" y="21"/>
                      </a:lnTo>
                      <a:lnTo>
                        <a:pt x="53" y="21"/>
                      </a:lnTo>
                      <a:lnTo>
                        <a:pt x="53" y="26"/>
                      </a:lnTo>
                      <a:lnTo>
                        <a:pt x="53" y="31"/>
                      </a:lnTo>
                      <a:lnTo>
                        <a:pt x="53" y="36"/>
                      </a:lnTo>
                      <a:lnTo>
                        <a:pt x="53" y="41"/>
                      </a:lnTo>
                      <a:lnTo>
                        <a:pt x="53" y="46"/>
                      </a:lnTo>
                      <a:lnTo>
                        <a:pt x="53" y="51"/>
                      </a:lnTo>
                      <a:lnTo>
                        <a:pt x="53" y="57"/>
                      </a:lnTo>
                      <a:lnTo>
                        <a:pt x="53" y="67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72" y="67"/>
                      </a:lnTo>
                      <a:lnTo>
                        <a:pt x="72" y="62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53" y="21"/>
                      </a:lnTo>
                      <a:lnTo>
                        <a:pt x="53" y="15"/>
                      </a:lnTo>
                      <a:lnTo>
                        <a:pt x="53" y="10"/>
                      </a:lnTo>
                      <a:lnTo>
                        <a:pt x="36" y="10"/>
                      </a:lnTo>
                      <a:lnTo>
                        <a:pt x="36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00640" y="5124600"/>
                  <a:ext cx="427320" cy="25920"/>
                </a:xfrm>
                <a:custGeom>
                  <a:avLst/>
                  <a:gdLst/>
                  <a:ahLst/>
                  <a:rect l="0" t="0" r="r" b="b"/>
                  <a:pathLst>
                    <a:path w="1187" h="72"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39" y="5"/>
                      </a:lnTo>
                      <a:lnTo>
                        <a:pt x="79" y="5"/>
                      </a:lnTo>
                      <a:lnTo>
                        <a:pt x="119" y="5"/>
                      </a:lnTo>
                      <a:lnTo>
                        <a:pt x="154" y="5"/>
                      </a:lnTo>
                      <a:lnTo>
                        <a:pt x="194" y="5"/>
                      </a:lnTo>
                      <a:lnTo>
                        <a:pt x="229" y="5"/>
                      </a:lnTo>
                      <a:lnTo>
                        <a:pt x="264" y="5"/>
                      </a:lnTo>
                      <a:lnTo>
                        <a:pt x="304" y="5"/>
                      </a:lnTo>
                      <a:lnTo>
                        <a:pt x="339" y="5"/>
                      </a:lnTo>
                      <a:lnTo>
                        <a:pt x="379" y="5"/>
                      </a:lnTo>
                      <a:lnTo>
                        <a:pt x="414" y="11"/>
                      </a:lnTo>
                      <a:lnTo>
                        <a:pt x="454" y="11"/>
                      </a:lnTo>
                      <a:lnTo>
                        <a:pt x="493" y="11"/>
                      </a:lnTo>
                      <a:lnTo>
                        <a:pt x="529" y="11"/>
                      </a:lnTo>
                      <a:lnTo>
                        <a:pt x="568" y="11"/>
                      </a:lnTo>
                      <a:lnTo>
                        <a:pt x="605" y="17"/>
                      </a:lnTo>
                      <a:lnTo>
                        <a:pt x="640" y="17"/>
                      </a:lnTo>
                      <a:lnTo>
                        <a:pt x="680" y="17"/>
                      </a:lnTo>
                      <a:lnTo>
                        <a:pt x="715" y="17"/>
                      </a:lnTo>
                      <a:lnTo>
                        <a:pt x="755" y="24"/>
                      </a:lnTo>
                      <a:lnTo>
                        <a:pt x="790" y="30"/>
                      </a:lnTo>
                      <a:lnTo>
                        <a:pt x="830" y="30"/>
                      </a:lnTo>
                      <a:lnTo>
                        <a:pt x="865" y="30"/>
                      </a:lnTo>
                      <a:lnTo>
                        <a:pt x="900" y="36"/>
                      </a:lnTo>
                      <a:lnTo>
                        <a:pt x="940" y="42"/>
                      </a:lnTo>
                      <a:lnTo>
                        <a:pt x="971" y="42"/>
                      </a:lnTo>
                      <a:lnTo>
                        <a:pt x="1010" y="48"/>
                      </a:lnTo>
                      <a:lnTo>
                        <a:pt x="1046" y="53"/>
                      </a:lnTo>
                      <a:lnTo>
                        <a:pt x="1081" y="53"/>
                      </a:lnTo>
                      <a:lnTo>
                        <a:pt x="1116" y="60"/>
                      </a:lnTo>
                      <a:lnTo>
                        <a:pt x="1151" y="66"/>
                      </a:lnTo>
                      <a:lnTo>
                        <a:pt x="1187" y="72"/>
                      </a:lnTo>
                      <a:lnTo>
                        <a:pt x="1187" y="66"/>
                      </a:lnTo>
                      <a:lnTo>
                        <a:pt x="1151" y="60"/>
                      </a:lnTo>
                      <a:lnTo>
                        <a:pt x="1116" y="53"/>
                      </a:lnTo>
                      <a:lnTo>
                        <a:pt x="1081" y="53"/>
                      </a:lnTo>
                      <a:lnTo>
                        <a:pt x="1046" y="48"/>
                      </a:lnTo>
                      <a:lnTo>
                        <a:pt x="1010" y="42"/>
                      </a:lnTo>
                      <a:lnTo>
                        <a:pt x="975" y="36"/>
                      </a:lnTo>
                      <a:lnTo>
                        <a:pt x="940" y="36"/>
                      </a:lnTo>
                      <a:lnTo>
                        <a:pt x="900" y="30"/>
                      </a:lnTo>
                      <a:lnTo>
                        <a:pt x="865" y="30"/>
                      </a:lnTo>
                      <a:lnTo>
                        <a:pt x="830" y="24"/>
                      </a:lnTo>
                      <a:lnTo>
                        <a:pt x="794" y="17"/>
                      </a:lnTo>
                      <a:lnTo>
                        <a:pt x="755" y="17"/>
                      </a:lnTo>
                      <a:lnTo>
                        <a:pt x="715" y="17"/>
                      </a:lnTo>
                      <a:lnTo>
                        <a:pt x="680" y="11"/>
                      </a:lnTo>
                      <a:lnTo>
                        <a:pt x="644" y="11"/>
                      </a:lnTo>
                      <a:lnTo>
                        <a:pt x="605" y="11"/>
                      </a:lnTo>
                      <a:lnTo>
                        <a:pt x="568" y="5"/>
                      </a:lnTo>
                      <a:lnTo>
                        <a:pt x="529" y="5"/>
                      </a:lnTo>
                      <a:lnTo>
                        <a:pt x="493" y="5"/>
                      </a:lnTo>
                      <a:lnTo>
                        <a:pt x="454" y="0"/>
                      </a:lnTo>
                      <a:lnTo>
                        <a:pt x="414" y="0"/>
                      </a:lnTo>
                      <a:lnTo>
                        <a:pt x="379" y="0"/>
                      </a:lnTo>
                      <a:lnTo>
                        <a:pt x="339" y="0"/>
                      </a:lnTo>
                      <a:lnTo>
                        <a:pt x="304" y="0"/>
                      </a:lnTo>
                      <a:lnTo>
                        <a:pt x="264" y="0"/>
                      </a:lnTo>
                      <a:lnTo>
                        <a:pt x="229" y="0"/>
                      </a:lnTo>
                      <a:lnTo>
                        <a:pt x="194" y="0"/>
                      </a:lnTo>
                      <a:lnTo>
                        <a:pt x="154" y="0"/>
                      </a:lnTo>
                      <a:lnTo>
                        <a:pt x="119" y="0"/>
                      </a:lnTo>
                      <a:lnTo>
                        <a:pt x="79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272200" y="512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6" y="17"/>
                      </a:lnTo>
                      <a:lnTo>
                        <a:pt x="31" y="17"/>
                      </a:lnTo>
                      <a:lnTo>
                        <a:pt x="36" y="17"/>
                      </a:lnTo>
                      <a:lnTo>
                        <a:pt x="41" y="17"/>
                      </a:lnTo>
                      <a:lnTo>
                        <a:pt x="46" y="17"/>
                      </a:lnTo>
                      <a:lnTo>
                        <a:pt x="51" y="17"/>
                      </a:lnTo>
                      <a:lnTo>
                        <a:pt x="57" y="17"/>
                      </a:lnTo>
                      <a:lnTo>
                        <a:pt x="67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17"/>
                      </a:lnTo>
                      <a:lnTo>
                        <a:pt x="26" y="17"/>
                      </a:lnTo>
                      <a:lnTo>
                        <a:pt x="21" y="17"/>
                      </a:lnTo>
                      <a:lnTo>
                        <a:pt x="15" y="17"/>
                      </a:lnTo>
                      <a:lnTo>
                        <a:pt x="15" y="36"/>
                      </a:lnTo>
                      <a:lnTo>
                        <a:pt x="10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264280" y="5135400"/>
                  <a:ext cx="473400" cy="371880"/>
                </a:xfrm>
                <a:custGeom>
                  <a:avLst/>
                  <a:gdLst/>
                  <a:ahLst/>
                  <a:rect l="0" t="0" r="r" b="b"/>
                  <a:pathLst>
                    <a:path w="1315" h="1033">
                      <a:moveTo>
                        <a:pt x="79" y="30"/>
                      </a:moveTo>
                      <a:lnTo>
                        <a:pt x="74" y="57"/>
                      </a:lnTo>
                      <a:lnTo>
                        <a:pt x="74" y="83"/>
                      </a:lnTo>
                      <a:lnTo>
                        <a:pt x="70" y="110"/>
                      </a:lnTo>
                      <a:lnTo>
                        <a:pt x="70" y="136"/>
                      </a:lnTo>
                      <a:lnTo>
                        <a:pt x="66" y="158"/>
                      </a:lnTo>
                      <a:lnTo>
                        <a:pt x="61" y="185"/>
                      </a:lnTo>
                      <a:lnTo>
                        <a:pt x="57" y="211"/>
                      </a:lnTo>
                      <a:lnTo>
                        <a:pt x="57" y="238"/>
                      </a:lnTo>
                      <a:lnTo>
                        <a:pt x="52" y="265"/>
                      </a:lnTo>
                      <a:lnTo>
                        <a:pt x="48" y="292"/>
                      </a:lnTo>
                      <a:lnTo>
                        <a:pt x="48" y="318"/>
                      </a:lnTo>
                      <a:lnTo>
                        <a:pt x="44" y="340"/>
                      </a:lnTo>
                      <a:lnTo>
                        <a:pt x="39" y="367"/>
                      </a:lnTo>
                      <a:lnTo>
                        <a:pt x="35" y="397"/>
                      </a:lnTo>
                      <a:lnTo>
                        <a:pt x="35" y="424"/>
                      </a:lnTo>
                      <a:lnTo>
                        <a:pt x="30" y="450"/>
                      </a:lnTo>
                      <a:lnTo>
                        <a:pt x="30" y="477"/>
                      </a:lnTo>
                      <a:lnTo>
                        <a:pt x="26" y="503"/>
                      </a:lnTo>
                      <a:lnTo>
                        <a:pt x="22" y="530"/>
                      </a:lnTo>
                      <a:lnTo>
                        <a:pt x="17" y="556"/>
                      </a:lnTo>
                      <a:lnTo>
                        <a:pt x="17" y="583"/>
                      </a:lnTo>
                      <a:lnTo>
                        <a:pt x="13" y="609"/>
                      </a:lnTo>
                      <a:lnTo>
                        <a:pt x="13" y="636"/>
                      </a:lnTo>
                      <a:lnTo>
                        <a:pt x="13" y="666"/>
                      </a:lnTo>
                      <a:lnTo>
                        <a:pt x="8" y="693"/>
                      </a:lnTo>
                      <a:lnTo>
                        <a:pt x="8" y="719"/>
                      </a:lnTo>
                      <a:lnTo>
                        <a:pt x="4" y="746"/>
                      </a:lnTo>
                      <a:lnTo>
                        <a:pt x="4" y="772"/>
                      </a:lnTo>
                      <a:lnTo>
                        <a:pt x="4" y="800"/>
                      </a:lnTo>
                      <a:lnTo>
                        <a:pt x="4" y="826"/>
                      </a:lnTo>
                      <a:lnTo>
                        <a:pt x="0" y="857"/>
                      </a:lnTo>
                      <a:lnTo>
                        <a:pt x="0" y="883"/>
                      </a:lnTo>
                      <a:lnTo>
                        <a:pt x="0" y="892"/>
                      </a:lnTo>
                      <a:lnTo>
                        <a:pt x="0" y="897"/>
                      </a:lnTo>
                      <a:lnTo>
                        <a:pt x="4" y="901"/>
                      </a:lnTo>
                      <a:lnTo>
                        <a:pt x="4" y="910"/>
                      </a:lnTo>
                      <a:lnTo>
                        <a:pt x="4" y="914"/>
                      </a:lnTo>
                      <a:lnTo>
                        <a:pt x="4" y="919"/>
                      </a:lnTo>
                      <a:lnTo>
                        <a:pt x="8" y="923"/>
                      </a:lnTo>
                      <a:lnTo>
                        <a:pt x="8" y="928"/>
                      </a:lnTo>
                      <a:lnTo>
                        <a:pt x="8" y="932"/>
                      </a:lnTo>
                      <a:lnTo>
                        <a:pt x="13" y="932"/>
                      </a:lnTo>
                      <a:lnTo>
                        <a:pt x="17" y="936"/>
                      </a:lnTo>
                      <a:lnTo>
                        <a:pt x="17" y="941"/>
                      </a:lnTo>
                      <a:lnTo>
                        <a:pt x="26" y="941"/>
                      </a:lnTo>
                      <a:lnTo>
                        <a:pt x="30" y="945"/>
                      </a:lnTo>
                      <a:lnTo>
                        <a:pt x="35" y="945"/>
                      </a:lnTo>
                      <a:lnTo>
                        <a:pt x="39" y="945"/>
                      </a:lnTo>
                      <a:lnTo>
                        <a:pt x="1169" y="1033"/>
                      </a:lnTo>
                      <a:lnTo>
                        <a:pt x="1178" y="1033"/>
                      </a:lnTo>
                      <a:lnTo>
                        <a:pt x="1182" y="1033"/>
                      </a:lnTo>
                      <a:lnTo>
                        <a:pt x="1191" y="1033"/>
                      </a:lnTo>
                      <a:lnTo>
                        <a:pt x="1196" y="1029"/>
                      </a:lnTo>
                      <a:lnTo>
                        <a:pt x="1204" y="1025"/>
                      </a:lnTo>
                      <a:lnTo>
                        <a:pt x="1209" y="1025"/>
                      </a:lnTo>
                      <a:lnTo>
                        <a:pt x="1213" y="1020"/>
                      </a:lnTo>
                      <a:lnTo>
                        <a:pt x="1218" y="1016"/>
                      </a:lnTo>
                      <a:lnTo>
                        <a:pt x="1222" y="1011"/>
                      </a:lnTo>
                      <a:lnTo>
                        <a:pt x="1226" y="1003"/>
                      </a:lnTo>
                      <a:lnTo>
                        <a:pt x="1231" y="998"/>
                      </a:lnTo>
                      <a:lnTo>
                        <a:pt x="1235" y="989"/>
                      </a:lnTo>
                      <a:lnTo>
                        <a:pt x="1235" y="980"/>
                      </a:lnTo>
                      <a:lnTo>
                        <a:pt x="1235" y="976"/>
                      </a:lnTo>
                      <a:lnTo>
                        <a:pt x="1240" y="972"/>
                      </a:lnTo>
                      <a:lnTo>
                        <a:pt x="1240" y="963"/>
                      </a:lnTo>
                      <a:lnTo>
                        <a:pt x="1310" y="141"/>
                      </a:lnTo>
                      <a:lnTo>
                        <a:pt x="1310" y="136"/>
                      </a:lnTo>
                      <a:lnTo>
                        <a:pt x="1315" y="127"/>
                      </a:lnTo>
                      <a:lnTo>
                        <a:pt x="1315" y="119"/>
                      </a:lnTo>
                      <a:lnTo>
                        <a:pt x="1315" y="114"/>
                      </a:lnTo>
                      <a:lnTo>
                        <a:pt x="1315" y="110"/>
                      </a:lnTo>
                      <a:lnTo>
                        <a:pt x="1310" y="101"/>
                      </a:lnTo>
                      <a:lnTo>
                        <a:pt x="1310" y="97"/>
                      </a:lnTo>
                      <a:lnTo>
                        <a:pt x="1310" y="88"/>
                      </a:lnTo>
                      <a:lnTo>
                        <a:pt x="1310" y="83"/>
                      </a:lnTo>
                      <a:lnTo>
                        <a:pt x="1306" y="79"/>
                      </a:lnTo>
                      <a:lnTo>
                        <a:pt x="1306" y="79"/>
                      </a:lnTo>
                      <a:lnTo>
                        <a:pt x="1301" y="70"/>
                      </a:lnTo>
                      <a:lnTo>
                        <a:pt x="1297" y="70"/>
                      </a:lnTo>
                      <a:lnTo>
                        <a:pt x="1293" y="66"/>
                      </a:lnTo>
                      <a:lnTo>
                        <a:pt x="1288" y="66"/>
                      </a:lnTo>
                      <a:lnTo>
                        <a:pt x="1279" y="66"/>
                      </a:lnTo>
                      <a:lnTo>
                        <a:pt x="1248" y="57"/>
                      </a:lnTo>
                      <a:lnTo>
                        <a:pt x="1213" y="52"/>
                      </a:lnTo>
                      <a:lnTo>
                        <a:pt x="1178" y="52"/>
                      </a:lnTo>
                      <a:lnTo>
                        <a:pt x="1147" y="44"/>
                      </a:lnTo>
                      <a:lnTo>
                        <a:pt x="1112" y="39"/>
                      </a:lnTo>
                      <a:lnTo>
                        <a:pt x="1076" y="35"/>
                      </a:lnTo>
                      <a:lnTo>
                        <a:pt x="1041" y="35"/>
                      </a:lnTo>
                      <a:lnTo>
                        <a:pt x="1006" y="30"/>
                      </a:lnTo>
                      <a:lnTo>
                        <a:pt x="975" y="26"/>
                      </a:lnTo>
                      <a:lnTo>
                        <a:pt x="940" y="22"/>
                      </a:lnTo>
                      <a:lnTo>
                        <a:pt x="904" y="17"/>
                      </a:lnTo>
                      <a:lnTo>
                        <a:pt x="869" y="17"/>
                      </a:lnTo>
                      <a:lnTo>
                        <a:pt x="834" y="13"/>
                      </a:lnTo>
                      <a:lnTo>
                        <a:pt x="794" y="13"/>
                      </a:lnTo>
                      <a:lnTo>
                        <a:pt x="763" y="13"/>
                      </a:lnTo>
                      <a:lnTo>
                        <a:pt x="724" y="8"/>
                      </a:lnTo>
                      <a:lnTo>
                        <a:pt x="693" y="8"/>
                      </a:lnTo>
                      <a:lnTo>
                        <a:pt x="652" y="4"/>
                      </a:lnTo>
                      <a:lnTo>
                        <a:pt x="617" y="4"/>
                      </a:lnTo>
                      <a:lnTo>
                        <a:pt x="582" y="4"/>
                      </a:lnTo>
                      <a:lnTo>
                        <a:pt x="546" y="4"/>
                      </a:lnTo>
                      <a:lnTo>
                        <a:pt x="511" y="0"/>
                      </a:lnTo>
                      <a:lnTo>
                        <a:pt x="476" y="0"/>
                      </a:lnTo>
                      <a:lnTo>
                        <a:pt x="440" y="0"/>
                      </a:lnTo>
                      <a:lnTo>
                        <a:pt x="401" y="0"/>
                      </a:lnTo>
                      <a:lnTo>
                        <a:pt x="366" y="0"/>
                      </a:lnTo>
                      <a:lnTo>
                        <a:pt x="330" y="0"/>
                      </a:lnTo>
                      <a:lnTo>
                        <a:pt x="295" y="0"/>
                      </a:lnTo>
                      <a:lnTo>
                        <a:pt x="260" y="0"/>
                      </a:lnTo>
                      <a:lnTo>
                        <a:pt x="224" y="0"/>
                      </a:lnTo>
                      <a:lnTo>
                        <a:pt x="189" y="0"/>
                      </a:lnTo>
                      <a:lnTo>
                        <a:pt x="154" y="0"/>
                      </a:lnTo>
                      <a:lnTo>
                        <a:pt x="145" y="0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4"/>
                      </a:lnTo>
                      <a:lnTo>
                        <a:pt x="110" y="4"/>
                      </a:lnTo>
                      <a:lnTo>
                        <a:pt x="101" y="8"/>
                      </a:lnTo>
                      <a:lnTo>
                        <a:pt x="97" y="8"/>
                      </a:lnTo>
                      <a:lnTo>
                        <a:pt x="97" y="13"/>
                      </a:lnTo>
                      <a:lnTo>
                        <a:pt x="92" y="13"/>
                      </a:lnTo>
                      <a:lnTo>
                        <a:pt x="88" y="17"/>
                      </a:lnTo>
                      <a:lnTo>
                        <a:pt x="83" y="17"/>
                      </a:lnTo>
                      <a:lnTo>
                        <a:pt x="83" y="22"/>
                      </a:lnTo>
                      <a:lnTo>
                        <a:pt x="79" y="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264280" y="5146560"/>
                  <a:ext cx="25920" cy="306720"/>
                </a:xfrm>
                <a:custGeom>
                  <a:avLst/>
                  <a:gdLst/>
                  <a:ahLst/>
                  <a:rect l="0" t="0" r="r" b="b"/>
                  <a:pathLst>
                    <a:path w="72" h="852">
                      <a:moveTo>
                        <a:pt x="5" y="847"/>
                      </a:moveTo>
                      <a:lnTo>
                        <a:pt x="5" y="847"/>
                      </a:lnTo>
                      <a:lnTo>
                        <a:pt x="5" y="821"/>
                      </a:lnTo>
                      <a:lnTo>
                        <a:pt x="5" y="794"/>
                      </a:lnTo>
                      <a:lnTo>
                        <a:pt x="10" y="768"/>
                      </a:lnTo>
                      <a:lnTo>
                        <a:pt x="10" y="741"/>
                      </a:lnTo>
                      <a:lnTo>
                        <a:pt x="10" y="715"/>
                      </a:lnTo>
                      <a:lnTo>
                        <a:pt x="10" y="684"/>
                      </a:lnTo>
                      <a:lnTo>
                        <a:pt x="10" y="658"/>
                      </a:lnTo>
                      <a:lnTo>
                        <a:pt x="15" y="631"/>
                      </a:lnTo>
                      <a:lnTo>
                        <a:pt x="15" y="605"/>
                      </a:lnTo>
                      <a:lnTo>
                        <a:pt x="21" y="578"/>
                      </a:lnTo>
                      <a:lnTo>
                        <a:pt x="21" y="547"/>
                      </a:lnTo>
                      <a:lnTo>
                        <a:pt x="21" y="521"/>
                      </a:lnTo>
                      <a:lnTo>
                        <a:pt x="26" y="494"/>
                      </a:lnTo>
                      <a:lnTo>
                        <a:pt x="26" y="468"/>
                      </a:lnTo>
                      <a:lnTo>
                        <a:pt x="31" y="441"/>
                      </a:lnTo>
                      <a:lnTo>
                        <a:pt x="31" y="414"/>
                      </a:lnTo>
                      <a:lnTo>
                        <a:pt x="31" y="388"/>
                      </a:lnTo>
                      <a:lnTo>
                        <a:pt x="36" y="361"/>
                      </a:lnTo>
                      <a:lnTo>
                        <a:pt x="41" y="335"/>
                      </a:lnTo>
                      <a:lnTo>
                        <a:pt x="41" y="313"/>
                      </a:lnTo>
                      <a:lnTo>
                        <a:pt x="41" y="286"/>
                      </a:lnTo>
                      <a:lnTo>
                        <a:pt x="46" y="260"/>
                      </a:lnTo>
                      <a:lnTo>
                        <a:pt x="51" y="233"/>
                      </a:lnTo>
                      <a:lnTo>
                        <a:pt x="51" y="207"/>
                      </a:lnTo>
                      <a:lnTo>
                        <a:pt x="51" y="180"/>
                      </a:lnTo>
                      <a:lnTo>
                        <a:pt x="57" y="154"/>
                      </a:lnTo>
                      <a:lnTo>
                        <a:pt x="62" y="127"/>
                      </a:lnTo>
                      <a:lnTo>
                        <a:pt x="62" y="105"/>
                      </a:lnTo>
                      <a:lnTo>
                        <a:pt x="62" y="79"/>
                      </a:lnTo>
                      <a:lnTo>
                        <a:pt x="67" y="52"/>
                      </a:lnTo>
                      <a:lnTo>
                        <a:pt x="72" y="26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2" y="26"/>
                      </a:lnTo>
                      <a:lnTo>
                        <a:pt x="62" y="52"/>
                      </a:lnTo>
                      <a:lnTo>
                        <a:pt x="62" y="79"/>
                      </a:lnTo>
                      <a:lnTo>
                        <a:pt x="57" y="101"/>
                      </a:lnTo>
                      <a:lnTo>
                        <a:pt x="51" y="127"/>
                      </a:lnTo>
                      <a:lnTo>
                        <a:pt x="51" y="154"/>
                      </a:lnTo>
                      <a:lnTo>
                        <a:pt x="51" y="180"/>
                      </a:lnTo>
                      <a:lnTo>
                        <a:pt x="46" y="207"/>
                      </a:lnTo>
                      <a:lnTo>
                        <a:pt x="41" y="233"/>
                      </a:lnTo>
                      <a:lnTo>
                        <a:pt x="41" y="260"/>
                      </a:lnTo>
                      <a:lnTo>
                        <a:pt x="41" y="282"/>
                      </a:lnTo>
                      <a:lnTo>
                        <a:pt x="36" y="308"/>
                      </a:lnTo>
                      <a:lnTo>
                        <a:pt x="31" y="335"/>
                      </a:lnTo>
                      <a:lnTo>
                        <a:pt x="31" y="361"/>
                      </a:lnTo>
                      <a:lnTo>
                        <a:pt x="31" y="388"/>
                      </a:lnTo>
                      <a:lnTo>
                        <a:pt x="26" y="414"/>
                      </a:lnTo>
                      <a:lnTo>
                        <a:pt x="21" y="441"/>
                      </a:lnTo>
                      <a:lnTo>
                        <a:pt x="21" y="468"/>
                      </a:lnTo>
                      <a:lnTo>
                        <a:pt x="21" y="494"/>
                      </a:lnTo>
                      <a:lnTo>
                        <a:pt x="15" y="521"/>
                      </a:lnTo>
                      <a:lnTo>
                        <a:pt x="15" y="547"/>
                      </a:lnTo>
                      <a:lnTo>
                        <a:pt x="10" y="574"/>
                      </a:lnTo>
                      <a:lnTo>
                        <a:pt x="10" y="605"/>
                      </a:lnTo>
                      <a:lnTo>
                        <a:pt x="10" y="631"/>
                      </a:lnTo>
                      <a:lnTo>
                        <a:pt x="10" y="658"/>
                      </a:lnTo>
                      <a:lnTo>
                        <a:pt x="5" y="684"/>
                      </a:lnTo>
                      <a:lnTo>
                        <a:pt x="5" y="710"/>
                      </a:lnTo>
                      <a:lnTo>
                        <a:pt x="5" y="741"/>
                      </a:lnTo>
                      <a:lnTo>
                        <a:pt x="0" y="768"/>
                      </a:lnTo>
                      <a:lnTo>
                        <a:pt x="0" y="794"/>
                      </a:lnTo>
                      <a:lnTo>
                        <a:pt x="0" y="821"/>
                      </a:lnTo>
                      <a:lnTo>
                        <a:pt x="0" y="847"/>
                      </a:lnTo>
                      <a:lnTo>
                        <a:pt x="0" y="852"/>
                      </a:lnTo>
                      <a:lnTo>
                        <a:pt x="0" y="852"/>
                      </a:lnTo>
                      <a:lnTo>
                        <a:pt x="5" y="852"/>
                      </a:lnTo>
                      <a:lnTo>
                        <a:pt x="5" y="8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264280" y="5460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5"/>
                      </a:moveTo>
                      <a:lnTo>
                        <a:pt x="72" y="65"/>
                      </a:lnTo>
                      <a:lnTo>
                        <a:pt x="58" y="65"/>
                      </a:lnTo>
                      <a:lnTo>
                        <a:pt x="43" y="65"/>
                      </a:lnTo>
                      <a:lnTo>
                        <a:pt x="43" y="58"/>
                      </a:lnTo>
                      <a:lnTo>
                        <a:pt x="43" y="58"/>
                      </a:lnTo>
                      <a:lnTo>
                        <a:pt x="29" y="58"/>
                      </a:lnTo>
                      <a:lnTo>
                        <a:pt x="29" y="50"/>
                      </a:lnTo>
                      <a:lnTo>
                        <a:pt x="29" y="50"/>
                      </a:lnTo>
                      <a:lnTo>
                        <a:pt x="14" y="43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2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14" y="36"/>
                      </a:lnTo>
                      <a:lnTo>
                        <a:pt x="14" y="43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65"/>
                      </a:lnTo>
                      <a:lnTo>
                        <a:pt x="43" y="65"/>
                      </a:lnTo>
                      <a:lnTo>
                        <a:pt x="43" y="65"/>
                      </a:lnTo>
                      <a:lnTo>
                        <a:pt x="58" y="72"/>
                      </a:lnTo>
                      <a:lnTo>
                        <a:pt x="58" y="72"/>
                      </a:lnTo>
                      <a:lnTo>
                        <a:pt x="72" y="72"/>
                      </a:lnTo>
                      <a:lnTo>
                        <a:pt x="72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278320" y="5483160"/>
                  <a:ext cx="405000" cy="25920"/>
                </a:xfrm>
                <a:custGeom>
                  <a:avLst/>
                  <a:gdLst/>
                  <a:ahLst/>
                  <a:rect l="0" t="0" r="r" b="b"/>
                  <a:pathLst>
                    <a:path w="1125" h="72">
                      <a:moveTo>
                        <a:pt x="1121" y="68"/>
                      </a:moveTo>
                      <a:lnTo>
                        <a:pt x="112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21" y="72"/>
                      </a:lnTo>
                      <a:lnTo>
                        <a:pt x="1121" y="72"/>
                      </a:lnTo>
                      <a:lnTo>
                        <a:pt x="1125" y="68"/>
                      </a:lnTo>
                      <a:lnTo>
                        <a:pt x="112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691240" y="5489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5"/>
                      </a:lnTo>
                      <a:lnTo>
                        <a:pt x="60" y="17"/>
                      </a:lnTo>
                      <a:lnTo>
                        <a:pt x="60" y="24"/>
                      </a:lnTo>
                      <a:lnTo>
                        <a:pt x="60" y="30"/>
                      </a:lnTo>
                      <a:lnTo>
                        <a:pt x="53" y="30"/>
                      </a:lnTo>
                      <a:lnTo>
                        <a:pt x="53" y="42"/>
                      </a:lnTo>
                      <a:lnTo>
                        <a:pt x="53" y="42"/>
                      </a:lnTo>
                      <a:lnTo>
                        <a:pt x="48" y="48"/>
                      </a:lnTo>
                      <a:lnTo>
                        <a:pt x="42" y="53"/>
                      </a:lnTo>
                      <a:lnTo>
                        <a:pt x="36" y="53"/>
                      </a:lnTo>
                      <a:lnTo>
                        <a:pt x="30" y="60"/>
                      </a:lnTo>
                      <a:lnTo>
                        <a:pt x="30" y="60"/>
                      </a:lnTo>
                      <a:lnTo>
                        <a:pt x="17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0" y="72"/>
                      </a:lnTo>
                      <a:lnTo>
                        <a:pt x="11" y="72"/>
                      </a:lnTo>
                      <a:lnTo>
                        <a:pt x="17" y="72"/>
                      </a:lnTo>
                      <a:lnTo>
                        <a:pt x="24" y="72"/>
                      </a:lnTo>
                      <a:lnTo>
                        <a:pt x="30" y="66"/>
                      </a:lnTo>
                      <a:lnTo>
                        <a:pt x="36" y="66"/>
                      </a:lnTo>
                      <a:lnTo>
                        <a:pt x="42" y="60"/>
                      </a:lnTo>
                      <a:lnTo>
                        <a:pt x="48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60" y="42"/>
                      </a:lnTo>
                      <a:lnTo>
                        <a:pt x="60" y="36"/>
                      </a:lnTo>
                      <a:lnTo>
                        <a:pt x="66" y="30"/>
                      </a:lnTo>
                      <a:lnTo>
                        <a:pt x="66" y="24"/>
                      </a:lnTo>
                      <a:lnTo>
                        <a:pt x="72" y="17"/>
                      </a:lnTo>
                      <a:lnTo>
                        <a:pt x="72" y="11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716440" y="5186520"/>
                  <a:ext cx="25920" cy="295560"/>
                </a:xfrm>
                <a:custGeom>
                  <a:avLst/>
                  <a:gdLst/>
                  <a:ahLst/>
                  <a:rect l="0" t="0" r="r" b="b"/>
                  <a:pathLst>
                    <a:path w="72" h="821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21"/>
                      </a:lnTo>
                      <a:lnTo>
                        <a:pt x="5" y="821"/>
                      </a:ln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732640" y="5157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4" y="5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48" y="10"/>
                      </a:lnTo>
                      <a:lnTo>
                        <a:pt x="48" y="15"/>
                      </a:lnTo>
                      <a:lnTo>
                        <a:pt x="48" y="21"/>
                      </a:lnTo>
                      <a:lnTo>
                        <a:pt x="48" y="21"/>
                      </a:lnTo>
                      <a:lnTo>
                        <a:pt x="48" y="26"/>
                      </a:lnTo>
                      <a:lnTo>
                        <a:pt x="48" y="31"/>
                      </a:lnTo>
                      <a:lnTo>
                        <a:pt x="48" y="36"/>
                      </a:lnTo>
                      <a:lnTo>
                        <a:pt x="48" y="41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48" y="57"/>
                      </a:lnTo>
                      <a:lnTo>
                        <a:pt x="48" y="62"/>
                      </a:lnTo>
                      <a:lnTo>
                        <a:pt x="48" y="72"/>
                      </a:lnTo>
                      <a:lnTo>
                        <a:pt x="72" y="7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2" y="21"/>
                      </a:lnTo>
                      <a:lnTo>
                        <a:pt x="48" y="15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19720" y="5133960"/>
                  <a:ext cx="403560" cy="25920"/>
                </a:xfrm>
                <a:custGeom>
                  <a:avLst/>
                  <a:gdLst/>
                  <a:ahLst/>
                  <a:rect l="0" t="0" r="r" b="b"/>
                  <a:pathLst>
                    <a:path w="1121" h="72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39" y="6"/>
                      </a:lnTo>
                      <a:lnTo>
                        <a:pt x="74" y="6"/>
                      </a:lnTo>
                      <a:lnTo>
                        <a:pt x="110" y="6"/>
                      </a:lnTo>
                      <a:lnTo>
                        <a:pt x="145" y="6"/>
                      </a:lnTo>
                      <a:lnTo>
                        <a:pt x="180" y="6"/>
                      </a:lnTo>
                      <a:lnTo>
                        <a:pt x="216" y="6"/>
                      </a:lnTo>
                      <a:lnTo>
                        <a:pt x="251" y="6"/>
                      </a:lnTo>
                      <a:lnTo>
                        <a:pt x="286" y="6"/>
                      </a:lnTo>
                      <a:lnTo>
                        <a:pt x="321" y="6"/>
                      </a:lnTo>
                      <a:lnTo>
                        <a:pt x="357" y="6"/>
                      </a:lnTo>
                      <a:lnTo>
                        <a:pt x="392" y="6"/>
                      </a:lnTo>
                      <a:lnTo>
                        <a:pt x="427" y="12"/>
                      </a:lnTo>
                      <a:lnTo>
                        <a:pt x="463" y="12"/>
                      </a:lnTo>
                      <a:lnTo>
                        <a:pt x="498" y="12"/>
                      </a:lnTo>
                      <a:lnTo>
                        <a:pt x="533" y="12"/>
                      </a:lnTo>
                      <a:lnTo>
                        <a:pt x="569" y="20"/>
                      </a:lnTo>
                      <a:lnTo>
                        <a:pt x="605" y="20"/>
                      </a:lnTo>
                      <a:lnTo>
                        <a:pt x="640" y="20"/>
                      </a:lnTo>
                      <a:lnTo>
                        <a:pt x="680" y="26"/>
                      </a:lnTo>
                      <a:lnTo>
                        <a:pt x="710" y="26"/>
                      </a:lnTo>
                      <a:lnTo>
                        <a:pt x="746" y="26"/>
                      </a:lnTo>
                      <a:lnTo>
                        <a:pt x="781" y="33"/>
                      </a:lnTo>
                      <a:lnTo>
                        <a:pt x="816" y="33"/>
                      </a:lnTo>
                      <a:lnTo>
                        <a:pt x="852" y="39"/>
                      </a:lnTo>
                      <a:lnTo>
                        <a:pt x="882" y="39"/>
                      </a:lnTo>
                      <a:lnTo>
                        <a:pt x="918" y="45"/>
                      </a:lnTo>
                      <a:lnTo>
                        <a:pt x="953" y="45"/>
                      </a:lnTo>
                      <a:lnTo>
                        <a:pt x="988" y="52"/>
                      </a:lnTo>
                      <a:lnTo>
                        <a:pt x="1019" y="59"/>
                      </a:lnTo>
                      <a:lnTo>
                        <a:pt x="1054" y="66"/>
                      </a:lnTo>
                      <a:lnTo>
                        <a:pt x="1085" y="66"/>
                      </a:lnTo>
                      <a:lnTo>
                        <a:pt x="1121" y="72"/>
                      </a:lnTo>
                      <a:lnTo>
                        <a:pt x="1121" y="66"/>
                      </a:lnTo>
                      <a:lnTo>
                        <a:pt x="1090" y="59"/>
                      </a:lnTo>
                      <a:lnTo>
                        <a:pt x="1054" y="52"/>
                      </a:lnTo>
                      <a:lnTo>
                        <a:pt x="1019" y="52"/>
                      </a:lnTo>
                      <a:lnTo>
                        <a:pt x="988" y="45"/>
                      </a:lnTo>
                      <a:lnTo>
                        <a:pt x="953" y="45"/>
                      </a:lnTo>
                      <a:lnTo>
                        <a:pt x="922" y="39"/>
                      </a:lnTo>
                      <a:lnTo>
                        <a:pt x="887" y="39"/>
                      </a:lnTo>
                      <a:lnTo>
                        <a:pt x="852" y="33"/>
                      </a:lnTo>
                      <a:lnTo>
                        <a:pt x="816" y="26"/>
                      </a:lnTo>
                      <a:lnTo>
                        <a:pt x="781" y="26"/>
                      </a:lnTo>
                      <a:lnTo>
                        <a:pt x="750" y="20"/>
                      </a:lnTo>
                      <a:lnTo>
                        <a:pt x="710" y="20"/>
                      </a:lnTo>
                      <a:lnTo>
                        <a:pt x="680" y="20"/>
                      </a:lnTo>
                      <a:lnTo>
                        <a:pt x="640" y="12"/>
                      </a:lnTo>
                      <a:lnTo>
                        <a:pt x="605" y="12"/>
                      </a:lnTo>
                      <a:lnTo>
                        <a:pt x="569" y="6"/>
                      </a:lnTo>
                      <a:lnTo>
                        <a:pt x="533" y="6"/>
                      </a:lnTo>
                      <a:lnTo>
                        <a:pt x="498" y="6"/>
                      </a:lnTo>
                      <a:lnTo>
                        <a:pt x="463" y="6"/>
                      </a:lnTo>
                      <a:lnTo>
                        <a:pt x="427" y="6"/>
                      </a:lnTo>
                      <a:lnTo>
                        <a:pt x="392" y="6"/>
                      </a:lnTo>
                      <a:lnTo>
                        <a:pt x="357" y="0"/>
                      </a:lnTo>
                      <a:lnTo>
                        <a:pt x="321" y="0"/>
                      </a:lnTo>
                      <a:lnTo>
                        <a:pt x="286" y="0"/>
                      </a:lnTo>
                      <a:lnTo>
                        <a:pt x="251" y="0"/>
                      </a:lnTo>
                      <a:lnTo>
                        <a:pt x="216" y="0"/>
                      </a:lnTo>
                      <a:lnTo>
                        <a:pt x="180" y="0"/>
                      </a:lnTo>
                      <a:lnTo>
                        <a:pt x="145" y="0"/>
                      </a:lnTo>
                      <a:lnTo>
                        <a:pt x="110" y="0"/>
                      </a:lnTo>
                      <a:lnTo>
                        <a:pt x="74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29272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36"/>
                      </a:lnTo>
                      <a:lnTo>
                        <a:pt x="17" y="36"/>
                      </a:lnTo>
                      <a:lnTo>
                        <a:pt x="17" y="36"/>
                      </a:lnTo>
                      <a:lnTo>
                        <a:pt x="24" y="36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36" y="17"/>
                      </a:lnTo>
                      <a:lnTo>
                        <a:pt x="42" y="17"/>
                      </a:lnTo>
                      <a:lnTo>
                        <a:pt x="48" y="17"/>
                      </a:lnTo>
                      <a:lnTo>
                        <a:pt x="53" y="17"/>
                      </a:lnTo>
                      <a:lnTo>
                        <a:pt x="60" y="17"/>
                      </a:lnTo>
                      <a:lnTo>
                        <a:pt x="66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3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6" y="17"/>
                      </a:lnTo>
                      <a:lnTo>
                        <a:pt x="30" y="17"/>
                      </a:lnTo>
                      <a:lnTo>
                        <a:pt x="24" y="17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1" y="36"/>
                      </a:lnTo>
                      <a:lnTo>
                        <a:pt x="11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96040" y="5600520"/>
                  <a:ext cx="265320" cy="51120"/>
                </a:xfrm>
                <a:custGeom>
                  <a:avLst/>
                  <a:gdLst/>
                  <a:ahLst/>
                  <a:rect l="0" t="0" r="r" b="b"/>
                  <a:pathLst>
                    <a:path w="737" h="142">
                      <a:moveTo>
                        <a:pt x="0" y="0"/>
                      </a:moveTo>
                      <a:lnTo>
                        <a:pt x="737" y="61"/>
                      </a:lnTo>
                      <a:lnTo>
                        <a:pt x="728" y="70"/>
                      </a:lnTo>
                      <a:lnTo>
                        <a:pt x="719" y="80"/>
                      </a:lnTo>
                      <a:lnTo>
                        <a:pt x="710" y="84"/>
                      </a:lnTo>
                      <a:lnTo>
                        <a:pt x="702" y="93"/>
                      </a:lnTo>
                      <a:lnTo>
                        <a:pt x="693" y="102"/>
                      </a:lnTo>
                      <a:lnTo>
                        <a:pt x="680" y="106"/>
                      </a:lnTo>
                      <a:lnTo>
                        <a:pt x="671" y="111"/>
                      </a:lnTo>
                      <a:lnTo>
                        <a:pt x="658" y="115"/>
                      </a:lnTo>
                      <a:lnTo>
                        <a:pt x="649" y="120"/>
                      </a:lnTo>
                      <a:lnTo>
                        <a:pt x="636" y="124"/>
                      </a:lnTo>
                      <a:lnTo>
                        <a:pt x="627" y="124"/>
                      </a:lnTo>
                      <a:lnTo>
                        <a:pt x="613" y="128"/>
                      </a:lnTo>
                      <a:lnTo>
                        <a:pt x="605" y="133"/>
                      </a:lnTo>
                      <a:lnTo>
                        <a:pt x="591" y="133"/>
                      </a:lnTo>
                      <a:lnTo>
                        <a:pt x="583" y="137"/>
                      </a:lnTo>
                      <a:lnTo>
                        <a:pt x="569" y="137"/>
                      </a:lnTo>
                      <a:lnTo>
                        <a:pt x="556" y="142"/>
                      </a:lnTo>
                      <a:lnTo>
                        <a:pt x="547" y="142"/>
                      </a:lnTo>
                      <a:lnTo>
                        <a:pt x="534" y="142"/>
                      </a:lnTo>
                      <a:lnTo>
                        <a:pt x="521" y="142"/>
                      </a:lnTo>
                      <a:lnTo>
                        <a:pt x="512" y="142"/>
                      </a:lnTo>
                      <a:lnTo>
                        <a:pt x="494" y="142"/>
                      </a:lnTo>
                      <a:lnTo>
                        <a:pt x="486" y="142"/>
                      </a:lnTo>
                      <a:lnTo>
                        <a:pt x="472" y="142"/>
                      </a:lnTo>
                      <a:lnTo>
                        <a:pt x="459" y="142"/>
                      </a:lnTo>
                      <a:lnTo>
                        <a:pt x="446" y="142"/>
                      </a:lnTo>
                      <a:lnTo>
                        <a:pt x="437" y="142"/>
                      </a:lnTo>
                      <a:lnTo>
                        <a:pt x="419" y="142"/>
                      </a:lnTo>
                      <a:lnTo>
                        <a:pt x="411" y="142"/>
                      </a:lnTo>
                      <a:lnTo>
                        <a:pt x="397" y="142"/>
                      </a:lnTo>
                      <a:lnTo>
                        <a:pt x="384" y="142"/>
                      </a:lnTo>
                      <a:lnTo>
                        <a:pt x="371" y="142"/>
                      </a:lnTo>
                      <a:lnTo>
                        <a:pt x="352" y="142"/>
                      </a:lnTo>
                      <a:lnTo>
                        <a:pt x="339" y="142"/>
                      </a:lnTo>
                      <a:lnTo>
                        <a:pt x="326" y="137"/>
                      </a:lnTo>
                      <a:lnTo>
                        <a:pt x="313" y="137"/>
                      </a:lnTo>
                      <a:lnTo>
                        <a:pt x="299" y="137"/>
                      </a:lnTo>
                      <a:lnTo>
                        <a:pt x="286" y="133"/>
                      </a:lnTo>
                      <a:lnTo>
                        <a:pt x="273" y="133"/>
                      </a:lnTo>
                      <a:lnTo>
                        <a:pt x="260" y="133"/>
                      </a:lnTo>
                      <a:lnTo>
                        <a:pt x="246" y="128"/>
                      </a:lnTo>
                      <a:lnTo>
                        <a:pt x="233" y="124"/>
                      </a:lnTo>
                      <a:lnTo>
                        <a:pt x="220" y="124"/>
                      </a:lnTo>
                      <a:lnTo>
                        <a:pt x="207" y="120"/>
                      </a:lnTo>
                      <a:lnTo>
                        <a:pt x="194" y="115"/>
                      </a:lnTo>
                      <a:lnTo>
                        <a:pt x="180" y="111"/>
                      </a:lnTo>
                      <a:lnTo>
                        <a:pt x="171" y="106"/>
                      </a:lnTo>
                      <a:lnTo>
                        <a:pt x="158" y="106"/>
                      </a:lnTo>
                      <a:lnTo>
                        <a:pt x="145" y="102"/>
                      </a:lnTo>
                      <a:lnTo>
                        <a:pt x="136" y="93"/>
                      </a:lnTo>
                      <a:lnTo>
                        <a:pt x="123" y="89"/>
                      </a:lnTo>
                      <a:lnTo>
                        <a:pt x="110" y="84"/>
                      </a:lnTo>
                      <a:lnTo>
                        <a:pt x="101" y="80"/>
                      </a:lnTo>
                      <a:lnTo>
                        <a:pt x="88" y="70"/>
                      </a:lnTo>
                      <a:lnTo>
                        <a:pt x="79" y="66"/>
                      </a:lnTo>
                      <a:lnTo>
                        <a:pt x="70" y="61"/>
                      </a:lnTo>
                      <a:lnTo>
                        <a:pt x="61" y="52"/>
                      </a:lnTo>
                      <a:lnTo>
                        <a:pt x="52" y="48"/>
                      </a:lnTo>
                      <a:lnTo>
                        <a:pt x="39" y="39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17" y="17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96040" y="5599080"/>
                  <a:ext cx="265320" cy="25920"/>
                </a:xfrm>
                <a:custGeom>
                  <a:avLst/>
                  <a:gdLst/>
                  <a:ahLst/>
                  <a:rect l="0" t="0" r="r" b="b"/>
                  <a:pathLst>
                    <a:path w="737" h="72">
                      <a:moveTo>
                        <a:pt x="737" y="72"/>
                      </a:moveTo>
                      <a:lnTo>
                        <a:pt x="733" y="67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33" y="72"/>
                      </a:lnTo>
                      <a:lnTo>
                        <a:pt x="733" y="67"/>
                      </a:lnTo>
                      <a:lnTo>
                        <a:pt x="733" y="72"/>
                      </a:lnTo>
                      <a:lnTo>
                        <a:pt x="737" y="72"/>
                      </a:lnTo>
                      <a:lnTo>
                        <a:pt x="737" y="67"/>
                      </a:lnTo>
                      <a:lnTo>
                        <a:pt x="737" y="67"/>
                      </a:lnTo>
                      <a:lnTo>
                        <a:pt x="733" y="67"/>
                      </a:lnTo>
                      <a:lnTo>
                        <a:pt x="73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30680" y="5626080"/>
                  <a:ext cx="130680" cy="27360"/>
                </a:xfrm>
                <a:custGeom>
                  <a:avLst/>
                  <a:gdLst/>
                  <a:ahLst/>
                  <a:rect l="0" t="0" r="r" b="b"/>
                  <a:pathLst>
                    <a:path w="363" h="76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7" y="72"/>
                      </a:lnTo>
                      <a:lnTo>
                        <a:pt x="30" y="76"/>
                      </a:lnTo>
                      <a:lnTo>
                        <a:pt x="44" y="76"/>
                      </a:lnTo>
                      <a:lnTo>
                        <a:pt x="52" y="76"/>
                      </a:lnTo>
                      <a:lnTo>
                        <a:pt x="66" y="76"/>
                      </a:lnTo>
                      <a:lnTo>
                        <a:pt x="79" y="76"/>
                      </a:lnTo>
                      <a:lnTo>
                        <a:pt x="93" y="76"/>
                      </a:lnTo>
                      <a:lnTo>
                        <a:pt x="102" y="76"/>
                      </a:lnTo>
                      <a:lnTo>
                        <a:pt x="115" y="76"/>
                      </a:lnTo>
                      <a:lnTo>
                        <a:pt x="128" y="76"/>
                      </a:lnTo>
                      <a:lnTo>
                        <a:pt x="142" y="76"/>
                      </a:lnTo>
                      <a:lnTo>
                        <a:pt x="155" y="76"/>
                      </a:lnTo>
                      <a:lnTo>
                        <a:pt x="164" y="76"/>
                      </a:lnTo>
                      <a:lnTo>
                        <a:pt x="177" y="72"/>
                      </a:lnTo>
                      <a:lnTo>
                        <a:pt x="186" y="72"/>
                      </a:lnTo>
                      <a:lnTo>
                        <a:pt x="199" y="72"/>
                      </a:lnTo>
                      <a:lnTo>
                        <a:pt x="208" y="72"/>
                      </a:lnTo>
                      <a:lnTo>
                        <a:pt x="221" y="68"/>
                      </a:lnTo>
                      <a:lnTo>
                        <a:pt x="234" y="68"/>
                      </a:lnTo>
                      <a:lnTo>
                        <a:pt x="243" y="63"/>
                      </a:lnTo>
                      <a:lnTo>
                        <a:pt x="256" y="63"/>
                      </a:lnTo>
                      <a:lnTo>
                        <a:pt x="265" y="59"/>
                      </a:lnTo>
                      <a:lnTo>
                        <a:pt x="275" y="53"/>
                      </a:lnTo>
                      <a:lnTo>
                        <a:pt x="288" y="49"/>
                      </a:lnTo>
                      <a:lnTo>
                        <a:pt x="297" y="45"/>
                      </a:lnTo>
                      <a:lnTo>
                        <a:pt x="306" y="45"/>
                      </a:lnTo>
                      <a:lnTo>
                        <a:pt x="315" y="36"/>
                      </a:lnTo>
                      <a:lnTo>
                        <a:pt x="323" y="31"/>
                      </a:lnTo>
                      <a:lnTo>
                        <a:pt x="337" y="23"/>
                      </a:lnTo>
                      <a:lnTo>
                        <a:pt x="345" y="17"/>
                      </a:lnTo>
                      <a:lnTo>
                        <a:pt x="354" y="8"/>
                      </a:lnTo>
                      <a:lnTo>
                        <a:pt x="363" y="4"/>
                      </a:lnTo>
                      <a:lnTo>
                        <a:pt x="359" y="0"/>
                      </a:lnTo>
                      <a:lnTo>
                        <a:pt x="350" y="8"/>
                      </a:lnTo>
                      <a:lnTo>
                        <a:pt x="341" y="13"/>
                      </a:lnTo>
                      <a:lnTo>
                        <a:pt x="332" y="23"/>
                      </a:lnTo>
                      <a:lnTo>
                        <a:pt x="323" y="27"/>
                      </a:lnTo>
                      <a:lnTo>
                        <a:pt x="315" y="31"/>
                      </a:lnTo>
                      <a:lnTo>
                        <a:pt x="306" y="36"/>
                      </a:lnTo>
                      <a:lnTo>
                        <a:pt x="297" y="45"/>
                      </a:lnTo>
                      <a:lnTo>
                        <a:pt x="284" y="45"/>
                      </a:lnTo>
                      <a:lnTo>
                        <a:pt x="275" y="49"/>
                      </a:lnTo>
                      <a:lnTo>
                        <a:pt x="265" y="53"/>
                      </a:lnTo>
                      <a:lnTo>
                        <a:pt x="252" y="53"/>
                      </a:lnTo>
                      <a:lnTo>
                        <a:pt x="243" y="59"/>
                      </a:lnTo>
                      <a:lnTo>
                        <a:pt x="230" y="63"/>
                      </a:lnTo>
                      <a:lnTo>
                        <a:pt x="221" y="63"/>
                      </a:lnTo>
                      <a:lnTo>
                        <a:pt x="208" y="68"/>
                      </a:lnTo>
                      <a:lnTo>
                        <a:pt x="199" y="68"/>
                      </a:lnTo>
                      <a:lnTo>
                        <a:pt x="186" y="68"/>
                      </a:lnTo>
                      <a:lnTo>
                        <a:pt x="172" y="68"/>
                      </a:lnTo>
                      <a:lnTo>
                        <a:pt x="164" y="68"/>
                      </a:lnTo>
                      <a:lnTo>
                        <a:pt x="155" y="72"/>
                      </a:lnTo>
                      <a:lnTo>
                        <a:pt x="142" y="72"/>
                      </a:lnTo>
                      <a:lnTo>
                        <a:pt x="128" y="72"/>
                      </a:lnTo>
                      <a:lnTo>
                        <a:pt x="115" y="72"/>
                      </a:lnTo>
                      <a:lnTo>
                        <a:pt x="102" y="72"/>
                      </a:lnTo>
                      <a:lnTo>
                        <a:pt x="93" y="72"/>
                      </a:lnTo>
                      <a:lnTo>
                        <a:pt x="79" y="72"/>
                      </a:lnTo>
                      <a:lnTo>
                        <a:pt x="66" y="72"/>
                      </a:lnTo>
                      <a:lnTo>
                        <a:pt x="52" y="68"/>
                      </a:lnTo>
                      <a:lnTo>
                        <a:pt x="44" y="68"/>
                      </a:lnTo>
                      <a:lnTo>
                        <a:pt x="30" y="68"/>
                      </a:lnTo>
                      <a:lnTo>
                        <a:pt x="17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96040" y="5599080"/>
                  <a:ext cx="127440" cy="52920"/>
                </a:xfrm>
                <a:custGeom>
                  <a:avLst/>
                  <a:gdLst/>
                  <a:ahLst/>
                  <a:rect l="0" t="0" r="r" b="b"/>
                  <a:pathLst>
                    <a:path w="354" h="147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17" y="22"/>
                      </a:lnTo>
                      <a:lnTo>
                        <a:pt x="22" y="30"/>
                      </a:lnTo>
                      <a:lnTo>
                        <a:pt x="30" y="40"/>
                      </a:lnTo>
                      <a:lnTo>
                        <a:pt x="39" y="45"/>
                      </a:lnTo>
                      <a:lnTo>
                        <a:pt x="48" y="53"/>
                      </a:lnTo>
                      <a:lnTo>
                        <a:pt x="57" y="58"/>
                      </a:lnTo>
                      <a:lnTo>
                        <a:pt x="66" y="67"/>
                      </a:lnTo>
                      <a:lnTo>
                        <a:pt x="74" y="71"/>
                      </a:lnTo>
                      <a:lnTo>
                        <a:pt x="89" y="80"/>
                      </a:lnTo>
                      <a:lnTo>
                        <a:pt x="98" y="84"/>
                      </a:lnTo>
                      <a:lnTo>
                        <a:pt x="111" y="93"/>
                      </a:lnTo>
                      <a:lnTo>
                        <a:pt x="120" y="98"/>
                      </a:lnTo>
                      <a:lnTo>
                        <a:pt x="128" y="102"/>
                      </a:lnTo>
                      <a:lnTo>
                        <a:pt x="142" y="106"/>
                      </a:lnTo>
                      <a:lnTo>
                        <a:pt x="155" y="112"/>
                      </a:lnTo>
                      <a:lnTo>
                        <a:pt x="164" y="116"/>
                      </a:lnTo>
                      <a:lnTo>
                        <a:pt x="177" y="121"/>
                      </a:lnTo>
                      <a:lnTo>
                        <a:pt x="186" y="125"/>
                      </a:lnTo>
                      <a:lnTo>
                        <a:pt x="199" y="129"/>
                      </a:lnTo>
                      <a:lnTo>
                        <a:pt x="212" y="129"/>
                      </a:lnTo>
                      <a:lnTo>
                        <a:pt x="225" y="134"/>
                      </a:lnTo>
                      <a:lnTo>
                        <a:pt x="234" y="138"/>
                      </a:lnTo>
                      <a:lnTo>
                        <a:pt x="247" y="138"/>
                      </a:lnTo>
                      <a:lnTo>
                        <a:pt x="261" y="143"/>
                      </a:lnTo>
                      <a:lnTo>
                        <a:pt x="275" y="143"/>
                      </a:lnTo>
                      <a:lnTo>
                        <a:pt x="288" y="143"/>
                      </a:lnTo>
                      <a:lnTo>
                        <a:pt x="301" y="147"/>
                      </a:lnTo>
                      <a:lnTo>
                        <a:pt x="315" y="147"/>
                      </a:lnTo>
                      <a:lnTo>
                        <a:pt x="328" y="147"/>
                      </a:lnTo>
                      <a:lnTo>
                        <a:pt x="341" y="147"/>
                      </a:lnTo>
                      <a:lnTo>
                        <a:pt x="354" y="147"/>
                      </a:lnTo>
                      <a:lnTo>
                        <a:pt x="354" y="143"/>
                      </a:lnTo>
                      <a:lnTo>
                        <a:pt x="341" y="143"/>
                      </a:lnTo>
                      <a:lnTo>
                        <a:pt x="328" y="143"/>
                      </a:lnTo>
                      <a:lnTo>
                        <a:pt x="315" y="143"/>
                      </a:lnTo>
                      <a:lnTo>
                        <a:pt x="301" y="143"/>
                      </a:lnTo>
                      <a:lnTo>
                        <a:pt x="288" y="138"/>
                      </a:lnTo>
                      <a:lnTo>
                        <a:pt x="275" y="138"/>
                      </a:lnTo>
                      <a:lnTo>
                        <a:pt x="266" y="134"/>
                      </a:lnTo>
                      <a:lnTo>
                        <a:pt x="247" y="134"/>
                      </a:lnTo>
                      <a:lnTo>
                        <a:pt x="239" y="129"/>
                      </a:lnTo>
                      <a:lnTo>
                        <a:pt x="225" y="129"/>
                      </a:lnTo>
                      <a:lnTo>
                        <a:pt x="212" y="125"/>
                      </a:lnTo>
                      <a:lnTo>
                        <a:pt x="199" y="121"/>
                      </a:lnTo>
                      <a:lnTo>
                        <a:pt x="190" y="116"/>
                      </a:lnTo>
                      <a:lnTo>
                        <a:pt x="177" y="116"/>
                      </a:lnTo>
                      <a:lnTo>
                        <a:pt x="168" y="112"/>
                      </a:lnTo>
                      <a:lnTo>
                        <a:pt x="155" y="106"/>
                      </a:lnTo>
                      <a:lnTo>
                        <a:pt x="142" y="98"/>
                      </a:lnTo>
                      <a:lnTo>
                        <a:pt x="133" y="98"/>
                      </a:lnTo>
                      <a:lnTo>
                        <a:pt x="124" y="93"/>
                      </a:lnTo>
                      <a:lnTo>
                        <a:pt x="111" y="84"/>
                      </a:lnTo>
                      <a:lnTo>
                        <a:pt x="98" y="80"/>
                      </a:lnTo>
                      <a:lnTo>
                        <a:pt x="89" y="75"/>
                      </a:lnTo>
                      <a:lnTo>
                        <a:pt x="79" y="67"/>
                      </a:lnTo>
                      <a:lnTo>
                        <a:pt x="70" y="62"/>
                      </a:lnTo>
                      <a:lnTo>
                        <a:pt x="61" y="53"/>
                      </a:lnTo>
                      <a:lnTo>
                        <a:pt x="52" y="49"/>
                      </a:lnTo>
                      <a:lnTo>
                        <a:pt x="44" y="40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22" y="17"/>
                      </a:lnTo>
                      <a:lnTo>
                        <a:pt x="13" y="8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254560" y="5559480"/>
                  <a:ext cx="449640" cy="178200"/>
                </a:xfrm>
                <a:custGeom>
                  <a:avLst/>
                  <a:gdLst/>
                  <a:ahLst/>
                  <a:rect l="0" t="0" r="r" b="b"/>
                  <a:pathLst>
                    <a:path w="1249" h="495">
                      <a:moveTo>
                        <a:pt x="79" y="336"/>
                      </a:moveTo>
                      <a:lnTo>
                        <a:pt x="1249" y="442"/>
                      </a:lnTo>
                      <a:lnTo>
                        <a:pt x="1249" y="495"/>
                      </a:lnTo>
                      <a:lnTo>
                        <a:pt x="79" y="390"/>
                      </a:lnTo>
                      <a:lnTo>
                        <a:pt x="79" y="336"/>
                      </a:lnTo>
                      <a:lnTo>
                        <a:pt x="4" y="0"/>
                      </a:lnTo>
                      <a:lnTo>
                        <a:pt x="1227" y="110"/>
                      </a:lnTo>
                      <a:lnTo>
                        <a:pt x="1219" y="168"/>
                      </a:lnTo>
                      <a:lnTo>
                        <a:pt x="0" y="48"/>
                      </a:lnTo>
                      <a:lnTo>
                        <a:pt x="4" y="0"/>
                      </a:lnTo>
                      <a:lnTo>
                        <a:pt x="79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424480" y="5640480"/>
                  <a:ext cx="230400" cy="41760"/>
                </a:xfrm>
                <a:custGeom>
                  <a:avLst/>
                  <a:gdLst/>
                  <a:ahLst/>
                  <a:rect l="0" t="0" r="r" b="b"/>
                  <a:pathLst>
                    <a:path w="640" h="116">
                      <a:moveTo>
                        <a:pt x="57" y="0"/>
                      </a:moveTo>
                      <a:lnTo>
                        <a:pt x="4" y="67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4" y="75"/>
                      </a:lnTo>
                      <a:lnTo>
                        <a:pt x="4" y="80"/>
                      </a:lnTo>
                      <a:lnTo>
                        <a:pt x="8" y="80"/>
                      </a:lnTo>
                      <a:lnTo>
                        <a:pt x="13" y="84"/>
                      </a:lnTo>
                      <a:lnTo>
                        <a:pt x="17" y="84"/>
                      </a:lnTo>
                      <a:lnTo>
                        <a:pt x="26" y="90"/>
                      </a:lnTo>
                      <a:lnTo>
                        <a:pt x="35" y="90"/>
                      </a:lnTo>
                      <a:lnTo>
                        <a:pt x="39" y="90"/>
                      </a:lnTo>
                      <a:lnTo>
                        <a:pt x="48" y="94"/>
                      </a:lnTo>
                      <a:lnTo>
                        <a:pt x="61" y="94"/>
                      </a:lnTo>
                      <a:lnTo>
                        <a:pt x="70" y="99"/>
                      </a:lnTo>
                      <a:lnTo>
                        <a:pt x="83" y="99"/>
                      </a:lnTo>
                      <a:lnTo>
                        <a:pt x="97" y="103"/>
                      </a:lnTo>
                      <a:lnTo>
                        <a:pt x="110" y="103"/>
                      </a:lnTo>
                      <a:lnTo>
                        <a:pt x="119" y="107"/>
                      </a:lnTo>
                      <a:lnTo>
                        <a:pt x="132" y="107"/>
                      </a:lnTo>
                      <a:lnTo>
                        <a:pt x="145" y="107"/>
                      </a:lnTo>
                      <a:lnTo>
                        <a:pt x="163" y="112"/>
                      </a:lnTo>
                      <a:lnTo>
                        <a:pt x="171" y="112"/>
                      </a:lnTo>
                      <a:lnTo>
                        <a:pt x="189" y="112"/>
                      </a:lnTo>
                      <a:lnTo>
                        <a:pt x="202" y="112"/>
                      </a:lnTo>
                      <a:lnTo>
                        <a:pt x="216" y="116"/>
                      </a:lnTo>
                      <a:lnTo>
                        <a:pt x="229" y="116"/>
                      </a:lnTo>
                      <a:lnTo>
                        <a:pt x="242" y="116"/>
                      </a:lnTo>
                      <a:lnTo>
                        <a:pt x="255" y="116"/>
                      </a:lnTo>
                      <a:lnTo>
                        <a:pt x="268" y="116"/>
                      </a:lnTo>
                      <a:lnTo>
                        <a:pt x="282" y="116"/>
                      </a:lnTo>
                      <a:lnTo>
                        <a:pt x="295" y="116"/>
                      </a:lnTo>
                      <a:lnTo>
                        <a:pt x="308" y="116"/>
                      </a:lnTo>
                      <a:lnTo>
                        <a:pt x="322" y="116"/>
                      </a:lnTo>
                      <a:lnTo>
                        <a:pt x="331" y="116"/>
                      </a:lnTo>
                      <a:lnTo>
                        <a:pt x="340" y="116"/>
                      </a:lnTo>
                      <a:lnTo>
                        <a:pt x="353" y="116"/>
                      </a:lnTo>
                      <a:lnTo>
                        <a:pt x="367" y="116"/>
                      </a:lnTo>
                      <a:lnTo>
                        <a:pt x="380" y="116"/>
                      </a:lnTo>
                      <a:lnTo>
                        <a:pt x="393" y="116"/>
                      </a:lnTo>
                      <a:lnTo>
                        <a:pt x="406" y="116"/>
                      </a:lnTo>
                      <a:lnTo>
                        <a:pt x="419" y="116"/>
                      </a:lnTo>
                      <a:lnTo>
                        <a:pt x="433" y="112"/>
                      </a:lnTo>
                      <a:lnTo>
                        <a:pt x="446" y="112"/>
                      </a:lnTo>
                      <a:lnTo>
                        <a:pt x="459" y="112"/>
                      </a:lnTo>
                      <a:lnTo>
                        <a:pt x="472" y="112"/>
                      </a:lnTo>
                      <a:lnTo>
                        <a:pt x="490" y="107"/>
                      </a:lnTo>
                      <a:lnTo>
                        <a:pt x="499" y="107"/>
                      </a:lnTo>
                      <a:lnTo>
                        <a:pt x="516" y="107"/>
                      </a:lnTo>
                      <a:lnTo>
                        <a:pt x="525" y="103"/>
                      </a:lnTo>
                      <a:lnTo>
                        <a:pt x="538" y="103"/>
                      </a:lnTo>
                      <a:lnTo>
                        <a:pt x="552" y="103"/>
                      </a:lnTo>
                      <a:lnTo>
                        <a:pt x="565" y="99"/>
                      </a:lnTo>
                      <a:lnTo>
                        <a:pt x="574" y="99"/>
                      </a:lnTo>
                      <a:lnTo>
                        <a:pt x="583" y="94"/>
                      </a:lnTo>
                      <a:lnTo>
                        <a:pt x="596" y="94"/>
                      </a:lnTo>
                      <a:lnTo>
                        <a:pt x="605" y="90"/>
                      </a:lnTo>
                      <a:lnTo>
                        <a:pt x="609" y="90"/>
                      </a:lnTo>
                      <a:lnTo>
                        <a:pt x="618" y="90"/>
                      </a:lnTo>
                      <a:lnTo>
                        <a:pt x="627" y="84"/>
                      </a:lnTo>
                      <a:lnTo>
                        <a:pt x="631" y="84"/>
                      </a:lnTo>
                      <a:lnTo>
                        <a:pt x="636" y="80"/>
                      </a:lnTo>
                      <a:lnTo>
                        <a:pt x="636" y="75"/>
                      </a:lnTo>
                      <a:lnTo>
                        <a:pt x="640" y="75"/>
                      </a:lnTo>
                      <a:lnTo>
                        <a:pt x="640" y="71"/>
                      </a:lnTo>
                      <a:lnTo>
                        <a:pt x="640" y="67"/>
                      </a:lnTo>
                      <a:lnTo>
                        <a:pt x="600" y="4"/>
                      </a:lnTo>
                      <a:lnTo>
                        <a:pt x="591" y="8"/>
                      </a:lnTo>
                      <a:lnTo>
                        <a:pt x="583" y="13"/>
                      </a:lnTo>
                      <a:lnTo>
                        <a:pt x="578" y="13"/>
                      </a:lnTo>
                      <a:lnTo>
                        <a:pt x="569" y="17"/>
                      </a:lnTo>
                      <a:lnTo>
                        <a:pt x="565" y="17"/>
                      </a:lnTo>
                      <a:lnTo>
                        <a:pt x="556" y="22"/>
                      </a:lnTo>
                      <a:lnTo>
                        <a:pt x="547" y="22"/>
                      </a:lnTo>
                      <a:lnTo>
                        <a:pt x="538" y="26"/>
                      </a:lnTo>
                      <a:lnTo>
                        <a:pt x="530" y="26"/>
                      </a:lnTo>
                      <a:lnTo>
                        <a:pt x="521" y="31"/>
                      </a:lnTo>
                      <a:lnTo>
                        <a:pt x="516" y="31"/>
                      </a:lnTo>
                      <a:lnTo>
                        <a:pt x="503" y="31"/>
                      </a:lnTo>
                      <a:lnTo>
                        <a:pt x="499" y="31"/>
                      </a:lnTo>
                      <a:lnTo>
                        <a:pt x="490" y="31"/>
                      </a:lnTo>
                      <a:lnTo>
                        <a:pt x="481" y="36"/>
                      </a:lnTo>
                      <a:lnTo>
                        <a:pt x="472" y="36"/>
                      </a:lnTo>
                      <a:lnTo>
                        <a:pt x="464" y="36"/>
                      </a:lnTo>
                      <a:lnTo>
                        <a:pt x="455" y="36"/>
                      </a:lnTo>
                      <a:lnTo>
                        <a:pt x="446" y="36"/>
                      </a:lnTo>
                      <a:lnTo>
                        <a:pt x="437" y="40"/>
                      </a:lnTo>
                      <a:lnTo>
                        <a:pt x="428" y="40"/>
                      </a:lnTo>
                      <a:lnTo>
                        <a:pt x="419" y="40"/>
                      </a:lnTo>
                      <a:lnTo>
                        <a:pt x="411" y="40"/>
                      </a:lnTo>
                      <a:lnTo>
                        <a:pt x="402" y="40"/>
                      </a:lnTo>
                      <a:lnTo>
                        <a:pt x="393" y="40"/>
                      </a:lnTo>
                      <a:lnTo>
                        <a:pt x="384" y="40"/>
                      </a:lnTo>
                      <a:lnTo>
                        <a:pt x="375" y="40"/>
                      </a:lnTo>
                      <a:lnTo>
                        <a:pt x="367" y="40"/>
                      </a:lnTo>
                      <a:lnTo>
                        <a:pt x="358" y="40"/>
                      </a:lnTo>
                      <a:lnTo>
                        <a:pt x="349" y="40"/>
                      </a:lnTo>
                      <a:lnTo>
                        <a:pt x="340" y="40"/>
                      </a:lnTo>
                      <a:lnTo>
                        <a:pt x="331" y="40"/>
                      </a:lnTo>
                      <a:lnTo>
                        <a:pt x="322" y="40"/>
                      </a:lnTo>
                      <a:lnTo>
                        <a:pt x="313" y="40"/>
                      </a:lnTo>
                      <a:lnTo>
                        <a:pt x="299" y="40"/>
                      </a:lnTo>
                      <a:lnTo>
                        <a:pt x="291" y="40"/>
                      </a:lnTo>
                      <a:lnTo>
                        <a:pt x="277" y="40"/>
                      </a:lnTo>
                      <a:lnTo>
                        <a:pt x="268" y="40"/>
                      </a:lnTo>
                      <a:lnTo>
                        <a:pt x="255" y="40"/>
                      </a:lnTo>
                      <a:lnTo>
                        <a:pt x="242" y="40"/>
                      </a:lnTo>
                      <a:lnTo>
                        <a:pt x="229" y="40"/>
                      </a:lnTo>
                      <a:lnTo>
                        <a:pt x="220" y="40"/>
                      </a:lnTo>
                      <a:lnTo>
                        <a:pt x="202" y="40"/>
                      </a:lnTo>
                      <a:lnTo>
                        <a:pt x="194" y="36"/>
                      </a:lnTo>
                      <a:lnTo>
                        <a:pt x="180" y="36"/>
                      </a:lnTo>
                      <a:lnTo>
                        <a:pt x="167" y="36"/>
                      </a:lnTo>
                      <a:lnTo>
                        <a:pt x="158" y="36"/>
                      </a:lnTo>
                      <a:lnTo>
                        <a:pt x="145" y="31"/>
                      </a:lnTo>
                      <a:lnTo>
                        <a:pt x="136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26"/>
                      </a:lnTo>
                      <a:lnTo>
                        <a:pt x="88" y="26"/>
                      </a:lnTo>
                      <a:lnTo>
                        <a:pt x="79" y="22"/>
                      </a:lnTo>
                      <a:lnTo>
                        <a:pt x="70" y="22"/>
                      </a:lnTo>
                      <a:lnTo>
                        <a:pt x="66" y="17"/>
                      </a:lnTo>
                      <a:lnTo>
                        <a:pt x="61" y="17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2" y="8"/>
                      </a:lnTo>
                      <a:lnTo>
                        <a:pt x="52" y="4"/>
                      </a:lnTo>
                      <a:lnTo>
                        <a:pt x="52" y="4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424480" y="564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8" y="72"/>
                      </a:moveTo>
                      <a:lnTo>
                        <a:pt x="8" y="72"/>
                      </a:lnTo>
                      <a:lnTo>
                        <a:pt x="72" y="5"/>
                      </a:lnTo>
                      <a:lnTo>
                        <a:pt x="63" y="0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424480" y="5670720"/>
                  <a:ext cx="113040" cy="25920"/>
                </a:xfrm>
                <a:custGeom>
                  <a:avLst/>
                  <a:gdLst/>
                  <a:ahLst/>
                  <a:rect l="0" t="0" r="r" b="b"/>
                  <a:pathLst>
                    <a:path w="314" h="72">
                      <a:moveTo>
                        <a:pt x="309" y="64"/>
                      </a:moveTo>
                      <a:lnTo>
                        <a:pt x="309" y="64"/>
                      </a:lnTo>
                      <a:lnTo>
                        <a:pt x="296" y="64"/>
                      </a:lnTo>
                      <a:lnTo>
                        <a:pt x="287" y="64"/>
                      </a:lnTo>
                      <a:lnTo>
                        <a:pt x="274" y="64"/>
                      </a:lnTo>
                      <a:lnTo>
                        <a:pt x="261" y="64"/>
                      </a:lnTo>
                      <a:lnTo>
                        <a:pt x="247" y="64"/>
                      </a:lnTo>
                      <a:lnTo>
                        <a:pt x="234" y="64"/>
                      </a:lnTo>
                      <a:lnTo>
                        <a:pt x="225" y="64"/>
                      </a:lnTo>
                      <a:lnTo>
                        <a:pt x="212" y="56"/>
                      </a:lnTo>
                      <a:lnTo>
                        <a:pt x="195" y="56"/>
                      </a:lnTo>
                      <a:lnTo>
                        <a:pt x="181" y="56"/>
                      </a:lnTo>
                      <a:lnTo>
                        <a:pt x="168" y="56"/>
                      </a:lnTo>
                      <a:lnTo>
                        <a:pt x="159" y="56"/>
                      </a:lnTo>
                      <a:lnTo>
                        <a:pt x="141" y="56"/>
                      </a:lnTo>
                      <a:lnTo>
                        <a:pt x="127" y="48"/>
                      </a:lnTo>
                      <a:lnTo>
                        <a:pt x="119" y="48"/>
                      </a:lnTo>
                      <a:lnTo>
                        <a:pt x="105" y="48"/>
                      </a:lnTo>
                      <a:lnTo>
                        <a:pt x="92" y="48"/>
                      </a:lnTo>
                      <a:lnTo>
                        <a:pt x="83" y="40"/>
                      </a:lnTo>
                      <a:lnTo>
                        <a:pt x="70" y="40"/>
                      </a:lnTo>
                      <a:lnTo>
                        <a:pt x="61" y="40"/>
                      </a:lnTo>
                      <a:lnTo>
                        <a:pt x="52" y="32"/>
                      </a:lnTo>
                      <a:lnTo>
                        <a:pt x="44" y="32"/>
                      </a:lnTo>
                      <a:lnTo>
                        <a:pt x="35" y="24"/>
                      </a:lnTo>
                      <a:lnTo>
                        <a:pt x="26" y="24"/>
                      </a:lnTo>
                      <a:lnTo>
                        <a:pt x="22" y="24"/>
                      </a:lnTo>
                      <a:lnTo>
                        <a:pt x="17" y="15"/>
                      </a:lnTo>
                      <a:lnTo>
                        <a:pt x="13" y="15"/>
                      </a:lnTo>
                      <a:lnTo>
                        <a:pt x="8" y="15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8" y="24"/>
                      </a:lnTo>
                      <a:lnTo>
                        <a:pt x="13" y="24"/>
                      </a:lnTo>
                      <a:lnTo>
                        <a:pt x="17" y="24"/>
                      </a:lnTo>
                      <a:lnTo>
                        <a:pt x="26" y="32"/>
                      </a:lnTo>
                      <a:lnTo>
                        <a:pt x="35" y="40"/>
                      </a:lnTo>
                      <a:lnTo>
                        <a:pt x="39" y="40"/>
                      </a:lnTo>
                      <a:lnTo>
                        <a:pt x="48" y="40"/>
                      </a:lnTo>
                      <a:lnTo>
                        <a:pt x="61" y="48"/>
                      </a:lnTo>
                      <a:lnTo>
                        <a:pt x="70" y="48"/>
                      </a:lnTo>
                      <a:lnTo>
                        <a:pt x="79" y="48"/>
                      </a:lnTo>
                      <a:lnTo>
                        <a:pt x="92" y="48"/>
                      </a:lnTo>
                      <a:lnTo>
                        <a:pt x="101" y="56"/>
                      </a:lnTo>
                      <a:lnTo>
                        <a:pt x="119" y="56"/>
                      </a:lnTo>
                      <a:lnTo>
                        <a:pt x="127" y="56"/>
                      </a:lnTo>
                      <a:lnTo>
                        <a:pt x="141" y="56"/>
                      </a:lnTo>
                      <a:lnTo>
                        <a:pt x="154" y="64"/>
                      </a:lnTo>
                      <a:lnTo>
                        <a:pt x="168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12" y="64"/>
                      </a:lnTo>
                      <a:lnTo>
                        <a:pt x="221" y="72"/>
                      </a:lnTo>
                      <a:lnTo>
                        <a:pt x="234" y="72"/>
                      </a:lnTo>
                      <a:lnTo>
                        <a:pt x="247" y="72"/>
                      </a:lnTo>
                      <a:lnTo>
                        <a:pt x="261" y="72"/>
                      </a:lnTo>
                      <a:lnTo>
                        <a:pt x="274" y="72"/>
                      </a:lnTo>
                      <a:lnTo>
                        <a:pt x="287" y="72"/>
                      </a:lnTo>
                      <a:lnTo>
                        <a:pt x="296" y="72"/>
                      </a:lnTo>
                      <a:lnTo>
                        <a:pt x="309" y="72"/>
                      </a:lnTo>
                      <a:lnTo>
                        <a:pt x="309" y="72"/>
                      </a:lnTo>
                      <a:lnTo>
                        <a:pt x="314" y="64"/>
                      </a:lnTo>
                      <a:lnTo>
                        <a:pt x="30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545080" y="5670720"/>
                  <a:ext cx="111600" cy="25920"/>
                </a:xfrm>
                <a:custGeom>
                  <a:avLst/>
                  <a:gdLst/>
                  <a:ahLst/>
                  <a:rect l="0" t="0" r="r" b="b"/>
                  <a:pathLst>
                    <a:path w="310" h="72">
                      <a:moveTo>
                        <a:pt x="306" y="7"/>
                      </a:moveTo>
                      <a:lnTo>
                        <a:pt x="301" y="7"/>
                      </a:lnTo>
                      <a:lnTo>
                        <a:pt x="306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1" y="15"/>
                      </a:lnTo>
                      <a:lnTo>
                        <a:pt x="297" y="15"/>
                      </a:lnTo>
                      <a:lnTo>
                        <a:pt x="293" y="24"/>
                      </a:lnTo>
                      <a:lnTo>
                        <a:pt x="284" y="24"/>
                      </a:lnTo>
                      <a:lnTo>
                        <a:pt x="279" y="24"/>
                      </a:lnTo>
                      <a:lnTo>
                        <a:pt x="270" y="32"/>
                      </a:lnTo>
                      <a:lnTo>
                        <a:pt x="262" y="32"/>
                      </a:lnTo>
                      <a:lnTo>
                        <a:pt x="253" y="40"/>
                      </a:lnTo>
                      <a:lnTo>
                        <a:pt x="244" y="40"/>
                      </a:lnTo>
                      <a:lnTo>
                        <a:pt x="235" y="40"/>
                      </a:lnTo>
                      <a:lnTo>
                        <a:pt x="221" y="48"/>
                      </a:lnTo>
                      <a:lnTo>
                        <a:pt x="212" y="48"/>
                      </a:lnTo>
                      <a:lnTo>
                        <a:pt x="199" y="48"/>
                      </a:lnTo>
                      <a:lnTo>
                        <a:pt x="186" y="48"/>
                      </a:lnTo>
                      <a:lnTo>
                        <a:pt x="172" y="48"/>
                      </a:lnTo>
                      <a:lnTo>
                        <a:pt x="159" y="56"/>
                      </a:lnTo>
                      <a:lnTo>
                        <a:pt x="146" y="56"/>
                      </a:lnTo>
                      <a:lnTo>
                        <a:pt x="133" y="56"/>
                      </a:lnTo>
                      <a:lnTo>
                        <a:pt x="124" y="56"/>
                      </a:lnTo>
                      <a:lnTo>
                        <a:pt x="111" y="56"/>
                      </a:lnTo>
                      <a:lnTo>
                        <a:pt x="93" y="56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7" y="64"/>
                      </a:lnTo>
                      <a:lnTo>
                        <a:pt x="44" y="64"/>
                      </a:lnTo>
                      <a:lnTo>
                        <a:pt x="30" y="64"/>
                      </a:lnTo>
                      <a:lnTo>
                        <a:pt x="22" y="64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44" y="72"/>
                      </a:lnTo>
                      <a:lnTo>
                        <a:pt x="57" y="72"/>
                      </a:lnTo>
                      <a:lnTo>
                        <a:pt x="70" y="72"/>
                      </a:lnTo>
                      <a:lnTo>
                        <a:pt x="84" y="64"/>
                      </a:lnTo>
                      <a:lnTo>
                        <a:pt x="93" y="64"/>
                      </a:lnTo>
                      <a:lnTo>
                        <a:pt x="111" y="64"/>
                      </a:lnTo>
                      <a:lnTo>
                        <a:pt x="124" y="64"/>
                      </a:lnTo>
                      <a:lnTo>
                        <a:pt x="133" y="64"/>
                      </a:lnTo>
                      <a:lnTo>
                        <a:pt x="146" y="64"/>
                      </a:lnTo>
                      <a:lnTo>
                        <a:pt x="164" y="64"/>
                      </a:lnTo>
                      <a:lnTo>
                        <a:pt x="172" y="56"/>
                      </a:lnTo>
                      <a:lnTo>
                        <a:pt x="186" y="56"/>
                      </a:lnTo>
                      <a:lnTo>
                        <a:pt x="199" y="56"/>
                      </a:lnTo>
                      <a:lnTo>
                        <a:pt x="212" y="56"/>
                      </a:lnTo>
                      <a:lnTo>
                        <a:pt x="221" y="48"/>
                      </a:lnTo>
                      <a:lnTo>
                        <a:pt x="235" y="48"/>
                      </a:lnTo>
                      <a:lnTo>
                        <a:pt x="244" y="48"/>
                      </a:lnTo>
                      <a:lnTo>
                        <a:pt x="253" y="40"/>
                      </a:lnTo>
                      <a:lnTo>
                        <a:pt x="266" y="40"/>
                      </a:lnTo>
                      <a:lnTo>
                        <a:pt x="275" y="40"/>
                      </a:lnTo>
                      <a:lnTo>
                        <a:pt x="279" y="32"/>
                      </a:lnTo>
                      <a:lnTo>
                        <a:pt x="288" y="32"/>
                      </a:lnTo>
                      <a:lnTo>
                        <a:pt x="293" y="24"/>
                      </a:lnTo>
                      <a:lnTo>
                        <a:pt x="301" y="24"/>
                      </a:lnTo>
                      <a:lnTo>
                        <a:pt x="301" y="24"/>
                      </a:lnTo>
                      <a:lnTo>
                        <a:pt x="306" y="15"/>
                      </a:lnTo>
                      <a:lnTo>
                        <a:pt x="310" y="15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1" y="7"/>
                      </a:lnTo>
                      <a:lnTo>
                        <a:pt x="30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64840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4" y="5"/>
                      </a:moveTo>
                      <a:lnTo>
                        <a:pt x="0" y="5"/>
                      </a:lnTo>
                      <a:lnTo>
                        <a:pt x="58" y="72"/>
                      </a:lnTo>
                      <a:lnTo>
                        <a:pt x="72" y="6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546880" y="564372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44" y="72"/>
                      </a:lnTo>
                      <a:lnTo>
                        <a:pt x="52" y="72"/>
                      </a:lnTo>
                      <a:lnTo>
                        <a:pt x="61" y="72"/>
                      </a:lnTo>
                      <a:lnTo>
                        <a:pt x="70" y="72"/>
                      </a:lnTo>
                      <a:lnTo>
                        <a:pt x="79" y="72"/>
                      </a:lnTo>
                      <a:lnTo>
                        <a:pt x="88" y="72"/>
                      </a:lnTo>
                      <a:lnTo>
                        <a:pt x="97" y="72"/>
                      </a:lnTo>
                      <a:lnTo>
                        <a:pt x="105" y="72"/>
                      </a:lnTo>
                      <a:lnTo>
                        <a:pt x="110" y="58"/>
                      </a:lnTo>
                      <a:lnTo>
                        <a:pt x="119" y="58"/>
                      </a:lnTo>
                      <a:lnTo>
                        <a:pt x="133" y="58"/>
                      </a:lnTo>
                      <a:lnTo>
                        <a:pt x="137" y="58"/>
                      </a:lnTo>
                      <a:lnTo>
                        <a:pt x="146" y="58"/>
                      </a:lnTo>
                      <a:lnTo>
                        <a:pt x="155" y="58"/>
                      </a:lnTo>
                      <a:lnTo>
                        <a:pt x="164" y="58"/>
                      </a:lnTo>
                      <a:lnTo>
                        <a:pt x="168" y="58"/>
                      </a:lnTo>
                      <a:lnTo>
                        <a:pt x="177" y="58"/>
                      </a:lnTo>
                      <a:lnTo>
                        <a:pt x="186" y="43"/>
                      </a:lnTo>
                      <a:lnTo>
                        <a:pt x="195" y="43"/>
                      </a:lnTo>
                      <a:lnTo>
                        <a:pt x="203" y="43"/>
                      </a:lnTo>
                      <a:lnTo>
                        <a:pt x="212" y="43"/>
                      </a:lnTo>
                      <a:lnTo>
                        <a:pt x="217" y="43"/>
                      </a:lnTo>
                      <a:lnTo>
                        <a:pt x="225" y="29"/>
                      </a:lnTo>
                      <a:lnTo>
                        <a:pt x="230" y="29"/>
                      </a:lnTo>
                      <a:lnTo>
                        <a:pt x="239" y="29"/>
                      </a:lnTo>
                      <a:lnTo>
                        <a:pt x="247" y="14"/>
                      </a:lnTo>
                      <a:lnTo>
                        <a:pt x="252" y="14"/>
                      </a:lnTo>
                      <a:lnTo>
                        <a:pt x="261" y="14"/>
                      </a:lnTo>
                      <a:lnTo>
                        <a:pt x="256" y="0"/>
                      </a:lnTo>
                      <a:lnTo>
                        <a:pt x="252" y="0"/>
                      </a:lnTo>
                      <a:lnTo>
                        <a:pt x="243" y="14"/>
                      </a:lnTo>
                      <a:lnTo>
                        <a:pt x="239" y="14"/>
                      </a:lnTo>
                      <a:lnTo>
                        <a:pt x="230" y="14"/>
                      </a:lnTo>
                      <a:lnTo>
                        <a:pt x="221" y="29"/>
                      </a:lnTo>
                      <a:lnTo>
                        <a:pt x="217" y="29"/>
                      </a:lnTo>
                      <a:lnTo>
                        <a:pt x="208" y="29"/>
                      </a:lnTo>
                      <a:lnTo>
                        <a:pt x="203" y="29"/>
                      </a:lnTo>
                      <a:lnTo>
                        <a:pt x="190" y="43"/>
                      </a:lnTo>
                      <a:lnTo>
                        <a:pt x="186" y="43"/>
                      </a:lnTo>
                      <a:lnTo>
                        <a:pt x="177" y="43"/>
                      </a:lnTo>
                      <a:lnTo>
                        <a:pt x="168" y="43"/>
                      </a:lnTo>
                      <a:lnTo>
                        <a:pt x="159" y="43"/>
                      </a:lnTo>
                      <a:lnTo>
                        <a:pt x="155" y="43"/>
                      </a:lnTo>
                      <a:lnTo>
                        <a:pt x="146" y="43"/>
                      </a:lnTo>
                      <a:lnTo>
                        <a:pt x="137" y="58"/>
                      </a:lnTo>
                      <a:lnTo>
                        <a:pt x="127" y="58"/>
                      </a:lnTo>
                      <a:lnTo>
                        <a:pt x="119" y="58"/>
                      </a:lnTo>
                      <a:lnTo>
                        <a:pt x="110" y="58"/>
                      </a:lnTo>
                      <a:lnTo>
                        <a:pt x="101" y="58"/>
                      </a:lnTo>
                      <a:lnTo>
                        <a:pt x="97" y="58"/>
                      </a:lnTo>
                      <a:lnTo>
                        <a:pt x="88" y="58"/>
                      </a:lnTo>
                      <a:lnTo>
                        <a:pt x="79" y="58"/>
                      </a:lnTo>
                      <a:lnTo>
                        <a:pt x="70" y="58"/>
                      </a:lnTo>
                      <a:lnTo>
                        <a:pt x="61" y="58"/>
                      </a:lnTo>
                      <a:lnTo>
                        <a:pt x="52" y="58"/>
                      </a:lnTo>
                      <a:lnTo>
                        <a:pt x="44" y="58"/>
                      </a:lnTo>
                      <a:lnTo>
                        <a:pt x="35" y="58"/>
                      </a:lnTo>
                      <a:lnTo>
                        <a:pt x="30" y="58"/>
                      </a:lnTo>
                      <a:lnTo>
                        <a:pt x="22" y="58"/>
                      </a:lnTo>
                      <a:lnTo>
                        <a:pt x="13" y="58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443560" y="5640480"/>
                  <a:ext cx="97200" cy="25920"/>
                </a:xfrm>
                <a:custGeom>
                  <a:avLst/>
                  <a:gdLst/>
                  <a:ahLst/>
                  <a:rect l="0" t="0" r="r" b="b"/>
                  <a:pathLst>
                    <a:path w="270" h="72">
                      <a:moveTo>
                        <a:pt x="8" y="1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8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2" y="41"/>
                      </a:lnTo>
                      <a:lnTo>
                        <a:pt x="30" y="41"/>
                      </a:lnTo>
                      <a:lnTo>
                        <a:pt x="35" y="41"/>
                      </a:lnTo>
                      <a:lnTo>
                        <a:pt x="44" y="51"/>
                      </a:lnTo>
                      <a:lnTo>
                        <a:pt x="52" y="51"/>
                      </a:lnTo>
                      <a:lnTo>
                        <a:pt x="61" y="51"/>
                      </a:lnTo>
                      <a:lnTo>
                        <a:pt x="71" y="51"/>
                      </a:lnTo>
                      <a:lnTo>
                        <a:pt x="84" y="51"/>
                      </a:lnTo>
                      <a:lnTo>
                        <a:pt x="93" y="62"/>
                      </a:lnTo>
                      <a:lnTo>
                        <a:pt x="102" y="62"/>
                      </a:lnTo>
                      <a:lnTo>
                        <a:pt x="115" y="62"/>
                      </a:lnTo>
                      <a:lnTo>
                        <a:pt x="124" y="62"/>
                      </a:lnTo>
                      <a:lnTo>
                        <a:pt x="137" y="62"/>
                      </a:lnTo>
                      <a:lnTo>
                        <a:pt x="150" y="62"/>
                      </a:lnTo>
                      <a:lnTo>
                        <a:pt x="164" y="62"/>
                      </a:lnTo>
                      <a:lnTo>
                        <a:pt x="172" y="72"/>
                      </a:lnTo>
                      <a:lnTo>
                        <a:pt x="186" y="72"/>
                      </a:lnTo>
                      <a:lnTo>
                        <a:pt x="195" y="72"/>
                      </a:lnTo>
                      <a:lnTo>
                        <a:pt x="209" y="72"/>
                      </a:lnTo>
                      <a:lnTo>
                        <a:pt x="222" y="72"/>
                      </a:lnTo>
                      <a:lnTo>
                        <a:pt x="231" y="72"/>
                      </a:lnTo>
                      <a:lnTo>
                        <a:pt x="240" y="72"/>
                      </a:lnTo>
                      <a:lnTo>
                        <a:pt x="253" y="72"/>
                      </a:lnTo>
                      <a:lnTo>
                        <a:pt x="262" y="72"/>
                      </a:lnTo>
                      <a:lnTo>
                        <a:pt x="270" y="72"/>
                      </a:lnTo>
                      <a:lnTo>
                        <a:pt x="270" y="62"/>
                      </a:lnTo>
                      <a:lnTo>
                        <a:pt x="262" y="62"/>
                      </a:lnTo>
                      <a:lnTo>
                        <a:pt x="253" y="62"/>
                      </a:lnTo>
                      <a:lnTo>
                        <a:pt x="240" y="62"/>
                      </a:lnTo>
                      <a:lnTo>
                        <a:pt x="231" y="62"/>
                      </a:lnTo>
                      <a:lnTo>
                        <a:pt x="222" y="62"/>
                      </a:lnTo>
                      <a:lnTo>
                        <a:pt x="209" y="62"/>
                      </a:lnTo>
                      <a:lnTo>
                        <a:pt x="195" y="62"/>
                      </a:lnTo>
                      <a:lnTo>
                        <a:pt x="186" y="62"/>
                      </a:lnTo>
                      <a:lnTo>
                        <a:pt x="172" y="62"/>
                      </a:lnTo>
                      <a:lnTo>
                        <a:pt x="164" y="51"/>
                      </a:lnTo>
                      <a:lnTo>
                        <a:pt x="150" y="51"/>
                      </a:lnTo>
                      <a:lnTo>
                        <a:pt x="137" y="51"/>
                      </a:lnTo>
                      <a:lnTo>
                        <a:pt x="124" y="51"/>
                      </a:lnTo>
                      <a:lnTo>
                        <a:pt x="115" y="51"/>
                      </a:lnTo>
                      <a:lnTo>
                        <a:pt x="106" y="51"/>
                      </a:lnTo>
                      <a:lnTo>
                        <a:pt x="93" y="51"/>
                      </a:lnTo>
                      <a:lnTo>
                        <a:pt x="84" y="51"/>
                      </a:lnTo>
                      <a:lnTo>
                        <a:pt x="75" y="51"/>
                      </a:lnTo>
                      <a:lnTo>
                        <a:pt x="61" y="41"/>
                      </a:lnTo>
                      <a:lnTo>
                        <a:pt x="52" y="41"/>
                      </a:lnTo>
                      <a:lnTo>
                        <a:pt x="44" y="41"/>
                      </a:lnTo>
                      <a:lnTo>
                        <a:pt x="39" y="41"/>
                      </a:lnTo>
                      <a:lnTo>
                        <a:pt x="30" y="31"/>
                      </a:lnTo>
                      <a:lnTo>
                        <a:pt x="26" y="31"/>
                      </a:lnTo>
                      <a:lnTo>
                        <a:pt x="17" y="31"/>
                      </a:lnTo>
                      <a:lnTo>
                        <a:pt x="17" y="21"/>
                      </a:lnTo>
                      <a:lnTo>
                        <a:pt x="13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4" y="0"/>
                      </a:lnTo>
                      <a:lnTo>
                        <a:pt x="8" y="1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44500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4" y="0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99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71" y="43"/>
                      </a:lnTo>
                      <a:lnTo>
                        <a:pt x="62" y="43"/>
                      </a:lnTo>
                      <a:lnTo>
                        <a:pt x="58" y="43"/>
                      </a:lnTo>
                      <a:lnTo>
                        <a:pt x="49" y="29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26" y="14"/>
                      </a:lnTo>
                      <a:lnTo>
                        <a:pt x="17" y="14"/>
                      </a:lnTo>
                      <a:lnTo>
                        <a:pt x="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4500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129" y="72"/>
                      </a:move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67" y="58"/>
                      </a:lnTo>
                      <a:lnTo>
                        <a:pt x="53" y="58"/>
                      </a:lnTo>
                      <a:lnTo>
                        <a:pt x="45" y="58"/>
                      </a:lnTo>
                      <a:lnTo>
                        <a:pt x="30" y="43"/>
                      </a:lnTo>
                      <a:lnTo>
                        <a:pt x="22" y="43"/>
                      </a:lnTo>
                      <a:lnTo>
                        <a:pt x="13" y="43"/>
                      </a:lnTo>
                      <a:lnTo>
                        <a:pt x="8" y="29"/>
                      </a:lnTo>
                      <a:lnTo>
                        <a:pt x="4" y="29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446800" y="5640480"/>
                  <a:ext cx="44640" cy="25920"/>
                </a:xfrm>
                <a:custGeom>
                  <a:avLst/>
                  <a:gdLst/>
                  <a:ahLst/>
                  <a:rect l="0" t="0" r="r" b="b"/>
                  <a:pathLst>
                    <a:path w="124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13" y="14"/>
                      </a:lnTo>
                      <a:lnTo>
                        <a:pt x="22" y="14"/>
                      </a:lnTo>
                      <a:lnTo>
                        <a:pt x="30" y="29"/>
                      </a:lnTo>
                      <a:lnTo>
                        <a:pt x="35" y="29"/>
                      </a:lnTo>
                      <a:lnTo>
                        <a:pt x="44" y="29"/>
                      </a:lnTo>
                      <a:lnTo>
                        <a:pt x="52" y="43"/>
                      </a:lnTo>
                      <a:lnTo>
                        <a:pt x="57" y="43"/>
                      </a:lnTo>
                      <a:lnTo>
                        <a:pt x="67" y="43"/>
                      </a:lnTo>
                      <a:lnTo>
                        <a:pt x="75" y="58"/>
                      </a:lnTo>
                      <a:lnTo>
                        <a:pt x="84" y="58"/>
                      </a:lnTo>
                      <a:lnTo>
                        <a:pt x="93" y="58"/>
                      </a:lnTo>
                      <a:lnTo>
                        <a:pt x="98" y="58"/>
                      </a:lnTo>
                      <a:lnTo>
                        <a:pt x="106" y="72"/>
                      </a:lnTo>
                      <a:lnTo>
                        <a:pt x="115" y="72"/>
                      </a:lnTo>
                      <a:lnTo>
                        <a:pt x="124" y="72"/>
                      </a:lnTo>
                      <a:lnTo>
                        <a:pt x="115" y="72"/>
                      </a:lnTo>
                      <a:lnTo>
                        <a:pt x="106" y="58"/>
                      </a:lnTo>
                      <a:lnTo>
                        <a:pt x="98" y="58"/>
                      </a:lnTo>
                      <a:lnTo>
                        <a:pt x="93" y="58"/>
                      </a:lnTo>
                      <a:lnTo>
                        <a:pt x="84" y="58"/>
                      </a:lnTo>
                      <a:lnTo>
                        <a:pt x="75" y="58"/>
                      </a:lnTo>
                      <a:lnTo>
                        <a:pt x="67" y="43"/>
                      </a:lnTo>
                      <a:lnTo>
                        <a:pt x="57" y="43"/>
                      </a:lnTo>
                      <a:lnTo>
                        <a:pt x="52" y="43"/>
                      </a:lnTo>
                      <a:lnTo>
                        <a:pt x="44" y="29"/>
                      </a:lnTo>
                      <a:lnTo>
                        <a:pt x="35" y="29"/>
                      </a:lnTo>
                      <a:lnTo>
                        <a:pt x="30" y="29"/>
                      </a:lnTo>
                      <a:lnTo>
                        <a:pt x="22" y="14"/>
                      </a:lnTo>
                      <a:lnTo>
                        <a:pt x="13" y="14"/>
                      </a:lnTo>
                      <a:lnTo>
                        <a:pt x="4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37280" y="5618160"/>
                <a:ext cx="836640" cy="4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80" name=""/>
          <p:cNvGrpSpPr/>
          <p:nvPr/>
        </p:nvGrpSpPr>
        <p:grpSpPr>
          <a:xfrm>
            <a:off x="6275520" y="4657680"/>
            <a:ext cx="1057320" cy="1363680"/>
            <a:chOff x="6275520" y="4657680"/>
            <a:chExt cx="1057320" cy="1363680"/>
          </a:xfrm>
        </p:grpSpPr>
        <p:sp>
          <p:nvSpPr>
            <p:cNvPr id="781" name=""/>
            <p:cNvSpPr/>
            <p:nvPr/>
          </p:nvSpPr>
          <p:spPr>
            <a:xfrm>
              <a:off x="6821640" y="4657680"/>
              <a:ext cx="0" cy="420840"/>
            </a:xfrm>
            <a:prstGeom prst="line">
              <a:avLst/>
            </a:prstGeom>
            <a:ln w="2556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6275520" y="5065560"/>
              <a:ext cx="1057320" cy="955800"/>
              <a:chOff x="6275520" y="5065560"/>
              <a:chExt cx="1057320" cy="95580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6275520" y="5657760"/>
                <a:ext cx="329040" cy="167400"/>
                <a:chOff x="6275520" y="5657760"/>
                <a:chExt cx="329040" cy="1674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80000" y="5665680"/>
                  <a:ext cx="98640" cy="25920"/>
                </a:xfrm>
                <a:custGeom>
                  <a:avLst/>
                  <a:gdLst/>
                  <a:ahLst/>
                  <a:rect l="0" t="0" r="r" b="b"/>
                  <a:pathLst>
                    <a:path w="274" h="72">
                      <a:moveTo>
                        <a:pt x="265" y="0"/>
                      </a:moveTo>
                      <a:lnTo>
                        <a:pt x="256" y="4"/>
                      </a:lnTo>
                      <a:lnTo>
                        <a:pt x="252" y="8"/>
                      </a:lnTo>
                      <a:lnTo>
                        <a:pt x="243" y="13"/>
                      </a:lnTo>
                      <a:lnTo>
                        <a:pt x="234" y="17"/>
                      </a:lnTo>
                      <a:lnTo>
                        <a:pt x="230" y="23"/>
                      </a:lnTo>
                      <a:lnTo>
                        <a:pt x="221" y="23"/>
                      </a:lnTo>
                      <a:lnTo>
                        <a:pt x="212" y="23"/>
                      </a:lnTo>
                      <a:lnTo>
                        <a:pt x="203" y="27"/>
                      </a:lnTo>
                      <a:lnTo>
                        <a:pt x="195" y="27"/>
                      </a:lnTo>
                      <a:lnTo>
                        <a:pt x="186" y="27"/>
                      </a:lnTo>
                      <a:lnTo>
                        <a:pt x="177" y="27"/>
                      </a:lnTo>
                      <a:lnTo>
                        <a:pt x="168" y="31"/>
                      </a:lnTo>
                      <a:lnTo>
                        <a:pt x="159" y="31"/>
                      </a:lnTo>
                      <a:lnTo>
                        <a:pt x="150" y="31"/>
                      </a:lnTo>
                      <a:lnTo>
                        <a:pt x="142" y="31"/>
                      </a:lnTo>
                      <a:lnTo>
                        <a:pt x="132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31"/>
                      </a:lnTo>
                      <a:lnTo>
                        <a:pt x="88" y="36"/>
                      </a:lnTo>
                      <a:lnTo>
                        <a:pt x="79" y="36"/>
                      </a:lnTo>
                      <a:lnTo>
                        <a:pt x="70" y="36"/>
                      </a:lnTo>
                      <a:lnTo>
                        <a:pt x="61" y="36"/>
                      </a:lnTo>
                      <a:lnTo>
                        <a:pt x="52" y="40"/>
                      </a:lnTo>
                      <a:lnTo>
                        <a:pt x="44" y="40"/>
                      </a:lnTo>
                      <a:lnTo>
                        <a:pt x="39" y="45"/>
                      </a:lnTo>
                      <a:lnTo>
                        <a:pt x="30" y="45"/>
                      </a:lnTo>
                      <a:lnTo>
                        <a:pt x="22" y="49"/>
                      </a:lnTo>
                      <a:lnTo>
                        <a:pt x="13" y="53"/>
                      </a:lnTo>
                      <a:lnTo>
                        <a:pt x="8" y="59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4" y="6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8" y="72"/>
                      </a:lnTo>
                      <a:lnTo>
                        <a:pt x="8" y="72"/>
                      </a:lnTo>
                      <a:lnTo>
                        <a:pt x="17" y="68"/>
                      </a:lnTo>
                      <a:lnTo>
                        <a:pt x="22" y="63"/>
                      </a:lnTo>
                      <a:lnTo>
                        <a:pt x="30" y="59"/>
                      </a:lnTo>
                      <a:lnTo>
                        <a:pt x="39" y="53"/>
                      </a:lnTo>
                      <a:lnTo>
                        <a:pt x="48" y="53"/>
                      </a:lnTo>
                      <a:lnTo>
                        <a:pt x="57" y="49"/>
                      </a:lnTo>
                      <a:lnTo>
                        <a:pt x="61" y="49"/>
                      </a:lnTo>
                      <a:lnTo>
                        <a:pt x="70" y="45"/>
                      </a:lnTo>
                      <a:lnTo>
                        <a:pt x="79" y="45"/>
                      </a:lnTo>
                      <a:lnTo>
                        <a:pt x="88" y="45"/>
                      </a:lnTo>
                      <a:lnTo>
                        <a:pt x="97" y="45"/>
                      </a:lnTo>
                      <a:lnTo>
                        <a:pt x="105" y="45"/>
                      </a:lnTo>
                      <a:lnTo>
                        <a:pt x="114" y="45"/>
                      </a:lnTo>
                      <a:lnTo>
                        <a:pt x="123" y="40"/>
                      </a:lnTo>
                      <a:lnTo>
                        <a:pt x="132" y="40"/>
                      </a:lnTo>
                      <a:lnTo>
                        <a:pt x="142" y="40"/>
                      </a:lnTo>
                      <a:lnTo>
                        <a:pt x="150" y="40"/>
                      </a:lnTo>
                      <a:lnTo>
                        <a:pt x="159" y="40"/>
                      </a:lnTo>
                      <a:lnTo>
                        <a:pt x="168" y="40"/>
                      </a:lnTo>
                      <a:lnTo>
                        <a:pt x="177" y="40"/>
                      </a:lnTo>
                      <a:lnTo>
                        <a:pt x="186" y="40"/>
                      </a:lnTo>
                      <a:lnTo>
                        <a:pt x="195" y="36"/>
                      </a:lnTo>
                      <a:lnTo>
                        <a:pt x="203" y="36"/>
                      </a:lnTo>
                      <a:lnTo>
                        <a:pt x="212" y="36"/>
                      </a:lnTo>
                      <a:lnTo>
                        <a:pt x="221" y="36"/>
                      </a:lnTo>
                      <a:lnTo>
                        <a:pt x="230" y="31"/>
                      </a:lnTo>
                      <a:lnTo>
                        <a:pt x="234" y="27"/>
                      </a:lnTo>
                      <a:lnTo>
                        <a:pt x="243" y="27"/>
                      </a:lnTo>
                      <a:lnTo>
                        <a:pt x="252" y="23"/>
                      </a:lnTo>
                      <a:lnTo>
                        <a:pt x="261" y="17"/>
                      </a:lnTo>
                      <a:lnTo>
                        <a:pt x="269" y="13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69" y="8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65" y="4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80000" y="566568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8" y="67"/>
                      </a:lnTo>
                      <a:lnTo>
                        <a:pt x="13" y="61"/>
                      </a:lnTo>
                      <a:lnTo>
                        <a:pt x="22" y="56"/>
                      </a:lnTo>
                      <a:lnTo>
                        <a:pt x="30" y="49"/>
                      </a:lnTo>
                      <a:lnTo>
                        <a:pt x="35" y="49"/>
                      </a:lnTo>
                      <a:lnTo>
                        <a:pt x="44" y="44"/>
                      </a:lnTo>
                      <a:lnTo>
                        <a:pt x="52" y="44"/>
                      </a:lnTo>
                      <a:lnTo>
                        <a:pt x="61" y="38"/>
                      </a:lnTo>
                      <a:lnTo>
                        <a:pt x="70" y="38"/>
                      </a:lnTo>
                      <a:lnTo>
                        <a:pt x="79" y="38"/>
                      </a:lnTo>
                      <a:lnTo>
                        <a:pt x="83" y="38"/>
                      </a:lnTo>
                      <a:lnTo>
                        <a:pt x="97" y="38"/>
                      </a:lnTo>
                      <a:lnTo>
                        <a:pt x="101" y="38"/>
                      </a:lnTo>
                      <a:lnTo>
                        <a:pt x="114" y="33"/>
                      </a:lnTo>
                      <a:lnTo>
                        <a:pt x="119" y="33"/>
                      </a:lnTo>
                      <a:lnTo>
                        <a:pt x="133" y="33"/>
                      </a:lnTo>
                      <a:lnTo>
                        <a:pt x="137" y="33"/>
                      </a:lnTo>
                      <a:lnTo>
                        <a:pt x="146" y="33"/>
                      </a:lnTo>
                      <a:lnTo>
                        <a:pt x="155" y="33"/>
                      </a:lnTo>
                      <a:lnTo>
                        <a:pt x="164" y="33"/>
                      </a:lnTo>
                      <a:lnTo>
                        <a:pt x="172" y="33"/>
                      </a:lnTo>
                      <a:lnTo>
                        <a:pt x="181" y="33"/>
                      </a:lnTo>
                      <a:lnTo>
                        <a:pt x="190" y="33"/>
                      </a:lnTo>
                      <a:lnTo>
                        <a:pt x="199" y="28"/>
                      </a:lnTo>
                      <a:lnTo>
                        <a:pt x="208" y="28"/>
                      </a:lnTo>
                      <a:lnTo>
                        <a:pt x="212" y="28"/>
                      </a:lnTo>
                      <a:lnTo>
                        <a:pt x="225" y="22"/>
                      </a:lnTo>
                      <a:lnTo>
                        <a:pt x="230" y="22"/>
                      </a:lnTo>
                      <a:lnTo>
                        <a:pt x="239" y="16"/>
                      </a:lnTo>
                      <a:lnTo>
                        <a:pt x="243" y="10"/>
                      </a:lnTo>
                      <a:lnTo>
                        <a:pt x="252" y="5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52" y="5"/>
                      </a:lnTo>
                      <a:lnTo>
                        <a:pt x="243" y="10"/>
                      </a:lnTo>
                      <a:lnTo>
                        <a:pt x="239" y="16"/>
                      </a:lnTo>
                      <a:lnTo>
                        <a:pt x="230" y="22"/>
                      </a:lnTo>
                      <a:lnTo>
                        <a:pt x="225" y="22"/>
                      </a:lnTo>
                      <a:lnTo>
                        <a:pt x="217" y="28"/>
                      </a:lnTo>
                      <a:lnTo>
                        <a:pt x="208" y="28"/>
                      </a:lnTo>
                      <a:lnTo>
                        <a:pt x="199" y="33"/>
                      </a:lnTo>
                      <a:lnTo>
                        <a:pt x="190" y="33"/>
                      </a:lnTo>
                      <a:lnTo>
                        <a:pt x="181" y="33"/>
                      </a:lnTo>
                      <a:lnTo>
                        <a:pt x="172" y="33"/>
                      </a:lnTo>
                      <a:lnTo>
                        <a:pt x="164" y="33"/>
                      </a:lnTo>
                      <a:lnTo>
                        <a:pt x="155" y="33"/>
                      </a:lnTo>
                      <a:lnTo>
                        <a:pt x="146" y="33"/>
                      </a:lnTo>
                      <a:lnTo>
                        <a:pt x="137" y="38"/>
                      </a:lnTo>
                      <a:lnTo>
                        <a:pt x="133" y="38"/>
                      </a:lnTo>
                      <a:lnTo>
                        <a:pt x="119" y="38"/>
                      </a:lnTo>
                      <a:lnTo>
                        <a:pt x="114" y="38"/>
                      </a:lnTo>
                      <a:lnTo>
                        <a:pt x="101" y="38"/>
                      </a:lnTo>
                      <a:lnTo>
                        <a:pt x="97" y="38"/>
                      </a:lnTo>
                      <a:lnTo>
                        <a:pt x="83" y="38"/>
                      </a:lnTo>
                      <a:lnTo>
                        <a:pt x="79" y="38"/>
                      </a:lnTo>
                      <a:lnTo>
                        <a:pt x="70" y="38"/>
                      </a:lnTo>
                      <a:lnTo>
                        <a:pt x="61" y="44"/>
                      </a:lnTo>
                      <a:lnTo>
                        <a:pt x="52" y="44"/>
                      </a:lnTo>
                      <a:lnTo>
                        <a:pt x="44" y="44"/>
                      </a:lnTo>
                      <a:lnTo>
                        <a:pt x="35" y="49"/>
                      </a:lnTo>
                      <a:lnTo>
                        <a:pt x="30" y="49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8" y="67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47532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48" y="72"/>
                      </a:lnTo>
                      <a:lnTo>
                        <a:pt x="48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36"/>
                      </a:lnTo>
                      <a:lnTo>
                        <a:pt x="48" y="36"/>
                      </a:lnTo>
                      <a:lnTo>
                        <a:pt x="48" y="36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483240" y="5672160"/>
                  <a:ext cx="95760" cy="25920"/>
                </a:xfrm>
                <a:custGeom>
                  <a:avLst/>
                  <a:gdLst/>
                  <a:ahLst/>
                  <a:rect l="0" t="0" r="r" b="b"/>
                  <a:pathLst>
                    <a:path w="266" h="72">
                      <a:moveTo>
                        <a:pt x="266" y="0"/>
                      </a:moveTo>
                      <a:lnTo>
                        <a:pt x="266" y="0"/>
                      </a:lnTo>
                      <a:lnTo>
                        <a:pt x="262" y="5"/>
                      </a:lnTo>
                      <a:lnTo>
                        <a:pt x="253" y="11"/>
                      </a:lnTo>
                      <a:lnTo>
                        <a:pt x="244" y="17"/>
                      </a:lnTo>
                      <a:lnTo>
                        <a:pt x="235" y="17"/>
                      </a:lnTo>
                      <a:lnTo>
                        <a:pt x="231" y="24"/>
                      </a:lnTo>
                      <a:lnTo>
                        <a:pt x="222" y="24"/>
                      </a:lnTo>
                      <a:lnTo>
                        <a:pt x="213" y="30"/>
                      </a:lnTo>
                      <a:lnTo>
                        <a:pt x="204" y="30"/>
                      </a:lnTo>
                      <a:lnTo>
                        <a:pt x="195" y="30"/>
                      </a:lnTo>
                      <a:lnTo>
                        <a:pt x="186" y="36"/>
                      </a:lnTo>
                      <a:lnTo>
                        <a:pt x="177" y="36"/>
                      </a:lnTo>
                      <a:lnTo>
                        <a:pt x="168" y="36"/>
                      </a:lnTo>
                      <a:lnTo>
                        <a:pt x="159" y="36"/>
                      </a:lnTo>
                      <a:lnTo>
                        <a:pt x="150" y="36"/>
                      </a:lnTo>
                      <a:lnTo>
                        <a:pt x="142" y="36"/>
                      </a:lnTo>
                      <a:lnTo>
                        <a:pt x="133" y="36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06" y="36"/>
                      </a:lnTo>
                      <a:lnTo>
                        <a:pt x="98" y="36"/>
                      </a:lnTo>
                      <a:lnTo>
                        <a:pt x="89" y="42"/>
                      </a:lnTo>
                      <a:lnTo>
                        <a:pt x="80" y="42"/>
                      </a:lnTo>
                      <a:lnTo>
                        <a:pt x="71" y="42"/>
                      </a:lnTo>
                      <a:lnTo>
                        <a:pt x="61" y="42"/>
                      </a:lnTo>
                      <a:lnTo>
                        <a:pt x="52" y="42"/>
                      </a:lnTo>
                      <a:lnTo>
                        <a:pt x="44" y="48"/>
                      </a:lnTo>
                      <a:lnTo>
                        <a:pt x="39" y="48"/>
                      </a:lnTo>
                      <a:lnTo>
                        <a:pt x="30" y="53"/>
                      </a:lnTo>
                      <a:lnTo>
                        <a:pt x="22" y="60"/>
                      </a:lnTo>
                      <a:lnTo>
                        <a:pt x="13" y="60"/>
                      </a:lnTo>
                      <a:lnTo>
                        <a:pt x="8" y="66"/>
                      </a:lnTo>
                      <a:lnTo>
                        <a:pt x="0" y="72"/>
                      </a:lnTo>
                      <a:lnTo>
                        <a:pt x="4" y="66"/>
                      </a:lnTo>
                      <a:lnTo>
                        <a:pt x="13" y="60"/>
                      </a:lnTo>
                      <a:lnTo>
                        <a:pt x="22" y="53"/>
                      </a:lnTo>
                      <a:lnTo>
                        <a:pt x="30" y="53"/>
                      </a:lnTo>
                      <a:lnTo>
                        <a:pt x="39" y="48"/>
                      </a:lnTo>
                      <a:lnTo>
                        <a:pt x="44" y="48"/>
                      </a:lnTo>
                      <a:lnTo>
                        <a:pt x="52" y="42"/>
                      </a:lnTo>
                      <a:lnTo>
                        <a:pt x="61" y="42"/>
                      </a:lnTo>
                      <a:lnTo>
                        <a:pt x="71" y="42"/>
                      </a:lnTo>
                      <a:lnTo>
                        <a:pt x="80" y="36"/>
                      </a:lnTo>
                      <a:lnTo>
                        <a:pt x="89" y="36"/>
                      </a:lnTo>
                      <a:lnTo>
                        <a:pt x="98" y="36"/>
                      </a:lnTo>
                      <a:lnTo>
                        <a:pt x="106" y="36"/>
                      </a:lnTo>
                      <a:lnTo>
                        <a:pt x="115" y="36"/>
                      </a:lnTo>
                      <a:lnTo>
                        <a:pt x="124" y="36"/>
                      </a:lnTo>
                      <a:lnTo>
                        <a:pt x="133" y="3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59" y="36"/>
                      </a:lnTo>
                      <a:lnTo>
                        <a:pt x="168" y="36"/>
                      </a:lnTo>
                      <a:lnTo>
                        <a:pt x="177" y="30"/>
                      </a:lnTo>
                      <a:lnTo>
                        <a:pt x="186" y="30"/>
                      </a:lnTo>
                      <a:lnTo>
                        <a:pt x="195" y="30"/>
                      </a:lnTo>
                      <a:lnTo>
                        <a:pt x="204" y="30"/>
                      </a:lnTo>
                      <a:lnTo>
                        <a:pt x="213" y="30"/>
                      </a:lnTo>
                      <a:lnTo>
                        <a:pt x="222" y="24"/>
                      </a:lnTo>
                      <a:lnTo>
                        <a:pt x="226" y="24"/>
                      </a:lnTo>
                      <a:lnTo>
                        <a:pt x="235" y="17"/>
                      </a:lnTo>
                      <a:lnTo>
                        <a:pt x="244" y="11"/>
                      </a:lnTo>
                      <a:lnTo>
                        <a:pt x="253" y="11"/>
                      </a:lnTo>
                      <a:lnTo>
                        <a:pt x="257" y="5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57864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280200" y="5657760"/>
                  <a:ext cx="225720" cy="141480"/>
                </a:xfrm>
                <a:custGeom>
                  <a:avLst/>
                  <a:gdLst/>
                  <a:ahLst/>
                  <a:rect l="0" t="0" r="r" b="b"/>
                  <a:pathLst>
                    <a:path w="627" h="393">
                      <a:moveTo>
                        <a:pt x="622" y="189"/>
                      </a:moveTo>
                      <a:lnTo>
                        <a:pt x="224" y="389"/>
                      </a:lnTo>
                      <a:lnTo>
                        <a:pt x="224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20" y="393"/>
                      </a:lnTo>
                      <a:lnTo>
                        <a:pt x="216" y="393"/>
                      </a:lnTo>
                      <a:lnTo>
                        <a:pt x="216" y="393"/>
                      </a:lnTo>
                      <a:lnTo>
                        <a:pt x="211" y="393"/>
                      </a:lnTo>
                      <a:lnTo>
                        <a:pt x="211" y="393"/>
                      </a:lnTo>
                      <a:lnTo>
                        <a:pt x="207" y="393"/>
                      </a:lnTo>
                      <a:lnTo>
                        <a:pt x="207" y="393"/>
                      </a:lnTo>
                      <a:lnTo>
                        <a:pt x="202" y="393"/>
                      </a:lnTo>
                      <a:lnTo>
                        <a:pt x="202" y="393"/>
                      </a:lnTo>
                      <a:lnTo>
                        <a:pt x="198" y="393"/>
                      </a:lnTo>
                      <a:lnTo>
                        <a:pt x="198" y="389"/>
                      </a:lnTo>
                      <a:lnTo>
                        <a:pt x="4" y="217"/>
                      </a:lnTo>
                      <a:lnTo>
                        <a:pt x="0" y="203"/>
                      </a:lnTo>
                      <a:lnTo>
                        <a:pt x="13" y="132"/>
                      </a:lnTo>
                      <a:lnTo>
                        <a:pt x="44" y="97"/>
                      </a:lnTo>
                      <a:lnTo>
                        <a:pt x="233" y="22"/>
                      </a:lnTo>
                      <a:lnTo>
                        <a:pt x="238" y="22"/>
                      </a:lnTo>
                      <a:lnTo>
                        <a:pt x="242" y="22"/>
                      </a:lnTo>
                      <a:lnTo>
                        <a:pt x="251" y="22"/>
                      </a:lnTo>
                      <a:lnTo>
                        <a:pt x="251" y="22"/>
                      </a:lnTo>
                      <a:lnTo>
                        <a:pt x="260" y="22"/>
                      </a:lnTo>
                      <a:lnTo>
                        <a:pt x="264" y="22"/>
                      </a:lnTo>
                      <a:lnTo>
                        <a:pt x="268" y="22"/>
                      </a:lnTo>
                      <a:lnTo>
                        <a:pt x="277" y="22"/>
                      </a:lnTo>
                      <a:lnTo>
                        <a:pt x="282" y="22"/>
                      </a:lnTo>
                      <a:lnTo>
                        <a:pt x="286" y="22"/>
                      </a:lnTo>
                      <a:lnTo>
                        <a:pt x="291" y="17"/>
                      </a:lnTo>
                      <a:lnTo>
                        <a:pt x="299" y="17"/>
                      </a:lnTo>
                      <a:lnTo>
                        <a:pt x="304" y="17"/>
                      </a:lnTo>
                      <a:lnTo>
                        <a:pt x="308" y="17"/>
                      </a:lnTo>
                      <a:lnTo>
                        <a:pt x="314" y="17"/>
                      </a:lnTo>
                      <a:lnTo>
                        <a:pt x="318" y="13"/>
                      </a:lnTo>
                      <a:lnTo>
                        <a:pt x="327" y="13"/>
                      </a:lnTo>
                      <a:lnTo>
                        <a:pt x="331" y="13"/>
                      </a:lnTo>
                      <a:lnTo>
                        <a:pt x="336" y="13"/>
                      </a:lnTo>
                      <a:lnTo>
                        <a:pt x="344" y="13"/>
                      </a:lnTo>
                      <a:lnTo>
                        <a:pt x="349" y="8"/>
                      </a:lnTo>
                      <a:lnTo>
                        <a:pt x="353" y="8"/>
                      </a:lnTo>
                      <a:lnTo>
                        <a:pt x="358" y="8"/>
                      </a:lnTo>
                      <a:lnTo>
                        <a:pt x="362" y="8"/>
                      </a:lnTo>
                      <a:lnTo>
                        <a:pt x="371" y="4"/>
                      </a:lnTo>
                      <a:lnTo>
                        <a:pt x="375" y="4"/>
                      </a:lnTo>
                      <a:lnTo>
                        <a:pt x="380" y="4"/>
                      </a:lnTo>
                      <a:lnTo>
                        <a:pt x="384" y="4"/>
                      </a:lnTo>
                      <a:lnTo>
                        <a:pt x="389" y="0"/>
                      </a:lnTo>
                      <a:lnTo>
                        <a:pt x="397" y="0"/>
                      </a:lnTo>
                      <a:lnTo>
                        <a:pt x="402" y="0"/>
                      </a:lnTo>
                      <a:lnTo>
                        <a:pt x="406" y="0"/>
                      </a:lnTo>
                      <a:lnTo>
                        <a:pt x="600" y="132"/>
                      </a:lnTo>
                      <a:lnTo>
                        <a:pt x="622" y="154"/>
                      </a:lnTo>
                      <a:lnTo>
                        <a:pt x="627" y="176"/>
                      </a:lnTo>
                      <a:lnTo>
                        <a:pt x="622" y="189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36444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35472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28344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27552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27840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28668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29604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36732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43104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0556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50556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0556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280200" y="5726160"/>
                  <a:ext cx="225720" cy="73440"/>
                </a:xfrm>
                <a:custGeom>
                  <a:avLst/>
                  <a:gdLst/>
                  <a:ahLst/>
                  <a:rect l="0" t="0" r="r" b="b"/>
                  <a:pathLst>
                    <a:path w="627" h="204">
                      <a:moveTo>
                        <a:pt x="0" y="26"/>
                      </a:moveTo>
                      <a:lnTo>
                        <a:pt x="198" y="187"/>
                      </a:lnTo>
                      <a:lnTo>
                        <a:pt x="202" y="187"/>
                      </a:lnTo>
                      <a:lnTo>
                        <a:pt x="202" y="191"/>
                      </a:lnTo>
                      <a:lnTo>
                        <a:pt x="202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07" y="191"/>
                      </a:lnTo>
                      <a:lnTo>
                        <a:pt x="211" y="191"/>
                      </a:lnTo>
                      <a:lnTo>
                        <a:pt x="211" y="191"/>
                      </a:lnTo>
                      <a:lnTo>
                        <a:pt x="216" y="191"/>
                      </a:lnTo>
                      <a:lnTo>
                        <a:pt x="216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0" y="191"/>
                      </a:lnTo>
                      <a:lnTo>
                        <a:pt x="224" y="187"/>
                      </a:lnTo>
                      <a:lnTo>
                        <a:pt x="224" y="187"/>
                      </a:lnTo>
                      <a:lnTo>
                        <a:pt x="627" y="0"/>
                      </a:lnTo>
                      <a:lnTo>
                        <a:pt x="622" y="13"/>
                      </a:lnTo>
                      <a:lnTo>
                        <a:pt x="224" y="200"/>
                      </a:lnTo>
                      <a:lnTo>
                        <a:pt x="224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20" y="204"/>
                      </a:lnTo>
                      <a:lnTo>
                        <a:pt x="216" y="204"/>
                      </a:lnTo>
                      <a:lnTo>
                        <a:pt x="216" y="204"/>
                      </a:lnTo>
                      <a:lnTo>
                        <a:pt x="211" y="204"/>
                      </a:lnTo>
                      <a:lnTo>
                        <a:pt x="211" y="204"/>
                      </a:lnTo>
                      <a:lnTo>
                        <a:pt x="207" y="204"/>
                      </a:lnTo>
                      <a:lnTo>
                        <a:pt x="207" y="204"/>
                      </a:lnTo>
                      <a:lnTo>
                        <a:pt x="202" y="204"/>
                      </a:lnTo>
                      <a:lnTo>
                        <a:pt x="202" y="204"/>
                      </a:lnTo>
                      <a:lnTo>
                        <a:pt x="198" y="204"/>
                      </a:lnTo>
                      <a:lnTo>
                        <a:pt x="198" y="200"/>
                      </a:lnTo>
                      <a:lnTo>
                        <a:pt x="4" y="39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280200" y="5735520"/>
                  <a:ext cx="66960" cy="57600"/>
                </a:xfrm>
                <a:custGeom>
                  <a:avLst/>
                  <a:gdLst/>
                  <a:ahLst/>
                  <a:rect l="0" t="0" r="r" b="b"/>
                  <a:pathLst>
                    <a:path w="186" h="160">
                      <a:moveTo>
                        <a:pt x="186" y="160"/>
                      </a:moveTo>
                      <a:lnTo>
                        <a:pt x="186" y="160"/>
                      </a:lnTo>
                      <a:lnTo>
                        <a:pt x="0" y="0"/>
                      </a:lnTo>
                      <a:lnTo>
                        <a:pt x="18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354720" y="57942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365880" y="5726160"/>
                  <a:ext cx="140040" cy="66960"/>
                </a:xfrm>
                <a:custGeom>
                  <a:avLst/>
                  <a:gdLst/>
                  <a:ahLst/>
                  <a:rect l="0" t="0" r="r" b="b"/>
                  <a:pathLst>
                    <a:path w="389" h="186">
                      <a:moveTo>
                        <a:pt x="389" y="0"/>
                      </a:moveTo>
                      <a:lnTo>
                        <a:pt x="389" y="0"/>
                      </a:lnTo>
                      <a:lnTo>
                        <a:pt x="0" y="186"/>
                      </a:lnTo>
                      <a:lnTo>
                        <a:pt x="3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50556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36444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35472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36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283440" y="5742000"/>
                  <a:ext cx="62280" cy="57600"/>
                </a:xfrm>
                <a:custGeom>
                  <a:avLst/>
                  <a:gdLst/>
                  <a:ahLst/>
                  <a:rect l="0" t="0" r="r" b="b"/>
                  <a:pathLst>
                    <a:path w="173" h="16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0"/>
                      </a:lnTo>
                      <a:lnTo>
                        <a:pt x="173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27552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286680" y="5695920"/>
                  <a:ext cx="219600" cy="68760"/>
                </a:xfrm>
                <a:custGeom>
                  <a:avLst/>
                  <a:gdLst/>
                  <a:ahLst/>
                  <a:rect l="0" t="0" r="r" b="b"/>
                  <a:pathLst>
                    <a:path w="610" h="191">
                      <a:moveTo>
                        <a:pt x="610" y="53"/>
                      </a:moveTo>
                      <a:lnTo>
                        <a:pt x="217" y="191"/>
                      </a:lnTo>
                      <a:lnTo>
                        <a:pt x="212" y="191"/>
                      </a:lnTo>
                      <a:lnTo>
                        <a:pt x="212" y="191"/>
                      </a:lnTo>
                      <a:lnTo>
                        <a:pt x="208" y="191"/>
                      </a:lnTo>
                      <a:lnTo>
                        <a:pt x="208" y="191"/>
                      </a:lnTo>
                      <a:lnTo>
                        <a:pt x="203" y="191"/>
                      </a:lnTo>
                      <a:lnTo>
                        <a:pt x="203" y="191"/>
                      </a:lnTo>
                      <a:lnTo>
                        <a:pt x="199" y="191"/>
                      </a:lnTo>
                      <a:lnTo>
                        <a:pt x="0" y="30"/>
                      </a:lnTo>
                      <a:lnTo>
                        <a:pt x="30" y="0"/>
                      </a:lnTo>
                      <a:lnTo>
                        <a:pt x="221" y="142"/>
                      </a:lnTo>
                      <a:lnTo>
                        <a:pt x="411" y="67"/>
                      </a:lnTo>
                      <a:lnTo>
                        <a:pt x="415" y="67"/>
                      </a:lnTo>
                      <a:lnTo>
                        <a:pt x="419" y="67"/>
                      </a:lnTo>
                      <a:lnTo>
                        <a:pt x="428" y="67"/>
                      </a:lnTo>
                      <a:lnTo>
                        <a:pt x="433" y="62"/>
                      </a:lnTo>
                      <a:lnTo>
                        <a:pt x="441" y="62"/>
                      </a:lnTo>
                      <a:lnTo>
                        <a:pt x="446" y="62"/>
                      </a:lnTo>
                      <a:lnTo>
                        <a:pt x="450" y="62"/>
                      </a:lnTo>
                      <a:lnTo>
                        <a:pt x="455" y="62"/>
                      </a:lnTo>
                      <a:lnTo>
                        <a:pt x="460" y="62"/>
                      </a:lnTo>
                      <a:lnTo>
                        <a:pt x="469" y="62"/>
                      </a:lnTo>
                      <a:lnTo>
                        <a:pt x="473" y="58"/>
                      </a:lnTo>
                      <a:lnTo>
                        <a:pt x="478" y="58"/>
                      </a:lnTo>
                      <a:lnTo>
                        <a:pt x="482" y="58"/>
                      </a:lnTo>
                      <a:lnTo>
                        <a:pt x="491" y="53"/>
                      </a:lnTo>
                      <a:lnTo>
                        <a:pt x="495" y="53"/>
                      </a:lnTo>
                      <a:lnTo>
                        <a:pt x="500" y="53"/>
                      </a:lnTo>
                      <a:lnTo>
                        <a:pt x="509" y="49"/>
                      </a:lnTo>
                      <a:lnTo>
                        <a:pt x="513" y="49"/>
                      </a:lnTo>
                      <a:lnTo>
                        <a:pt x="517" y="49"/>
                      </a:lnTo>
                      <a:lnTo>
                        <a:pt x="522" y="49"/>
                      </a:lnTo>
                      <a:lnTo>
                        <a:pt x="531" y="49"/>
                      </a:lnTo>
                      <a:lnTo>
                        <a:pt x="535" y="44"/>
                      </a:lnTo>
                      <a:lnTo>
                        <a:pt x="539" y="44"/>
                      </a:lnTo>
                      <a:lnTo>
                        <a:pt x="544" y="44"/>
                      </a:lnTo>
                      <a:lnTo>
                        <a:pt x="548" y="39"/>
                      </a:lnTo>
                      <a:lnTo>
                        <a:pt x="557" y="39"/>
                      </a:lnTo>
                      <a:lnTo>
                        <a:pt x="562" y="39"/>
                      </a:lnTo>
                      <a:lnTo>
                        <a:pt x="566" y="39"/>
                      </a:lnTo>
                      <a:lnTo>
                        <a:pt x="575" y="35"/>
                      </a:lnTo>
                      <a:lnTo>
                        <a:pt x="579" y="35"/>
                      </a:lnTo>
                      <a:lnTo>
                        <a:pt x="584" y="35"/>
                      </a:lnTo>
                      <a:lnTo>
                        <a:pt x="588" y="30"/>
                      </a:lnTo>
                      <a:lnTo>
                        <a:pt x="610" y="5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96040" y="5657760"/>
                  <a:ext cx="200520" cy="87840"/>
                </a:xfrm>
                <a:custGeom>
                  <a:avLst/>
                  <a:gdLst/>
                  <a:ahLst/>
                  <a:rect l="0" t="0" r="r" b="b"/>
                  <a:pathLst>
                    <a:path w="557" h="244">
                      <a:moveTo>
                        <a:pt x="0" y="98"/>
                      </a:moveTo>
                      <a:lnTo>
                        <a:pt x="190" y="244"/>
                      </a:lnTo>
                      <a:lnTo>
                        <a:pt x="380" y="164"/>
                      </a:lnTo>
                      <a:lnTo>
                        <a:pt x="384" y="164"/>
                      </a:lnTo>
                      <a:lnTo>
                        <a:pt x="389" y="164"/>
                      </a:lnTo>
                      <a:lnTo>
                        <a:pt x="397" y="164"/>
                      </a:lnTo>
                      <a:lnTo>
                        <a:pt x="402" y="164"/>
                      </a:lnTo>
                      <a:lnTo>
                        <a:pt x="406" y="164"/>
                      </a:lnTo>
                      <a:lnTo>
                        <a:pt x="411" y="164"/>
                      </a:lnTo>
                      <a:lnTo>
                        <a:pt x="420" y="159"/>
                      </a:lnTo>
                      <a:lnTo>
                        <a:pt x="425" y="159"/>
                      </a:lnTo>
                      <a:lnTo>
                        <a:pt x="429" y="159"/>
                      </a:lnTo>
                      <a:lnTo>
                        <a:pt x="438" y="159"/>
                      </a:lnTo>
                      <a:lnTo>
                        <a:pt x="442" y="155"/>
                      </a:lnTo>
                      <a:lnTo>
                        <a:pt x="447" y="155"/>
                      </a:lnTo>
                      <a:lnTo>
                        <a:pt x="451" y="155"/>
                      </a:lnTo>
                      <a:lnTo>
                        <a:pt x="460" y="155"/>
                      </a:lnTo>
                      <a:lnTo>
                        <a:pt x="465" y="150"/>
                      </a:lnTo>
                      <a:lnTo>
                        <a:pt x="469" y="150"/>
                      </a:lnTo>
                      <a:lnTo>
                        <a:pt x="473" y="150"/>
                      </a:lnTo>
                      <a:lnTo>
                        <a:pt x="482" y="146"/>
                      </a:lnTo>
                      <a:lnTo>
                        <a:pt x="487" y="146"/>
                      </a:lnTo>
                      <a:lnTo>
                        <a:pt x="491" y="146"/>
                      </a:lnTo>
                      <a:lnTo>
                        <a:pt x="500" y="146"/>
                      </a:lnTo>
                      <a:lnTo>
                        <a:pt x="504" y="142"/>
                      </a:lnTo>
                      <a:lnTo>
                        <a:pt x="509" y="142"/>
                      </a:lnTo>
                      <a:lnTo>
                        <a:pt x="513" y="142"/>
                      </a:lnTo>
                      <a:lnTo>
                        <a:pt x="522" y="137"/>
                      </a:lnTo>
                      <a:lnTo>
                        <a:pt x="526" y="137"/>
                      </a:lnTo>
                      <a:lnTo>
                        <a:pt x="531" y="137"/>
                      </a:lnTo>
                      <a:lnTo>
                        <a:pt x="535" y="133"/>
                      </a:lnTo>
                      <a:lnTo>
                        <a:pt x="539" y="133"/>
                      </a:lnTo>
                      <a:lnTo>
                        <a:pt x="548" y="128"/>
                      </a:lnTo>
                      <a:lnTo>
                        <a:pt x="553" y="128"/>
                      </a:lnTo>
                      <a:lnTo>
                        <a:pt x="557" y="128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3" y="0"/>
                      </a:lnTo>
                      <a:lnTo>
                        <a:pt x="344" y="0"/>
                      </a:lnTo>
                      <a:lnTo>
                        <a:pt x="340" y="4"/>
                      </a:lnTo>
                      <a:lnTo>
                        <a:pt x="336" y="4"/>
                      </a:lnTo>
                      <a:lnTo>
                        <a:pt x="327" y="4"/>
                      </a:lnTo>
                      <a:lnTo>
                        <a:pt x="322" y="4"/>
                      </a:lnTo>
                      <a:lnTo>
                        <a:pt x="318" y="8"/>
                      </a:lnTo>
                      <a:lnTo>
                        <a:pt x="314" y="8"/>
                      </a:lnTo>
                      <a:lnTo>
                        <a:pt x="309" y="8"/>
                      </a:lnTo>
                      <a:lnTo>
                        <a:pt x="300" y="8"/>
                      </a:lnTo>
                      <a:lnTo>
                        <a:pt x="296" y="13"/>
                      </a:lnTo>
                      <a:lnTo>
                        <a:pt x="292" y="13"/>
                      </a:lnTo>
                      <a:lnTo>
                        <a:pt x="287" y="13"/>
                      </a:lnTo>
                      <a:lnTo>
                        <a:pt x="283" y="13"/>
                      </a:lnTo>
                      <a:lnTo>
                        <a:pt x="274" y="13"/>
                      </a:lnTo>
                      <a:lnTo>
                        <a:pt x="269" y="17"/>
                      </a:lnTo>
                      <a:lnTo>
                        <a:pt x="265" y="17"/>
                      </a:lnTo>
                      <a:lnTo>
                        <a:pt x="261" y="17"/>
                      </a:lnTo>
                      <a:lnTo>
                        <a:pt x="256" y="17"/>
                      </a:lnTo>
                      <a:lnTo>
                        <a:pt x="247" y="17"/>
                      </a:lnTo>
                      <a:lnTo>
                        <a:pt x="243" y="17"/>
                      </a:lnTo>
                      <a:lnTo>
                        <a:pt x="239" y="17"/>
                      </a:lnTo>
                      <a:lnTo>
                        <a:pt x="234" y="17"/>
                      </a:lnTo>
                      <a:lnTo>
                        <a:pt x="230" y="22"/>
                      </a:lnTo>
                      <a:lnTo>
                        <a:pt x="221" y="22"/>
                      </a:lnTo>
                      <a:lnTo>
                        <a:pt x="217" y="22"/>
                      </a:lnTo>
                      <a:lnTo>
                        <a:pt x="212" y="22"/>
                      </a:lnTo>
                      <a:lnTo>
                        <a:pt x="203" y="22"/>
                      </a:lnTo>
                      <a:lnTo>
                        <a:pt x="199" y="22"/>
                      </a:lnTo>
                      <a:lnTo>
                        <a:pt x="195" y="22"/>
                      </a:lnTo>
                      <a:lnTo>
                        <a:pt x="190" y="22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364440" y="5729400"/>
                  <a:ext cx="140040" cy="70200"/>
                </a:xfrm>
                <a:custGeom>
                  <a:avLst/>
                  <a:gdLst/>
                  <a:ahLst/>
                  <a:rect l="0" t="0" r="r" b="b"/>
                  <a:pathLst>
                    <a:path w="389" h="195">
                      <a:moveTo>
                        <a:pt x="0" y="195"/>
                      </a:moveTo>
                      <a:lnTo>
                        <a:pt x="0" y="195"/>
                      </a:lnTo>
                      <a:lnTo>
                        <a:pt x="389" y="0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354720" y="579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283440" y="5740560"/>
                  <a:ext cx="62280" cy="59040"/>
                </a:xfrm>
                <a:custGeom>
                  <a:avLst/>
                  <a:gdLst/>
                  <a:ahLst/>
                  <a:rect l="0" t="0" r="r" b="b"/>
                  <a:pathLst>
                    <a:path w="173" h="1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3" y="164"/>
                      </a:lnTo>
                      <a:lnTo>
                        <a:pt x="17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275520" y="5734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278400" y="5707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28668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296040" y="5667480"/>
                  <a:ext cx="63720" cy="25920"/>
                </a:xfrm>
                <a:custGeom>
                  <a:avLst/>
                  <a:gdLst/>
                  <a:ahLst/>
                  <a:rect l="0" t="0" r="r" b="b"/>
                  <a:pathLst>
                    <a:path w="177" h="72">
                      <a:moveTo>
                        <a:pt x="177" y="0"/>
                      </a:moveTo>
                      <a:lnTo>
                        <a:pt x="177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367320" y="5657760"/>
                  <a:ext cx="55800" cy="25920"/>
                </a:xfrm>
                <a:custGeom>
                  <a:avLst/>
                  <a:gdLst/>
                  <a:ahLst/>
                  <a:rect l="0" t="0" r="r" b="b"/>
                  <a:pathLst>
                    <a:path w="155" h="72">
                      <a:moveTo>
                        <a:pt x="155" y="0"/>
                      </a:moveTo>
                      <a:lnTo>
                        <a:pt x="155" y="0"/>
                      </a:lnTo>
                      <a:lnTo>
                        <a:pt x="150" y="0"/>
                      </a:lnTo>
                      <a:lnTo>
                        <a:pt x="146" y="0"/>
                      </a:lnTo>
                      <a:lnTo>
                        <a:pt x="142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8" y="0"/>
                      </a:lnTo>
                      <a:lnTo>
                        <a:pt x="124" y="36"/>
                      </a:lnTo>
                      <a:lnTo>
                        <a:pt x="115" y="36"/>
                      </a:lnTo>
                      <a:lnTo>
                        <a:pt x="111" y="36"/>
                      </a:lnTo>
                      <a:lnTo>
                        <a:pt x="106" y="36"/>
                      </a:lnTo>
                      <a:lnTo>
                        <a:pt x="102" y="36"/>
                      </a:lnTo>
                      <a:lnTo>
                        <a:pt x="98" y="36"/>
                      </a:lnTo>
                      <a:lnTo>
                        <a:pt x="93" y="36"/>
                      </a:lnTo>
                      <a:lnTo>
                        <a:pt x="89" y="36"/>
                      </a:lnTo>
                      <a:lnTo>
                        <a:pt x="84" y="36"/>
                      </a:lnTo>
                      <a:lnTo>
                        <a:pt x="80" y="36"/>
                      </a:lnTo>
                      <a:lnTo>
                        <a:pt x="74" y="36"/>
                      </a:lnTo>
                      <a:lnTo>
                        <a:pt x="66" y="36"/>
                      </a:lnTo>
                      <a:lnTo>
                        <a:pt x="61" y="36"/>
                      </a:lnTo>
                      <a:lnTo>
                        <a:pt x="57" y="36"/>
                      </a:lnTo>
                      <a:lnTo>
                        <a:pt x="52" y="72"/>
                      </a:lnTo>
                      <a:lnTo>
                        <a:pt x="48" y="72"/>
                      </a:lnTo>
                      <a:lnTo>
                        <a:pt x="44" y="72"/>
                      </a:lnTo>
                      <a:lnTo>
                        <a:pt x="39" y="72"/>
                      </a:lnTo>
                      <a:lnTo>
                        <a:pt x="35" y="72"/>
                      </a:lnTo>
                      <a:lnTo>
                        <a:pt x="30" y="72"/>
                      </a:lnTo>
                      <a:lnTo>
                        <a:pt x="22" y="72"/>
                      </a:lnTo>
                      <a:lnTo>
                        <a:pt x="17" y="72"/>
                      </a:lnTo>
                      <a:lnTo>
                        <a:pt x="13" y="72"/>
                      </a:lnTo>
                      <a:lnTo>
                        <a:pt x="8" y="72"/>
                      </a:lnTo>
                      <a:lnTo>
                        <a:pt x="4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lnTo>
                        <a:pt x="8" y="72"/>
                      </a:lnTo>
                      <a:lnTo>
                        <a:pt x="13" y="72"/>
                      </a:lnTo>
                      <a:lnTo>
                        <a:pt x="17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39" y="72"/>
                      </a:lnTo>
                      <a:lnTo>
                        <a:pt x="44" y="72"/>
                      </a:lnTo>
                      <a:lnTo>
                        <a:pt x="48" y="36"/>
                      </a:lnTo>
                      <a:lnTo>
                        <a:pt x="52" y="36"/>
                      </a:lnTo>
                      <a:lnTo>
                        <a:pt x="57" y="36"/>
                      </a:lnTo>
                      <a:lnTo>
                        <a:pt x="61" y="36"/>
                      </a:lnTo>
                      <a:lnTo>
                        <a:pt x="66" y="36"/>
                      </a:lnTo>
                      <a:lnTo>
                        <a:pt x="74" y="36"/>
                      </a:lnTo>
                      <a:lnTo>
                        <a:pt x="80" y="36"/>
                      </a:lnTo>
                      <a:lnTo>
                        <a:pt x="84" y="36"/>
                      </a:lnTo>
                      <a:lnTo>
                        <a:pt x="89" y="36"/>
                      </a:lnTo>
                      <a:lnTo>
                        <a:pt x="93" y="36"/>
                      </a:lnTo>
                      <a:lnTo>
                        <a:pt x="98" y="36"/>
                      </a:lnTo>
                      <a:lnTo>
                        <a:pt x="102" y="36"/>
                      </a:lnTo>
                      <a:lnTo>
                        <a:pt x="106" y="36"/>
                      </a:lnTo>
                      <a:lnTo>
                        <a:pt x="111" y="36"/>
                      </a:lnTo>
                      <a:lnTo>
                        <a:pt x="115" y="36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2" y="0"/>
                      </a:lnTo>
                      <a:lnTo>
                        <a:pt x="146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431040" y="5657760"/>
                  <a:ext cx="65520" cy="43200"/>
                </a:xfrm>
                <a:custGeom>
                  <a:avLst/>
                  <a:gdLst/>
                  <a:ahLst/>
                  <a:rect l="0" t="0" r="r" b="b"/>
                  <a:pathLst>
                    <a:path w="182" h="120">
                      <a:moveTo>
                        <a:pt x="182" y="120"/>
                      </a:moveTo>
                      <a:lnTo>
                        <a:pt x="182" y="120"/>
                      </a:lnTo>
                      <a:lnTo>
                        <a:pt x="0" y="0"/>
                      </a:lnTo>
                      <a:lnTo>
                        <a:pt x="182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05560" y="570708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05560" y="5716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72"/>
                      </a:moveTo>
                      <a:lnTo>
                        <a:pt x="53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505560" y="5721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389640" y="5657760"/>
                  <a:ext cx="90720" cy="49680"/>
                </a:xfrm>
                <a:custGeom>
                  <a:avLst/>
                  <a:gdLst/>
                  <a:ahLst/>
                  <a:rect l="0" t="0" r="r" b="b"/>
                  <a:pathLst>
                    <a:path w="252" h="138">
                      <a:moveTo>
                        <a:pt x="252" y="116"/>
                      </a:moveTo>
                      <a:lnTo>
                        <a:pt x="155" y="138"/>
                      </a:lnTo>
                      <a:lnTo>
                        <a:pt x="105" y="102"/>
                      </a:lnTo>
                      <a:lnTo>
                        <a:pt x="110" y="102"/>
                      </a:lnTo>
                      <a:lnTo>
                        <a:pt x="110" y="98"/>
                      </a:lnTo>
                      <a:lnTo>
                        <a:pt x="101" y="102"/>
                      </a:lnTo>
                      <a:lnTo>
                        <a:pt x="52" y="67"/>
                      </a:lnTo>
                      <a:lnTo>
                        <a:pt x="57" y="67"/>
                      </a:lnTo>
                      <a:lnTo>
                        <a:pt x="57" y="62"/>
                      </a:lnTo>
                      <a:lnTo>
                        <a:pt x="48" y="67"/>
                      </a:lnTo>
                      <a:lnTo>
                        <a:pt x="0" y="30"/>
                      </a:lnTo>
                      <a:lnTo>
                        <a:pt x="4" y="30"/>
                      </a:lnTo>
                      <a:lnTo>
                        <a:pt x="4" y="26"/>
                      </a:lnTo>
                      <a:lnTo>
                        <a:pt x="61" y="13"/>
                      </a:lnTo>
                      <a:lnTo>
                        <a:pt x="92" y="0"/>
                      </a:lnTo>
                      <a:lnTo>
                        <a:pt x="137" y="26"/>
                      </a:lnTo>
                      <a:lnTo>
                        <a:pt x="142" y="36"/>
                      </a:lnTo>
                      <a:lnTo>
                        <a:pt x="150" y="36"/>
                      </a:lnTo>
                      <a:lnTo>
                        <a:pt x="195" y="62"/>
                      </a:lnTo>
                      <a:lnTo>
                        <a:pt x="195" y="75"/>
                      </a:lnTo>
                      <a:lnTo>
                        <a:pt x="203" y="71"/>
                      </a:lnTo>
                      <a:lnTo>
                        <a:pt x="247" y="102"/>
                      </a:lnTo>
                      <a:lnTo>
                        <a:pt x="252" y="112"/>
                      </a:lnTo>
                      <a:lnTo>
                        <a:pt x="25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450120" y="5707080"/>
                  <a:ext cx="29880" cy="0"/>
                </a:xfrm>
                <a:custGeom>
                  <a:avLst/>
                  <a:gdLst/>
                  <a:ahLst/>
                  <a:rect l="0" t="0" r="r" b="b"/>
                  <a:pathLst>
                    <a:path w="8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429240" y="5700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42456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48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42456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48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24560" y="5692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24" y="48"/>
                      </a:moveTo>
                      <a:lnTo>
                        <a:pt x="0" y="48"/>
                      </a:lnTo>
                      <a:lnTo>
                        <a:pt x="72" y="0"/>
                      </a:lnTo>
                      <a:lnTo>
                        <a:pt x="72" y="48"/>
                      </a:lnTo>
                      <a:lnTo>
                        <a:pt x="0" y="72"/>
                      </a:lnTo>
                      <a:lnTo>
                        <a:pt x="2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41016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40404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53" y="0"/>
                      </a:ln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40404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404040" y="5678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72" y="0"/>
                      </a:lnTo>
                      <a:lnTo>
                        <a:pt x="72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38964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38496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48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38496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39288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41340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42636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43896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36" y="72"/>
                      </a:moveTo>
                      <a:lnTo>
                        <a:pt x="36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36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438960" y="56656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44688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45948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6128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46920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480000" y="56959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480000" y="569736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392880" y="5657760"/>
                  <a:ext cx="86040" cy="46440"/>
                </a:xfrm>
                <a:custGeom>
                  <a:avLst/>
                  <a:gdLst/>
                  <a:ahLst/>
                  <a:rect l="0" t="0" r="r" b="b"/>
                  <a:pathLst>
                    <a:path w="239" h="129">
                      <a:moveTo>
                        <a:pt x="133" y="26"/>
                      </a:moveTo>
                      <a:lnTo>
                        <a:pt x="101" y="45"/>
                      </a:lnTo>
                      <a:lnTo>
                        <a:pt x="44" y="58"/>
                      </a:lnTo>
                      <a:lnTo>
                        <a:pt x="0" y="26"/>
                      </a:lnTo>
                      <a:lnTo>
                        <a:pt x="57" y="13"/>
                      </a:lnTo>
                      <a:lnTo>
                        <a:pt x="88" y="0"/>
                      </a:lnTo>
                      <a:lnTo>
                        <a:pt x="133" y="26"/>
                      </a:lnTo>
                      <a:lnTo>
                        <a:pt x="186" y="62"/>
                      </a:lnTo>
                      <a:lnTo>
                        <a:pt x="150" y="80"/>
                      </a:lnTo>
                      <a:lnTo>
                        <a:pt x="97" y="93"/>
                      </a:lnTo>
                      <a:lnTo>
                        <a:pt x="52" y="62"/>
                      </a:lnTo>
                      <a:lnTo>
                        <a:pt x="105" y="49"/>
                      </a:lnTo>
                      <a:lnTo>
                        <a:pt x="142" y="36"/>
                      </a:lnTo>
                      <a:lnTo>
                        <a:pt x="186" y="62"/>
                      </a:lnTo>
                      <a:lnTo>
                        <a:pt x="239" y="99"/>
                      </a:lnTo>
                      <a:lnTo>
                        <a:pt x="208" y="116"/>
                      </a:lnTo>
                      <a:lnTo>
                        <a:pt x="150" y="129"/>
                      </a:lnTo>
                      <a:lnTo>
                        <a:pt x="105" y="99"/>
                      </a:lnTo>
                      <a:lnTo>
                        <a:pt x="164" y="84"/>
                      </a:lnTo>
                      <a:lnTo>
                        <a:pt x="195" y="71"/>
                      </a:lnTo>
                      <a:lnTo>
                        <a:pt x="239" y="99"/>
                      </a:lnTo>
                      <a:lnTo>
                        <a:pt x="133" y="2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43104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40872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392880" y="5670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39288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413400" y="5657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426360" y="5657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437160" y="5672160"/>
                  <a:ext cx="25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451560" y="56847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429240" y="5689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41196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11960" y="56754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434280" y="5672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70" y="0"/>
                      </a:move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446880" y="56721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456240" y="5684760"/>
                  <a:ext cx="1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473880" y="569916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451560" y="5703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72"/>
                      </a:moveTo>
                      <a:lnTo>
                        <a:pt x="0" y="72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434280" y="56973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434280" y="5691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45624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469200" y="5686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413400" y="5664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435720" y="5680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456240" y="5694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72"/>
                      </a:moveTo>
                      <a:lnTo>
                        <a:pt x="72" y="7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2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4800" y="5065560"/>
                <a:ext cx="710280" cy="673560"/>
                <a:chOff x="6454800" y="5065560"/>
                <a:chExt cx="710280" cy="67356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4800" y="5067360"/>
                  <a:ext cx="702000" cy="671760"/>
                </a:xfrm>
                <a:custGeom>
                  <a:avLst/>
                  <a:gdLst/>
                  <a:ahLst/>
                  <a:rect l="0" t="0" r="r" b="b"/>
                  <a:pathLst>
                    <a:path w="1950" h="1866">
                      <a:moveTo>
                        <a:pt x="229" y="1756"/>
                      </a:moveTo>
                      <a:lnTo>
                        <a:pt x="1420" y="1866"/>
                      </a:lnTo>
                      <a:lnTo>
                        <a:pt x="1606" y="1707"/>
                      </a:lnTo>
                      <a:lnTo>
                        <a:pt x="1606" y="1641"/>
                      </a:lnTo>
                      <a:lnTo>
                        <a:pt x="1262" y="1610"/>
                      </a:lnTo>
                      <a:lnTo>
                        <a:pt x="1244" y="1579"/>
                      </a:lnTo>
                      <a:lnTo>
                        <a:pt x="1248" y="1579"/>
                      </a:lnTo>
                      <a:lnTo>
                        <a:pt x="1253" y="1575"/>
                      </a:lnTo>
                      <a:lnTo>
                        <a:pt x="1257" y="1575"/>
                      </a:lnTo>
                      <a:lnTo>
                        <a:pt x="1257" y="1570"/>
                      </a:lnTo>
                      <a:lnTo>
                        <a:pt x="1262" y="1570"/>
                      </a:lnTo>
                      <a:lnTo>
                        <a:pt x="1266" y="1566"/>
                      </a:lnTo>
                      <a:lnTo>
                        <a:pt x="1271" y="1562"/>
                      </a:lnTo>
                      <a:lnTo>
                        <a:pt x="1275" y="1557"/>
                      </a:lnTo>
                      <a:lnTo>
                        <a:pt x="1275" y="1557"/>
                      </a:lnTo>
                      <a:lnTo>
                        <a:pt x="1279" y="1553"/>
                      </a:lnTo>
                      <a:lnTo>
                        <a:pt x="1284" y="1553"/>
                      </a:lnTo>
                      <a:lnTo>
                        <a:pt x="1284" y="1548"/>
                      </a:lnTo>
                      <a:lnTo>
                        <a:pt x="1288" y="1544"/>
                      </a:lnTo>
                      <a:lnTo>
                        <a:pt x="1293" y="1544"/>
                      </a:lnTo>
                      <a:lnTo>
                        <a:pt x="1297" y="1535"/>
                      </a:lnTo>
                      <a:lnTo>
                        <a:pt x="1297" y="1535"/>
                      </a:lnTo>
                      <a:lnTo>
                        <a:pt x="1606" y="1548"/>
                      </a:lnTo>
                      <a:lnTo>
                        <a:pt x="1795" y="1513"/>
                      </a:lnTo>
                      <a:lnTo>
                        <a:pt x="1800" y="1513"/>
                      </a:lnTo>
                      <a:lnTo>
                        <a:pt x="1804" y="1509"/>
                      </a:lnTo>
                      <a:lnTo>
                        <a:pt x="1808" y="1509"/>
                      </a:lnTo>
                      <a:lnTo>
                        <a:pt x="1813" y="1504"/>
                      </a:lnTo>
                      <a:lnTo>
                        <a:pt x="1813" y="1504"/>
                      </a:lnTo>
                      <a:lnTo>
                        <a:pt x="1817" y="1500"/>
                      </a:lnTo>
                      <a:lnTo>
                        <a:pt x="1817" y="1495"/>
                      </a:lnTo>
                      <a:lnTo>
                        <a:pt x="1822" y="1491"/>
                      </a:lnTo>
                      <a:lnTo>
                        <a:pt x="1822" y="1487"/>
                      </a:lnTo>
                      <a:lnTo>
                        <a:pt x="1822" y="1482"/>
                      </a:lnTo>
                      <a:lnTo>
                        <a:pt x="1826" y="1478"/>
                      </a:lnTo>
                      <a:lnTo>
                        <a:pt x="1831" y="1478"/>
                      </a:lnTo>
                      <a:lnTo>
                        <a:pt x="1831" y="1469"/>
                      </a:lnTo>
                      <a:lnTo>
                        <a:pt x="1831" y="1465"/>
                      </a:lnTo>
                      <a:lnTo>
                        <a:pt x="1831" y="1460"/>
                      </a:lnTo>
                      <a:lnTo>
                        <a:pt x="1831" y="1451"/>
                      </a:lnTo>
                      <a:lnTo>
                        <a:pt x="1831" y="1385"/>
                      </a:lnTo>
                      <a:lnTo>
                        <a:pt x="1835" y="1385"/>
                      </a:lnTo>
                      <a:lnTo>
                        <a:pt x="1835" y="1381"/>
                      </a:lnTo>
                      <a:lnTo>
                        <a:pt x="1839" y="1381"/>
                      </a:lnTo>
                      <a:lnTo>
                        <a:pt x="1844" y="1376"/>
                      </a:lnTo>
                      <a:lnTo>
                        <a:pt x="1848" y="1376"/>
                      </a:lnTo>
                      <a:lnTo>
                        <a:pt x="1853" y="1376"/>
                      </a:lnTo>
                      <a:lnTo>
                        <a:pt x="1857" y="1372"/>
                      </a:lnTo>
                      <a:lnTo>
                        <a:pt x="1861" y="1372"/>
                      </a:lnTo>
                      <a:lnTo>
                        <a:pt x="1861" y="1372"/>
                      </a:lnTo>
                      <a:lnTo>
                        <a:pt x="1870" y="1368"/>
                      </a:lnTo>
                      <a:lnTo>
                        <a:pt x="1870" y="1363"/>
                      </a:lnTo>
                      <a:lnTo>
                        <a:pt x="1875" y="1363"/>
                      </a:lnTo>
                      <a:lnTo>
                        <a:pt x="1875" y="1359"/>
                      </a:lnTo>
                      <a:lnTo>
                        <a:pt x="1879" y="1354"/>
                      </a:lnTo>
                      <a:lnTo>
                        <a:pt x="1879" y="1350"/>
                      </a:lnTo>
                      <a:lnTo>
                        <a:pt x="1879" y="1341"/>
                      </a:lnTo>
                      <a:lnTo>
                        <a:pt x="1950" y="551"/>
                      </a:lnTo>
                      <a:lnTo>
                        <a:pt x="1950" y="546"/>
                      </a:lnTo>
                      <a:lnTo>
                        <a:pt x="1950" y="546"/>
                      </a:lnTo>
                      <a:lnTo>
                        <a:pt x="1950" y="537"/>
                      </a:lnTo>
                      <a:lnTo>
                        <a:pt x="1950" y="533"/>
                      </a:lnTo>
                      <a:lnTo>
                        <a:pt x="1950" y="533"/>
                      </a:lnTo>
                      <a:lnTo>
                        <a:pt x="1945" y="529"/>
                      </a:lnTo>
                      <a:lnTo>
                        <a:pt x="1945" y="524"/>
                      </a:lnTo>
                      <a:lnTo>
                        <a:pt x="1945" y="520"/>
                      </a:lnTo>
                      <a:lnTo>
                        <a:pt x="1945" y="515"/>
                      </a:lnTo>
                      <a:lnTo>
                        <a:pt x="1945" y="511"/>
                      </a:lnTo>
                      <a:lnTo>
                        <a:pt x="1941" y="511"/>
                      </a:lnTo>
                      <a:lnTo>
                        <a:pt x="1941" y="507"/>
                      </a:lnTo>
                      <a:lnTo>
                        <a:pt x="1936" y="502"/>
                      </a:lnTo>
                      <a:lnTo>
                        <a:pt x="1936" y="502"/>
                      </a:lnTo>
                      <a:lnTo>
                        <a:pt x="1936" y="493"/>
                      </a:lnTo>
                      <a:lnTo>
                        <a:pt x="1932" y="493"/>
                      </a:lnTo>
                      <a:lnTo>
                        <a:pt x="1848" y="388"/>
                      </a:lnTo>
                      <a:lnTo>
                        <a:pt x="1839" y="321"/>
                      </a:lnTo>
                      <a:lnTo>
                        <a:pt x="1839" y="229"/>
                      </a:lnTo>
                      <a:lnTo>
                        <a:pt x="1839" y="224"/>
                      </a:lnTo>
                      <a:lnTo>
                        <a:pt x="1835" y="216"/>
                      </a:lnTo>
                      <a:lnTo>
                        <a:pt x="1835" y="211"/>
                      </a:lnTo>
                      <a:lnTo>
                        <a:pt x="1831" y="207"/>
                      </a:lnTo>
                      <a:lnTo>
                        <a:pt x="1831" y="202"/>
                      </a:lnTo>
                      <a:lnTo>
                        <a:pt x="1822" y="198"/>
                      </a:lnTo>
                      <a:lnTo>
                        <a:pt x="1817" y="189"/>
                      </a:lnTo>
                      <a:lnTo>
                        <a:pt x="1813" y="185"/>
                      </a:lnTo>
                      <a:lnTo>
                        <a:pt x="1659" y="92"/>
                      </a:lnTo>
                      <a:lnTo>
                        <a:pt x="1614" y="83"/>
                      </a:lnTo>
                      <a:lnTo>
                        <a:pt x="1570" y="79"/>
                      </a:lnTo>
                      <a:lnTo>
                        <a:pt x="1522" y="74"/>
                      </a:lnTo>
                      <a:lnTo>
                        <a:pt x="1478" y="66"/>
                      </a:lnTo>
                      <a:lnTo>
                        <a:pt x="1434" y="61"/>
                      </a:lnTo>
                      <a:lnTo>
                        <a:pt x="1385" y="57"/>
                      </a:lnTo>
                      <a:lnTo>
                        <a:pt x="1337" y="52"/>
                      </a:lnTo>
                      <a:lnTo>
                        <a:pt x="1293" y="48"/>
                      </a:lnTo>
                      <a:lnTo>
                        <a:pt x="1244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3" y="30"/>
                      </a:lnTo>
                      <a:lnTo>
                        <a:pt x="1054" y="26"/>
                      </a:lnTo>
                      <a:lnTo>
                        <a:pt x="1010" y="26"/>
                      </a:lnTo>
                      <a:lnTo>
                        <a:pt x="961" y="17"/>
                      </a:lnTo>
                      <a:lnTo>
                        <a:pt x="912" y="17"/>
                      </a:lnTo>
                      <a:lnTo>
                        <a:pt x="864" y="13"/>
                      </a:lnTo>
                      <a:lnTo>
                        <a:pt x="820" y="13"/>
                      </a:lnTo>
                      <a:lnTo>
                        <a:pt x="771" y="13"/>
                      </a:lnTo>
                      <a:lnTo>
                        <a:pt x="723" y="8"/>
                      </a:lnTo>
                      <a:lnTo>
                        <a:pt x="674" y="8"/>
                      </a:lnTo>
                      <a:lnTo>
                        <a:pt x="630" y="8"/>
                      </a:lnTo>
                      <a:lnTo>
                        <a:pt x="582" y="4"/>
                      </a:lnTo>
                      <a:lnTo>
                        <a:pt x="533" y="4"/>
                      </a:lnTo>
                      <a:lnTo>
                        <a:pt x="485" y="4"/>
                      </a:lnTo>
                      <a:lnTo>
                        <a:pt x="440" y="4"/>
                      </a:lnTo>
                      <a:lnTo>
                        <a:pt x="396" y="4"/>
                      </a:lnTo>
                      <a:lnTo>
                        <a:pt x="348" y="0"/>
                      </a:lnTo>
                      <a:lnTo>
                        <a:pt x="299" y="0"/>
                      </a:lnTo>
                      <a:lnTo>
                        <a:pt x="255" y="0"/>
                      </a:lnTo>
                      <a:lnTo>
                        <a:pt x="207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9" y="0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7" y="8"/>
                      </a:lnTo>
                      <a:lnTo>
                        <a:pt x="123" y="8"/>
                      </a:lnTo>
                      <a:lnTo>
                        <a:pt x="119" y="13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26"/>
                      </a:lnTo>
                      <a:lnTo>
                        <a:pt x="105" y="30"/>
                      </a:lnTo>
                      <a:lnTo>
                        <a:pt x="105" y="35"/>
                      </a:lnTo>
                      <a:lnTo>
                        <a:pt x="101" y="35"/>
                      </a:lnTo>
                      <a:lnTo>
                        <a:pt x="101" y="39"/>
                      </a:lnTo>
                      <a:lnTo>
                        <a:pt x="97" y="79"/>
                      </a:lnTo>
                      <a:lnTo>
                        <a:pt x="88" y="119"/>
                      </a:lnTo>
                      <a:lnTo>
                        <a:pt x="79" y="158"/>
                      </a:lnTo>
                      <a:lnTo>
                        <a:pt x="74" y="198"/>
                      </a:lnTo>
                      <a:lnTo>
                        <a:pt x="70" y="238"/>
                      </a:lnTo>
                      <a:lnTo>
                        <a:pt x="61" y="273"/>
                      </a:lnTo>
                      <a:lnTo>
                        <a:pt x="57" y="313"/>
                      </a:lnTo>
                      <a:lnTo>
                        <a:pt x="52" y="352"/>
                      </a:lnTo>
                      <a:lnTo>
                        <a:pt x="48" y="388"/>
                      </a:lnTo>
                      <a:lnTo>
                        <a:pt x="44" y="427"/>
                      </a:lnTo>
                      <a:lnTo>
                        <a:pt x="39" y="467"/>
                      </a:lnTo>
                      <a:lnTo>
                        <a:pt x="35" y="507"/>
                      </a:lnTo>
                      <a:lnTo>
                        <a:pt x="30" y="542"/>
                      </a:lnTo>
                      <a:lnTo>
                        <a:pt x="26" y="582"/>
                      </a:lnTo>
                      <a:lnTo>
                        <a:pt x="26" y="621"/>
                      </a:lnTo>
                      <a:lnTo>
                        <a:pt x="22" y="657"/>
                      </a:lnTo>
                      <a:lnTo>
                        <a:pt x="17" y="696"/>
                      </a:lnTo>
                      <a:lnTo>
                        <a:pt x="17" y="732"/>
                      </a:lnTo>
                      <a:lnTo>
                        <a:pt x="13" y="771"/>
                      </a:lnTo>
                      <a:lnTo>
                        <a:pt x="13" y="811"/>
                      </a:lnTo>
                      <a:lnTo>
                        <a:pt x="13" y="846"/>
                      </a:lnTo>
                      <a:lnTo>
                        <a:pt x="8" y="886"/>
                      </a:lnTo>
                      <a:lnTo>
                        <a:pt x="8" y="921"/>
                      </a:lnTo>
                      <a:lnTo>
                        <a:pt x="8" y="962"/>
                      </a:lnTo>
                      <a:lnTo>
                        <a:pt x="8" y="1002"/>
                      </a:lnTo>
                      <a:lnTo>
                        <a:pt x="4" y="1037"/>
                      </a:lnTo>
                      <a:lnTo>
                        <a:pt x="4" y="1076"/>
                      </a:lnTo>
                      <a:lnTo>
                        <a:pt x="4" y="1116"/>
                      </a:lnTo>
                      <a:lnTo>
                        <a:pt x="4" y="1151"/>
                      </a:lnTo>
                      <a:lnTo>
                        <a:pt x="4" y="1191"/>
                      </a:lnTo>
                      <a:lnTo>
                        <a:pt x="0" y="1226"/>
                      </a:lnTo>
                      <a:lnTo>
                        <a:pt x="0" y="1266"/>
                      </a:lnTo>
                      <a:lnTo>
                        <a:pt x="0" y="1271"/>
                      </a:lnTo>
                      <a:lnTo>
                        <a:pt x="0" y="1275"/>
                      </a:lnTo>
                      <a:lnTo>
                        <a:pt x="0" y="1284"/>
                      </a:lnTo>
                      <a:lnTo>
                        <a:pt x="4" y="1284"/>
                      </a:lnTo>
                      <a:lnTo>
                        <a:pt x="4" y="1288"/>
                      </a:lnTo>
                      <a:lnTo>
                        <a:pt x="4" y="1293"/>
                      </a:lnTo>
                      <a:lnTo>
                        <a:pt x="4" y="1297"/>
                      </a:lnTo>
                      <a:lnTo>
                        <a:pt x="8" y="1297"/>
                      </a:lnTo>
                      <a:lnTo>
                        <a:pt x="8" y="1306"/>
                      </a:lnTo>
                      <a:lnTo>
                        <a:pt x="13" y="1306"/>
                      </a:lnTo>
                      <a:lnTo>
                        <a:pt x="13" y="1310"/>
                      </a:lnTo>
                      <a:lnTo>
                        <a:pt x="17" y="1315"/>
                      </a:lnTo>
                      <a:lnTo>
                        <a:pt x="22" y="1315"/>
                      </a:lnTo>
                      <a:lnTo>
                        <a:pt x="26" y="1319"/>
                      </a:lnTo>
                      <a:lnTo>
                        <a:pt x="30" y="1323"/>
                      </a:lnTo>
                      <a:lnTo>
                        <a:pt x="35" y="1328"/>
                      </a:lnTo>
                      <a:lnTo>
                        <a:pt x="158" y="1416"/>
                      </a:lnTo>
                      <a:lnTo>
                        <a:pt x="551" y="1460"/>
                      </a:lnTo>
                      <a:lnTo>
                        <a:pt x="555" y="1469"/>
                      </a:lnTo>
                      <a:lnTo>
                        <a:pt x="560" y="1473"/>
                      </a:lnTo>
                      <a:lnTo>
                        <a:pt x="564" y="1482"/>
                      </a:lnTo>
                      <a:lnTo>
                        <a:pt x="568" y="1487"/>
                      </a:lnTo>
                      <a:lnTo>
                        <a:pt x="577" y="1491"/>
                      </a:lnTo>
                      <a:lnTo>
                        <a:pt x="582" y="1500"/>
                      </a:lnTo>
                      <a:lnTo>
                        <a:pt x="590" y="1504"/>
                      </a:lnTo>
                      <a:lnTo>
                        <a:pt x="595" y="1509"/>
                      </a:lnTo>
                      <a:lnTo>
                        <a:pt x="604" y="1513"/>
                      </a:lnTo>
                      <a:lnTo>
                        <a:pt x="608" y="1522"/>
                      </a:lnTo>
                      <a:lnTo>
                        <a:pt x="617" y="1526"/>
                      </a:lnTo>
                      <a:lnTo>
                        <a:pt x="621" y="1531"/>
                      </a:lnTo>
                      <a:lnTo>
                        <a:pt x="630" y="1535"/>
                      </a:lnTo>
                      <a:lnTo>
                        <a:pt x="635" y="1544"/>
                      </a:lnTo>
                      <a:lnTo>
                        <a:pt x="643" y="1548"/>
                      </a:lnTo>
                      <a:lnTo>
                        <a:pt x="652" y="1553"/>
                      </a:lnTo>
                      <a:lnTo>
                        <a:pt x="529" y="1539"/>
                      </a:lnTo>
                      <a:lnTo>
                        <a:pt x="229" y="1698"/>
                      </a:lnTo>
                      <a:lnTo>
                        <a:pt x="229" y="1756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537240" y="5707080"/>
                  <a:ext cx="425880" cy="32040"/>
                </a:xfrm>
                <a:custGeom>
                  <a:avLst/>
                  <a:gdLst/>
                  <a:ahLst/>
                  <a:rect l="0" t="0" r="r" b="b"/>
                  <a:pathLst>
                    <a:path w="1183" h="89">
                      <a:moveTo>
                        <a:pt x="1179" y="84"/>
                      </a:moveTo>
                      <a:lnTo>
                        <a:pt x="1179" y="84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79" y="89"/>
                      </a:lnTo>
                      <a:lnTo>
                        <a:pt x="1183" y="89"/>
                      </a:lnTo>
                      <a:lnTo>
                        <a:pt x="1183" y="89"/>
                      </a:lnTo>
                      <a:lnTo>
                        <a:pt x="1183" y="84"/>
                      </a:lnTo>
                      <a:lnTo>
                        <a:pt x="1179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970680" y="5689440"/>
                  <a:ext cx="62280" cy="49680"/>
                </a:xfrm>
                <a:custGeom>
                  <a:avLst/>
                  <a:gdLst/>
                  <a:ahLst/>
                  <a:rect l="0" t="0" r="r" b="b"/>
                  <a:pathLst>
                    <a:path w="173" h="138">
                      <a:moveTo>
                        <a:pt x="169" y="0"/>
                      </a:moveTo>
                      <a:lnTo>
                        <a:pt x="169" y="0"/>
                      </a:lnTo>
                      <a:lnTo>
                        <a:pt x="0" y="134"/>
                      </a:lnTo>
                      <a:lnTo>
                        <a:pt x="4" y="138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0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032600" y="56624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3" y="6"/>
                      </a:move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53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912000" y="5653080"/>
                  <a:ext cx="119520" cy="25920"/>
                </a:xfrm>
                <a:custGeom>
                  <a:avLst/>
                  <a:gdLst/>
                  <a:ahLst/>
                  <a:rect l="0" t="0" r="r" b="b"/>
                  <a:pathLst>
                    <a:path w="332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332" y="72"/>
                      </a:lnTo>
                      <a:lnTo>
                        <a:pt x="332" y="48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90552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907320" y="5626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3" y="0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45" y="11"/>
                      </a:lnTo>
                      <a:lnTo>
                        <a:pt x="45" y="24"/>
                      </a:lnTo>
                      <a:lnTo>
                        <a:pt x="45" y="24"/>
                      </a:lnTo>
                      <a:lnTo>
                        <a:pt x="36" y="36"/>
                      </a:lnTo>
                      <a:lnTo>
                        <a:pt x="36" y="36"/>
                      </a:lnTo>
                      <a:lnTo>
                        <a:pt x="27" y="36"/>
                      </a:lnTo>
                      <a:lnTo>
                        <a:pt x="27" y="3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60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27" y="60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36" y="36"/>
                      </a:lnTo>
                      <a:lnTo>
                        <a:pt x="45" y="36"/>
                      </a:lnTo>
                      <a:lnTo>
                        <a:pt x="45" y="36"/>
                      </a:lnTo>
                      <a:lnTo>
                        <a:pt x="53" y="36"/>
                      </a:lnTo>
                      <a:lnTo>
                        <a:pt x="53" y="24"/>
                      </a:lnTo>
                      <a:lnTo>
                        <a:pt x="53" y="24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63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927840" y="5622840"/>
                  <a:ext cx="105120" cy="25920"/>
                </a:xfrm>
                <a:custGeom>
                  <a:avLst/>
                  <a:gdLst/>
                  <a:ahLst/>
                  <a:rect l="0" t="0" r="r" b="b"/>
                  <a:pathLst>
                    <a:path w="292" h="72">
                      <a:moveTo>
                        <a:pt x="287" y="36"/>
                      </a:moveTo>
                      <a:lnTo>
                        <a:pt x="287" y="36"/>
                      </a:lnTo>
                      <a:lnTo>
                        <a:pt x="0" y="72"/>
                      </a:lnTo>
                      <a:lnTo>
                        <a:pt x="0" y="36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87" y="0"/>
                      </a:lnTo>
                      <a:lnTo>
                        <a:pt x="292" y="0"/>
                      </a:lnTo>
                      <a:lnTo>
                        <a:pt x="28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040520" y="5618160"/>
                  <a:ext cx="60840" cy="25920"/>
                </a:xfrm>
                <a:custGeom>
                  <a:avLst/>
                  <a:gdLst/>
                  <a:ahLst/>
                  <a:rect l="0" t="0" r="r" b="b"/>
                  <a:pathLst>
                    <a:path w="169" h="72">
                      <a:moveTo>
                        <a:pt x="165" y="0"/>
                      </a:moveTo>
                      <a:lnTo>
                        <a:pt x="165" y="0"/>
                      </a:lnTo>
                      <a:lnTo>
                        <a:pt x="0" y="48"/>
                      </a:lnTo>
                      <a:lnTo>
                        <a:pt x="0" y="72"/>
                      </a:lnTo>
                      <a:lnTo>
                        <a:pt x="169" y="24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107120" y="5595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8" y="29"/>
                      </a:lnTo>
                      <a:lnTo>
                        <a:pt x="48" y="36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48" y="50"/>
                      </a:lnTo>
                      <a:lnTo>
                        <a:pt x="24" y="50"/>
                      </a:lnTo>
                      <a:lnTo>
                        <a:pt x="24" y="58"/>
                      </a:lnTo>
                      <a:lnTo>
                        <a:pt x="24" y="58"/>
                      </a:lnTo>
                      <a:lnTo>
                        <a:pt x="24" y="65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72"/>
                      </a:lnTo>
                      <a:lnTo>
                        <a:pt x="24" y="72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48" y="58"/>
                      </a:lnTo>
                      <a:lnTo>
                        <a:pt x="48" y="58"/>
                      </a:lnTo>
                      <a:lnTo>
                        <a:pt x="48" y="50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36"/>
                      </a:lnTo>
                      <a:lnTo>
                        <a:pt x="72" y="29"/>
                      </a:lnTo>
                      <a:lnTo>
                        <a:pt x="72" y="29"/>
                      </a:lnTo>
                      <a:lnTo>
                        <a:pt x="72" y="22"/>
                      </a:lnTo>
                      <a:lnTo>
                        <a:pt x="72" y="14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112160" y="55720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48" y="0"/>
                      </a:moveTo>
                      <a:lnTo>
                        <a:pt x="72" y="7"/>
                      </a:lnTo>
                      <a:lnTo>
                        <a:pt x="72" y="72"/>
                      </a:lnTo>
                      <a:lnTo>
                        <a:pt x="0" y="72"/>
                      </a:lnTo>
                      <a:lnTo>
                        <a:pt x="0" y="7"/>
                      </a:lnTo>
                      <a:lnTo>
                        <a:pt x="24" y="7"/>
                      </a:lnTo>
                      <a:lnTo>
                        <a:pt x="0" y="7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72" y="7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121520" y="5556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29"/>
                      </a:lnTo>
                      <a:lnTo>
                        <a:pt x="51" y="43"/>
                      </a:lnTo>
                      <a:lnTo>
                        <a:pt x="41" y="43"/>
                      </a:lnTo>
                      <a:lnTo>
                        <a:pt x="41" y="4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1" y="43"/>
                      </a:lnTo>
                      <a:lnTo>
                        <a:pt x="21" y="58"/>
                      </a:lnTo>
                      <a:lnTo>
                        <a:pt x="10" y="58"/>
                      </a:lnTo>
                      <a:lnTo>
                        <a:pt x="10" y="58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21" y="58"/>
                      </a:lnTo>
                      <a:lnTo>
                        <a:pt x="31" y="58"/>
                      </a:lnTo>
                      <a:lnTo>
                        <a:pt x="41" y="58"/>
                      </a:lnTo>
                      <a:lnTo>
                        <a:pt x="41" y="58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51" y="43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62" y="29"/>
                      </a:lnTo>
                      <a:lnTo>
                        <a:pt x="72" y="1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139160" y="5267160"/>
                  <a:ext cx="25920" cy="281520"/>
                </a:xfrm>
                <a:custGeom>
                  <a:avLst/>
                  <a:gdLst/>
                  <a:ahLst/>
                  <a:rect l="0" t="0" r="r" b="b"/>
                  <a:pathLst>
                    <a:path w="72" h="782">
                      <a:moveTo>
                        <a:pt x="66" y="4"/>
                      </a:moveTo>
                      <a:lnTo>
                        <a:pt x="66" y="4"/>
                      </a:lnTo>
                      <a:lnTo>
                        <a:pt x="0" y="782"/>
                      </a:lnTo>
                      <a:lnTo>
                        <a:pt x="6" y="782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56440" y="5246640"/>
                  <a:ext cx="0" cy="25200"/>
                </a:xfrm>
                <a:custGeom>
                  <a:avLst/>
                  <a:gdLst/>
                  <a:ahLst/>
                  <a:rect l="0" t="0" r="r" b="b"/>
                  <a:pathLst>
                    <a:path w="0" h="70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61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126200" y="5208480"/>
                  <a:ext cx="25920" cy="30600"/>
                </a:xfrm>
                <a:custGeom>
                  <a:avLst/>
                  <a:gdLst/>
                  <a:ahLst/>
                  <a:rect l="0" t="0" r="r" b="b"/>
                  <a:pathLst>
                    <a:path w="72" h="8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7" y="85"/>
                      </a:lnTo>
                      <a:lnTo>
                        <a:pt x="72" y="8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121520" y="51832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116840" y="5149800"/>
                  <a:ext cx="25920" cy="27360"/>
                </a:xfrm>
                <a:custGeom>
                  <a:avLst/>
                  <a:gdLst/>
                  <a:ahLst/>
                  <a:rect l="0" t="0" r="r" b="b"/>
                  <a:pathLst>
                    <a:path w="72" h="76"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76"/>
                      </a:lnTo>
                      <a:lnTo>
                        <a:pt x="0" y="76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11216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24" y="14"/>
                      </a:lnTo>
                      <a:lnTo>
                        <a:pt x="24" y="29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43"/>
                      </a:lnTo>
                      <a:lnTo>
                        <a:pt x="48" y="43"/>
                      </a:lnTo>
                      <a:lnTo>
                        <a:pt x="72" y="58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8"/>
                      </a:lnTo>
                      <a:lnTo>
                        <a:pt x="72" y="43"/>
                      </a:lnTo>
                      <a:lnTo>
                        <a:pt x="72" y="43"/>
                      </a:lnTo>
                      <a:lnTo>
                        <a:pt x="48" y="29"/>
                      </a:lnTo>
                      <a:lnTo>
                        <a:pt x="48" y="29"/>
                      </a:lnTo>
                      <a:lnTo>
                        <a:pt x="48" y="14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058160" y="5100480"/>
                  <a:ext cx="47880" cy="27360"/>
                </a:xfrm>
                <a:custGeom>
                  <a:avLst/>
                  <a:gdLst/>
                  <a:ahLst/>
                  <a:rect l="0" t="0" r="r" b="b"/>
                  <a:pathLst>
                    <a:path w="133" h="7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3" y="76"/>
                      </a:lnTo>
                      <a:lnTo>
                        <a:pt x="133" y="7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513480" y="5065560"/>
                  <a:ext cx="536760" cy="27360"/>
                </a:xfrm>
                <a:custGeom>
                  <a:avLst/>
                  <a:gdLst/>
                  <a:ahLst/>
                  <a:rect l="0" t="0" r="r" b="b"/>
                  <a:pathLst>
                    <a:path w="149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8" y="4"/>
                      </a:lnTo>
                      <a:lnTo>
                        <a:pt x="97" y="4"/>
                      </a:lnTo>
                      <a:lnTo>
                        <a:pt x="141" y="4"/>
                      </a:lnTo>
                      <a:lnTo>
                        <a:pt x="189" y="4"/>
                      </a:lnTo>
                      <a:lnTo>
                        <a:pt x="233" y="4"/>
                      </a:lnTo>
                      <a:lnTo>
                        <a:pt x="277" y="4"/>
                      </a:lnTo>
                      <a:lnTo>
                        <a:pt x="326" y="8"/>
                      </a:lnTo>
                      <a:lnTo>
                        <a:pt x="374" y="8"/>
                      </a:lnTo>
                      <a:lnTo>
                        <a:pt x="423" y="8"/>
                      </a:lnTo>
                      <a:lnTo>
                        <a:pt x="467" y="8"/>
                      </a:lnTo>
                      <a:lnTo>
                        <a:pt x="515" y="13"/>
                      </a:lnTo>
                      <a:lnTo>
                        <a:pt x="560" y="13"/>
                      </a:lnTo>
                      <a:lnTo>
                        <a:pt x="608" y="13"/>
                      </a:lnTo>
                      <a:lnTo>
                        <a:pt x="657" y="13"/>
                      </a:lnTo>
                      <a:lnTo>
                        <a:pt x="705" y="17"/>
                      </a:lnTo>
                      <a:lnTo>
                        <a:pt x="750" y="17"/>
                      </a:lnTo>
                      <a:lnTo>
                        <a:pt x="799" y="23"/>
                      </a:lnTo>
                      <a:lnTo>
                        <a:pt x="847" y="23"/>
                      </a:lnTo>
                      <a:lnTo>
                        <a:pt x="891" y="27"/>
                      </a:lnTo>
                      <a:lnTo>
                        <a:pt x="940" y="27"/>
                      </a:lnTo>
                      <a:lnTo>
                        <a:pt x="984" y="31"/>
                      </a:lnTo>
                      <a:lnTo>
                        <a:pt x="1032" y="36"/>
                      </a:lnTo>
                      <a:lnTo>
                        <a:pt x="1081" y="36"/>
                      </a:lnTo>
                      <a:lnTo>
                        <a:pt x="1125" y="40"/>
                      </a:lnTo>
                      <a:lnTo>
                        <a:pt x="1173" y="45"/>
                      </a:lnTo>
                      <a:lnTo>
                        <a:pt x="1218" y="49"/>
                      </a:lnTo>
                      <a:lnTo>
                        <a:pt x="1266" y="49"/>
                      </a:lnTo>
                      <a:lnTo>
                        <a:pt x="1310" y="59"/>
                      </a:lnTo>
                      <a:lnTo>
                        <a:pt x="1354" y="63"/>
                      </a:lnTo>
                      <a:lnTo>
                        <a:pt x="1398" y="68"/>
                      </a:lnTo>
                      <a:lnTo>
                        <a:pt x="1447" y="72"/>
                      </a:lnTo>
                      <a:lnTo>
                        <a:pt x="1491" y="76"/>
                      </a:lnTo>
                      <a:lnTo>
                        <a:pt x="1491" y="72"/>
                      </a:lnTo>
                      <a:lnTo>
                        <a:pt x="1447" y="68"/>
                      </a:lnTo>
                      <a:lnTo>
                        <a:pt x="1403" y="63"/>
                      </a:lnTo>
                      <a:lnTo>
                        <a:pt x="1354" y="59"/>
                      </a:lnTo>
                      <a:lnTo>
                        <a:pt x="1310" y="49"/>
                      </a:lnTo>
                      <a:lnTo>
                        <a:pt x="1266" y="49"/>
                      </a:lnTo>
                      <a:lnTo>
                        <a:pt x="1218" y="45"/>
                      </a:lnTo>
                      <a:lnTo>
                        <a:pt x="1173" y="40"/>
                      </a:lnTo>
                      <a:lnTo>
                        <a:pt x="1125" y="36"/>
                      </a:lnTo>
                      <a:lnTo>
                        <a:pt x="1081" y="31"/>
                      </a:lnTo>
                      <a:lnTo>
                        <a:pt x="1032" y="27"/>
                      </a:lnTo>
                      <a:lnTo>
                        <a:pt x="984" y="27"/>
                      </a:lnTo>
                      <a:lnTo>
                        <a:pt x="940" y="23"/>
                      </a:lnTo>
                      <a:lnTo>
                        <a:pt x="891" y="23"/>
                      </a:lnTo>
                      <a:lnTo>
                        <a:pt x="847" y="17"/>
                      </a:lnTo>
                      <a:lnTo>
                        <a:pt x="799" y="13"/>
                      </a:lnTo>
                      <a:lnTo>
                        <a:pt x="750" y="13"/>
                      </a:lnTo>
                      <a:lnTo>
                        <a:pt x="705" y="13"/>
                      </a:lnTo>
                      <a:lnTo>
                        <a:pt x="657" y="8"/>
                      </a:lnTo>
                      <a:lnTo>
                        <a:pt x="608" y="8"/>
                      </a:lnTo>
                      <a:lnTo>
                        <a:pt x="560" y="4"/>
                      </a:lnTo>
                      <a:lnTo>
                        <a:pt x="515" y="4"/>
                      </a:lnTo>
                      <a:lnTo>
                        <a:pt x="467" y="4"/>
                      </a:lnTo>
                      <a:lnTo>
                        <a:pt x="423" y="4"/>
                      </a:lnTo>
                      <a:lnTo>
                        <a:pt x="374" y="0"/>
                      </a:lnTo>
                      <a:lnTo>
                        <a:pt x="326" y="0"/>
                      </a:lnTo>
                      <a:lnTo>
                        <a:pt x="277" y="0"/>
                      </a:lnTo>
                      <a:lnTo>
                        <a:pt x="233" y="0"/>
                      </a:lnTo>
                      <a:lnTo>
                        <a:pt x="189" y="0"/>
                      </a:lnTo>
                      <a:lnTo>
                        <a:pt x="141" y="0"/>
                      </a:lnTo>
                      <a:lnTo>
                        <a:pt x="97" y="0"/>
                      </a:lnTo>
                      <a:lnTo>
                        <a:pt x="4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491160" y="5065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" y="72"/>
                      </a:moveTo>
                      <a:lnTo>
                        <a:pt x="7" y="72"/>
                      </a:lnTo>
                      <a:lnTo>
                        <a:pt x="7" y="60"/>
                      </a:lnTo>
                      <a:lnTo>
                        <a:pt x="7" y="60"/>
                      </a:lnTo>
                      <a:lnTo>
                        <a:pt x="15" y="48"/>
                      </a:lnTo>
                      <a:lnTo>
                        <a:pt x="15" y="48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11"/>
                      </a:ln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56" y="11"/>
                      </a:lnTo>
                      <a:lnTo>
                        <a:pt x="64" y="11"/>
                      </a:lnTo>
                      <a:lnTo>
                        <a:pt x="72" y="11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40" y="11"/>
                      </a:lnTo>
                      <a:lnTo>
                        <a:pt x="32" y="11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36"/>
                      </a:lnTo>
                      <a:lnTo>
                        <a:pt x="7" y="36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454800" y="5083200"/>
                  <a:ext cx="30600" cy="438480"/>
                </a:xfrm>
                <a:custGeom>
                  <a:avLst/>
                  <a:gdLst/>
                  <a:ahLst/>
                  <a:rect l="0" t="0" r="r" b="b"/>
                  <a:pathLst>
                    <a:path w="85" h="1218">
                      <a:moveTo>
                        <a:pt x="4" y="1213"/>
                      </a:moveTo>
                      <a:lnTo>
                        <a:pt x="4" y="1213"/>
                      </a:lnTo>
                      <a:lnTo>
                        <a:pt x="4" y="1178"/>
                      </a:lnTo>
                      <a:lnTo>
                        <a:pt x="4" y="1138"/>
                      </a:lnTo>
                      <a:lnTo>
                        <a:pt x="4" y="1103"/>
                      </a:lnTo>
                      <a:lnTo>
                        <a:pt x="8" y="1063"/>
                      </a:lnTo>
                      <a:lnTo>
                        <a:pt x="8" y="1024"/>
                      </a:lnTo>
                      <a:lnTo>
                        <a:pt x="8" y="988"/>
                      </a:lnTo>
                      <a:lnTo>
                        <a:pt x="8" y="949"/>
                      </a:lnTo>
                      <a:lnTo>
                        <a:pt x="8" y="913"/>
                      </a:lnTo>
                      <a:lnTo>
                        <a:pt x="13" y="874"/>
                      </a:lnTo>
                      <a:lnTo>
                        <a:pt x="13" y="838"/>
                      </a:lnTo>
                      <a:lnTo>
                        <a:pt x="13" y="799"/>
                      </a:lnTo>
                      <a:lnTo>
                        <a:pt x="13" y="763"/>
                      </a:lnTo>
                      <a:lnTo>
                        <a:pt x="17" y="724"/>
                      </a:lnTo>
                      <a:lnTo>
                        <a:pt x="17" y="688"/>
                      </a:lnTo>
                      <a:lnTo>
                        <a:pt x="17" y="649"/>
                      </a:lnTo>
                      <a:lnTo>
                        <a:pt x="23" y="613"/>
                      </a:lnTo>
                      <a:lnTo>
                        <a:pt x="23" y="573"/>
                      </a:lnTo>
                      <a:lnTo>
                        <a:pt x="27" y="533"/>
                      </a:lnTo>
                      <a:lnTo>
                        <a:pt x="27" y="498"/>
                      </a:lnTo>
                      <a:lnTo>
                        <a:pt x="31" y="458"/>
                      </a:lnTo>
                      <a:lnTo>
                        <a:pt x="36" y="418"/>
                      </a:lnTo>
                      <a:lnTo>
                        <a:pt x="40" y="383"/>
                      </a:lnTo>
                      <a:lnTo>
                        <a:pt x="40" y="343"/>
                      </a:lnTo>
                      <a:lnTo>
                        <a:pt x="45" y="308"/>
                      </a:lnTo>
                      <a:lnTo>
                        <a:pt x="49" y="268"/>
                      </a:lnTo>
                      <a:lnTo>
                        <a:pt x="53" y="229"/>
                      </a:lnTo>
                      <a:lnTo>
                        <a:pt x="58" y="194"/>
                      </a:lnTo>
                      <a:lnTo>
                        <a:pt x="62" y="154"/>
                      </a:lnTo>
                      <a:lnTo>
                        <a:pt x="68" y="114"/>
                      </a:lnTo>
                      <a:lnTo>
                        <a:pt x="72" y="79"/>
                      </a:lnTo>
                      <a:lnTo>
                        <a:pt x="81" y="39"/>
                      </a:lnTo>
                      <a:lnTo>
                        <a:pt x="85" y="4"/>
                      </a:lnTo>
                      <a:lnTo>
                        <a:pt x="81" y="0"/>
                      </a:lnTo>
                      <a:lnTo>
                        <a:pt x="72" y="39"/>
                      </a:lnTo>
                      <a:lnTo>
                        <a:pt x="68" y="79"/>
                      </a:lnTo>
                      <a:lnTo>
                        <a:pt x="62" y="114"/>
                      </a:lnTo>
                      <a:lnTo>
                        <a:pt x="58" y="154"/>
                      </a:lnTo>
                      <a:lnTo>
                        <a:pt x="53" y="194"/>
                      </a:lnTo>
                      <a:lnTo>
                        <a:pt x="49" y="229"/>
                      </a:lnTo>
                      <a:lnTo>
                        <a:pt x="45" y="268"/>
                      </a:lnTo>
                      <a:lnTo>
                        <a:pt x="40" y="308"/>
                      </a:lnTo>
                      <a:lnTo>
                        <a:pt x="36" y="343"/>
                      </a:lnTo>
                      <a:lnTo>
                        <a:pt x="31" y="383"/>
                      </a:lnTo>
                      <a:lnTo>
                        <a:pt x="27" y="418"/>
                      </a:lnTo>
                      <a:lnTo>
                        <a:pt x="27" y="458"/>
                      </a:lnTo>
                      <a:lnTo>
                        <a:pt x="23" y="498"/>
                      </a:lnTo>
                      <a:lnTo>
                        <a:pt x="23" y="533"/>
                      </a:lnTo>
                      <a:lnTo>
                        <a:pt x="17" y="573"/>
                      </a:lnTo>
                      <a:lnTo>
                        <a:pt x="17" y="613"/>
                      </a:lnTo>
                      <a:lnTo>
                        <a:pt x="13" y="649"/>
                      </a:lnTo>
                      <a:lnTo>
                        <a:pt x="13" y="688"/>
                      </a:lnTo>
                      <a:lnTo>
                        <a:pt x="13" y="724"/>
                      </a:lnTo>
                      <a:lnTo>
                        <a:pt x="8" y="763"/>
                      </a:lnTo>
                      <a:lnTo>
                        <a:pt x="8" y="799"/>
                      </a:lnTo>
                      <a:lnTo>
                        <a:pt x="8" y="838"/>
                      </a:lnTo>
                      <a:lnTo>
                        <a:pt x="4" y="874"/>
                      </a:lnTo>
                      <a:lnTo>
                        <a:pt x="4" y="913"/>
                      </a:lnTo>
                      <a:lnTo>
                        <a:pt x="4" y="949"/>
                      </a:lnTo>
                      <a:lnTo>
                        <a:pt x="4" y="988"/>
                      </a:lnTo>
                      <a:lnTo>
                        <a:pt x="0" y="1024"/>
                      </a:lnTo>
                      <a:lnTo>
                        <a:pt x="0" y="1063"/>
                      </a:lnTo>
                      <a:lnTo>
                        <a:pt x="0" y="1103"/>
                      </a:lnTo>
                      <a:lnTo>
                        <a:pt x="0" y="1138"/>
                      </a:lnTo>
                      <a:lnTo>
                        <a:pt x="0" y="1178"/>
                      </a:lnTo>
                      <a:lnTo>
                        <a:pt x="0" y="1213"/>
                      </a:lnTo>
                      <a:lnTo>
                        <a:pt x="0" y="1218"/>
                      </a:lnTo>
                      <a:lnTo>
                        <a:pt x="0" y="1218"/>
                      </a:lnTo>
                      <a:lnTo>
                        <a:pt x="4" y="1218"/>
                      </a:lnTo>
                      <a:lnTo>
                        <a:pt x="4" y="1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454800" y="55292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4"/>
                      </a:move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24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48" y="56"/>
                      </a:lnTo>
                      <a:lnTo>
                        <a:pt x="48" y="56"/>
                      </a:lnTo>
                      <a:lnTo>
                        <a:pt x="48" y="64"/>
                      </a:lnTo>
                      <a:lnTo>
                        <a:pt x="48" y="64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465960" y="5549760"/>
                  <a:ext cx="39960" cy="25920"/>
                </a:xfrm>
                <a:custGeom>
                  <a:avLst/>
                  <a:gdLst/>
                  <a:ahLst/>
                  <a:rect l="0" t="0" r="r" b="b"/>
                  <a:pathLst>
                    <a:path w="111" h="72">
                      <a:moveTo>
                        <a:pt x="111" y="68"/>
                      </a:moveTo>
                      <a:lnTo>
                        <a:pt x="11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06" y="72"/>
                      </a:lnTo>
                      <a:lnTo>
                        <a:pt x="111" y="72"/>
                      </a:lnTo>
                      <a:lnTo>
                        <a:pt x="111" y="72"/>
                      </a:lnTo>
                      <a:lnTo>
                        <a:pt x="11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13480" y="5581800"/>
                  <a:ext cx="135360" cy="25920"/>
                </a:xfrm>
                <a:custGeom>
                  <a:avLst/>
                  <a:gdLst/>
                  <a:ahLst/>
                  <a:rect l="0" t="0" r="r" b="b"/>
                  <a:pathLst>
                    <a:path w="376" h="72">
                      <a:moveTo>
                        <a:pt x="376" y="62"/>
                      </a:moveTo>
                      <a:lnTo>
                        <a:pt x="372" y="62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372" y="72"/>
                      </a:lnTo>
                      <a:lnTo>
                        <a:pt x="368" y="72"/>
                      </a:lnTo>
                      <a:lnTo>
                        <a:pt x="372" y="72"/>
                      </a:lnTo>
                      <a:lnTo>
                        <a:pt x="372" y="72"/>
                      </a:lnTo>
                      <a:lnTo>
                        <a:pt x="376" y="72"/>
                      </a:lnTo>
                      <a:lnTo>
                        <a:pt x="376" y="62"/>
                      </a:lnTo>
                      <a:lnTo>
                        <a:pt x="372" y="62"/>
                      </a:lnTo>
                      <a:lnTo>
                        <a:pt x="37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654960" y="560052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72"/>
                      </a:moveTo>
                      <a:lnTo>
                        <a:pt x="80" y="67"/>
                      </a:lnTo>
                      <a:lnTo>
                        <a:pt x="75" y="63"/>
                      </a:lnTo>
                      <a:lnTo>
                        <a:pt x="67" y="63"/>
                      </a:lnTo>
                      <a:lnTo>
                        <a:pt x="62" y="58"/>
                      </a:lnTo>
                      <a:lnTo>
                        <a:pt x="58" y="52"/>
                      </a:lnTo>
                      <a:lnTo>
                        <a:pt x="53" y="48"/>
                      </a:lnTo>
                      <a:lnTo>
                        <a:pt x="49" y="43"/>
                      </a:lnTo>
                      <a:lnTo>
                        <a:pt x="45" y="38"/>
                      </a:lnTo>
                      <a:lnTo>
                        <a:pt x="35" y="38"/>
                      </a:lnTo>
                      <a:lnTo>
                        <a:pt x="35" y="33"/>
                      </a:lnTo>
                      <a:lnTo>
                        <a:pt x="26" y="29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8" y="9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30" y="38"/>
                      </a:lnTo>
                      <a:lnTo>
                        <a:pt x="35" y="38"/>
                      </a:lnTo>
                      <a:lnTo>
                        <a:pt x="39" y="43"/>
                      </a:lnTo>
                      <a:lnTo>
                        <a:pt x="45" y="48"/>
                      </a:lnTo>
                      <a:lnTo>
                        <a:pt x="49" y="52"/>
                      </a:lnTo>
                      <a:lnTo>
                        <a:pt x="58" y="58"/>
                      </a:lnTo>
                      <a:lnTo>
                        <a:pt x="58" y="63"/>
                      </a:lnTo>
                      <a:lnTo>
                        <a:pt x="67" y="63"/>
                      </a:lnTo>
                      <a:lnTo>
                        <a:pt x="71" y="67"/>
                      </a:lnTo>
                      <a:lnTo>
                        <a:pt x="75" y="72"/>
                      </a:lnTo>
                      <a:lnTo>
                        <a:pt x="80" y="67"/>
                      </a:lnTo>
                      <a:lnTo>
                        <a:pt x="75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67"/>
                      </a:lnTo>
                      <a:lnTo>
                        <a:pt x="8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647040" y="5624640"/>
                  <a:ext cx="36720" cy="25920"/>
                </a:xfrm>
                <a:custGeom>
                  <a:avLst/>
                  <a:gdLst/>
                  <a:ahLst/>
                  <a:rect l="0" t="0" r="r" b="b"/>
                  <a:pathLst>
                    <a:path w="102" h="72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102" y="0"/>
                      </a:lnTo>
                      <a:lnTo>
                        <a:pt x="102" y="36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537240" y="5627520"/>
                  <a:ext cx="101880" cy="51120"/>
                </a:xfrm>
                <a:custGeom>
                  <a:avLst/>
                  <a:gdLst/>
                  <a:ahLst/>
                  <a:rect l="0" t="0" r="r" b="b"/>
                  <a:pathLst>
                    <a:path w="283" h="142">
                      <a:moveTo>
                        <a:pt x="8" y="142"/>
                      </a:moveTo>
                      <a:lnTo>
                        <a:pt x="4" y="142"/>
                      </a:lnTo>
                      <a:lnTo>
                        <a:pt x="283" y="4"/>
                      </a:lnTo>
                      <a:lnTo>
                        <a:pt x="278" y="0"/>
                      </a:lnTo>
                      <a:lnTo>
                        <a:pt x="4" y="137"/>
                      </a:lnTo>
                      <a:lnTo>
                        <a:pt x="0" y="142"/>
                      </a:lnTo>
                      <a:lnTo>
                        <a:pt x="4" y="137"/>
                      </a:lnTo>
                      <a:lnTo>
                        <a:pt x="0" y="137"/>
                      </a:lnTo>
                      <a:lnTo>
                        <a:pt x="0" y="142"/>
                      </a:lnTo>
                      <a:lnTo>
                        <a:pt x="4" y="142"/>
                      </a:lnTo>
                      <a:lnTo>
                        <a:pt x="4" y="142"/>
                      </a:lnTo>
                      <a:lnTo>
                        <a:pt x="8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531120" y="56847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7" y="64"/>
                      </a:move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53" y="72"/>
                      </a:lnTo>
                      <a:lnTo>
                        <a:pt x="17" y="72"/>
                      </a:lnTo>
                      <a:lnTo>
                        <a:pt x="0" y="72"/>
                      </a:lnTo>
                      <a:lnTo>
                        <a:pt x="17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454800" y="5067360"/>
                  <a:ext cx="608400" cy="508320"/>
                </a:xfrm>
                <a:custGeom>
                  <a:avLst/>
                  <a:gdLst/>
                  <a:ahLst/>
                  <a:rect l="0" t="0" r="r" b="b"/>
                  <a:pathLst>
                    <a:path w="1690" h="1412">
                      <a:moveTo>
                        <a:pt x="26" y="1271"/>
                      </a:moveTo>
                      <a:lnTo>
                        <a:pt x="1563" y="1412"/>
                      </a:lnTo>
                      <a:lnTo>
                        <a:pt x="1571" y="1376"/>
                      </a:lnTo>
                      <a:lnTo>
                        <a:pt x="1576" y="1337"/>
                      </a:lnTo>
                      <a:lnTo>
                        <a:pt x="1580" y="1301"/>
                      </a:lnTo>
                      <a:lnTo>
                        <a:pt x="1589" y="1262"/>
                      </a:lnTo>
                      <a:lnTo>
                        <a:pt x="1593" y="1222"/>
                      </a:lnTo>
                      <a:lnTo>
                        <a:pt x="1598" y="1187"/>
                      </a:lnTo>
                      <a:lnTo>
                        <a:pt x="1602" y="1147"/>
                      </a:lnTo>
                      <a:lnTo>
                        <a:pt x="1611" y="1107"/>
                      </a:lnTo>
                      <a:lnTo>
                        <a:pt x="1615" y="1068"/>
                      </a:lnTo>
                      <a:lnTo>
                        <a:pt x="1620" y="1028"/>
                      </a:lnTo>
                      <a:lnTo>
                        <a:pt x="1624" y="988"/>
                      </a:lnTo>
                      <a:lnTo>
                        <a:pt x="1633" y="949"/>
                      </a:lnTo>
                      <a:lnTo>
                        <a:pt x="1638" y="913"/>
                      </a:lnTo>
                      <a:lnTo>
                        <a:pt x="1642" y="869"/>
                      </a:lnTo>
                      <a:lnTo>
                        <a:pt x="1642" y="830"/>
                      </a:lnTo>
                      <a:lnTo>
                        <a:pt x="1651" y="790"/>
                      </a:lnTo>
                      <a:lnTo>
                        <a:pt x="1655" y="750"/>
                      </a:lnTo>
                      <a:lnTo>
                        <a:pt x="1655" y="710"/>
                      </a:lnTo>
                      <a:lnTo>
                        <a:pt x="1660" y="670"/>
                      </a:lnTo>
                      <a:lnTo>
                        <a:pt x="1664" y="626"/>
                      </a:lnTo>
                      <a:lnTo>
                        <a:pt x="1668" y="586"/>
                      </a:lnTo>
                      <a:lnTo>
                        <a:pt x="1673" y="546"/>
                      </a:lnTo>
                      <a:lnTo>
                        <a:pt x="1673" y="507"/>
                      </a:lnTo>
                      <a:lnTo>
                        <a:pt x="1677" y="463"/>
                      </a:lnTo>
                      <a:lnTo>
                        <a:pt x="1677" y="423"/>
                      </a:lnTo>
                      <a:lnTo>
                        <a:pt x="1682" y="383"/>
                      </a:lnTo>
                      <a:lnTo>
                        <a:pt x="1682" y="343"/>
                      </a:lnTo>
                      <a:lnTo>
                        <a:pt x="1686" y="299"/>
                      </a:lnTo>
                      <a:lnTo>
                        <a:pt x="1686" y="260"/>
                      </a:lnTo>
                      <a:lnTo>
                        <a:pt x="1686" y="216"/>
                      </a:lnTo>
                      <a:lnTo>
                        <a:pt x="1690" y="176"/>
                      </a:lnTo>
                      <a:lnTo>
                        <a:pt x="1690" y="132"/>
                      </a:lnTo>
                      <a:lnTo>
                        <a:pt x="1690" y="127"/>
                      </a:lnTo>
                      <a:lnTo>
                        <a:pt x="1686" y="119"/>
                      </a:lnTo>
                      <a:lnTo>
                        <a:pt x="1686" y="114"/>
                      </a:lnTo>
                      <a:lnTo>
                        <a:pt x="1682" y="110"/>
                      </a:lnTo>
                      <a:lnTo>
                        <a:pt x="1677" y="105"/>
                      </a:lnTo>
                      <a:lnTo>
                        <a:pt x="1668" y="101"/>
                      </a:lnTo>
                      <a:lnTo>
                        <a:pt x="1664" y="97"/>
                      </a:lnTo>
                      <a:lnTo>
                        <a:pt x="1655" y="92"/>
                      </a:lnTo>
                      <a:lnTo>
                        <a:pt x="1607" y="83"/>
                      </a:lnTo>
                      <a:lnTo>
                        <a:pt x="1558" y="79"/>
                      </a:lnTo>
                      <a:lnTo>
                        <a:pt x="1514" y="74"/>
                      </a:lnTo>
                      <a:lnTo>
                        <a:pt x="1470" y="66"/>
                      </a:lnTo>
                      <a:lnTo>
                        <a:pt x="1421" y="61"/>
                      </a:lnTo>
                      <a:lnTo>
                        <a:pt x="1377" y="57"/>
                      </a:lnTo>
                      <a:lnTo>
                        <a:pt x="1329" y="52"/>
                      </a:lnTo>
                      <a:lnTo>
                        <a:pt x="1285" y="48"/>
                      </a:lnTo>
                      <a:lnTo>
                        <a:pt x="1240" y="39"/>
                      </a:lnTo>
                      <a:lnTo>
                        <a:pt x="1196" y="35"/>
                      </a:lnTo>
                      <a:lnTo>
                        <a:pt x="1151" y="35"/>
                      </a:lnTo>
                      <a:lnTo>
                        <a:pt x="1107" y="30"/>
                      </a:lnTo>
                      <a:lnTo>
                        <a:pt x="1059" y="26"/>
                      </a:lnTo>
                      <a:lnTo>
                        <a:pt x="1015" y="26"/>
                      </a:lnTo>
                      <a:lnTo>
                        <a:pt x="971" y="17"/>
                      </a:lnTo>
                      <a:lnTo>
                        <a:pt x="927" y="17"/>
                      </a:lnTo>
                      <a:lnTo>
                        <a:pt x="882" y="13"/>
                      </a:lnTo>
                      <a:lnTo>
                        <a:pt x="838" y="13"/>
                      </a:lnTo>
                      <a:lnTo>
                        <a:pt x="794" y="13"/>
                      </a:lnTo>
                      <a:lnTo>
                        <a:pt x="746" y="8"/>
                      </a:lnTo>
                      <a:lnTo>
                        <a:pt x="702" y="8"/>
                      </a:lnTo>
                      <a:lnTo>
                        <a:pt x="658" y="8"/>
                      </a:lnTo>
                      <a:lnTo>
                        <a:pt x="613" y="4"/>
                      </a:lnTo>
                      <a:lnTo>
                        <a:pt x="565" y="4"/>
                      </a:lnTo>
                      <a:lnTo>
                        <a:pt x="521" y="4"/>
                      </a:lnTo>
                      <a:lnTo>
                        <a:pt x="477" y="4"/>
                      </a:lnTo>
                      <a:lnTo>
                        <a:pt x="433" y="4"/>
                      </a:lnTo>
                      <a:lnTo>
                        <a:pt x="383" y="0"/>
                      </a:lnTo>
                      <a:lnTo>
                        <a:pt x="335" y="0"/>
                      </a:lnTo>
                      <a:lnTo>
                        <a:pt x="291" y="0"/>
                      </a:lnTo>
                      <a:lnTo>
                        <a:pt x="242" y="0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6" y="0"/>
                      </a:lnTo>
                      <a:lnTo>
                        <a:pt x="163" y="0"/>
                      </a:lnTo>
                      <a:lnTo>
                        <a:pt x="154" y="0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8"/>
                      </a:lnTo>
                      <a:lnTo>
                        <a:pt x="119" y="8"/>
                      </a:lnTo>
                      <a:lnTo>
                        <a:pt x="114" y="13"/>
                      </a:lnTo>
                      <a:lnTo>
                        <a:pt x="114" y="17"/>
                      </a:lnTo>
                      <a:lnTo>
                        <a:pt x="110" y="22"/>
                      </a:lnTo>
                      <a:lnTo>
                        <a:pt x="110" y="30"/>
                      </a:lnTo>
                      <a:lnTo>
                        <a:pt x="105" y="35"/>
                      </a:lnTo>
                      <a:lnTo>
                        <a:pt x="101" y="39"/>
                      </a:lnTo>
                      <a:lnTo>
                        <a:pt x="97" y="61"/>
                      </a:lnTo>
                      <a:lnTo>
                        <a:pt x="92" y="83"/>
                      </a:lnTo>
                      <a:lnTo>
                        <a:pt x="92" y="105"/>
                      </a:lnTo>
                      <a:lnTo>
                        <a:pt x="88" y="123"/>
                      </a:lnTo>
                      <a:lnTo>
                        <a:pt x="83" y="145"/>
                      </a:lnTo>
                      <a:lnTo>
                        <a:pt x="79" y="167"/>
                      </a:lnTo>
                      <a:lnTo>
                        <a:pt x="74" y="185"/>
                      </a:lnTo>
                      <a:lnTo>
                        <a:pt x="70" y="207"/>
                      </a:lnTo>
                      <a:lnTo>
                        <a:pt x="70" y="224"/>
                      </a:lnTo>
                      <a:lnTo>
                        <a:pt x="66" y="246"/>
                      </a:lnTo>
                      <a:lnTo>
                        <a:pt x="61" y="268"/>
                      </a:lnTo>
                      <a:lnTo>
                        <a:pt x="57" y="286"/>
                      </a:lnTo>
                      <a:lnTo>
                        <a:pt x="57" y="308"/>
                      </a:lnTo>
                      <a:lnTo>
                        <a:pt x="52" y="330"/>
                      </a:lnTo>
                      <a:lnTo>
                        <a:pt x="52" y="352"/>
                      </a:lnTo>
                      <a:lnTo>
                        <a:pt x="48" y="370"/>
                      </a:lnTo>
                      <a:lnTo>
                        <a:pt x="48" y="392"/>
                      </a:lnTo>
                      <a:lnTo>
                        <a:pt x="44" y="414"/>
                      </a:lnTo>
                      <a:lnTo>
                        <a:pt x="39" y="432"/>
                      </a:lnTo>
                      <a:lnTo>
                        <a:pt x="39" y="454"/>
                      </a:lnTo>
                      <a:lnTo>
                        <a:pt x="35" y="471"/>
                      </a:lnTo>
                      <a:lnTo>
                        <a:pt x="35" y="493"/>
                      </a:lnTo>
                      <a:lnTo>
                        <a:pt x="30" y="515"/>
                      </a:lnTo>
                      <a:lnTo>
                        <a:pt x="30" y="533"/>
                      </a:lnTo>
                      <a:lnTo>
                        <a:pt x="30" y="555"/>
                      </a:lnTo>
                      <a:lnTo>
                        <a:pt x="26" y="577"/>
                      </a:lnTo>
                      <a:lnTo>
                        <a:pt x="26" y="599"/>
                      </a:lnTo>
                      <a:lnTo>
                        <a:pt x="26" y="617"/>
                      </a:lnTo>
                      <a:lnTo>
                        <a:pt x="22" y="635"/>
                      </a:lnTo>
                      <a:lnTo>
                        <a:pt x="17" y="657"/>
                      </a:lnTo>
                      <a:lnTo>
                        <a:pt x="17" y="679"/>
                      </a:lnTo>
                      <a:lnTo>
                        <a:pt x="17" y="701"/>
                      </a:lnTo>
                      <a:lnTo>
                        <a:pt x="17" y="715"/>
                      </a:lnTo>
                      <a:lnTo>
                        <a:pt x="17" y="733"/>
                      </a:lnTo>
                      <a:lnTo>
                        <a:pt x="13" y="750"/>
                      </a:lnTo>
                      <a:lnTo>
                        <a:pt x="13" y="768"/>
                      </a:lnTo>
                      <a:lnTo>
                        <a:pt x="13" y="781"/>
                      </a:lnTo>
                      <a:lnTo>
                        <a:pt x="13" y="799"/>
                      </a:lnTo>
                      <a:lnTo>
                        <a:pt x="13" y="816"/>
                      </a:lnTo>
                      <a:lnTo>
                        <a:pt x="13" y="830"/>
                      </a:lnTo>
                      <a:lnTo>
                        <a:pt x="8" y="847"/>
                      </a:lnTo>
                      <a:lnTo>
                        <a:pt x="8" y="865"/>
                      </a:lnTo>
                      <a:lnTo>
                        <a:pt x="8" y="882"/>
                      </a:lnTo>
                      <a:lnTo>
                        <a:pt x="8" y="896"/>
                      </a:lnTo>
                      <a:lnTo>
                        <a:pt x="8" y="913"/>
                      </a:lnTo>
                      <a:lnTo>
                        <a:pt x="8" y="931"/>
                      </a:lnTo>
                      <a:lnTo>
                        <a:pt x="8" y="944"/>
                      </a:lnTo>
                      <a:lnTo>
                        <a:pt x="8" y="962"/>
                      </a:lnTo>
                      <a:lnTo>
                        <a:pt x="8" y="979"/>
                      </a:lnTo>
                      <a:lnTo>
                        <a:pt x="4" y="997"/>
                      </a:lnTo>
                      <a:lnTo>
                        <a:pt x="4" y="1010"/>
                      </a:lnTo>
                      <a:lnTo>
                        <a:pt x="4" y="1028"/>
                      </a:lnTo>
                      <a:lnTo>
                        <a:pt x="4" y="1046"/>
                      </a:lnTo>
                      <a:lnTo>
                        <a:pt x="4" y="1063"/>
                      </a:lnTo>
                      <a:lnTo>
                        <a:pt x="4" y="1076"/>
                      </a:lnTo>
                      <a:lnTo>
                        <a:pt x="4" y="1094"/>
                      </a:lnTo>
                      <a:lnTo>
                        <a:pt x="4" y="1112"/>
                      </a:lnTo>
                      <a:lnTo>
                        <a:pt x="4" y="1125"/>
                      </a:lnTo>
                      <a:lnTo>
                        <a:pt x="4" y="1143"/>
                      </a:lnTo>
                      <a:lnTo>
                        <a:pt x="4" y="1160"/>
                      </a:lnTo>
                      <a:lnTo>
                        <a:pt x="0" y="1178"/>
                      </a:lnTo>
                      <a:lnTo>
                        <a:pt x="0" y="1196"/>
                      </a:lnTo>
                      <a:lnTo>
                        <a:pt x="0" y="1209"/>
                      </a:lnTo>
                      <a:lnTo>
                        <a:pt x="0" y="1226"/>
                      </a:lnTo>
                      <a:lnTo>
                        <a:pt x="0" y="1235"/>
                      </a:lnTo>
                      <a:lnTo>
                        <a:pt x="0" y="1244"/>
                      </a:lnTo>
                      <a:lnTo>
                        <a:pt x="4" y="1248"/>
                      </a:lnTo>
                      <a:lnTo>
                        <a:pt x="4" y="1257"/>
                      </a:lnTo>
                      <a:lnTo>
                        <a:pt x="8" y="1262"/>
                      </a:lnTo>
                      <a:lnTo>
                        <a:pt x="13" y="1266"/>
                      </a:lnTo>
                      <a:lnTo>
                        <a:pt x="17" y="1266"/>
                      </a:lnTo>
                      <a:lnTo>
                        <a:pt x="26" y="1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464160" y="5530680"/>
                  <a:ext cx="552960" cy="47880"/>
                </a:xfrm>
                <a:custGeom>
                  <a:avLst/>
                  <a:gdLst/>
                  <a:ahLst/>
                  <a:rect l="0" t="0" r="r" b="b"/>
                  <a:pathLst>
                    <a:path w="1536" h="133">
                      <a:moveTo>
                        <a:pt x="1532" y="128"/>
                      </a:moveTo>
                      <a:lnTo>
                        <a:pt x="1532" y="12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2" y="133"/>
                      </a:lnTo>
                      <a:lnTo>
                        <a:pt x="1536" y="133"/>
                      </a:lnTo>
                      <a:lnTo>
                        <a:pt x="1536" y="128"/>
                      </a:lnTo>
                      <a:lnTo>
                        <a:pt x="1532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023240" y="5114880"/>
                  <a:ext cx="39960" cy="462240"/>
                </a:xfrm>
                <a:custGeom>
                  <a:avLst/>
                  <a:gdLst/>
                  <a:ahLst/>
                  <a:rect l="0" t="0" r="r" b="b"/>
                  <a:pathLst>
                    <a:path w="111" h="1284">
                      <a:moveTo>
                        <a:pt x="106" y="4"/>
                      </a:moveTo>
                      <a:lnTo>
                        <a:pt x="106" y="4"/>
                      </a:lnTo>
                      <a:lnTo>
                        <a:pt x="106" y="44"/>
                      </a:lnTo>
                      <a:lnTo>
                        <a:pt x="106" y="83"/>
                      </a:lnTo>
                      <a:lnTo>
                        <a:pt x="102" y="127"/>
                      </a:lnTo>
                      <a:lnTo>
                        <a:pt x="102" y="167"/>
                      </a:lnTo>
                      <a:lnTo>
                        <a:pt x="102" y="211"/>
                      </a:lnTo>
                      <a:lnTo>
                        <a:pt x="98" y="251"/>
                      </a:lnTo>
                      <a:lnTo>
                        <a:pt x="98" y="291"/>
                      </a:lnTo>
                      <a:lnTo>
                        <a:pt x="93" y="330"/>
                      </a:lnTo>
                      <a:lnTo>
                        <a:pt x="93" y="374"/>
                      </a:lnTo>
                      <a:lnTo>
                        <a:pt x="89" y="414"/>
                      </a:lnTo>
                      <a:lnTo>
                        <a:pt x="84" y="454"/>
                      </a:lnTo>
                      <a:lnTo>
                        <a:pt x="84" y="498"/>
                      </a:lnTo>
                      <a:lnTo>
                        <a:pt x="84" y="537"/>
                      </a:lnTo>
                      <a:lnTo>
                        <a:pt x="80" y="577"/>
                      </a:lnTo>
                      <a:lnTo>
                        <a:pt x="75" y="617"/>
                      </a:lnTo>
                      <a:lnTo>
                        <a:pt x="71" y="658"/>
                      </a:lnTo>
                      <a:lnTo>
                        <a:pt x="67" y="702"/>
                      </a:lnTo>
                      <a:lnTo>
                        <a:pt x="62" y="737"/>
                      </a:lnTo>
                      <a:lnTo>
                        <a:pt x="58" y="777"/>
                      </a:lnTo>
                      <a:lnTo>
                        <a:pt x="58" y="821"/>
                      </a:lnTo>
                      <a:lnTo>
                        <a:pt x="52" y="860"/>
                      </a:lnTo>
                      <a:lnTo>
                        <a:pt x="48" y="896"/>
                      </a:lnTo>
                      <a:lnTo>
                        <a:pt x="44" y="935"/>
                      </a:lnTo>
                      <a:lnTo>
                        <a:pt x="39" y="975"/>
                      </a:lnTo>
                      <a:lnTo>
                        <a:pt x="35" y="1015"/>
                      </a:lnTo>
                      <a:lnTo>
                        <a:pt x="30" y="1054"/>
                      </a:lnTo>
                      <a:lnTo>
                        <a:pt x="26" y="1094"/>
                      </a:lnTo>
                      <a:lnTo>
                        <a:pt x="22" y="1129"/>
                      </a:lnTo>
                      <a:lnTo>
                        <a:pt x="13" y="1169"/>
                      </a:lnTo>
                      <a:lnTo>
                        <a:pt x="8" y="1204"/>
                      </a:lnTo>
                      <a:lnTo>
                        <a:pt x="4" y="1244"/>
                      </a:lnTo>
                      <a:lnTo>
                        <a:pt x="0" y="1279"/>
                      </a:lnTo>
                      <a:lnTo>
                        <a:pt x="4" y="1284"/>
                      </a:lnTo>
                      <a:lnTo>
                        <a:pt x="8" y="1244"/>
                      </a:lnTo>
                      <a:lnTo>
                        <a:pt x="13" y="1209"/>
                      </a:lnTo>
                      <a:lnTo>
                        <a:pt x="22" y="1169"/>
                      </a:lnTo>
                      <a:lnTo>
                        <a:pt x="26" y="1134"/>
                      </a:lnTo>
                      <a:lnTo>
                        <a:pt x="30" y="1094"/>
                      </a:lnTo>
                      <a:lnTo>
                        <a:pt x="35" y="1054"/>
                      </a:lnTo>
                      <a:lnTo>
                        <a:pt x="39" y="1019"/>
                      </a:lnTo>
                      <a:lnTo>
                        <a:pt x="44" y="979"/>
                      </a:lnTo>
                      <a:lnTo>
                        <a:pt x="48" y="940"/>
                      </a:lnTo>
                      <a:lnTo>
                        <a:pt x="52" y="896"/>
                      </a:lnTo>
                      <a:lnTo>
                        <a:pt x="58" y="860"/>
                      </a:lnTo>
                      <a:lnTo>
                        <a:pt x="62" y="821"/>
                      </a:lnTo>
                      <a:lnTo>
                        <a:pt x="67" y="781"/>
                      </a:lnTo>
                      <a:lnTo>
                        <a:pt x="71" y="737"/>
                      </a:lnTo>
                      <a:lnTo>
                        <a:pt x="75" y="702"/>
                      </a:lnTo>
                      <a:lnTo>
                        <a:pt x="75" y="658"/>
                      </a:lnTo>
                      <a:lnTo>
                        <a:pt x="80" y="617"/>
                      </a:lnTo>
                      <a:lnTo>
                        <a:pt x="84" y="577"/>
                      </a:lnTo>
                      <a:lnTo>
                        <a:pt x="84" y="537"/>
                      </a:lnTo>
                      <a:lnTo>
                        <a:pt x="89" y="498"/>
                      </a:lnTo>
                      <a:lnTo>
                        <a:pt x="93" y="454"/>
                      </a:lnTo>
                      <a:lnTo>
                        <a:pt x="93" y="414"/>
                      </a:lnTo>
                      <a:lnTo>
                        <a:pt x="98" y="374"/>
                      </a:lnTo>
                      <a:lnTo>
                        <a:pt x="102" y="330"/>
                      </a:lnTo>
                      <a:lnTo>
                        <a:pt x="102" y="291"/>
                      </a:lnTo>
                      <a:lnTo>
                        <a:pt x="106" y="251"/>
                      </a:lnTo>
                      <a:lnTo>
                        <a:pt x="106" y="211"/>
                      </a:lnTo>
                      <a:lnTo>
                        <a:pt x="106" y="167"/>
                      </a:lnTo>
                      <a:lnTo>
                        <a:pt x="111" y="127"/>
                      </a:lnTo>
                      <a:lnTo>
                        <a:pt x="111" y="83"/>
                      </a:lnTo>
                      <a:lnTo>
                        <a:pt x="111" y="44"/>
                      </a:lnTo>
                      <a:lnTo>
                        <a:pt x="111" y="4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06" y="0"/>
                      </a:lnTo>
                      <a:lnTo>
                        <a:pt x="10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056360" y="510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" y="17"/>
                      </a:lnTo>
                      <a:lnTo>
                        <a:pt x="36" y="17"/>
                      </a:lnTo>
                      <a:lnTo>
                        <a:pt x="36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lnTo>
                        <a:pt x="53" y="53"/>
                      </a:lnTo>
                      <a:lnTo>
                        <a:pt x="53" y="53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53"/>
                      </a:lnTo>
                      <a:lnTo>
                        <a:pt x="72" y="53"/>
                      </a:lnTo>
                      <a:lnTo>
                        <a:pt x="72" y="36"/>
                      </a:lnTo>
                      <a:lnTo>
                        <a:pt x="53" y="36"/>
                      </a:lnTo>
                      <a:lnTo>
                        <a:pt x="53" y="17"/>
                      </a:lnTo>
                      <a:lnTo>
                        <a:pt x="36" y="17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24640" y="5065560"/>
                  <a:ext cx="525960" cy="27360"/>
                </a:xfrm>
                <a:custGeom>
                  <a:avLst/>
                  <a:gdLst/>
                  <a:ahLst/>
                  <a:rect l="0" t="0" r="r" b="b"/>
                  <a:pathLst>
                    <a:path w="1461" h="76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52" y="4"/>
                      </a:lnTo>
                      <a:lnTo>
                        <a:pt x="97" y="4"/>
                      </a:lnTo>
                      <a:lnTo>
                        <a:pt x="145" y="4"/>
                      </a:lnTo>
                      <a:lnTo>
                        <a:pt x="189" y="4"/>
                      </a:lnTo>
                      <a:lnTo>
                        <a:pt x="238" y="4"/>
                      </a:lnTo>
                      <a:lnTo>
                        <a:pt x="282" y="4"/>
                      </a:lnTo>
                      <a:lnTo>
                        <a:pt x="330" y="8"/>
                      </a:lnTo>
                      <a:lnTo>
                        <a:pt x="375" y="8"/>
                      </a:lnTo>
                      <a:lnTo>
                        <a:pt x="419" y="8"/>
                      </a:lnTo>
                      <a:lnTo>
                        <a:pt x="464" y="8"/>
                      </a:lnTo>
                      <a:lnTo>
                        <a:pt x="508" y="13"/>
                      </a:lnTo>
                      <a:lnTo>
                        <a:pt x="552" y="13"/>
                      </a:lnTo>
                      <a:lnTo>
                        <a:pt x="600" y="13"/>
                      </a:lnTo>
                      <a:lnTo>
                        <a:pt x="644" y="13"/>
                      </a:lnTo>
                      <a:lnTo>
                        <a:pt x="688" y="17"/>
                      </a:lnTo>
                      <a:lnTo>
                        <a:pt x="733" y="17"/>
                      </a:lnTo>
                      <a:lnTo>
                        <a:pt x="777" y="23"/>
                      </a:lnTo>
                      <a:lnTo>
                        <a:pt x="821" y="23"/>
                      </a:lnTo>
                      <a:lnTo>
                        <a:pt x="865" y="27"/>
                      </a:lnTo>
                      <a:lnTo>
                        <a:pt x="913" y="27"/>
                      </a:lnTo>
                      <a:lnTo>
                        <a:pt x="957" y="31"/>
                      </a:lnTo>
                      <a:lnTo>
                        <a:pt x="1002" y="36"/>
                      </a:lnTo>
                      <a:lnTo>
                        <a:pt x="1046" y="36"/>
                      </a:lnTo>
                      <a:lnTo>
                        <a:pt x="1090" y="40"/>
                      </a:lnTo>
                      <a:lnTo>
                        <a:pt x="1135" y="45"/>
                      </a:lnTo>
                      <a:lnTo>
                        <a:pt x="1179" y="49"/>
                      </a:lnTo>
                      <a:lnTo>
                        <a:pt x="1227" y="49"/>
                      </a:lnTo>
                      <a:lnTo>
                        <a:pt x="1276" y="59"/>
                      </a:lnTo>
                      <a:lnTo>
                        <a:pt x="1320" y="63"/>
                      </a:lnTo>
                      <a:lnTo>
                        <a:pt x="1364" y="68"/>
                      </a:lnTo>
                      <a:lnTo>
                        <a:pt x="1413" y="72"/>
                      </a:lnTo>
                      <a:lnTo>
                        <a:pt x="1457" y="76"/>
                      </a:lnTo>
                      <a:lnTo>
                        <a:pt x="1461" y="72"/>
                      </a:lnTo>
                      <a:lnTo>
                        <a:pt x="1413" y="68"/>
                      </a:lnTo>
                      <a:lnTo>
                        <a:pt x="1369" y="63"/>
                      </a:lnTo>
                      <a:lnTo>
                        <a:pt x="1320" y="59"/>
                      </a:lnTo>
                      <a:lnTo>
                        <a:pt x="1276" y="49"/>
                      </a:lnTo>
                      <a:lnTo>
                        <a:pt x="1227" y="49"/>
                      </a:lnTo>
                      <a:lnTo>
                        <a:pt x="1183" y="45"/>
                      </a:lnTo>
                      <a:lnTo>
                        <a:pt x="1135" y="40"/>
                      </a:lnTo>
                      <a:lnTo>
                        <a:pt x="1090" y="36"/>
                      </a:lnTo>
                      <a:lnTo>
                        <a:pt x="1046" y="31"/>
                      </a:lnTo>
                      <a:lnTo>
                        <a:pt x="1002" y="27"/>
                      </a:lnTo>
                      <a:lnTo>
                        <a:pt x="957" y="27"/>
                      </a:lnTo>
                      <a:lnTo>
                        <a:pt x="913" y="23"/>
                      </a:lnTo>
                      <a:lnTo>
                        <a:pt x="869" y="23"/>
                      </a:lnTo>
                      <a:lnTo>
                        <a:pt x="821" y="17"/>
                      </a:lnTo>
                      <a:lnTo>
                        <a:pt x="777" y="13"/>
                      </a:lnTo>
                      <a:lnTo>
                        <a:pt x="733" y="13"/>
                      </a:lnTo>
                      <a:lnTo>
                        <a:pt x="688" y="13"/>
                      </a:lnTo>
                      <a:lnTo>
                        <a:pt x="644" y="8"/>
                      </a:lnTo>
                      <a:lnTo>
                        <a:pt x="600" y="8"/>
                      </a:lnTo>
                      <a:lnTo>
                        <a:pt x="552" y="8"/>
                      </a:lnTo>
                      <a:lnTo>
                        <a:pt x="508" y="4"/>
                      </a:lnTo>
                      <a:lnTo>
                        <a:pt x="464" y="4"/>
                      </a:lnTo>
                      <a:lnTo>
                        <a:pt x="419" y="4"/>
                      </a:lnTo>
                      <a:lnTo>
                        <a:pt x="375" y="0"/>
                      </a:lnTo>
                      <a:lnTo>
                        <a:pt x="330" y="0"/>
                      </a:lnTo>
                      <a:lnTo>
                        <a:pt x="282" y="0"/>
                      </a:lnTo>
                      <a:lnTo>
                        <a:pt x="238" y="0"/>
                      </a:lnTo>
                      <a:lnTo>
                        <a:pt x="189" y="0"/>
                      </a:lnTo>
                      <a:lnTo>
                        <a:pt x="145" y="0"/>
                      </a:lnTo>
                      <a:lnTo>
                        <a:pt x="97" y="0"/>
                      </a:lnTo>
                      <a:lnTo>
                        <a:pt x="5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491160" y="506556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8" y="58"/>
                      </a:lnTo>
                      <a:lnTo>
                        <a:pt x="8" y="43"/>
                      </a:lnTo>
                      <a:lnTo>
                        <a:pt x="13" y="43"/>
                      </a:lnTo>
                      <a:lnTo>
                        <a:pt x="13" y="29"/>
                      </a:lnTo>
                      <a:lnTo>
                        <a:pt x="13" y="29"/>
                      </a:lnTo>
                      <a:lnTo>
                        <a:pt x="17" y="29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40" y="14"/>
                      </a:lnTo>
                      <a:lnTo>
                        <a:pt x="45" y="14"/>
                      </a:lnTo>
                      <a:lnTo>
                        <a:pt x="49" y="14"/>
                      </a:lnTo>
                      <a:lnTo>
                        <a:pt x="59" y="14"/>
                      </a:lnTo>
                      <a:lnTo>
                        <a:pt x="68" y="14"/>
                      </a:lnTo>
                      <a:lnTo>
                        <a:pt x="76" y="14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9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3" y="14"/>
                      </a:lnTo>
                      <a:lnTo>
                        <a:pt x="13" y="29"/>
                      </a:lnTo>
                      <a:lnTo>
                        <a:pt x="8" y="29"/>
                      </a:lnTo>
                      <a:lnTo>
                        <a:pt x="8" y="43"/>
                      </a:lnTo>
                      <a:lnTo>
                        <a:pt x="4" y="43"/>
                      </a:lnTo>
                      <a:lnTo>
                        <a:pt x="0" y="58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461280" y="5083200"/>
                  <a:ext cx="25920" cy="233640"/>
                </a:xfrm>
                <a:custGeom>
                  <a:avLst/>
                  <a:gdLst/>
                  <a:ahLst/>
                  <a:rect l="0" t="0" r="r" b="b"/>
                  <a:pathLst>
                    <a:path w="72" h="649">
                      <a:moveTo>
                        <a:pt x="4" y="644"/>
                      </a:moveTo>
                      <a:lnTo>
                        <a:pt x="4" y="644"/>
                      </a:lnTo>
                      <a:lnTo>
                        <a:pt x="4" y="627"/>
                      </a:lnTo>
                      <a:lnTo>
                        <a:pt x="9" y="605"/>
                      </a:lnTo>
                      <a:lnTo>
                        <a:pt x="9" y="583"/>
                      </a:lnTo>
                      <a:lnTo>
                        <a:pt x="9" y="565"/>
                      </a:lnTo>
                      <a:lnTo>
                        <a:pt x="9" y="547"/>
                      </a:lnTo>
                      <a:lnTo>
                        <a:pt x="9" y="525"/>
                      </a:lnTo>
                      <a:lnTo>
                        <a:pt x="14" y="503"/>
                      </a:lnTo>
                      <a:lnTo>
                        <a:pt x="14" y="486"/>
                      </a:lnTo>
                      <a:lnTo>
                        <a:pt x="19" y="464"/>
                      </a:lnTo>
                      <a:lnTo>
                        <a:pt x="19" y="446"/>
                      </a:lnTo>
                      <a:lnTo>
                        <a:pt x="19" y="424"/>
                      </a:lnTo>
                      <a:lnTo>
                        <a:pt x="19" y="406"/>
                      </a:lnTo>
                      <a:lnTo>
                        <a:pt x="24" y="384"/>
                      </a:lnTo>
                      <a:lnTo>
                        <a:pt x="24" y="362"/>
                      </a:lnTo>
                      <a:lnTo>
                        <a:pt x="29" y="344"/>
                      </a:lnTo>
                      <a:lnTo>
                        <a:pt x="29" y="321"/>
                      </a:lnTo>
                      <a:lnTo>
                        <a:pt x="29" y="304"/>
                      </a:lnTo>
                      <a:lnTo>
                        <a:pt x="33" y="286"/>
                      </a:lnTo>
                      <a:lnTo>
                        <a:pt x="33" y="264"/>
                      </a:lnTo>
                      <a:lnTo>
                        <a:pt x="38" y="242"/>
                      </a:lnTo>
                      <a:lnTo>
                        <a:pt x="43" y="220"/>
                      </a:lnTo>
                      <a:lnTo>
                        <a:pt x="43" y="202"/>
                      </a:lnTo>
                      <a:lnTo>
                        <a:pt x="43" y="180"/>
                      </a:lnTo>
                      <a:lnTo>
                        <a:pt x="48" y="163"/>
                      </a:lnTo>
                      <a:lnTo>
                        <a:pt x="52" y="145"/>
                      </a:lnTo>
                      <a:lnTo>
                        <a:pt x="52" y="123"/>
                      </a:lnTo>
                      <a:lnTo>
                        <a:pt x="58" y="101"/>
                      </a:lnTo>
                      <a:lnTo>
                        <a:pt x="58" y="79"/>
                      </a:lnTo>
                      <a:lnTo>
                        <a:pt x="63" y="61"/>
                      </a:lnTo>
                      <a:lnTo>
                        <a:pt x="67" y="39"/>
                      </a:lnTo>
                      <a:lnTo>
                        <a:pt x="67" y="22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2"/>
                      </a:lnTo>
                      <a:lnTo>
                        <a:pt x="63" y="39"/>
                      </a:lnTo>
                      <a:lnTo>
                        <a:pt x="58" y="61"/>
                      </a:lnTo>
                      <a:lnTo>
                        <a:pt x="52" y="79"/>
                      </a:lnTo>
                      <a:lnTo>
                        <a:pt x="52" y="101"/>
                      </a:lnTo>
                      <a:lnTo>
                        <a:pt x="48" y="123"/>
                      </a:lnTo>
                      <a:lnTo>
                        <a:pt x="43" y="141"/>
                      </a:lnTo>
                      <a:lnTo>
                        <a:pt x="43" y="163"/>
                      </a:lnTo>
                      <a:lnTo>
                        <a:pt x="43" y="180"/>
                      </a:lnTo>
                      <a:lnTo>
                        <a:pt x="38" y="202"/>
                      </a:lnTo>
                      <a:lnTo>
                        <a:pt x="33" y="220"/>
                      </a:lnTo>
                      <a:lnTo>
                        <a:pt x="33" y="242"/>
                      </a:lnTo>
                      <a:lnTo>
                        <a:pt x="29" y="264"/>
                      </a:lnTo>
                      <a:lnTo>
                        <a:pt x="29" y="282"/>
                      </a:lnTo>
                      <a:lnTo>
                        <a:pt x="29" y="304"/>
                      </a:lnTo>
                      <a:lnTo>
                        <a:pt x="24" y="321"/>
                      </a:lnTo>
                      <a:lnTo>
                        <a:pt x="24" y="344"/>
                      </a:lnTo>
                      <a:lnTo>
                        <a:pt x="19" y="362"/>
                      </a:lnTo>
                      <a:lnTo>
                        <a:pt x="19" y="384"/>
                      </a:lnTo>
                      <a:lnTo>
                        <a:pt x="19" y="406"/>
                      </a:lnTo>
                      <a:lnTo>
                        <a:pt x="14" y="424"/>
                      </a:lnTo>
                      <a:lnTo>
                        <a:pt x="14" y="446"/>
                      </a:lnTo>
                      <a:lnTo>
                        <a:pt x="9" y="464"/>
                      </a:lnTo>
                      <a:lnTo>
                        <a:pt x="9" y="486"/>
                      </a:lnTo>
                      <a:lnTo>
                        <a:pt x="9" y="503"/>
                      </a:lnTo>
                      <a:lnTo>
                        <a:pt x="9" y="525"/>
                      </a:lnTo>
                      <a:lnTo>
                        <a:pt x="4" y="547"/>
                      </a:lnTo>
                      <a:lnTo>
                        <a:pt x="4" y="565"/>
                      </a:lnTo>
                      <a:lnTo>
                        <a:pt x="4" y="583"/>
                      </a:lnTo>
                      <a:lnTo>
                        <a:pt x="0" y="605"/>
                      </a:lnTo>
                      <a:lnTo>
                        <a:pt x="0" y="627"/>
                      </a:lnTo>
                      <a:lnTo>
                        <a:pt x="0" y="644"/>
                      </a:lnTo>
                      <a:lnTo>
                        <a:pt x="0" y="644"/>
                      </a:lnTo>
                      <a:lnTo>
                        <a:pt x="0" y="649"/>
                      </a:lnTo>
                      <a:lnTo>
                        <a:pt x="4" y="649"/>
                      </a:lnTo>
                      <a:lnTo>
                        <a:pt x="4" y="6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454800" y="5324400"/>
                  <a:ext cx="0" cy="182520"/>
                </a:xfrm>
                <a:custGeom>
                  <a:avLst/>
                  <a:gdLst/>
                  <a:ahLst/>
                  <a:rect l="0" t="0" r="r" b="b"/>
                  <a:pathLst>
                    <a:path w="0" h="507">
                      <a:moveTo>
                        <a:pt x="0" y="502"/>
                      </a:moveTo>
                      <a:lnTo>
                        <a:pt x="0" y="502"/>
                      </a:lnTo>
                      <a:lnTo>
                        <a:pt x="0" y="489"/>
                      </a:lnTo>
                      <a:lnTo>
                        <a:pt x="0" y="476"/>
                      </a:lnTo>
                      <a:lnTo>
                        <a:pt x="0" y="458"/>
                      </a:lnTo>
                      <a:lnTo>
                        <a:pt x="0" y="440"/>
                      </a:lnTo>
                      <a:lnTo>
                        <a:pt x="0" y="423"/>
                      </a:lnTo>
                      <a:lnTo>
                        <a:pt x="0" y="410"/>
                      </a:lnTo>
                      <a:lnTo>
                        <a:pt x="0" y="396"/>
                      </a:lnTo>
                      <a:lnTo>
                        <a:pt x="0" y="379"/>
                      </a:lnTo>
                      <a:lnTo>
                        <a:pt x="0" y="361"/>
                      </a:lnTo>
                      <a:lnTo>
                        <a:pt x="0" y="348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0" y="299"/>
                      </a:lnTo>
                      <a:lnTo>
                        <a:pt x="0" y="286"/>
                      </a:lnTo>
                      <a:lnTo>
                        <a:pt x="0" y="268"/>
                      </a:lnTo>
                      <a:lnTo>
                        <a:pt x="0" y="251"/>
                      </a:lnTo>
                      <a:lnTo>
                        <a:pt x="0" y="238"/>
                      </a:lnTo>
                      <a:lnTo>
                        <a:pt x="0" y="220"/>
                      </a:lnTo>
                      <a:lnTo>
                        <a:pt x="0" y="207"/>
                      </a:lnTo>
                      <a:lnTo>
                        <a:pt x="0" y="189"/>
                      </a:lnTo>
                      <a:lnTo>
                        <a:pt x="0" y="176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127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79"/>
                      </a:lnTo>
                      <a:lnTo>
                        <a:pt x="0" y="66"/>
                      </a:lnTo>
                      <a:lnTo>
                        <a:pt x="0" y="48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0" y="66"/>
                      </a:lnTo>
                      <a:lnTo>
                        <a:pt x="0" y="79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7"/>
                      </a:lnTo>
                      <a:lnTo>
                        <a:pt x="0" y="141"/>
                      </a:lnTo>
                      <a:lnTo>
                        <a:pt x="0" y="158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7"/>
                      </a:lnTo>
                      <a:lnTo>
                        <a:pt x="0" y="220"/>
                      </a:lnTo>
                      <a:lnTo>
                        <a:pt x="0" y="238"/>
                      </a:lnTo>
                      <a:lnTo>
                        <a:pt x="0" y="251"/>
                      </a:lnTo>
                      <a:lnTo>
                        <a:pt x="0" y="268"/>
                      </a:lnTo>
                      <a:lnTo>
                        <a:pt x="0" y="286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0" y="330"/>
                      </a:lnTo>
                      <a:lnTo>
                        <a:pt x="0" y="348"/>
                      </a:lnTo>
                      <a:lnTo>
                        <a:pt x="0" y="361"/>
                      </a:lnTo>
                      <a:lnTo>
                        <a:pt x="0" y="379"/>
                      </a:lnTo>
                      <a:lnTo>
                        <a:pt x="0" y="396"/>
                      </a:lnTo>
                      <a:lnTo>
                        <a:pt x="0" y="410"/>
                      </a:lnTo>
                      <a:lnTo>
                        <a:pt x="0" y="423"/>
                      </a:lnTo>
                      <a:lnTo>
                        <a:pt x="0" y="440"/>
                      </a:lnTo>
                      <a:lnTo>
                        <a:pt x="0" y="458"/>
                      </a:lnTo>
                      <a:lnTo>
                        <a:pt x="0" y="476"/>
                      </a:lnTo>
                      <a:lnTo>
                        <a:pt x="0" y="489"/>
                      </a:lnTo>
                      <a:lnTo>
                        <a:pt x="0" y="502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7"/>
                      </a:lnTo>
                      <a:lnTo>
                        <a:pt x="0" y="5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454800" y="5514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0"/>
                      </a:move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36"/>
                      </a:lnTo>
                      <a:lnTo>
                        <a:pt x="0" y="2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24"/>
                      </a:lnTo>
                      <a:lnTo>
                        <a:pt x="0" y="36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502320" y="5126040"/>
                  <a:ext cx="498960" cy="394200"/>
                </a:xfrm>
                <a:custGeom>
                  <a:avLst/>
                  <a:gdLst/>
                  <a:ahLst/>
                  <a:rect l="0" t="0" r="r" b="b"/>
                  <a:pathLst>
                    <a:path w="1386" h="1095">
                      <a:moveTo>
                        <a:pt x="83" y="35"/>
                      </a:moveTo>
                      <a:lnTo>
                        <a:pt x="79" y="61"/>
                      </a:lnTo>
                      <a:lnTo>
                        <a:pt x="79" y="88"/>
                      </a:lnTo>
                      <a:lnTo>
                        <a:pt x="74" y="114"/>
                      </a:lnTo>
                      <a:lnTo>
                        <a:pt x="70" y="141"/>
                      </a:lnTo>
                      <a:lnTo>
                        <a:pt x="70" y="167"/>
                      </a:lnTo>
                      <a:lnTo>
                        <a:pt x="66" y="198"/>
                      </a:lnTo>
                      <a:lnTo>
                        <a:pt x="61" y="224"/>
                      </a:lnTo>
                      <a:lnTo>
                        <a:pt x="57" y="251"/>
                      </a:lnTo>
                      <a:lnTo>
                        <a:pt x="57" y="283"/>
                      </a:lnTo>
                      <a:lnTo>
                        <a:pt x="52" y="309"/>
                      </a:lnTo>
                      <a:lnTo>
                        <a:pt x="48" y="336"/>
                      </a:lnTo>
                      <a:lnTo>
                        <a:pt x="44" y="362"/>
                      </a:lnTo>
                      <a:lnTo>
                        <a:pt x="39" y="393"/>
                      </a:lnTo>
                      <a:lnTo>
                        <a:pt x="39" y="419"/>
                      </a:lnTo>
                      <a:lnTo>
                        <a:pt x="35" y="446"/>
                      </a:lnTo>
                      <a:lnTo>
                        <a:pt x="30" y="477"/>
                      </a:lnTo>
                      <a:lnTo>
                        <a:pt x="30" y="503"/>
                      </a:lnTo>
                      <a:lnTo>
                        <a:pt x="26" y="530"/>
                      </a:lnTo>
                      <a:lnTo>
                        <a:pt x="26" y="561"/>
                      </a:lnTo>
                      <a:lnTo>
                        <a:pt x="22" y="591"/>
                      </a:lnTo>
                      <a:lnTo>
                        <a:pt x="17" y="618"/>
                      </a:lnTo>
                      <a:lnTo>
                        <a:pt x="17" y="644"/>
                      </a:lnTo>
                      <a:lnTo>
                        <a:pt x="13" y="675"/>
                      </a:lnTo>
                      <a:lnTo>
                        <a:pt x="13" y="702"/>
                      </a:lnTo>
                      <a:lnTo>
                        <a:pt x="8" y="733"/>
                      </a:lnTo>
                      <a:lnTo>
                        <a:pt x="8" y="763"/>
                      </a:lnTo>
                      <a:lnTo>
                        <a:pt x="8" y="790"/>
                      </a:lnTo>
                      <a:lnTo>
                        <a:pt x="4" y="816"/>
                      </a:lnTo>
                      <a:lnTo>
                        <a:pt x="4" y="848"/>
                      </a:lnTo>
                      <a:lnTo>
                        <a:pt x="4" y="879"/>
                      </a:lnTo>
                      <a:lnTo>
                        <a:pt x="0" y="905"/>
                      </a:lnTo>
                      <a:lnTo>
                        <a:pt x="0" y="936"/>
                      </a:lnTo>
                      <a:lnTo>
                        <a:pt x="0" y="941"/>
                      </a:lnTo>
                      <a:lnTo>
                        <a:pt x="0" y="950"/>
                      </a:lnTo>
                      <a:lnTo>
                        <a:pt x="4" y="958"/>
                      </a:lnTo>
                      <a:lnTo>
                        <a:pt x="4" y="963"/>
                      </a:lnTo>
                      <a:lnTo>
                        <a:pt x="4" y="967"/>
                      </a:lnTo>
                      <a:lnTo>
                        <a:pt x="4" y="976"/>
                      </a:lnTo>
                      <a:lnTo>
                        <a:pt x="8" y="980"/>
                      </a:lnTo>
                      <a:lnTo>
                        <a:pt x="8" y="985"/>
                      </a:lnTo>
                      <a:lnTo>
                        <a:pt x="13" y="985"/>
                      </a:lnTo>
                      <a:lnTo>
                        <a:pt x="13" y="989"/>
                      </a:lnTo>
                      <a:lnTo>
                        <a:pt x="17" y="994"/>
                      </a:lnTo>
                      <a:lnTo>
                        <a:pt x="22" y="994"/>
                      </a:lnTo>
                      <a:lnTo>
                        <a:pt x="26" y="998"/>
                      </a:lnTo>
                      <a:lnTo>
                        <a:pt x="30" y="1003"/>
                      </a:lnTo>
                      <a:lnTo>
                        <a:pt x="35" y="1003"/>
                      </a:lnTo>
                      <a:lnTo>
                        <a:pt x="39" y="1003"/>
                      </a:lnTo>
                      <a:lnTo>
                        <a:pt x="1232" y="1095"/>
                      </a:lnTo>
                      <a:lnTo>
                        <a:pt x="1241" y="1095"/>
                      </a:lnTo>
                      <a:lnTo>
                        <a:pt x="1249" y="1095"/>
                      </a:lnTo>
                      <a:lnTo>
                        <a:pt x="1258" y="1091"/>
                      </a:lnTo>
                      <a:lnTo>
                        <a:pt x="1263" y="1091"/>
                      </a:lnTo>
                      <a:lnTo>
                        <a:pt x="1272" y="1086"/>
                      </a:lnTo>
                      <a:lnTo>
                        <a:pt x="1276" y="1082"/>
                      </a:lnTo>
                      <a:lnTo>
                        <a:pt x="1280" y="1077"/>
                      </a:lnTo>
                      <a:lnTo>
                        <a:pt x="1285" y="1073"/>
                      </a:lnTo>
                      <a:lnTo>
                        <a:pt x="1289" y="1069"/>
                      </a:lnTo>
                      <a:lnTo>
                        <a:pt x="1294" y="1060"/>
                      </a:lnTo>
                      <a:lnTo>
                        <a:pt x="1298" y="1055"/>
                      </a:lnTo>
                      <a:lnTo>
                        <a:pt x="1302" y="1051"/>
                      </a:lnTo>
                      <a:lnTo>
                        <a:pt x="1302" y="1042"/>
                      </a:lnTo>
                      <a:lnTo>
                        <a:pt x="1307" y="1033"/>
                      </a:lnTo>
                      <a:lnTo>
                        <a:pt x="1307" y="1029"/>
                      </a:lnTo>
                      <a:lnTo>
                        <a:pt x="1311" y="1020"/>
                      </a:lnTo>
                      <a:lnTo>
                        <a:pt x="1386" y="154"/>
                      </a:lnTo>
                      <a:lnTo>
                        <a:pt x="1386" y="145"/>
                      </a:lnTo>
                      <a:lnTo>
                        <a:pt x="1386" y="136"/>
                      </a:lnTo>
                      <a:lnTo>
                        <a:pt x="1386" y="127"/>
                      </a:lnTo>
                      <a:lnTo>
                        <a:pt x="1386" y="119"/>
                      </a:lnTo>
                      <a:lnTo>
                        <a:pt x="1386" y="114"/>
                      </a:lnTo>
                      <a:lnTo>
                        <a:pt x="1386" y="110"/>
                      </a:lnTo>
                      <a:lnTo>
                        <a:pt x="1382" y="101"/>
                      </a:lnTo>
                      <a:lnTo>
                        <a:pt x="1382" y="97"/>
                      </a:lnTo>
                      <a:lnTo>
                        <a:pt x="1382" y="92"/>
                      </a:lnTo>
                      <a:lnTo>
                        <a:pt x="1377" y="88"/>
                      </a:lnTo>
                      <a:lnTo>
                        <a:pt x="1377" y="83"/>
                      </a:lnTo>
                      <a:lnTo>
                        <a:pt x="1373" y="79"/>
                      </a:lnTo>
                      <a:lnTo>
                        <a:pt x="1369" y="74"/>
                      </a:lnTo>
                      <a:lnTo>
                        <a:pt x="1364" y="70"/>
                      </a:lnTo>
                      <a:lnTo>
                        <a:pt x="1355" y="70"/>
                      </a:lnTo>
                      <a:lnTo>
                        <a:pt x="1351" y="66"/>
                      </a:lnTo>
                      <a:lnTo>
                        <a:pt x="1316" y="61"/>
                      </a:lnTo>
                      <a:lnTo>
                        <a:pt x="1280" y="57"/>
                      </a:lnTo>
                      <a:lnTo>
                        <a:pt x="1245" y="52"/>
                      </a:lnTo>
                      <a:lnTo>
                        <a:pt x="1210" y="48"/>
                      </a:lnTo>
                      <a:lnTo>
                        <a:pt x="1174" y="44"/>
                      </a:lnTo>
                      <a:lnTo>
                        <a:pt x="1135" y="39"/>
                      </a:lnTo>
                      <a:lnTo>
                        <a:pt x="1104" y="35"/>
                      </a:lnTo>
                      <a:lnTo>
                        <a:pt x="1064" y="30"/>
                      </a:lnTo>
                      <a:lnTo>
                        <a:pt x="1028" y="30"/>
                      </a:lnTo>
                      <a:lnTo>
                        <a:pt x="993" y="26"/>
                      </a:lnTo>
                      <a:lnTo>
                        <a:pt x="953" y="22"/>
                      </a:lnTo>
                      <a:lnTo>
                        <a:pt x="913" y="17"/>
                      </a:lnTo>
                      <a:lnTo>
                        <a:pt x="878" y="17"/>
                      </a:lnTo>
                      <a:lnTo>
                        <a:pt x="843" y="13"/>
                      </a:lnTo>
                      <a:lnTo>
                        <a:pt x="803" y="13"/>
                      </a:lnTo>
                      <a:lnTo>
                        <a:pt x="763" y="8"/>
                      </a:lnTo>
                      <a:lnTo>
                        <a:pt x="728" y="8"/>
                      </a:lnTo>
                      <a:lnTo>
                        <a:pt x="693" y="8"/>
                      </a:lnTo>
                      <a:lnTo>
                        <a:pt x="653" y="4"/>
                      </a:lnTo>
                      <a:lnTo>
                        <a:pt x="613" y="4"/>
                      </a:lnTo>
                      <a:lnTo>
                        <a:pt x="578" y="4"/>
                      </a:lnTo>
                      <a:lnTo>
                        <a:pt x="538" y="4"/>
                      </a:lnTo>
                      <a:lnTo>
                        <a:pt x="499" y="4"/>
                      </a:lnTo>
                      <a:lnTo>
                        <a:pt x="464" y="0"/>
                      </a:lnTo>
                      <a:lnTo>
                        <a:pt x="424" y="0"/>
                      </a:lnTo>
                      <a:lnTo>
                        <a:pt x="389" y="0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73" y="0"/>
                      </a:lnTo>
                      <a:lnTo>
                        <a:pt x="233" y="0"/>
                      </a:lnTo>
                      <a:lnTo>
                        <a:pt x="198" y="4"/>
                      </a:lnTo>
                      <a:lnTo>
                        <a:pt x="163" y="4"/>
                      </a:lnTo>
                      <a:lnTo>
                        <a:pt x="154" y="4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8"/>
                      </a:lnTo>
                      <a:lnTo>
                        <a:pt x="105" y="8"/>
                      </a:lnTo>
                      <a:lnTo>
                        <a:pt x="105" y="8"/>
                      </a:lnTo>
                      <a:lnTo>
                        <a:pt x="101" y="13"/>
                      </a:lnTo>
                      <a:lnTo>
                        <a:pt x="97" y="17"/>
                      </a:lnTo>
                      <a:lnTo>
                        <a:pt x="92" y="17"/>
                      </a:lnTo>
                      <a:lnTo>
                        <a:pt x="92" y="22"/>
                      </a:lnTo>
                      <a:lnTo>
                        <a:pt x="88" y="26"/>
                      </a:lnTo>
                      <a:lnTo>
                        <a:pt x="83" y="30"/>
                      </a:lnTo>
                      <a:lnTo>
                        <a:pt x="83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500880" y="5137200"/>
                  <a:ext cx="25920" cy="325800"/>
                </a:xfrm>
                <a:custGeom>
                  <a:avLst/>
                  <a:gdLst/>
                  <a:ahLst/>
                  <a:rect l="0" t="0" r="r" b="b"/>
                  <a:pathLst>
                    <a:path w="72" h="905">
                      <a:moveTo>
                        <a:pt x="4" y="901"/>
                      </a:moveTo>
                      <a:lnTo>
                        <a:pt x="4" y="901"/>
                      </a:lnTo>
                      <a:lnTo>
                        <a:pt x="4" y="870"/>
                      </a:lnTo>
                      <a:lnTo>
                        <a:pt x="4" y="844"/>
                      </a:lnTo>
                      <a:lnTo>
                        <a:pt x="9" y="813"/>
                      </a:lnTo>
                      <a:lnTo>
                        <a:pt x="9" y="786"/>
                      </a:lnTo>
                      <a:lnTo>
                        <a:pt x="9" y="756"/>
                      </a:lnTo>
                      <a:lnTo>
                        <a:pt x="9" y="729"/>
                      </a:lnTo>
                      <a:lnTo>
                        <a:pt x="9" y="698"/>
                      </a:lnTo>
                      <a:lnTo>
                        <a:pt x="14" y="671"/>
                      </a:lnTo>
                      <a:lnTo>
                        <a:pt x="14" y="640"/>
                      </a:lnTo>
                      <a:lnTo>
                        <a:pt x="19" y="609"/>
                      </a:lnTo>
                      <a:lnTo>
                        <a:pt x="19" y="583"/>
                      </a:lnTo>
                      <a:lnTo>
                        <a:pt x="19" y="556"/>
                      </a:lnTo>
                      <a:lnTo>
                        <a:pt x="24" y="525"/>
                      </a:lnTo>
                      <a:lnTo>
                        <a:pt x="24" y="499"/>
                      </a:lnTo>
                      <a:lnTo>
                        <a:pt x="29" y="472"/>
                      </a:lnTo>
                      <a:lnTo>
                        <a:pt x="29" y="441"/>
                      </a:lnTo>
                      <a:lnTo>
                        <a:pt x="33" y="415"/>
                      </a:lnTo>
                      <a:lnTo>
                        <a:pt x="33" y="384"/>
                      </a:lnTo>
                      <a:lnTo>
                        <a:pt x="38" y="358"/>
                      </a:lnTo>
                      <a:lnTo>
                        <a:pt x="43" y="331"/>
                      </a:lnTo>
                      <a:lnTo>
                        <a:pt x="43" y="300"/>
                      </a:lnTo>
                      <a:lnTo>
                        <a:pt x="43" y="274"/>
                      </a:lnTo>
                      <a:lnTo>
                        <a:pt x="48" y="247"/>
                      </a:lnTo>
                      <a:lnTo>
                        <a:pt x="52" y="216"/>
                      </a:lnTo>
                      <a:lnTo>
                        <a:pt x="52" y="189"/>
                      </a:lnTo>
                      <a:lnTo>
                        <a:pt x="58" y="163"/>
                      </a:lnTo>
                      <a:lnTo>
                        <a:pt x="58" y="136"/>
                      </a:lnTo>
                      <a:lnTo>
                        <a:pt x="63" y="110"/>
                      </a:lnTo>
                      <a:lnTo>
                        <a:pt x="63" y="83"/>
                      </a:lnTo>
                      <a:lnTo>
                        <a:pt x="67" y="57"/>
                      </a:lnTo>
                      <a:lnTo>
                        <a:pt x="72" y="30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3" y="26"/>
                      </a:lnTo>
                      <a:lnTo>
                        <a:pt x="63" y="57"/>
                      </a:lnTo>
                      <a:lnTo>
                        <a:pt x="58" y="83"/>
                      </a:lnTo>
                      <a:lnTo>
                        <a:pt x="58" y="110"/>
                      </a:lnTo>
                      <a:lnTo>
                        <a:pt x="52" y="136"/>
                      </a:lnTo>
                      <a:lnTo>
                        <a:pt x="52" y="163"/>
                      </a:lnTo>
                      <a:lnTo>
                        <a:pt x="48" y="189"/>
                      </a:lnTo>
                      <a:lnTo>
                        <a:pt x="48" y="216"/>
                      </a:lnTo>
                      <a:lnTo>
                        <a:pt x="43" y="247"/>
                      </a:lnTo>
                      <a:lnTo>
                        <a:pt x="43" y="274"/>
                      </a:lnTo>
                      <a:lnTo>
                        <a:pt x="38" y="300"/>
                      </a:lnTo>
                      <a:lnTo>
                        <a:pt x="33" y="331"/>
                      </a:lnTo>
                      <a:lnTo>
                        <a:pt x="33" y="358"/>
                      </a:lnTo>
                      <a:lnTo>
                        <a:pt x="29" y="384"/>
                      </a:lnTo>
                      <a:lnTo>
                        <a:pt x="29" y="411"/>
                      </a:lnTo>
                      <a:lnTo>
                        <a:pt x="24" y="441"/>
                      </a:lnTo>
                      <a:lnTo>
                        <a:pt x="24" y="472"/>
                      </a:lnTo>
                      <a:lnTo>
                        <a:pt x="19" y="499"/>
                      </a:lnTo>
                      <a:lnTo>
                        <a:pt x="19" y="525"/>
                      </a:lnTo>
                      <a:lnTo>
                        <a:pt x="19" y="556"/>
                      </a:lnTo>
                      <a:lnTo>
                        <a:pt x="14" y="583"/>
                      </a:lnTo>
                      <a:lnTo>
                        <a:pt x="9" y="609"/>
                      </a:lnTo>
                      <a:lnTo>
                        <a:pt x="9" y="640"/>
                      </a:lnTo>
                      <a:lnTo>
                        <a:pt x="9" y="671"/>
                      </a:lnTo>
                      <a:lnTo>
                        <a:pt x="9" y="698"/>
                      </a:lnTo>
                      <a:lnTo>
                        <a:pt x="4" y="725"/>
                      </a:lnTo>
                      <a:lnTo>
                        <a:pt x="4" y="756"/>
                      </a:lnTo>
                      <a:lnTo>
                        <a:pt x="4" y="786"/>
                      </a:lnTo>
                      <a:lnTo>
                        <a:pt x="0" y="813"/>
                      </a:lnTo>
                      <a:lnTo>
                        <a:pt x="0" y="844"/>
                      </a:lnTo>
                      <a:lnTo>
                        <a:pt x="0" y="870"/>
                      </a:lnTo>
                      <a:lnTo>
                        <a:pt x="0" y="901"/>
                      </a:lnTo>
                      <a:lnTo>
                        <a:pt x="0" y="901"/>
                      </a:lnTo>
                      <a:lnTo>
                        <a:pt x="0" y="905"/>
                      </a:lnTo>
                      <a:lnTo>
                        <a:pt x="4" y="9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500880" y="54705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6"/>
                      </a:moveTo>
                      <a:lnTo>
                        <a:pt x="72" y="66"/>
                      </a:lnTo>
                      <a:lnTo>
                        <a:pt x="60" y="66"/>
                      </a:lnTo>
                      <a:lnTo>
                        <a:pt x="48" y="59"/>
                      </a:lnTo>
                      <a:lnTo>
                        <a:pt x="48" y="59"/>
                      </a:lnTo>
                      <a:lnTo>
                        <a:pt x="36" y="59"/>
                      </a:lnTo>
                      <a:lnTo>
                        <a:pt x="36" y="59"/>
                      </a:lnTo>
                      <a:lnTo>
                        <a:pt x="24" y="52"/>
                      </a:lnTo>
                      <a:lnTo>
                        <a:pt x="24" y="52"/>
                      </a:lnTo>
                      <a:lnTo>
                        <a:pt x="24" y="45"/>
                      </a:lnTo>
                      <a:lnTo>
                        <a:pt x="24" y="39"/>
                      </a:lnTo>
                      <a:lnTo>
                        <a:pt x="11" y="39"/>
                      </a:lnTo>
                      <a:lnTo>
                        <a:pt x="11" y="33"/>
                      </a:lnTo>
                      <a:lnTo>
                        <a:pt x="11" y="26"/>
                      </a:lnTo>
                      <a:lnTo>
                        <a:pt x="11" y="20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1" y="39"/>
                      </a:lnTo>
                      <a:lnTo>
                        <a:pt x="11" y="45"/>
                      </a:lnTo>
                      <a:lnTo>
                        <a:pt x="11" y="52"/>
                      </a:lnTo>
                      <a:lnTo>
                        <a:pt x="24" y="52"/>
                      </a:lnTo>
                      <a:lnTo>
                        <a:pt x="24" y="59"/>
                      </a:lnTo>
                      <a:lnTo>
                        <a:pt x="24" y="59"/>
                      </a:lnTo>
                      <a:lnTo>
                        <a:pt x="36" y="66"/>
                      </a:lnTo>
                      <a:lnTo>
                        <a:pt x="36" y="66"/>
                      </a:lnTo>
                      <a:lnTo>
                        <a:pt x="48" y="72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72" y="72"/>
                      </a:lnTo>
                      <a:lnTo>
                        <a:pt x="72" y="72"/>
                      </a:lnTo>
                      <a:lnTo>
                        <a:pt x="7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16720" y="5494320"/>
                  <a:ext cx="429120" cy="27360"/>
                </a:xfrm>
                <a:custGeom>
                  <a:avLst/>
                  <a:gdLst/>
                  <a:ahLst/>
                  <a:rect l="0" t="0" r="r" b="b"/>
                  <a:pathLst>
                    <a:path w="1192" h="76">
                      <a:moveTo>
                        <a:pt x="1188" y="72"/>
                      </a:moveTo>
                      <a:lnTo>
                        <a:pt x="1188" y="72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88" y="76"/>
                      </a:lnTo>
                      <a:lnTo>
                        <a:pt x="1188" y="76"/>
                      </a:lnTo>
                      <a:lnTo>
                        <a:pt x="1192" y="76"/>
                      </a:lnTo>
                      <a:lnTo>
                        <a:pt x="1192" y="72"/>
                      </a:lnTo>
                      <a:lnTo>
                        <a:pt x="118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53400" y="5500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7" y="0"/>
                      </a:move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61" y="15"/>
                      </a:lnTo>
                      <a:lnTo>
                        <a:pt x="61" y="21"/>
                      </a:lnTo>
                      <a:lnTo>
                        <a:pt x="61" y="26"/>
                      </a:lnTo>
                      <a:lnTo>
                        <a:pt x="56" y="31"/>
                      </a:lnTo>
                      <a:lnTo>
                        <a:pt x="56" y="36"/>
                      </a:lnTo>
                      <a:lnTo>
                        <a:pt x="49" y="41"/>
                      </a:lnTo>
                      <a:lnTo>
                        <a:pt x="44" y="46"/>
                      </a:lnTo>
                      <a:lnTo>
                        <a:pt x="38" y="51"/>
                      </a:lnTo>
                      <a:lnTo>
                        <a:pt x="38" y="57"/>
                      </a:lnTo>
                      <a:lnTo>
                        <a:pt x="33" y="62"/>
                      </a:lnTo>
                      <a:lnTo>
                        <a:pt x="28" y="62"/>
                      </a:lnTo>
                      <a:lnTo>
                        <a:pt x="22" y="62"/>
                      </a:lnTo>
                      <a:lnTo>
                        <a:pt x="16" y="67"/>
                      </a:lnTo>
                      <a:lnTo>
                        <a:pt x="10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0" y="72"/>
                      </a:lnTo>
                      <a:lnTo>
                        <a:pt x="16" y="72"/>
                      </a:lnTo>
                      <a:lnTo>
                        <a:pt x="22" y="67"/>
                      </a:lnTo>
                      <a:lnTo>
                        <a:pt x="33" y="67"/>
                      </a:lnTo>
                      <a:lnTo>
                        <a:pt x="38" y="62"/>
                      </a:lnTo>
                      <a:lnTo>
                        <a:pt x="38" y="62"/>
                      </a:lnTo>
                      <a:lnTo>
                        <a:pt x="44" y="57"/>
                      </a:lnTo>
                      <a:lnTo>
                        <a:pt x="49" y="51"/>
                      </a:lnTo>
                      <a:lnTo>
                        <a:pt x="56" y="46"/>
                      </a:lnTo>
                      <a:lnTo>
                        <a:pt x="61" y="41"/>
                      </a:lnTo>
                      <a:lnTo>
                        <a:pt x="61" y="36"/>
                      </a:lnTo>
                      <a:lnTo>
                        <a:pt x="67" y="26"/>
                      </a:lnTo>
                      <a:lnTo>
                        <a:pt x="67" y="21"/>
                      </a:lnTo>
                      <a:lnTo>
                        <a:pt x="72" y="15"/>
                      </a:lnTo>
                      <a:lnTo>
                        <a:pt x="72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78600" y="5181480"/>
                  <a:ext cx="25920" cy="311400"/>
                </a:xfrm>
                <a:custGeom>
                  <a:avLst/>
                  <a:gdLst/>
                  <a:ahLst/>
                  <a:rect l="0" t="0" r="r" b="b"/>
                  <a:pathLst>
                    <a:path w="72" h="865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65"/>
                      </a:lnTo>
                      <a:lnTo>
                        <a:pt x="5" y="865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996240" y="51498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7" y="5"/>
                      </a:lnTo>
                      <a:lnTo>
                        <a:pt x="17" y="10"/>
                      </a:lnTo>
                      <a:lnTo>
                        <a:pt x="36" y="10"/>
                      </a:lnTo>
                      <a:lnTo>
                        <a:pt x="36" y="10"/>
                      </a:lnTo>
                      <a:lnTo>
                        <a:pt x="36" y="15"/>
                      </a:lnTo>
                      <a:lnTo>
                        <a:pt x="53" y="21"/>
                      </a:lnTo>
                      <a:lnTo>
                        <a:pt x="53" y="21"/>
                      </a:lnTo>
                      <a:lnTo>
                        <a:pt x="53" y="26"/>
                      </a:lnTo>
                      <a:lnTo>
                        <a:pt x="53" y="31"/>
                      </a:lnTo>
                      <a:lnTo>
                        <a:pt x="53" y="36"/>
                      </a:lnTo>
                      <a:lnTo>
                        <a:pt x="53" y="41"/>
                      </a:lnTo>
                      <a:lnTo>
                        <a:pt x="53" y="46"/>
                      </a:lnTo>
                      <a:lnTo>
                        <a:pt x="53" y="51"/>
                      </a:lnTo>
                      <a:lnTo>
                        <a:pt x="53" y="57"/>
                      </a:lnTo>
                      <a:lnTo>
                        <a:pt x="53" y="67"/>
                      </a:lnTo>
                      <a:lnTo>
                        <a:pt x="53" y="72"/>
                      </a:lnTo>
                      <a:lnTo>
                        <a:pt x="72" y="72"/>
                      </a:lnTo>
                      <a:lnTo>
                        <a:pt x="72" y="67"/>
                      </a:lnTo>
                      <a:lnTo>
                        <a:pt x="72" y="62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53" y="21"/>
                      </a:lnTo>
                      <a:lnTo>
                        <a:pt x="53" y="15"/>
                      </a:lnTo>
                      <a:lnTo>
                        <a:pt x="53" y="10"/>
                      </a:lnTo>
                      <a:lnTo>
                        <a:pt x="36" y="10"/>
                      </a:lnTo>
                      <a:lnTo>
                        <a:pt x="36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559560" y="5124600"/>
                  <a:ext cx="427320" cy="25920"/>
                </a:xfrm>
                <a:custGeom>
                  <a:avLst/>
                  <a:gdLst/>
                  <a:ahLst/>
                  <a:rect l="0" t="0" r="r" b="b"/>
                  <a:pathLst>
                    <a:path w="1187" h="72"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39" y="5"/>
                      </a:lnTo>
                      <a:lnTo>
                        <a:pt x="79" y="5"/>
                      </a:lnTo>
                      <a:lnTo>
                        <a:pt x="119" y="5"/>
                      </a:lnTo>
                      <a:lnTo>
                        <a:pt x="154" y="5"/>
                      </a:lnTo>
                      <a:lnTo>
                        <a:pt x="194" y="5"/>
                      </a:lnTo>
                      <a:lnTo>
                        <a:pt x="229" y="5"/>
                      </a:lnTo>
                      <a:lnTo>
                        <a:pt x="264" y="5"/>
                      </a:lnTo>
                      <a:lnTo>
                        <a:pt x="304" y="5"/>
                      </a:lnTo>
                      <a:lnTo>
                        <a:pt x="339" y="5"/>
                      </a:lnTo>
                      <a:lnTo>
                        <a:pt x="379" y="5"/>
                      </a:lnTo>
                      <a:lnTo>
                        <a:pt x="414" y="11"/>
                      </a:lnTo>
                      <a:lnTo>
                        <a:pt x="454" y="11"/>
                      </a:lnTo>
                      <a:lnTo>
                        <a:pt x="493" y="11"/>
                      </a:lnTo>
                      <a:lnTo>
                        <a:pt x="529" y="11"/>
                      </a:lnTo>
                      <a:lnTo>
                        <a:pt x="568" y="11"/>
                      </a:lnTo>
                      <a:lnTo>
                        <a:pt x="605" y="17"/>
                      </a:lnTo>
                      <a:lnTo>
                        <a:pt x="640" y="17"/>
                      </a:lnTo>
                      <a:lnTo>
                        <a:pt x="680" y="17"/>
                      </a:lnTo>
                      <a:lnTo>
                        <a:pt x="715" y="17"/>
                      </a:lnTo>
                      <a:lnTo>
                        <a:pt x="755" y="24"/>
                      </a:lnTo>
                      <a:lnTo>
                        <a:pt x="790" y="30"/>
                      </a:lnTo>
                      <a:lnTo>
                        <a:pt x="830" y="30"/>
                      </a:lnTo>
                      <a:lnTo>
                        <a:pt x="865" y="30"/>
                      </a:lnTo>
                      <a:lnTo>
                        <a:pt x="900" y="36"/>
                      </a:lnTo>
                      <a:lnTo>
                        <a:pt x="940" y="42"/>
                      </a:lnTo>
                      <a:lnTo>
                        <a:pt x="971" y="42"/>
                      </a:lnTo>
                      <a:lnTo>
                        <a:pt x="1010" y="48"/>
                      </a:lnTo>
                      <a:lnTo>
                        <a:pt x="1046" y="53"/>
                      </a:lnTo>
                      <a:lnTo>
                        <a:pt x="1081" y="53"/>
                      </a:lnTo>
                      <a:lnTo>
                        <a:pt x="1116" y="60"/>
                      </a:lnTo>
                      <a:lnTo>
                        <a:pt x="1151" y="66"/>
                      </a:lnTo>
                      <a:lnTo>
                        <a:pt x="1187" y="72"/>
                      </a:lnTo>
                      <a:lnTo>
                        <a:pt x="1187" y="66"/>
                      </a:lnTo>
                      <a:lnTo>
                        <a:pt x="1151" y="60"/>
                      </a:lnTo>
                      <a:lnTo>
                        <a:pt x="1116" y="53"/>
                      </a:lnTo>
                      <a:lnTo>
                        <a:pt x="1081" y="53"/>
                      </a:lnTo>
                      <a:lnTo>
                        <a:pt x="1046" y="48"/>
                      </a:lnTo>
                      <a:lnTo>
                        <a:pt x="1010" y="42"/>
                      </a:lnTo>
                      <a:lnTo>
                        <a:pt x="975" y="36"/>
                      </a:lnTo>
                      <a:lnTo>
                        <a:pt x="940" y="36"/>
                      </a:lnTo>
                      <a:lnTo>
                        <a:pt x="900" y="30"/>
                      </a:lnTo>
                      <a:lnTo>
                        <a:pt x="865" y="30"/>
                      </a:lnTo>
                      <a:lnTo>
                        <a:pt x="830" y="24"/>
                      </a:lnTo>
                      <a:lnTo>
                        <a:pt x="794" y="17"/>
                      </a:lnTo>
                      <a:lnTo>
                        <a:pt x="755" y="17"/>
                      </a:lnTo>
                      <a:lnTo>
                        <a:pt x="715" y="17"/>
                      </a:lnTo>
                      <a:lnTo>
                        <a:pt x="680" y="11"/>
                      </a:lnTo>
                      <a:lnTo>
                        <a:pt x="644" y="11"/>
                      </a:lnTo>
                      <a:lnTo>
                        <a:pt x="605" y="11"/>
                      </a:lnTo>
                      <a:lnTo>
                        <a:pt x="568" y="5"/>
                      </a:lnTo>
                      <a:lnTo>
                        <a:pt x="529" y="5"/>
                      </a:lnTo>
                      <a:lnTo>
                        <a:pt x="493" y="5"/>
                      </a:lnTo>
                      <a:lnTo>
                        <a:pt x="454" y="0"/>
                      </a:lnTo>
                      <a:lnTo>
                        <a:pt x="414" y="0"/>
                      </a:lnTo>
                      <a:lnTo>
                        <a:pt x="379" y="0"/>
                      </a:lnTo>
                      <a:lnTo>
                        <a:pt x="339" y="0"/>
                      </a:lnTo>
                      <a:lnTo>
                        <a:pt x="304" y="0"/>
                      </a:lnTo>
                      <a:lnTo>
                        <a:pt x="264" y="0"/>
                      </a:lnTo>
                      <a:lnTo>
                        <a:pt x="229" y="0"/>
                      </a:lnTo>
                      <a:lnTo>
                        <a:pt x="194" y="0"/>
                      </a:lnTo>
                      <a:lnTo>
                        <a:pt x="154" y="0"/>
                      </a:lnTo>
                      <a:lnTo>
                        <a:pt x="119" y="0"/>
                      </a:lnTo>
                      <a:lnTo>
                        <a:pt x="79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531120" y="512460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5" y="36"/>
                      </a:lnTo>
                      <a:lnTo>
                        <a:pt x="15" y="36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6" y="17"/>
                      </a:lnTo>
                      <a:lnTo>
                        <a:pt x="31" y="17"/>
                      </a:lnTo>
                      <a:lnTo>
                        <a:pt x="36" y="17"/>
                      </a:lnTo>
                      <a:lnTo>
                        <a:pt x="41" y="17"/>
                      </a:lnTo>
                      <a:lnTo>
                        <a:pt x="46" y="17"/>
                      </a:lnTo>
                      <a:lnTo>
                        <a:pt x="51" y="17"/>
                      </a:lnTo>
                      <a:lnTo>
                        <a:pt x="57" y="17"/>
                      </a:lnTo>
                      <a:lnTo>
                        <a:pt x="67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17"/>
                      </a:lnTo>
                      <a:lnTo>
                        <a:pt x="26" y="17"/>
                      </a:lnTo>
                      <a:lnTo>
                        <a:pt x="21" y="17"/>
                      </a:lnTo>
                      <a:lnTo>
                        <a:pt x="15" y="17"/>
                      </a:lnTo>
                      <a:lnTo>
                        <a:pt x="15" y="36"/>
                      </a:lnTo>
                      <a:lnTo>
                        <a:pt x="10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6523200" y="5135400"/>
                  <a:ext cx="473400" cy="371880"/>
                </a:xfrm>
                <a:custGeom>
                  <a:avLst/>
                  <a:gdLst/>
                  <a:ahLst/>
                  <a:rect l="0" t="0" r="r" b="b"/>
                  <a:pathLst>
                    <a:path w="1315" h="1033">
                      <a:moveTo>
                        <a:pt x="79" y="30"/>
                      </a:moveTo>
                      <a:lnTo>
                        <a:pt x="74" y="57"/>
                      </a:lnTo>
                      <a:lnTo>
                        <a:pt x="74" y="83"/>
                      </a:lnTo>
                      <a:lnTo>
                        <a:pt x="70" y="110"/>
                      </a:lnTo>
                      <a:lnTo>
                        <a:pt x="70" y="136"/>
                      </a:lnTo>
                      <a:lnTo>
                        <a:pt x="66" y="158"/>
                      </a:lnTo>
                      <a:lnTo>
                        <a:pt x="61" y="185"/>
                      </a:lnTo>
                      <a:lnTo>
                        <a:pt x="57" y="211"/>
                      </a:lnTo>
                      <a:lnTo>
                        <a:pt x="57" y="238"/>
                      </a:lnTo>
                      <a:lnTo>
                        <a:pt x="52" y="265"/>
                      </a:lnTo>
                      <a:lnTo>
                        <a:pt x="48" y="292"/>
                      </a:lnTo>
                      <a:lnTo>
                        <a:pt x="48" y="318"/>
                      </a:lnTo>
                      <a:lnTo>
                        <a:pt x="44" y="340"/>
                      </a:lnTo>
                      <a:lnTo>
                        <a:pt x="39" y="367"/>
                      </a:lnTo>
                      <a:lnTo>
                        <a:pt x="35" y="397"/>
                      </a:lnTo>
                      <a:lnTo>
                        <a:pt x="35" y="424"/>
                      </a:lnTo>
                      <a:lnTo>
                        <a:pt x="30" y="450"/>
                      </a:lnTo>
                      <a:lnTo>
                        <a:pt x="30" y="477"/>
                      </a:lnTo>
                      <a:lnTo>
                        <a:pt x="26" y="503"/>
                      </a:lnTo>
                      <a:lnTo>
                        <a:pt x="22" y="530"/>
                      </a:lnTo>
                      <a:lnTo>
                        <a:pt x="17" y="556"/>
                      </a:lnTo>
                      <a:lnTo>
                        <a:pt x="17" y="583"/>
                      </a:lnTo>
                      <a:lnTo>
                        <a:pt x="13" y="609"/>
                      </a:lnTo>
                      <a:lnTo>
                        <a:pt x="13" y="636"/>
                      </a:lnTo>
                      <a:lnTo>
                        <a:pt x="13" y="666"/>
                      </a:lnTo>
                      <a:lnTo>
                        <a:pt x="8" y="693"/>
                      </a:lnTo>
                      <a:lnTo>
                        <a:pt x="8" y="719"/>
                      </a:lnTo>
                      <a:lnTo>
                        <a:pt x="4" y="746"/>
                      </a:lnTo>
                      <a:lnTo>
                        <a:pt x="4" y="772"/>
                      </a:lnTo>
                      <a:lnTo>
                        <a:pt x="4" y="800"/>
                      </a:lnTo>
                      <a:lnTo>
                        <a:pt x="4" y="826"/>
                      </a:lnTo>
                      <a:lnTo>
                        <a:pt x="0" y="857"/>
                      </a:lnTo>
                      <a:lnTo>
                        <a:pt x="0" y="883"/>
                      </a:lnTo>
                      <a:lnTo>
                        <a:pt x="0" y="892"/>
                      </a:lnTo>
                      <a:lnTo>
                        <a:pt x="0" y="897"/>
                      </a:lnTo>
                      <a:lnTo>
                        <a:pt x="4" y="901"/>
                      </a:lnTo>
                      <a:lnTo>
                        <a:pt x="4" y="910"/>
                      </a:lnTo>
                      <a:lnTo>
                        <a:pt x="4" y="914"/>
                      </a:lnTo>
                      <a:lnTo>
                        <a:pt x="4" y="919"/>
                      </a:lnTo>
                      <a:lnTo>
                        <a:pt x="8" y="923"/>
                      </a:lnTo>
                      <a:lnTo>
                        <a:pt x="8" y="928"/>
                      </a:lnTo>
                      <a:lnTo>
                        <a:pt x="8" y="932"/>
                      </a:lnTo>
                      <a:lnTo>
                        <a:pt x="13" y="932"/>
                      </a:lnTo>
                      <a:lnTo>
                        <a:pt x="17" y="936"/>
                      </a:lnTo>
                      <a:lnTo>
                        <a:pt x="17" y="941"/>
                      </a:lnTo>
                      <a:lnTo>
                        <a:pt x="26" y="941"/>
                      </a:lnTo>
                      <a:lnTo>
                        <a:pt x="30" y="945"/>
                      </a:lnTo>
                      <a:lnTo>
                        <a:pt x="35" y="945"/>
                      </a:lnTo>
                      <a:lnTo>
                        <a:pt x="39" y="945"/>
                      </a:lnTo>
                      <a:lnTo>
                        <a:pt x="1169" y="1033"/>
                      </a:lnTo>
                      <a:lnTo>
                        <a:pt x="1178" y="1033"/>
                      </a:lnTo>
                      <a:lnTo>
                        <a:pt x="1182" y="1033"/>
                      </a:lnTo>
                      <a:lnTo>
                        <a:pt x="1191" y="1033"/>
                      </a:lnTo>
                      <a:lnTo>
                        <a:pt x="1196" y="1029"/>
                      </a:lnTo>
                      <a:lnTo>
                        <a:pt x="1204" y="1025"/>
                      </a:lnTo>
                      <a:lnTo>
                        <a:pt x="1209" y="1025"/>
                      </a:lnTo>
                      <a:lnTo>
                        <a:pt x="1213" y="1020"/>
                      </a:lnTo>
                      <a:lnTo>
                        <a:pt x="1218" y="1016"/>
                      </a:lnTo>
                      <a:lnTo>
                        <a:pt x="1222" y="1011"/>
                      </a:lnTo>
                      <a:lnTo>
                        <a:pt x="1226" y="1003"/>
                      </a:lnTo>
                      <a:lnTo>
                        <a:pt x="1231" y="998"/>
                      </a:lnTo>
                      <a:lnTo>
                        <a:pt x="1235" y="989"/>
                      </a:lnTo>
                      <a:lnTo>
                        <a:pt x="1235" y="980"/>
                      </a:lnTo>
                      <a:lnTo>
                        <a:pt x="1235" y="976"/>
                      </a:lnTo>
                      <a:lnTo>
                        <a:pt x="1240" y="972"/>
                      </a:lnTo>
                      <a:lnTo>
                        <a:pt x="1240" y="963"/>
                      </a:lnTo>
                      <a:lnTo>
                        <a:pt x="1310" y="141"/>
                      </a:lnTo>
                      <a:lnTo>
                        <a:pt x="1310" y="136"/>
                      </a:lnTo>
                      <a:lnTo>
                        <a:pt x="1315" y="127"/>
                      </a:lnTo>
                      <a:lnTo>
                        <a:pt x="1315" y="119"/>
                      </a:lnTo>
                      <a:lnTo>
                        <a:pt x="1315" y="114"/>
                      </a:lnTo>
                      <a:lnTo>
                        <a:pt x="1315" y="110"/>
                      </a:lnTo>
                      <a:lnTo>
                        <a:pt x="1310" y="101"/>
                      </a:lnTo>
                      <a:lnTo>
                        <a:pt x="1310" y="97"/>
                      </a:lnTo>
                      <a:lnTo>
                        <a:pt x="1310" y="88"/>
                      </a:lnTo>
                      <a:lnTo>
                        <a:pt x="1310" y="83"/>
                      </a:lnTo>
                      <a:lnTo>
                        <a:pt x="1306" y="79"/>
                      </a:lnTo>
                      <a:lnTo>
                        <a:pt x="1306" y="79"/>
                      </a:lnTo>
                      <a:lnTo>
                        <a:pt x="1301" y="70"/>
                      </a:lnTo>
                      <a:lnTo>
                        <a:pt x="1297" y="70"/>
                      </a:lnTo>
                      <a:lnTo>
                        <a:pt x="1293" y="66"/>
                      </a:lnTo>
                      <a:lnTo>
                        <a:pt x="1288" y="66"/>
                      </a:lnTo>
                      <a:lnTo>
                        <a:pt x="1279" y="66"/>
                      </a:lnTo>
                      <a:lnTo>
                        <a:pt x="1248" y="57"/>
                      </a:lnTo>
                      <a:lnTo>
                        <a:pt x="1213" y="52"/>
                      </a:lnTo>
                      <a:lnTo>
                        <a:pt x="1178" y="52"/>
                      </a:lnTo>
                      <a:lnTo>
                        <a:pt x="1147" y="44"/>
                      </a:lnTo>
                      <a:lnTo>
                        <a:pt x="1112" y="39"/>
                      </a:lnTo>
                      <a:lnTo>
                        <a:pt x="1076" y="35"/>
                      </a:lnTo>
                      <a:lnTo>
                        <a:pt x="1041" y="35"/>
                      </a:lnTo>
                      <a:lnTo>
                        <a:pt x="1006" y="30"/>
                      </a:lnTo>
                      <a:lnTo>
                        <a:pt x="975" y="26"/>
                      </a:lnTo>
                      <a:lnTo>
                        <a:pt x="940" y="22"/>
                      </a:lnTo>
                      <a:lnTo>
                        <a:pt x="904" y="17"/>
                      </a:lnTo>
                      <a:lnTo>
                        <a:pt x="869" y="17"/>
                      </a:lnTo>
                      <a:lnTo>
                        <a:pt x="834" y="13"/>
                      </a:lnTo>
                      <a:lnTo>
                        <a:pt x="794" y="13"/>
                      </a:lnTo>
                      <a:lnTo>
                        <a:pt x="763" y="13"/>
                      </a:lnTo>
                      <a:lnTo>
                        <a:pt x="724" y="8"/>
                      </a:lnTo>
                      <a:lnTo>
                        <a:pt x="693" y="8"/>
                      </a:lnTo>
                      <a:lnTo>
                        <a:pt x="652" y="4"/>
                      </a:lnTo>
                      <a:lnTo>
                        <a:pt x="617" y="4"/>
                      </a:lnTo>
                      <a:lnTo>
                        <a:pt x="582" y="4"/>
                      </a:lnTo>
                      <a:lnTo>
                        <a:pt x="546" y="4"/>
                      </a:lnTo>
                      <a:lnTo>
                        <a:pt x="511" y="0"/>
                      </a:lnTo>
                      <a:lnTo>
                        <a:pt x="476" y="0"/>
                      </a:lnTo>
                      <a:lnTo>
                        <a:pt x="440" y="0"/>
                      </a:lnTo>
                      <a:lnTo>
                        <a:pt x="401" y="0"/>
                      </a:lnTo>
                      <a:lnTo>
                        <a:pt x="366" y="0"/>
                      </a:lnTo>
                      <a:lnTo>
                        <a:pt x="330" y="0"/>
                      </a:lnTo>
                      <a:lnTo>
                        <a:pt x="295" y="0"/>
                      </a:lnTo>
                      <a:lnTo>
                        <a:pt x="260" y="0"/>
                      </a:lnTo>
                      <a:lnTo>
                        <a:pt x="224" y="0"/>
                      </a:lnTo>
                      <a:lnTo>
                        <a:pt x="189" y="0"/>
                      </a:lnTo>
                      <a:lnTo>
                        <a:pt x="154" y="0"/>
                      </a:lnTo>
                      <a:lnTo>
                        <a:pt x="145" y="0"/>
                      </a:lnTo>
                      <a:lnTo>
                        <a:pt x="136" y="4"/>
                      </a:lnTo>
                      <a:lnTo>
                        <a:pt x="132" y="4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4" y="4"/>
                      </a:lnTo>
                      <a:lnTo>
                        <a:pt x="110" y="4"/>
                      </a:lnTo>
                      <a:lnTo>
                        <a:pt x="101" y="8"/>
                      </a:lnTo>
                      <a:lnTo>
                        <a:pt x="97" y="8"/>
                      </a:lnTo>
                      <a:lnTo>
                        <a:pt x="97" y="13"/>
                      </a:lnTo>
                      <a:lnTo>
                        <a:pt x="92" y="13"/>
                      </a:lnTo>
                      <a:lnTo>
                        <a:pt x="88" y="17"/>
                      </a:lnTo>
                      <a:lnTo>
                        <a:pt x="83" y="17"/>
                      </a:lnTo>
                      <a:lnTo>
                        <a:pt x="83" y="22"/>
                      </a:lnTo>
                      <a:lnTo>
                        <a:pt x="79" y="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523200" y="5146560"/>
                  <a:ext cx="25920" cy="306720"/>
                </a:xfrm>
                <a:custGeom>
                  <a:avLst/>
                  <a:gdLst/>
                  <a:ahLst/>
                  <a:rect l="0" t="0" r="r" b="b"/>
                  <a:pathLst>
                    <a:path w="72" h="852">
                      <a:moveTo>
                        <a:pt x="5" y="847"/>
                      </a:moveTo>
                      <a:lnTo>
                        <a:pt x="5" y="847"/>
                      </a:lnTo>
                      <a:lnTo>
                        <a:pt x="5" y="821"/>
                      </a:lnTo>
                      <a:lnTo>
                        <a:pt x="5" y="794"/>
                      </a:lnTo>
                      <a:lnTo>
                        <a:pt x="10" y="768"/>
                      </a:lnTo>
                      <a:lnTo>
                        <a:pt x="10" y="741"/>
                      </a:lnTo>
                      <a:lnTo>
                        <a:pt x="10" y="715"/>
                      </a:lnTo>
                      <a:lnTo>
                        <a:pt x="10" y="684"/>
                      </a:lnTo>
                      <a:lnTo>
                        <a:pt x="10" y="658"/>
                      </a:lnTo>
                      <a:lnTo>
                        <a:pt x="15" y="631"/>
                      </a:lnTo>
                      <a:lnTo>
                        <a:pt x="15" y="605"/>
                      </a:lnTo>
                      <a:lnTo>
                        <a:pt x="21" y="578"/>
                      </a:lnTo>
                      <a:lnTo>
                        <a:pt x="21" y="547"/>
                      </a:lnTo>
                      <a:lnTo>
                        <a:pt x="21" y="521"/>
                      </a:lnTo>
                      <a:lnTo>
                        <a:pt x="26" y="494"/>
                      </a:lnTo>
                      <a:lnTo>
                        <a:pt x="26" y="468"/>
                      </a:lnTo>
                      <a:lnTo>
                        <a:pt x="31" y="441"/>
                      </a:lnTo>
                      <a:lnTo>
                        <a:pt x="31" y="414"/>
                      </a:lnTo>
                      <a:lnTo>
                        <a:pt x="31" y="388"/>
                      </a:lnTo>
                      <a:lnTo>
                        <a:pt x="36" y="361"/>
                      </a:lnTo>
                      <a:lnTo>
                        <a:pt x="41" y="335"/>
                      </a:lnTo>
                      <a:lnTo>
                        <a:pt x="41" y="313"/>
                      </a:lnTo>
                      <a:lnTo>
                        <a:pt x="41" y="286"/>
                      </a:lnTo>
                      <a:lnTo>
                        <a:pt x="46" y="260"/>
                      </a:lnTo>
                      <a:lnTo>
                        <a:pt x="51" y="233"/>
                      </a:lnTo>
                      <a:lnTo>
                        <a:pt x="51" y="207"/>
                      </a:lnTo>
                      <a:lnTo>
                        <a:pt x="51" y="180"/>
                      </a:lnTo>
                      <a:lnTo>
                        <a:pt x="57" y="154"/>
                      </a:lnTo>
                      <a:lnTo>
                        <a:pt x="62" y="127"/>
                      </a:lnTo>
                      <a:lnTo>
                        <a:pt x="62" y="105"/>
                      </a:lnTo>
                      <a:lnTo>
                        <a:pt x="62" y="79"/>
                      </a:lnTo>
                      <a:lnTo>
                        <a:pt x="67" y="52"/>
                      </a:lnTo>
                      <a:lnTo>
                        <a:pt x="72" y="26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2" y="26"/>
                      </a:lnTo>
                      <a:lnTo>
                        <a:pt x="62" y="52"/>
                      </a:lnTo>
                      <a:lnTo>
                        <a:pt x="62" y="79"/>
                      </a:lnTo>
                      <a:lnTo>
                        <a:pt x="57" y="101"/>
                      </a:lnTo>
                      <a:lnTo>
                        <a:pt x="51" y="127"/>
                      </a:lnTo>
                      <a:lnTo>
                        <a:pt x="51" y="154"/>
                      </a:lnTo>
                      <a:lnTo>
                        <a:pt x="51" y="180"/>
                      </a:lnTo>
                      <a:lnTo>
                        <a:pt x="46" y="207"/>
                      </a:lnTo>
                      <a:lnTo>
                        <a:pt x="41" y="233"/>
                      </a:lnTo>
                      <a:lnTo>
                        <a:pt x="41" y="260"/>
                      </a:lnTo>
                      <a:lnTo>
                        <a:pt x="41" y="282"/>
                      </a:lnTo>
                      <a:lnTo>
                        <a:pt x="36" y="308"/>
                      </a:lnTo>
                      <a:lnTo>
                        <a:pt x="31" y="335"/>
                      </a:lnTo>
                      <a:lnTo>
                        <a:pt x="31" y="361"/>
                      </a:lnTo>
                      <a:lnTo>
                        <a:pt x="31" y="388"/>
                      </a:lnTo>
                      <a:lnTo>
                        <a:pt x="26" y="414"/>
                      </a:lnTo>
                      <a:lnTo>
                        <a:pt x="21" y="441"/>
                      </a:lnTo>
                      <a:lnTo>
                        <a:pt x="21" y="468"/>
                      </a:lnTo>
                      <a:lnTo>
                        <a:pt x="21" y="494"/>
                      </a:lnTo>
                      <a:lnTo>
                        <a:pt x="15" y="521"/>
                      </a:lnTo>
                      <a:lnTo>
                        <a:pt x="15" y="547"/>
                      </a:lnTo>
                      <a:lnTo>
                        <a:pt x="10" y="574"/>
                      </a:lnTo>
                      <a:lnTo>
                        <a:pt x="10" y="605"/>
                      </a:lnTo>
                      <a:lnTo>
                        <a:pt x="10" y="631"/>
                      </a:lnTo>
                      <a:lnTo>
                        <a:pt x="10" y="658"/>
                      </a:lnTo>
                      <a:lnTo>
                        <a:pt x="5" y="684"/>
                      </a:lnTo>
                      <a:lnTo>
                        <a:pt x="5" y="710"/>
                      </a:lnTo>
                      <a:lnTo>
                        <a:pt x="5" y="741"/>
                      </a:lnTo>
                      <a:lnTo>
                        <a:pt x="0" y="768"/>
                      </a:lnTo>
                      <a:lnTo>
                        <a:pt x="0" y="794"/>
                      </a:lnTo>
                      <a:lnTo>
                        <a:pt x="0" y="821"/>
                      </a:lnTo>
                      <a:lnTo>
                        <a:pt x="0" y="847"/>
                      </a:lnTo>
                      <a:lnTo>
                        <a:pt x="0" y="852"/>
                      </a:lnTo>
                      <a:lnTo>
                        <a:pt x="0" y="852"/>
                      </a:lnTo>
                      <a:lnTo>
                        <a:pt x="5" y="852"/>
                      </a:lnTo>
                      <a:lnTo>
                        <a:pt x="5" y="8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523200" y="54608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72" y="65"/>
                      </a:moveTo>
                      <a:lnTo>
                        <a:pt x="72" y="65"/>
                      </a:lnTo>
                      <a:lnTo>
                        <a:pt x="58" y="65"/>
                      </a:lnTo>
                      <a:lnTo>
                        <a:pt x="43" y="65"/>
                      </a:lnTo>
                      <a:lnTo>
                        <a:pt x="43" y="58"/>
                      </a:lnTo>
                      <a:lnTo>
                        <a:pt x="43" y="58"/>
                      </a:lnTo>
                      <a:lnTo>
                        <a:pt x="29" y="58"/>
                      </a:lnTo>
                      <a:lnTo>
                        <a:pt x="29" y="50"/>
                      </a:lnTo>
                      <a:lnTo>
                        <a:pt x="29" y="50"/>
                      </a:lnTo>
                      <a:lnTo>
                        <a:pt x="14" y="43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2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14" y="36"/>
                      </a:lnTo>
                      <a:lnTo>
                        <a:pt x="14" y="43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65"/>
                      </a:lnTo>
                      <a:lnTo>
                        <a:pt x="43" y="65"/>
                      </a:lnTo>
                      <a:lnTo>
                        <a:pt x="43" y="65"/>
                      </a:lnTo>
                      <a:lnTo>
                        <a:pt x="58" y="72"/>
                      </a:lnTo>
                      <a:lnTo>
                        <a:pt x="58" y="72"/>
                      </a:lnTo>
                      <a:lnTo>
                        <a:pt x="72" y="72"/>
                      </a:lnTo>
                      <a:lnTo>
                        <a:pt x="72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537240" y="5483160"/>
                  <a:ext cx="405000" cy="25920"/>
                </a:xfrm>
                <a:custGeom>
                  <a:avLst/>
                  <a:gdLst/>
                  <a:ahLst/>
                  <a:rect l="0" t="0" r="r" b="b"/>
                  <a:pathLst>
                    <a:path w="1125" h="72">
                      <a:moveTo>
                        <a:pt x="1121" y="68"/>
                      </a:moveTo>
                      <a:lnTo>
                        <a:pt x="1121" y="68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121" y="72"/>
                      </a:lnTo>
                      <a:lnTo>
                        <a:pt x="1121" y="72"/>
                      </a:lnTo>
                      <a:lnTo>
                        <a:pt x="1125" y="68"/>
                      </a:lnTo>
                      <a:lnTo>
                        <a:pt x="1121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950160" y="548964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5"/>
                      </a:lnTo>
                      <a:lnTo>
                        <a:pt x="60" y="17"/>
                      </a:lnTo>
                      <a:lnTo>
                        <a:pt x="60" y="24"/>
                      </a:lnTo>
                      <a:lnTo>
                        <a:pt x="60" y="30"/>
                      </a:lnTo>
                      <a:lnTo>
                        <a:pt x="53" y="30"/>
                      </a:lnTo>
                      <a:lnTo>
                        <a:pt x="53" y="42"/>
                      </a:lnTo>
                      <a:lnTo>
                        <a:pt x="53" y="42"/>
                      </a:lnTo>
                      <a:lnTo>
                        <a:pt x="48" y="48"/>
                      </a:lnTo>
                      <a:lnTo>
                        <a:pt x="42" y="53"/>
                      </a:lnTo>
                      <a:lnTo>
                        <a:pt x="36" y="53"/>
                      </a:lnTo>
                      <a:lnTo>
                        <a:pt x="30" y="60"/>
                      </a:lnTo>
                      <a:lnTo>
                        <a:pt x="30" y="60"/>
                      </a:lnTo>
                      <a:lnTo>
                        <a:pt x="17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0" y="72"/>
                      </a:lnTo>
                      <a:lnTo>
                        <a:pt x="11" y="72"/>
                      </a:lnTo>
                      <a:lnTo>
                        <a:pt x="17" y="72"/>
                      </a:lnTo>
                      <a:lnTo>
                        <a:pt x="24" y="72"/>
                      </a:lnTo>
                      <a:lnTo>
                        <a:pt x="30" y="66"/>
                      </a:lnTo>
                      <a:lnTo>
                        <a:pt x="36" y="66"/>
                      </a:lnTo>
                      <a:lnTo>
                        <a:pt x="42" y="60"/>
                      </a:lnTo>
                      <a:lnTo>
                        <a:pt x="48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60" y="42"/>
                      </a:lnTo>
                      <a:lnTo>
                        <a:pt x="60" y="36"/>
                      </a:lnTo>
                      <a:lnTo>
                        <a:pt x="66" y="30"/>
                      </a:lnTo>
                      <a:lnTo>
                        <a:pt x="66" y="24"/>
                      </a:lnTo>
                      <a:lnTo>
                        <a:pt x="72" y="17"/>
                      </a:lnTo>
                      <a:lnTo>
                        <a:pt x="72" y="11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975360" y="5186520"/>
                  <a:ext cx="25920" cy="295560"/>
                </a:xfrm>
                <a:custGeom>
                  <a:avLst/>
                  <a:gdLst/>
                  <a:ahLst/>
                  <a:rect l="0" t="0" r="r" b="b"/>
                  <a:pathLst>
                    <a:path w="72" h="821">
                      <a:moveTo>
                        <a:pt x="67" y="4"/>
                      </a:moveTo>
                      <a:lnTo>
                        <a:pt x="67" y="4"/>
                      </a:lnTo>
                      <a:lnTo>
                        <a:pt x="0" y="821"/>
                      </a:lnTo>
                      <a:lnTo>
                        <a:pt x="5" y="821"/>
                      </a:ln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67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991200" y="5157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4" y="5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48" y="10"/>
                      </a:lnTo>
                      <a:lnTo>
                        <a:pt x="48" y="15"/>
                      </a:lnTo>
                      <a:lnTo>
                        <a:pt x="48" y="21"/>
                      </a:lnTo>
                      <a:lnTo>
                        <a:pt x="48" y="21"/>
                      </a:lnTo>
                      <a:lnTo>
                        <a:pt x="48" y="26"/>
                      </a:lnTo>
                      <a:lnTo>
                        <a:pt x="48" y="31"/>
                      </a:lnTo>
                      <a:lnTo>
                        <a:pt x="48" y="36"/>
                      </a:lnTo>
                      <a:lnTo>
                        <a:pt x="48" y="41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48" y="57"/>
                      </a:lnTo>
                      <a:lnTo>
                        <a:pt x="48" y="62"/>
                      </a:lnTo>
                      <a:lnTo>
                        <a:pt x="48" y="72"/>
                      </a:lnTo>
                      <a:lnTo>
                        <a:pt x="72" y="7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72" y="51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2" y="36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2" y="21"/>
                      </a:lnTo>
                      <a:lnTo>
                        <a:pt x="48" y="15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578640" y="5133960"/>
                  <a:ext cx="403560" cy="25920"/>
                </a:xfrm>
                <a:custGeom>
                  <a:avLst/>
                  <a:gdLst/>
                  <a:ahLst/>
                  <a:rect l="0" t="0" r="r" b="b"/>
                  <a:pathLst>
                    <a:path w="1121" h="72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39" y="6"/>
                      </a:lnTo>
                      <a:lnTo>
                        <a:pt x="74" y="6"/>
                      </a:lnTo>
                      <a:lnTo>
                        <a:pt x="110" y="6"/>
                      </a:lnTo>
                      <a:lnTo>
                        <a:pt x="145" y="6"/>
                      </a:lnTo>
                      <a:lnTo>
                        <a:pt x="180" y="6"/>
                      </a:lnTo>
                      <a:lnTo>
                        <a:pt x="216" y="6"/>
                      </a:lnTo>
                      <a:lnTo>
                        <a:pt x="251" y="6"/>
                      </a:lnTo>
                      <a:lnTo>
                        <a:pt x="286" y="6"/>
                      </a:lnTo>
                      <a:lnTo>
                        <a:pt x="321" y="6"/>
                      </a:lnTo>
                      <a:lnTo>
                        <a:pt x="357" y="6"/>
                      </a:lnTo>
                      <a:lnTo>
                        <a:pt x="392" y="6"/>
                      </a:lnTo>
                      <a:lnTo>
                        <a:pt x="427" y="12"/>
                      </a:lnTo>
                      <a:lnTo>
                        <a:pt x="463" y="12"/>
                      </a:lnTo>
                      <a:lnTo>
                        <a:pt x="498" y="12"/>
                      </a:lnTo>
                      <a:lnTo>
                        <a:pt x="533" y="12"/>
                      </a:lnTo>
                      <a:lnTo>
                        <a:pt x="569" y="20"/>
                      </a:lnTo>
                      <a:lnTo>
                        <a:pt x="605" y="20"/>
                      </a:lnTo>
                      <a:lnTo>
                        <a:pt x="640" y="20"/>
                      </a:lnTo>
                      <a:lnTo>
                        <a:pt x="680" y="26"/>
                      </a:lnTo>
                      <a:lnTo>
                        <a:pt x="710" y="26"/>
                      </a:lnTo>
                      <a:lnTo>
                        <a:pt x="746" y="26"/>
                      </a:lnTo>
                      <a:lnTo>
                        <a:pt x="781" y="33"/>
                      </a:lnTo>
                      <a:lnTo>
                        <a:pt x="816" y="33"/>
                      </a:lnTo>
                      <a:lnTo>
                        <a:pt x="852" y="39"/>
                      </a:lnTo>
                      <a:lnTo>
                        <a:pt x="882" y="39"/>
                      </a:lnTo>
                      <a:lnTo>
                        <a:pt x="918" y="45"/>
                      </a:lnTo>
                      <a:lnTo>
                        <a:pt x="953" y="45"/>
                      </a:lnTo>
                      <a:lnTo>
                        <a:pt x="988" y="52"/>
                      </a:lnTo>
                      <a:lnTo>
                        <a:pt x="1019" y="59"/>
                      </a:lnTo>
                      <a:lnTo>
                        <a:pt x="1054" y="66"/>
                      </a:lnTo>
                      <a:lnTo>
                        <a:pt x="1085" y="66"/>
                      </a:lnTo>
                      <a:lnTo>
                        <a:pt x="1121" y="72"/>
                      </a:lnTo>
                      <a:lnTo>
                        <a:pt x="1121" y="66"/>
                      </a:lnTo>
                      <a:lnTo>
                        <a:pt x="1090" y="59"/>
                      </a:lnTo>
                      <a:lnTo>
                        <a:pt x="1054" y="52"/>
                      </a:lnTo>
                      <a:lnTo>
                        <a:pt x="1019" y="52"/>
                      </a:lnTo>
                      <a:lnTo>
                        <a:pt x="988" y="45"/>
                      </a:lnTo>
                      <a:lnTo>
                        <a:pt x="953" y="45"/>
                      </a:lnTo>
                      <a:lnTo>
                        <a:pt x="922" y="39"/>
                      </a:lnTo>
                      <a:lnTo>
                        <a:pt x="887" y="39"/>
                      </a:lnTo>
                      <a:lnTo>
                        <a:pt x="852" y="33"/>
                      </a:lnTo>
                      <a:lnTo>
                        <a:pt x="816" y="26"/>
                      </a:lnTo>
                      <a:lnTo>
                        <a:pt x="781" y="26"/>
                      </a:lnTo>
                      <a:lnTo>
                        <a:pt x="750" y="20"/>
                      </a:lnTo>
                      <a:lnTo>
                        <a:pt x="710" y="20"/>
                      </a:lnTo>
                      <a:lnTo>
                        <a:pt x="680" y="20"/>
                      </a:lnTo>
                      <a:lnTo>
                        <a:pt x="640" y="12"/>
                      </a:lnTo>
                      <a:lnTo>
                        <a:pt x="605" y="12"/>
                      </a:lnTo>
                      <a:lnTo>
                        <a:pt x="569" y="6"/>
                      </a:lnTo>
                      <a:lnTo>
                        <a:pt x="533" y="6"/>
                      </a:lnTo>
                      <a:lnTo>
                        <a:pt x="498" y="6"/>
                      </a:lnTo>
                      <a:lnTo>
                        <a:pt x="463" y="6"/>
                      </a:lnTo>
                      <a:lnTo>
                        <a:pt x="427" y="6"/>
                      </a:lnTo>
                      <a:lnTo>
                        <a:pt x="392" y="6"/>
                      </a:lnTo>
                      <a:lnTo>
                        <a:pt x="357" y="0"/>
                      </a:lnTo>
                      <a:lnTo>
                        <a:pt x="321" y="0"/>
                      </a:lnTo>
                      <a:lnTo>
                        <a:pt x="286" y="0"/>
                      </a:lnTo>
                      <a:lnTo>
                        <a:pt x="251" y="0"/>
                      </a:lnTo>
                      <a:lnTo>
                        <a:pt x="216" y="0"/>
                      </a:lnTo>
                      <a:lnTo>
                        <a:pt x="180" y="0"/>
                      </a:lnTo>
                      <a:lnTo>
                        <a:pt x="145" y="0"/>
                      </a:lnTo>
                      <a:lnTo>
                        <a:pt x="110" y="0"/>
                      </a:lnTo>
                      <a:lnTo>
                        <a:pt x="74" y="0"/>
                      </a:lnTo>
                      <a:lnTo>
                        <a:pt x="3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551640" y="513396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5" y="72"/>
                      </a:moveTo>
                      <a:lnTo>
                        <a:pt x="5" y="72"/>
                      </a:lnTo>
                      <a:lnTo>
                        <a:pt x="5" y="53"/>
                      </a:lnTo>
                      <a:lnTo>
                        <a:pt x="11" y="53"/>
                      </a:lnTo>
                      <a:lnTo>
                        <a:pt x="11" y="53"/>
                      </a:lnTo>
                      <a:lnTo>
                        <a:pt x="11" y="36"/>
                      </a:lnTo>
                      <a:lnTo>
                        <a:pt x="17" y="36"/>
                      </a:lnTo>
                      <a:lnTo>
                        <a:pt x="17" y="36"/>
                      </a:lnTo>
                      <a:lnTo>
                        <a:pt x="24" y="36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36" y="17"/>
                      </a:lnTo>
                      <a:lnTo>
                        <a:pt x="42" y="17"/>
                      </a:lnTo>
                      <a:lnTo>
                        <a:pt x="48" y="17"/>
                      </a:lnTo>
                      <a:lnTo>
                        <a:pt x="53" y="17"/>
                      </a:lnTo>
                      <a:lnTo>
                        <a:pt x="60" y="17"/>
                      </a:lnTo>
                      <a:lnTo>
                        <a:pt x="66" y="17"/>
                      </a:lnTo>
                      <a:lnTo>
                        <a:pt x="72" y="17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3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6" y="17"/>
                      </a:lnTo>
                      <a:lnTo>
                        <a:pt x="30" y="17"/>
                      </a:lnTo>
                      <a:lnTo>
                        <a:pt x="24" y="17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1" y="36"/>
                      </a:lnTo>
                      <a:lnTo>
                        <a:pt x="11" y="36"/>
                      </a:lnTo>
                      <a:lnTo>
                        <a:pt x="5" y="36"/>
                      </a:lnTo>
                      <a:lnTo>
                        <a:pt x="5" y="53"/>
                      </a:lnTo>
                      <a:lnTo>
                        <a:pt x="0" y="53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5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654960" y="5600520"/>
                  <a:ext cx="265320" cy="51120"/>
                </a:xfrm>
                <a:custGeom>
                  <a:avLst/>
                  <a:gdLst/>
                  <a:ahLst/>
                  <a:rect l="0" t="0" r="r" b="b"/>
                  <a:pathLst>
                    <a:path w="737" h="142">
                      <a:moveTo>
                        <a:pt x="0" y="0"/>
                      </a:moveTo>
                      <a:lnTo>
                        <a:pt x="737" y="61"/>
                      </a:lnTo>
                      <a:lnTo>
                        <a:pt x="728" y="70"/>
                      </a:lnTo>
                      <a:lnTo>
                        <a:pt x="719" y="80"/>
                      </a:lnTo>
                      <a:lnTo>
                        <a:pt x="710" y="84"/>
                      </a:lnTo>
                      <a:lnTo>
                        <a:pt x="702" y="93"/>
                      </a:lnTo>
                      <a:lnTo>
                        <a:pt x="693" y="102"/>
                      </a:lnTo>
                      <a:lnTo>
                        <a:pt x="680" y="106"/>
                      </a:lnTo>
                      <a:lnTo>
                        <a:pt x="671" y="111"/>
                      </a:lnTo>
                      <a:lnTo>
                        <a:pt x="658" y="115"/>
                      </a:lnTo>
                      <a:lnTo>
                        <a:pt x="649" y="120"/>
                      </a:lnTo>
                      <a:lnTo>
                        <a:pt x="636" y="124"/>
                      </a:lnTo>
                      <a:lnTo>
                        <a:pt x="627" y="124"/>
                      </a:lnTo>
                      <a:lnTo>
                        <a:pt x="613" y="128"/>
                      </a:lnTo>
                      <a:lnTo>
                        <a:pt x="605" y="133"/>
                      </a:lnTo>
                      <a:lnTo>
                        <a:pt x="591" y="133"/>
                      </a:lnTo>
                      <a:lnTo>
                        <a:pt x="583" y="137"/>
                      </a:lnTo>
                      <a:lnTo>
                        <a:pt x="569" y="137"/>
                      </a:lnTo>
                      <a:lnTo>
                        <a:pt x="556" y="142"/>
                      </a:lnTo>
                      <a:lnTo>
                        <a:pt x="547" y="142"/>
                      </a:lnTo>
                      <a:lnTo>
                        <a:pt x="534" y="142"/>
                      </a:lnTo>
                      <a:lnTo>
                        <a:pt x="521" y="142"/>
                      </a:lnTo>
                      <a:lnTo>
                        <a:pt x="512" y="142"/>
                      </a:lnTo>
                      <a:lnTo>
                        <a:pt x="494" y="142"/>
                      </a:lnTo>
                      <a:lnTo>
                        <a:pt x="486" y="142"/>
                      </a:lnTo>
                      <a:lnTo>
                        <a:pt x="472" y="142"/>
                      </a:lnTo>
                      <a:lnTo>
                        <a:pt x="459" y="142"/>
                      </a:lnTo>
                      <a:lnTo>
                        <a:pt x="446" y="142"/>
                      </a:lnTo>
                      <a:lnTo>
                        <a:pt x="437" y="142"/>
                      </a:lnTo>
                      <a:lnTo>
                        <a:pt x="419" y="142"/>
                      </a:lnTo>
                      <a:lnTo>
                        <a:pt x="411" y="142"/>
                      </a:lnTo>
                      <a:lnTo>
                        <a:pt x="397" y="142"/>
                      </a:lnTo>
                      <a:lnTo>
                        <a:pt x="384" y="142"/>
                      </a:lnTo>
                      <a:lnTo>
                        <a:pt x="371" y="142"/>
                      </a:lnTo>
                      <a:lnTo>
                        <a:pt x="352" y="142"/>
                      </a:lnTo>
                      <a:lnTo>
                        <a:pt x="339" y="142"/>
                      </a:lnTo>
                      <a:lnTo>
                        <a:pt x="326" y="137"/>
                      </a:lnTo>
                      <a:lnTo>
                        <a:pt x="313" y="137"/>
                      </a:lnTo>
                      <a:lnTo>
                        <a:pt x="299" y="137"/>
                      </a:lnTo>
                      <a:lnTo>
                        <a:pt x="286" y="133"/>
                      </a:lnTo>
                      <a:lnTo>
                        <a:pt x="273" y="133"/>
                      </a:lnTo>
                      <a:lnTo>
                        <a:pt x="260" y="133"/>
                      </a:lnTo>
                      <a:lnTo>
                        <a:pt x="246" y="128"/>
                      </a:lnTo>
                      <a:lnTo>
                        <a:pt x="233" y="124"/>
                      </a:lnTo>
                      <a:lnTo>
                        <a:pt x="220" y="124"/>
                      </a:lnTo>
                      <a:lnTo>
                        <a:pt x="207" y="120"/>
                      </a:lnTo>
                      <a:lnTo>
                        <a:pt x="194" y="115"/>
                      </a:lnTo>
                      <a:lnTo>
                        <a:pt x="180" y="111"/>
                      </a:lnTo>
                      <a:lnTo>
                        <a:pt x="171" y="106"/>
                      </a:lnTo>
                      <a:lnTo>
                        <a:pt x="158" y="106"/>
                      </a:lnTo>
                      <a:lnTo>
                        <a:pt x="145" y="102"/>
                      </a:lnTo>
                      <a:lnTo>
                        <a:pt x="136" y="93"/>
                      </a:lnTo>
                      <a:lnTo>
                        <a:pt x="123" y="89"/>
                      </a:lnTo>
                      <a:lnTo>
                        <a:pt x="110" y="84"/>
                      </a:lnTo>
                      <a:lnTo>
                        <a:pt x="101" y="80"/>
                      </a:lnTo>
                      <a:lnTo>
                        <a:pt x="88" y="70"/>
                      </a:lnTo>
                      <a:lnTo>
                        <a:pt x="79" y="66"/>
                      </a:lnTo>
                      <a:lnTo>
                        <a:pt x="70" y="61"/>
                      </a:lnTo>
                      <a:lnTo>
                        <a:pt x="61" y="52"/>
                      </a:lnTo>
                      <a:lnTo>
                        <a:pt x="52" y="48"/>
                      </a:lnTo>
                      <a:lnTo>
                        <a:pt x="39" y="39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17" y="17"/>
                      </a:lnTo>
                      <a:lnTo>
                        <a:pt x="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654960" y="5599080"/>
                  <a:ext cx="265320" cy="25920"/>
                </a:xfrm>
                <a:custGeom>
                  <a:avLst/>
                  <a:gdLst/>
                  <a:ahLst/>
                  <a:rect l="0" t="0" r="r" b="b"/>
                  <a:pathLst>
                    <a:path w="737" h="72">
                      <a:moveTo>
                        <a:pt x="737" y="72"/>
                      </a:moveTo>
                      <a:lnTo>
                        <a:pt x="733" y="67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33" y="72"/>
                      </a:lnTo>
                      <a:lnTo>
                        <a:pt x="733" y="67"/>
                      </a:lnTo>
                      <a:lnTo>
                        <a:pt x="733" y="72"/>
                      </a:lnTo>
                      <a:lnTo>
                        <a:pt x="737" y="72"/>
                      </a:lnTo>
                      <a:lnTo>
                        <a:pt x="737" y="67"/>
                      </a:lnTo>
                      <a:lnTo>
                        <a:pt x="737" y="67"/>
                      </a:lnTo>
                      <a:lnTo>
                        <a:pt x="733" y="67"/>
                      </a:lnTo>
                      <a:lnTo>
                        <a:pt x="73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789600" y="5626080"/>
                  <a:ext cx="130680" cy="27360"/>
                </a:xfrm>
                <a:custGeom>
                  <a:avLst/>
                  <a:gdLst/>
                  <a:ahLst/>
                  <a:rect l="0" t="0" r="r" b="b"/>
                  <a:pathLst>
                    <a:path w="363" h="76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7" y="72"/>
                      </a:lnTo>
                      <a:lnTo>
                        <a:pt x="30" y="76"/>
                      </a:lnTo>
                      <a:lnTo>
                        <a:pt x="44" y="76"/>
                      </a:lnTo>
                      <a:lnTo>
                        <a:pt x="52" y="76"/>
                      </a:lnTo>
                      <a:lnTo>
                        <a:pt x="66" y="76"/>
                      </a:lnTo>
                      <a:lnTo>
                        <a:pt x="79" y="76"/>
                      </a:lnTo>
                      <a:lnTo>
                        <a:pt x="93" y="76"/>
                      </a:lnTo>
                      <a:lnTo>
                        <a:pt x="102" y="76"/>
                      </a:lnTo>
                      <a:lnTo>
                        <a:pt x="115" y="76"/>
                      </a:lnTo>
                      <a:lnTo>
                        <a:pt x="128" y="76"/>
                      </a:lnTo>
                      <a:lnTo>
                        <a:pt x="142" y="76"/>
                      </a:lnTo>
                      <a:lnTo>
                        <a:pt x="155" y="76"/>
                      </a:lnTo>
                      <a:lnTo>
                        <a:pt x="164" y="76"/>
                      </a:lnTo>
                      <a:lnTo>
                        <a:pt x="177" y="72"/>
                      </a:lnTo>
                      <a:lnTo>
                        <a:pt x="186" y="72"/>
                      </a:lnTo>
                      <a:lnTo>
                        <a:pt x="199" y="72"/>
                      </a:lnTo>
                      <a:lnTo>
                        <a:pt x="208" y="72"/>
                      </a:lnTo>
                      <a:lnTo>
                        <a:pt x="221" y="68"/>
                      </a:lnTo>
                      <a:lnTo>
                        <a:pt x="234" y="68"/>
                      </a:lnTo>
                      <a:lnTo>
                        <a:pt x="243" y="63"/>
                      </a:lnTo>
                      <a:lnTo>
                        <a:pt x="256" y="63"/>
                      </a:lnTo>
                      <a:lnTo>
                        <a:pt x="265" y="59"/>
                      </a:lnTo>
                      <a:lnTo>
                        <a:pt x="275" y="53"/>
                      </a:lnTo>
                      <a:lnTo>
                        <a:pt x="288" y="49"/>
                      </a:lnTo>
                      <a:lnTo>
                        <a:pt x="297" y="45"/>
                      </a:lnTo>
                      <a:lnTo>
                        <a:pt x="306" y="45"/>
                      </a:lnTo>
                      <a:lnTo>
                        <a:pt x="315" y="36"/>
                      </a:lnTo>
                      <a:lnTo>
                        <a:pt x="323" y="31"/>
                      </a:lnTo>
                      <a:lnTo>
                        <a:pt x="337" y="23"/>
                      </a:lnTo>
                      <a:lnTo>
                        <a:pt x="345" y="17"/>
                      </a:lnTo>
                      <a:lnTo>
                        <a:pt x="354" y="8"/>
                      </a:lnTo>
                      <a:lnTo>
                        <a:pt x="363" y="4"/>
                      </a:lnTo>
                      <a:lnTo>
                        <a:pt x="359" y="0"/>
                      </a:lnTo>
                      <a:lnTo>
                        <a:pt x="350" y="8"/>
                      </a:lnTo>
                      <a:lnTo>
                        <a:pt x="341" y="13"/>
                      </a:lnTo>
                      <a:lnTo>
                        <a:pt x="332" y="23"/>
                      </a:lnTo>
                      <a:lnTo>
                        <a:pt x="323" y="27"/>
                      </a:lnTo>
                      <a:lnTo>
                        <a:pt x="315" y="31"/>
                      </a:lnTo>
                      <a:lnTo>
                        <a:pt x="306" y="36"/>
                      </a:lnTo>
                      <a:lnTo>
                        <a:pt x="297" y="45"/>
                      </a:lnTo>
                      <a:lnTo>
                        <a:pt x="284" y="45"/>
                      </a:lnTo>
                      <a:lnTo>
                        <a:pt x="275" y="49"/>
                      </a:lnTo>
                      <a:lnTo>
                        <a:pt x="265" y="53"/>
                      </a:lnTo>
                      <a:lnTo>
                        <a:pt x="252" y="53"/>
                      </a:lnTo>
                      <a:lnTo>
                        <a:pt x="243" y="59"/>
                      </a:lnTo>
                      <a:lnTo>
                        <a:pt x="230" y="63"/>
                      </a:lnTo>
                      <a:lnTo>
                        <a:pt x="221" y="63"/>
                      </a:lnTo>
                      <a:lnTo>
                        <a:pt x="208" y="68"/>
                      </a:lnTo>
                      <a:lnTo>
                        <a:pt x="199" y="68"/>
                      </a:lnTo>
                      <a:lnTo>
                        <a:pt x="186" y="68"/>
                      </a:lnTo>
                      <a:lnTo>
                        <a:pt x="172" y="68"/>
                      </a:lnTo>
                      <a:lnTo>
                        <a:pt x="164" y="68"/>
                      </a:lnTo>
                      <a:lnTo>
                        <a:pt x="155" y="72"/>
                      </a:lnTo>
                      <a:lnTo>
                        <a:pt x="142" y="72"/>
                      </a:lnTo>
                      <a:lnTo>
                        <a:pt x="128" y="72"/>
                      </a:lnTo>
                      <a:lnTo>
                        <a:pt x="115" y="72"/>
                      </a:lnTo>
                      <a:lnTo>
                        <a:pt x="102" y="72"/>
                      </a:lnTo>
                      <a:lnTo>
                        <a:pt x="93" y="72"/>
                      </a:lnTo>
                      <a:lnTo>
                        <a:pt x="79" y="72"/>
                      </a:lnTo>
                      <a:lnTo>
                        <a:pt x="66" y="72"/>
                      </a:lnTo>
                      <a:lnTo>
                        <a:pt x="52" y="68"/>
                      </a:lnTo>
                      <a:lnTo>
                        <a:pt x="44" y="68"/>
                      </a:lnTo>
                      <a:lnTo>
                        <a:pt x="30" y="68"/>
                      </a:lnTo>
                      <a:lnTo>
                        <a:pt x="17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654960" y="5599080"/>
                  <a:ext cx="127440" cy="52920"/>
                </a:xfrm>
                <a:custGeom>
                  <a:avLst/>
                  <a:gdLst/>
                  <a:ahLst/>
                  <a:rect l="0" t="0" r="r" b="b"/>
                  <a:pathLst>
                    <a:path w="354" h="147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17" y="22"/>
                      </a:lnTo>
                      <a:lnTo>
                        <a:pt x="22" y="30"/>
                      </a:lnTo>
                      <a:lnTo>
                        <a:pt x="30" y="40"/>
                      </a:lnTo>
                      <a:lnTo>
                        <a:pt x="39" y="45"/>
                      </a:lnTo>
                      <a:lnTo>
                        <a:pt x="48" y="53"/>
                      </a:lnTo>
                      <a:lnTo>
                        <a:pt x="57" y="58"/>
                      </a:lnTo>
                      <a:lnTo>
                        <a:pt x="66" y="67"/>
                      </a:lnTo>
                      <a:lnTo>
                        <a:pt x="74" y="71"/>
                      </a:lnTo>
                      <a:lnTo>
                        <a:pt x="89" y="80"/>
                      </a:lnTo>
                      <a:lnTo>
                        <a:pt x="98" y="84"/>
                      </a:lnTo>
                      <a:lnTo>
                        <a:pt x="111" y="93"/>
                      </a:lnTo>
                      <a:lnTo>
                        <a:pt x="120" y="98"/>
                      </a:lnTo>
                      <a:lnTo>
                        <a:pt x="128" y="102"/>
                      </a:lnTo>
                      <a:lnTo>
                        <a:pt x="142" y="106"/>
                      </a:lnTo>
                      <a:lnTo>
                        <a:pt x="155" y="112"/>
                      </a:lnTo>
                      <a:lnTo>
                        <a:pt x="164" y="116"/>
                      </a:lnTo>
                      <a:lnTo>
                        <a:pt x="177" y="121"/>
                      </a:lnTo>
                      <a:lnTo>
                        <a:pt x="186" y="125"/>
                      </a:lnTo>
                      <a:lnTo>
                        <a:pt x="199" y="129"/>
                      </a:lnTo>
                      <a:lnTo>
                        <a:pt x="212" y="129"/>
                      </a:lnTo>
                      <a:lnTo>
                        <a:pt x="225" y="134"/>
                      </a:lnTo>
                      <a:lnTo>
                        <a:pt x="234" y="138"/>
                      </a:lnTo>
                      <a:lnTo>
                        <a:pt x="247" y="138"/>
                      </a:lnTo>
                      <a:lnTo>
                        <a:pt x="261" y="143"/>
                      </a:lnTo>
                      <a:lnTo>
                        <a:pt x="275" y="143"/>
                      </a:lnTo>
                      <a:lnTo>
                        <a:pt x="288" y="143"/>
                      </a:lnTo>
                      <a:lnTo>
                        <a:pt x="301" y="147"/>
                      </a:lnTo>
                      <a:lnTo>
                        <a:pt x="315" y="147"/>
                      </a:lnTo>
                      <a:lnTo>
                        <a:pt x="328" y="147"/>
                      </a:lnTo>
                      <a:lnTo>
                        <a:pt x="341" y="147"/>
                      </a:lnTo>
                      <a:lnTo>
                        <a:pt x="354" y="147"/>
                      </a:lnTo>
                      <a:lnTo>
                        <a:pt x="354" y="143"/>
                      </a:lnTo>
                      <a:lnTo>
                        <a:pt x="341" y="143"/>
                      </a:lnTo>
                      <a:lnTo>
                        <a:pt x="328" y="143"/>
                      </a:lnTo>
                      <a:lnTo>
                        <a:pt x="315" y="143"/>
                      </a:lnTo>
                      <a:lnTo>
                        <a:pt x="301" y="143"/>
                      </a:lnTo>
                      <a:lnTo>
                        <a:pt x="288" y="138"/>
                      </a:lnTo>
                      <a:lnTo>
                        <a:pt x="275" y="138"/>
                      </a:lnTo>
                      <a:lnTo>
                        <a:pt x="266" y="134"/>
                      </a:lnTo>
                      <a:lnTo>
                        <a:pt x="247" y="134"/>
                      </a:lnTo>
                      <a:lnTo>
                        <a:pt x="239" y="129"/>
                      </a:lnTo>
                      <a:lnTo>
                        <a:pt x="225" y="129"/>
                      </a:lnTo>
                      <a:lnTo>
                        <a:pt x="212" y="125"/>
                      </a:lnTo>
                      <a:lnTo>
                        <a:pt x="199" y="121"/>
                      </a:lnTo>
                      <a:lnTo>
                        <a:pt x="190" y="116"/>
                      </a:lnTo>
                      <a:lnTo>
                        <a:pt x="177" y="116"/>
                      </a:lnTo>
                      <a:lnTo>
                        <a:pt x="168" y="112"/>
                      </a:lnTo>
                      <a:lnTo>
                        <a:pt x="155" y="106"/>
                      </a:lnTo>
                      <a:lnTo>
                        <a:pt x="142" y="98"/>
                      </a:lnTo>
                      <a:lnTo>
                        <a:pt x="133" y="98"/>
                      </a:lnTo>
                      <a:lnTo>
                        <a:pt x="124" y="93"/>
                      </a:lnTo>
                      <a:lnTo>
                        <a:pt x="111" y="84"/>
                      </a:lnTo>
                      <a:lnTo>
                        <a:pt x="98" y="80"/>
                      </a:lnTo>
                      <a:lnTo>
                        <a:pt x="89" y="75"/>
                      </a:lnTo>
                      <a:lnTo>
                        <a:pt x="79" y="67"/>
                      </a:lnTo>
                      <a:lnTo>
                        <a:pt x="70" y="62"/>
                      </a:lnTo>
                      <a:lnTo>
                        <a:pt x="61" y="53"/>
                      </a:lnTo>
                      <a:lnTo>
                        <a:pt x="52" y="49"/>
                      </a:lnTo>
                      <a:lnTo>
                        <a:pt x="44" y="40"/>
                      </a:lnTo>
                      <a:lnTo>
                        <a:pt x="35" y="35"/>
                      </a:lnTo>
                      <a:lnTo>
                        <a:pt x="26" y="26"/>
                      </a:lnTo>
                      <a:lnTo>
                        <a:pt x="22" y="17"/>
                      </a:lnTo>
                      <a:lnTo>
                        <a:pt x="13" y="8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513480" y="5559480"/>
                  <a:ext cx="449640" cy="178200"/>
                </a:xfrm>
                <a:custGeom>
                  <a:avLst/>
                  <a:gdLst/>
                  <a:ahLst/>
                  <a:rect l="0" t="0" r="r" b="b"/>
                  <a:pathLst>
                    <a:path w="1249" h="495">
                      <a:moveTo>
                        <a:pt x="79" y="336"/>
                      </a:moveTo>
                      <a:lnTo>
                        <a:pt x="1249" y="442"/>
                      </a:lnTo>
                      <a:lnTo>
                        <a:pt x="1249" y="495"/>
                      </a:lnTo>
                      <a:lnTo>
                        <a:pt x="79" y="390"/>
                      </a:lnTo>
                      <a:lnTo>
                        <a:pt x="79" y="336"/>
                      </a:lnTo>
                      <a:lnTo>
                        <a:pt x="4" y="0"/>
                      </a:lnTo>
                      <a:lnTo>
                        <a:pt x="1227" y="110"/>
                      </a:lnTo>
                      <a:lnTo>
                        <a:pt x="1219" y="168"/>
                      </a:lnTo>
                      <a:lnTo>
                        <a:pt x="0" y="48"/>
                      </a:lnTo>
                      <a:lnTo>
                        <a:pt x="4" y="0"/>
                      </a:lnTo>
                      <a:lnTo>
                        <a:pt x="79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83400" y="5640480"/>
                  <a:ext cx="230400" cy="41760"/>
                </a:xfrm>
                <a:custGeom>
                  <a:avLst/>
                  <a:gdLst/>
                  <a:ahLst/>
                  <a:rect l="0" t="0" r="r" b="b"/>
                  <a:pathLst>
                    <a:path w="640" h="116">
                      <a:moveTo>
                        <a:pt x="57" y="0"/>
                      </a:moveTo>
                      <a:lnTo>
                        <a:pt x="4" y="67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4" y="75"/>
                      </a:lnTo>
                      <a:lnTo>
                        <a:pt x="4" y="80"/>
                      </a:lnTo>
                      <a:lnTo>
                        <a:pt x="8" y="80"/>
                      </a:lnTo>
                      <a:lnTo>
                        <a:pt x="13" y="84"/>
                      </a:lnTo>
                      <a:lnTo>
                        <a:pt x="17" y="84"/>
                      </a:lnTo>
                      <a:lnTo>
                        <a:pt x="26" y="90"/>
                      </a:lnTo>
                      <a:lnTo>
                        <a:pt x="35" y="90"/>
                      </a:lnTo>
                      <a:lnTo>
                        <a:pt x="39" y="90"/>
                      </a:lnTo>
                      <a:lnTo>
                        <a:pt x="48" y="94"/>
                      </a:lnTo>
                      <a:lnTo>
                        <a:pt x="61" y="94"/>
                      </a:lnTo>
                      <a:lnTo>
                        <a:pt x="70" y="99"/>
                      </a:lnTo>
                      <a:lnTo>
                        <a:pt x="83" y="99"/>
                      </a:lnTo>
                      <a:lnTo>
                        <a:pt x="97" y="103"/>
                      </a:lnTo>
                      <a:lnTo>
                        <a:pt x="110" y="103"/>
                      </a:lnTo>
                      <a:lnTo>
                        <a:pt x="119" y="107"/>
                      </a:lnTo>
                      <a:lnTo>
                        <a:pt x="132" y="107"/>
                      </a:lnTo>
                      <a:lnTo>
                        <a:pt x="145" y="107"/>
                      </a:lnTo>
                      <a:lnTo>
                        <a:pt x="163" y="112"/>
                      </a:lnTo>
                      <a:lnTo>
                        <a:pt x="171" y="112"/>
                      </a:lnTo>
                      <a:lnTo>
                        <a:pt x="189" y="112"/>
                      </a:lnTo>
                      <a:lnTo>
                        <a:pt x="202" y="112"/>
                      </a:lnTo>
                      <a:lnTo>
                        <a:pt x="216" y="116"/>
                      </a:lnTo>
                      <a:lnTo>
                        <a:pt x="229" y="116"/>
                      </a:lnTo>
                      <a:lnTo>
                        <a:pt x="242" y="116"/>
                      </a:lnTo>
                      <a:lnTo>
                        <a:pt x="255" y="116"/>
                      </a:lnTo>
                      <a:lnTo>
                        <a:pt x="268" y="116"/>
                      </a:lnTo>
                      <a:lnTo>
                        <a:pt x="282" y="116"/>
                      </a:lnTo>
                      <a:lnTo>
                        <a:pt x="295" y="116"/>
                      </a:lnTo>
                      <a:lnTo>
                        <a:pt x="308" y="116"/>
                      </a:lnTo>
                      <a:lnTo>
                        <a:pt x="322" y="116"/>
                      </a:lnTo>
                      <a:lnTo>
                        <a:pt x="331" y="116"/>
                      </a:lnTo>
                      <a:lnTo>
                        <a:pt x="340" y="116"/>
                      </a:lnTo>
                      <a:lnTo>
                        <a:pt x="353" y="116"/>
                      </a:lnTo>
                      <a:lnTo>
                        <a:pt x="367" y="116"/>
                      </a:lnTo>
                      <a:lnTo>
                        <a:pt x="380" y="116"/>
                      </a:lnTo>
                      <a:lnTo>
                        <a:pt x="393" y="116"/>
                      </a:lnTo>
                      <a:lnTo>
                        <a:pt x="406" y="116"/>
                      </a:lnTo>
                      <a:lnTo>
                        <a:pt x="419" y="116"/>
                      </a:lnTo>
                      <a:lnTo>
                        <a:pt x="433" y="112"/>
                      </a:lnTo>
                      <a:lnTo>
                        <a:pt x="446" y="112"/>
                      </a:lnTo>
                      <a:lnTo>
                        <a:pt x="459" y="112"/>
                      </a:lnTo>
                      <a:lnTo>
                        <a:pt x="472" y="112"/>
                      </a:lnTo>
                      <a:lnTo>
                        <a:pt x="490" y="107"/>
                      </a:lnTo>
                      <a:lnTo>
                        <a:pt x="499" y="107"/>
                      </a:lnTo>
                      <a:lnTo>
                        <a:pt x="516" y="107"/>
                      </a:lnTo>
                      <a:lnTo>
                        <a:pt x="525" y="103"/>
                      </a:lnTo>
                      <a:lnTo>
                        <a:pt x="538" y="103"/>
                      </a:lnTo>
                      <a:lnTo>
                        <a:pt x="552" y="103"/>
                      </a:lnTo>
                      <a:lnTo>
                        <a:pt x="565" y="99"/>
                      </a:lnTo>
                      <a:lnTo>
                        <a:pt x="574" y="99"/>
                      </a:lnTo>
                      <a:lnTo>
                        <a:pt x="583" y="94"/>
                      </a:lnTo>
                      <a:lnTo>
                        <a:pt x="596" y="94"/>
                      </a:lnTo>
                      <a:lnTo>
                        <a:pt x="605" y="90"/>
                      </a:lnTo>
                      <a:lnTo>
                        <a:pt x="609" y="90"/>
                      </a:lnTo>
                      <a:lnTo>
                        <a:pt x="618" y="90"/>
                      </a:lnTo>
                      <a:lnTo>
                        <a:pt x="627" y="84"/>
                      </a:lnTo>
                      <a:lnTo>
                        <a:pt x="631" y="84"/>
                      </a:lnTo>
                      <a:lnTo>
                        <a:pt x="636" y="80"/>
                      </a:lnTo>
                      <a:lnTo>
                        <a:pt x="636" y="75"/>
                      </a:lnTo>
                      <a:lnTo>
                        <a:pt x="640" y="75"/>
                      </a:lnTo>
                      <a:lnTo>
                        <a:pt x="640" y="71"/>
                      </a:lnTo>
                      <a:lnTo>
                        <a:pt x="640" y="67"/>
                      </a:lnTo>
                      <a:lnTo>
                        <a:pt x="600" y="4"/>
                      </a:lnTo>
                      <a:lnTo>
                        <a:pt x="591" y="8"/>
                      </a:lnTo>
                      <a:lnTo>
                        <a:pt x="583" y="13"/>
                      </a:lnTo>
                      <a:lnTo>
                        <a:pt x="578" y="13"/>
                      </a:lnTo>
                      <a:lnTo>
                        <a:pt x="569" y="17"/>
                      </a:lnTo>
                      <a:lnTo>
                        <a:pt x="565" y="17"/>
                      </a:lnTo>
                      <a:lnTo>
                        <a:pt x="556" y="22"/>
                      </a:lnTo>
                      <a:lnTo>
                        <a:pt x="547" y="22"/>
                      </a:lnTo>
                      <a:lnTo>
                        <a:pt x="538" y="26"/>
                      </a:lnTo>
                      <a:lnTo>
                        <a:pt x="530" y="26"/>
                      </a:lnTo>
                      <a:lnTo>
                        <a:pt x="521" y="31"/>
                      </a:lnTo>
                      <a:lnTo>
                        <a:pt x="516" y="31"/>
                      </a:lnTo>
                      <a:lnTo>
                        <a:pt x="503" y="31"/>
                      </a:lnTo>
                      <a:lnTo>
                        <a:pt x="499" y="31"/>
                      </a:lnTo>
                      <a:lnTo>
                        <a:pt x="490" y="31"/>
                      </a:lnTo>
                      <a:lnTo>
                        <a:pt x="481" y="36"/>
                      </a:lnTo>
                      <a:lnTo>
                        <a:pt x="472" y="36"/>
                      </a:lnTo>
                      <a:lnTo>
                        <a:pt x="464" y="36"/>
                      </a:lnTo>
                      <a:lnTo>
                        <a:pt x="455" y="36"/>
                      </a:lnTo>
                      <a:lnTo>
                        <a:pt x="446" y="36"/>
                      </a:lnTo>
                      <a:lnTo>
                        <a:pt x="437" y="40"/>
                      </a:lnTo>
                      <a:lnTo>
                        <a:pt x="428" y="40"/>
                      </a:lnTo>
                      <a:lnTo>
                        <a:pt x="419" y="40"/>
                      </a:lnTo>
                      <a:lnTo>
                        <a:pt x="411" y="40"/>
                      </a:lnTo>
                      <a:lnTo>
                        <a:pt x="402" y="40"/>
                      </a:lnTo>
                      <a:lnTo>
                        <a:pt x="393" y="40"/>
                      </a:lnTo>
                      <a:lnTo>
                        <a:pt x="384" y="40"/>
                      </a:lnTo>
                      <a:lnTo>
                        <a:pt x="375" y="40"/>
                      </a:lnTo>
                      <a:lnTo>
                        <a:pt x="367" y="40"/>
                      </a:lnTo>
                      <a:lnTo>
                        <a:pt x="358" y="40"/>
                      </a:lnTo>
                      <a:lnTo>
                        <a:pt x="349" y="40"/>
                      </a:lnTo>
                      <a:lnTo>
                        <a:pt x="340" y="40"/>
                      </a:lnTo>
                      <a:lnTo>
                        <a:pt x="331" y="40"/>
                      </a:lnTo>
                      <a:lnTo>
                        <a:pt x="322" y="40"/>
                      </a:lnTo>
                      <a:lnTo>
                        <a:pt x="313" y="40"/>
                      </a:lnTo>
                      <a:lnTo>
                        <a:pt x="299" y="40"/>
                      </a:lnTo>
                      <a:lnTo>
                        <a:pt x="291" y="40"/>
                      </a:lnTo>
                      <a:lnTo>
                        <a:pt x="277" y="40"/>
                      </a:lnTo>
                      <a:lnTo>
                        <a:pt x="268" y="40"/>
                      </a:lnTo>
                      <a:lnTo>
                        <a:pt x="255" y="40"/>
                      </a:lnTo>
                      <a:lnTo>
                        <a:pt x="242" y="40"/>
                      </a:lnTo>
                      <a:lnTo>
                        <a:pt x="229" y="40"/>
                      </a:lnTo>
                      <a:lnTo>
                        <a:pt x="220" y="40"/>
                      </a:lnTo>
                      <a:lnTo>
                        <a:pt x="202" y="40"/>
                      </a:lnTo>
                      <a:lnTo>
                        <a:pt x="194" y="36"/>
                      </a:lnTo>
                      <a:lnTo>
                        <a:pt x="180" y="36"/>
                      </a:lnTo>
                      <a:lnTo>
                        <a:pt x="167" y="36"/>
                      </a:lnTo>
                      <a:lnTo>
                        <a:pt x="158" y="36"/>
                      </a:lnTo>
                      <a:lnTo>
                        <a:pt x="145" y="31"/>
                      </a:lnTo>
                      <a:lnTo>
                        <a:pt x="136" y="31"/>
                      </a:lnTo>
                      <a:lnTo>
                        <a:pt x="123" y="31"/>
                      </a:lnTo>
                      <a:lnTo>
                        <a:pt x="114" y="31"/>
                      </a:lnTo>
                      <a:lnTo>
                        <a:pt x="105" y="31"/>
                      </a:lnTo>
                      <a:lnTo>
                        <a:pt x="97" y="26"/>
                      </a:lnTo>
                      <a:lnTo>
                        <a:pt x="88" y="26"/>
                      </a:lnTo>
                      <a:lnTo>
                        <a:pt x="79" y="22"/>
                      </a:lnTo>
                      <a:lnTo>
                        <a:pt x="70" y="22"/>
                      </a:lnTo>
                      <a:lnTo>
                        <a:pt x="66" y="17"/>
                      </a:lnTo>
                      <a:lnTo>
                        <a:pt x="61" y="17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2" y="8"/>
                      </a:lnTo>
                      <a:lnTo>
                        <a:pt x="52" y="4"/>
                      </a:lnTo>
                      <a:lnTo>
                        <a:pt x="52" y="4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83400" y="564048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8" y="72"/>
                      </a:moveTo>
                      <a:lnTo>
                        <a:pt x="8" y="72"/>
                      </a:lnTo>
                      <a:lnTo>
                        <a:pt x="72" y="5"/>
                      </a:lnTo>
                      <a:lnTo>
                        <a:pt x="63" y="0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83400" y="5670720"/>
                  <a:ext cx="113040" cy="25920"/>
                </a:xfrm>
                <a:custGeom>
                  <a:avLst/>
                  <a:gdLst/>
                  <a:ahLst/>
                  <a:rect l="0" t="0" r="r" b="b"/>
                  <a:pathLst>
                    <a:path w="314" h="72">
                      <a:moveTo>
                        <a:pt x="309" y="64"/>
                      </a:moveTo>
                      <a:lnTo>
                        <a:pt x="309" y="64"/>
                      </a:lnTo>
                      <a:lnTo>
                        <a:pt x="296" y="64"/>
                      </a:lnTo>
                      <a:lnTo>
                        <a:pt x="287" y="64"/>
                      </a:lnTo>
                      <a:lnTo>
                        <a:pt x="274" y="64"/>
                      </a:lnTo>
                      <a:lnTo>
                        <a:pt x="261" y="64"/>
                      </a:lnTo>
                      <a:lnTo>
                        <a:pt x="247" y="64"/>
                      </a:lnTo>
                      <a:lnTo>
                        <a:pt x="234" y="64"/>
                      </a:lnTo>
                      <a:lnTo>
                        <a:pt x="225" y="64"/>
                      </a:lnTo>
                      <a:lnTo>
                        <a:pt x="212" y="56"/>
                      </a:lnTo>
                      <a:lnTo>
                        <a:pt x="195" y="56"/>
                      </a:lnTo>
                      <a:lnTo>
                        <a:pt x="181" y="56"/>
                      </a:lnTo>
                      <a:lnTo>
                        <a:pt x="168" y="56"/>
                      </a:lnTo>
                      <a:lnTo>
                        <a:pt x="159" y="56"/>
                      </a:lnTo>
                      <a:lnTo>
                        <a:pt x="141" y="56"/>
                      </a:lnTo>
                      <a:lnTo>
                        <a:pt x="127" y="48"/>
                      </a:lnTo>
                      <a:lnTo>
                        <a:pt x="119" y="48"/>
                      </a:lnTo>
                      <a:lnTo>
                        <a:pt x="105" y="48"/>
                      </a:lnTo>
                      <a:lnTo>
                        <a:pt x="92" y="48"/>
                      </a:lnTo>
                      <a:lnTo>
                        <a:pt x="83" y="40"/>
                      </a:lnTo>
                      <a:lnTo>
                        <a:pt x="70" y="40"/>
                      </a:lnTo>
                      <a:lnTo>
                        <a:pt x="61" y="40"/>
                      </a:lnTo>
                      <a:lnTo>
                        <a:pt x="52" y="32"/>
                      </a:lnTo>
                      <a:lnTo>
                        <a:pt x="44" y="32"/>
                      </a:lnTo>
                      <a:lnTo>
                        <a:pt x="35" y="24"/>
                      </a:lnTo>
                      <a:lnTo>
                        <a:pt x="26" y="24"/>
                      </a:lnTo>
                      <a:lnTo>
                        <a:pt x="22" y="24"/>
                      </a:lnTo>
                      <a:lnTo>
                        <a:pt x="17" y="15"/>
                      </a:lnTo>
                      <a:lnTo>
                        <a:pt x="13" y="15"/>
                      </a:lnTo>
                      <a:lnTo>
                        <a:pt x="8" y="15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8" y="24"/>
                      </a:lnTo>
                      <a:lnTo>
                        <a:pt x="13" y="24"/>
                      </a:lnTo>
                      <a:lnTo>
                        <a:pt x="17" y="24"/>
                      </a:lnTo>
                      <a:lnTo>
                        <a:pt x="26" y="32"/>
                      </a:lnTo>
                      <a:lnTo>
                        <a:pt x="35" y="40"/>
                      </a:lnTo>
                      <a:lnTo>
                        <a:pt x="39" y="40"/>
                      </a:lnTo>
                      <a:lnTo>
                        <a:pt x="48" y="40"/>
                      </a:lnTo>
                      <a:lnTo>
                        <a:pt x="61" y="48"/>
                      </a:lnTo>
                      <a:lnTo>
                        <a:pt x="70" y="48"/>
                      </a:lnTo>
                      <a:lnTo>
                        <a:pt x="79" y="48"/>
                      </a:lnTo>
                      <a:lnTo>
                        <a:pt x="92" y="48"/>
                      </a:lnTo>
                      <a:lnTo>
                        <a:pt x="101" y="56"/>
                      </a:lnTo>
                      <a:lnTo>
                        <a:pt x="119" y="56"/>
                      </a:lnTo>
                      <a:lnTo>
                        <a:pt x="127" y="56"/>
                      </a:lnTo>
                      <a:lnTo>
                        <a:pt x="141" y="56"/>
                      </a:lnTo>
                      <a:lnTo>
                        <a:pt x="154" y="64"/>
                      </a:lnTo>
                      <a:lnTo>
                        <a:pt x="168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12" y="64"/>
                      </a:lnTo>
                      <a:lnTo>
                        <a:pt x="221" y="72"/>
                      </a:lnTo>
                      <a:lnTo>
                        <a:pt x="234" y="72"/>
                      </a:lnTo>
                      <a:lnTo>
                        <a:pt x="247" y="72"/>
                      </a:lnTo>
                      <a:lnTo>
                        <a:pt x="261" y="72"/>
                      </a:lnTo>
                      <a:lnTo>
                        <a:pt x="274" y="72"/>
                      </a:lnTo>
                      <a:lnTo>
                        <a:pt x="287" y="72"/>
                      </a:lnTo>
                      <a:lnTo>
                        <a:pt x="296" y="72"/>
                      </a:lnTo>
                      <a:lnTo>
                        <a:pt x="309" y="72"/>
                      </a:lnTo>
                      <a:lnTo>
                        <a:pt x="309" y="72"/>
                      </a:lnTo>
                      <a:lnTo>
                        <a:pt x="314" y="64"/>
                      </a:lnTo>
                      <a:lnTo>
                        <a:pt x="30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804000" y="5670720"/>
                  <a:ext cx="111600" cy="25920"/>
                </a:xfrm>
                <a:custGeom>
                  <a:avLst/>
                  <a:gdLst/>
                  <a:ahLst/>
                  <a:rect l="0" t="0" r="r" b="b"/>
                  <a:pathLst>
                    <a:path w="310" h="72">
                      <a:moveTo>
                        <a:pt x="306" y="7"/>
                      </a:moveTo>
                      <a:lnTo>
                        <a:pt x="301" y="7"/>
                      </a:lnTo>
                      <a:lnTo>
                        <a:pt x="306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1" y="15"/>
                      </a:lnTo>
                      <a:lnTo>
                        <a:pt x="297" y="15"/>
                      </a:lnTo>
                      <a:lnTo>
                        <a:pt x="293" y="24"/>
                      </a:lnTo>
                      <a:lnTo>
                        <a:pt x="284" y="24"/>
                      </a:lnTo>
                      <a:lnTo>
                        <a:pt x="279" y="24"/>
                      </a:lnTo>
                      <a:lnTo>
                        <a:pt x="270" y="32"/>
                      </a:lnTo>
                      <a:lnTo>
                        <a:pt x="262" y="32"/>
                      </a:lnTo>
                      <a:lnTo>
                        <a:pt x="253" y="40"/>
                      </a:lnTo>
                      <a:lnTo>
                        <a:pt x="244" y="40"/>
                      </a:lnTo>
                      <a:lnTo>
                        <a:pt x="235" y="40"/>
                      </a:lnTo>
                      <a:lnTo>
                        <a:pt x="221" y="48"/>
                      </a:lnTo>
                      <a:lnTo>
                        <a:pt x="212" y="48"/>
                      </a:lnTo>
                      <a:lnTo>
                        <a:pt x="199" y="48"/>
                      </a:lnTo>
                      <a:lnTo>
                        <a:pt x="186" y="48"/>
                      </a:lnTo>
                      <a:lnTo>
                        <a:pt x="172" y="48"/>
                      </a:lnTo>
                      <a:lnTo>
                        <a:pt x="159" y="56"/>
                      </a:lnTo>
                      <a:lnTo>
                        <a:pt x="146" y="56"/>
                      </a:lnTo>
                      <a:lnTo>
                        <a:pt x="133" y="56"/>
                      </a:lnTo>
                      <a:lnTo>
                        <a:pt x="124" y="56"/>
                      </a:lnTo>
                      <a:lnTo>
                        <a:pt x="111" y="56"/>
                      </a:lnTo>
                      <a:lnTo>
                        <a:pt x="93" y="56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7" y="64"/>
                      </a:lnTo>
                      <a:lnTo>
                        <a:pt x="44" y="64"/>
                      </a:lnTo>
                      <a:lnTo>
                        <a:pt x="30" y="64"/>
                      </a:lnTo>
                      <a:lnTo>
                        <a:pt x="22" y="64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44" y="72"/>
                      </a:lnTo>
                      <a:lnTo>
                        <a:pt x="57" y="72"/>
                      </a:lnTo>
                      <a:lnTo>
                        <a:pt x="70" y="72"/>
                      </a:lnTo>
                      <a:lnTo>
                        <a:pt x="84" y="64"/>
                      </a:lnTo>
                      <a:lnTo>
                        <a:pt x="93" y="64"/>
                      </a:lnTo>
                      <a:lnTo>
                        <a:pt x="111" y="64"/>
                      </a:lnTo>
                      <a:lnTo>
                        <a:pt x="124" y="64"/>
                      </a:lnTo>
                      <a:lnTo>
                        <a:pt x="133" y="64"/>
                      </a:lnTo>
                      <a:lnTo>
                        <a:pt x="146" y="64"/>
                      </a:lnTo>
                      <a:lnTo>
                        <a:pt x="164" y="64"/>
                      </a:lnTo>
                      <a:lnTo>
                        <a:pt x="172" y="56"/>
                      </a:lnTo>
                      <a:lnTo>
                        <a:pt x="186" y="56"/>
                      </a:lnTo>
                      <a:lnTo>
                        <a:pt x="199" y="56"/>
                      </a:lnTo>
                      <a:lnTo>
                        <a:pt x="212" y="56"/>
                      </a:lnTo>
                      <a:lnTo>
                        <a:pt x="221" y="48"/>
                      </a:lnTo>
                      <a:lnTo>
                        <a:pt x="235" y="48"/>
                      </a:lnTo>
                      <a:lnTo>
                        <a:pt x="244" y="48"/>
                      </a:lnTo>
                      <a:lnTo>
                        <a:pt x="253" y="40"/>
                      </a:lnTo>
                      <a:lnTo>
                        <a:pt x="266" y="40"/>
                      </a:lnTo>
                      <a:lnTo>
                        <a:pt x="275" y="40"/>
                      </a:lnTo>
                      <a:lnTo>
                        <a:pt x="279" y="32"/>
                      </a:lnTo>
                      <a:lnTo>
                        <a:pt x="288" y="32"/>
                      </a:lnTo>
                      <a:lnTo>
                        <a:pt x="293" y="24"/>
                      </a:lnTo>
                      <a:lnTo>
                        <a:pt x="301" y="24"/>
                      </a:lnTo>
                      <a:lnTo>
                        <a:pt x="301" y="24"/>
                      </a:lnTo>
                      <a:lnTo>
                        <a:pt x="306" y="15"/>
                      </a:lnTo>
                      <a:lnTo>
                        <a:pt x="310" y="15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1" y="7"/>
                      </a:lnTo>
                      <a:lnTo>
                        <a:pt x="30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907320" y="5643720"/>
                  <a:ext cx="25920" cy="25920"/>
                </a:xfrm>
                <a:custGeom>
                  <a:avLst/>
                  <a:gdLst/>
                  <a:ahLst/>
                  <a:rect l="0" t="0" r="r" b="b"/>
                  <a:pathLst>
                    <a:path w="72" h="72">
                      <a:moveTo>
                        <a:pt x="14" y="5"/>
                      </a:moveTo>
                      <a:lnTo>
                        <a:pt x="0" y="5"/>
                      </a:lnTo>
                      <a:lnTo>
                        <a:pt x="58" y="72"/>
                      </a:lnTo>
                      <a:lnTo>
                        <a:pt x="72" y="6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805440" y="5643720"/>
                  <a:ext cx="93960" cy="25920"/>
                </a:xfrm>
                <a:custGeom>
                  <a:avLst/>
                  <a:gdLst/>
                  <a:ahLst/>
                  <a:rect l="0" t="0" r="r" b="b"/>
                  <a:pathLst>
                    <a:path w="261" h="72">
                      <a:moveTo>
                        <a:pt x="4" y="72"/>
                      </a:moveTo>
                      <a:lnTo>
                        <a:pt x="4" y="72"/>
                      </a:lnTo>
                      <a:lnTo>
                        <a:pt x="13" y="72"/>
                      </a:lnTo>
                      <a:lnTo>
                        <a:pt x="22" y="72"/>
                      </a:lnTo>
                      <a:lnTo>
                        <a:pt x="30" y="72"/>
                      </a:lnTo>
                      <a:lnTo>
                        <a:pt x="35" y="72"/>
                      </a:lnTo>
                      <a:lnTo>
                        <a:pt x="44" y="72"/>
                      </a:lnTo>
                      <a:lnTo>
                        <a:pt x="52" y="72"/>
                      </a:lnTo>
                      <a:lnTo>
                        <a:pt x="61" y="72"/>
                      </a:lnTo>
                      <a:lnTo>
                        <a:pt x="70" y="72"/>
                      </a:lnTo>
                      <a:lnTo>
                        <a:pt x="79" y="72"/>
                      </a:lnTo>
                      <a:lnTo>
                        <a:pt x="88" y="72"/>
                      </a:lnTo>
                      <a:lnTo>
                        <a:pt x="97" y="72"/>
                      </a:lnTo>
                      <a:lnTo>
                        <a:pt x="105" y="72"/>
                      </a:lnTo>
                      <a:lnTo>
                        <a:pt x="110" y="58"/>
                      </a:lnTo>
                      <a:lnTo>
                        <a:pt x="119" y="58"/>
                      </a:lnTo>
                      <a:lnTo>
                        <a:pt x="133" y="58"/>
                      </a:lnTo>
                      <a:lnTo>
                        <a:pt x="137" y="58"/>
                      </a:lnTo>
                      <a:lnTo>
                        <a:pt x="146" y="58"/>
                      </a:lnTo>
                      <a:lnTo>
                        <a:pt x="155" y="58"/>
                      </a:lnTo>
                      <a:lnTo>
                        <a:pt x="164" y="58"/>
                      </a:lnTo>
                      <a:lnTo>
                        <a:pt x="168" y="58"/>
                      </a:lnTo>
                      <a:lnTo>
                        <a:pt x="177" y="58"/>
                      </a:lnTo>
                      <a:lnTo>
                        <a:pt x="186" y="43"/>
                      </a:lnTo>
                      <a:lnTo>
                        <a:pt x="195" y="43"/>
                      </a:lnTo>
                      <a:lnTo>
                        <a:pt x="203" y="43"/>
                      </a:lnTo>
                      <a:lnTo>
                        <a:pt x="212" y="43"/>
                      </a:lnTo>
                      <a:lnTo>
                        <a:pt x="217" y="43"/>
                      </a:lnTo>
                      <a:lnTo>
                        <a:pt x="225" y="29"/>
                      </a:lnTo>
                      <a:lnTo>
                        <a:pt x="230" y="29"/>
                      </a:lnTo>
                      <a:lnTo>
                        <a:pt x="239" y="29"/>
                      </a:lnTo>
                      <a:lnTo>
                        <a:pt x="247" y="14"/>
                      </a:lnTo>
                      <a:lnTo>
                        <a:pt x="252" y="14"/>
                      </a:lnTo>
                      <a:lnTo>
                        <a:pt x="261" y="14"/>
                      </a:lnTo>
                      <a:lnTo>
                        <a:pt x="256" y="0"/>
                      </a:lnTo>
                      <a:lnTo>
                        <a:pt x="252" y="0"/>
                      </a:lnTo>
                      <a:lnTo>
                        <a:pt x="243" y="14"/>
                      </a:lnTo>
                      <a:lnTo>
                        <a:pt x="239" y="14"/>
                      </a:lnTo>
                      <a:lnTo>
                        <a:pt x="230" y="14"/>
                      </a:lnTo>
                      <a:lnTo>
                        <a:pt x="221" y="29"/>
                      </a:lnTo>
                      <a:lnTo>
                        <a:pt x="217" y="29"/>
                      </a:lnTo>
                      <a:lnTo>
                        <a:pt x="208" y="29"/>
                      </a:lnTo>
                      <a:lnTo>
                        <a:pt x="203" y="29"/>
                      </a:lnTo>
                      <a:lnTo>
                        <a:pt x="190" y="43"/>
                      </a:lnTo>
                      <a:lnTo>
                        <a:pt x="186" y="43"/>
                      </a:lnTo>
                      <a:lnTo>
                        <a:pt x="177" y="43"/>
                      </a:lnTo>
                      <a:lnTo>
                        <a:pt x="168" y="43"/>
                      </a:lnTo>
                      <a:lnTo>
                        <a:pt x="159" y="43"/>
                      </a:lnTo>
                      <a:lnTo>
                        <a:pt x="155" y="43"/>
                      </a:lnTo>
                      <a:lnTo>
                        <a:pt x="146" y="43"/>
                      </a:lnTo>
                      <a:lnTo>
                        <a:pt x="137" y="58"/>
                      </a:lnTo>
                      <a:lnTo>
                        <a:pt x="127" y="58"/>
                      </a:lnTo>
                      <a:lnTo>
                        <a:pt x="119" y="58"/>
                      </a:lnTo>
                      <a:lnTo>
                        <a:pt x="110" y="58"/>
                      </a:lnTo>
                      <a:lnTo>
                        <a:pt x="101" y="58"/>
                      </a:lnTo>
                      <a:lnTo>
                        <a:pt x="97" y="58"/>
                      </a:lnTo>
                      <a:lnTo>
                        <a:pt x="88" y="58"/>
                      </a:lnTo>
                      <a:lnTo>
                        <a:pt x="79" y="58"/>
                      </a:lnTo>
                      <a:lnTo>
                        <a:pt x="70" y="58"/>
                      </a:lnTo>
                      <a:lnTo>
                        <a:pt x="61" y="58"/>
                      </a:lnTo>
                      <a:lnTo>
                        <a:pt x="52" y="58"/>
                      </a:lnTo>
                      <a:lnTo>
                        <a:pt x="44" y="58"/>
                      </a:lnTo>
                      <a:lnTo>
                        <a:pt x="35" y="58"/>
                      </a:lnTo>
                      <a:lnTo>
                        <a:pt x="30" y="58"/>
                      </a:lnTo>
                      <a:lnTo>
                        <a:pt x="22" y="58"/>
                      </a:lnTo>
                      <a:lnTo>
                        <a:pt x="13" y="58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0" y="72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702480" y="5640480"/>
                  <a:ext cx="97200" cy="25920"/>
                </a:xfrm>
                <a:custGeom>
                  <a:avLst/>
                  <a:gdLst/>
                  <a:ahLst/>
                  <a:rect l="0" t="0" r="r" b="b"/>
                  <a:pathLst>
                    <a:path w="270" h="72">
                      <a:moveTo>
                        <a:pt x="8" y="1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8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2" y="41"/>
                      </a:lnTo>
                      <a:lnTo>
                        <a:pt x="30" y="41"/>
                      </a:lnTo>
                      <a:lnTo>
                        <a:pt x="35" y="41"/>
                      </a:lnTo>
                      <a:lnTo>
                        <a:pt x="44" y="51"/>
                      </a:lnTo>
                      <a:lnTo>
                        <a:pt x="52" y="51"/>
                      </a:lnTo>
                      <a:lnTo>
                        <a:pt x="61" y="51"/>
                      </a:lnTo>
                      <a:lnTo>
                        <a:pt x="71" y="51"/>
                      </a:lnTo>
                      <a:lnTo>
                        <a:pt x="84" y="51"/>
                      </a:lnTo>
                      <a:lnTo>
                        <a:pt x="93" y="62"/>
                      </a:lnTo>
                      <a:lnTo>
                        <a:pt x="102" y="62"/>
                      </a:lnTo>
                      <a:lnTo>
                        <a:pt x="115" y="62"/>
                      </a:lnTo>
                      <a:lnTo>
                        <a:pt x="124" y="62"/>
                      </a:lnTo>
                      <a:lnTo>
                        <a:pt x="137" y="62"/>
                      </a:lnTo>
                      <a:lnTo>
                        <a:pt x="150" y="62"/>
                      </a:lnTo>
                      <a:lnTo>
                        <a:pt x="164" y="62"/>
                      </a:lnTo>
                      <a:lnTo>
                        <a:pt x="172" y="72"/>
                      </a:lnTo>
                      <a:lnTo>
                        <a:pt x="186" y="72"/>
                      </a:lnTo>
                      <a:lnTo>
                        <a:pt x="195" y="72"/>
                      </a:lnTo>
                      <a:lnTo>
                        <a:pt x="209" y="72"/>
                      </a:lnTo>
                      <a:lnTo>
                        <a:pt x="222" y="72"/>
                      </a:lnTo>
                      <a:lnTo>
                        <a:pt x="231" y="72"/>
                      </a:lnTo>
                      <a:lnTo>
                        <a:pt x="240" y="72"/>
                      </a:lnTo>
                      <a:lnTo>
                        <a:pt x="253" y="72"/>
                      </a:lnTo>
                      <a:lnTo>
                        <a:pt x="262" y="72"/>
                      </a:lnTo>
                      <a:lnTo>
                        <a:pt x="270" y="72"/>
                      </a:lnTo>
                      <a:lnTo>
                        <a:pt x="270" y="62"/>
                      </a:lnTo>
                      <a:lnTo>
                        <a:pt x="262" y="62"/>
                      </a:lnTo>
                      <a:lnTo>
                        <a:pt x="253" y="62"/>
                      </a:lnTo>
                      <a:lnTo>
                        <a:pt x="240" y="62"/>
                      </a:lnTo>
                      <a:lnTo>
                        <a:pt x="231" y="62"/>
                      </a:lnTo>
                      <a:lnTo>
                        <a:pt x="222" y="62"/>
                      </a:lnTo>
                      <a:lnTo>
                        <a:pt x="209" y="62"/>
                      </a:lnTo>
                      <a:lnTo>
                        <a:pt x="195" y="62"/>
                      </a:lnTo>
                      <a:lnTo>
                        <a:pt x="186" y="62"/>
                      </a:lnTo>
                      <a:lnTo>
                        <a:pt x="172" y="62"/>
                      </a:lnTo>
                      <a:lnTo>
                        <a:pt x="164" y="51"/>
                      </a:lnTo>
                      <a:lnTo>
                        <a:pt x="150" y="51"/>
                      </a:lnTo>
                      <a:lnTo>
                        <a:pt x="137" y="51"/>
                      </a:lnTo>
                      <a:lnTo>
                        <a:pt x="124" y="51"/>
                      </a:lnTo>
                      <a:lnTo>
                        <a:pt x="115" y="51"/>
                      </a:lnTo>
                      <a:lnTo>
                        <a:pt x="106" y="51"/>
                      </a:lnTo>
                      <a:lnTo>
                        <a:pt x="93" y="51"/>
                      </a:lnTo>
                      <a:lnTo>
                        <a:pt x="84" y="51"/>
                      </a:lnTo>
                      <a:lnTo>
                        <a:pt x="75" y="51"/>
                      </a:lnTo>
                      <a:lnTo>
                        <a:pt x="61" y="41"/>
                      </a:lnTo>
                      <a:lnTo>
                        <a:pt x="52" y="41"/>
                      </a:lnTo>
                      <a:lnTo>
                        <a:pt x="44" y="41"/>
                      </a:lnTo>
                      <a:lnTo>
                        <a:pt x="39" y="41"/>
                      </a:lnTo>
                      <a:lnTo>
                        <a:pt x="30" y="31"/>
                      </a:lnTo>
                      <a:lnTo>
                        <a:pt x="26" y="31"/>
                      </a:lnTo>
                      <a:lnTo>
                        <a:pt x="17" y="31"/>
                      </a:lnTo>
                      <a:lnTo>
                        <a:pt x="17" y="21"/>
                      </a:lnTo>
                      <a:lnTo>
                        <a:pt x="13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4" y="0"/>
                      </a:lnTo>
                      <a:lnTo>
                        <a:pt x="8" y="1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70392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4" y="0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99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71" y="43"/>
                      </a:lnTo>
                      <a:lnTo>
                        <a:pt x="62" y="43"/>
                      </a:lnTo>
                      <a:lnTo>
                        <a:pt x="58" y="43"/>
                      </a:lnTo>
                      <a:lnTo>
                        <a:pt x="49" y="29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26" y="14"/>
                      </a:lnTo>
                      <a:lnTo>
                        <a:pt x="17" y="14"/>
                      </a:lnTo>
                      <a:lnTo>
                        <a:pt x="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703920" y="5640480"/>
                  <a:ext cx="46440" cy="25920"/>
                </a:xfrm>
                <a:custGeom>
                  <a:avLst/>
                  <a:gdLst/>
                  <a:ahLst/>
                  <a:rect l="0" t="0" r="r" b="b"/>
                  <a:pathLst>
                    <a:path w="129" h="72">
                      <a:moveTo>
                        <a:pt x="129" y="72"/>
                      </a:moveTo>
                      <a:lnTo>
                        <a:pt x="129" y="72"/>
                      </a:lnTo>
                      <a:lnTo>
                        <a:pt x="121" y="72"/>
                      </a:lnTo>
                      <a:lnTo>
                        <a:pt x="112" y="72"/>
                      </a:lnTo>
                      <a:lnTo>
                        <a:pt x="103" y="58"/>
                      </a:lnTo>
                      <a:lnTo>
                        <a:pt x="89" y="58"/>
                      </a:lnTo>
                      <a:lnTo>
                        <a:pt x="80" y="58"/>
                      </a:lnTo>
                      <a:lnTo>
                        <a:pt x="67" y="58"/>
                      </a:lnTo>
                      <a:lnTo>
                        <a:pt x="53" y="58"/>
                      </a:lnTo>
                      <a:lnTo>
                        <a:pt x="45" y="58"/>
                      </a:lnTo>
                      <a:lnTo>
                        <a:pt x="30" y="43"/>
                      </a:lnTo>
                      <a:lnTo>
                        <a:pt x="22" y="43"/>
                      </a:lnTo>
                      <a:lnTo>
                        <a:pt x="13" y="43"/>
                      </a:lnTo>
                      <a:lnTo>
                        <a:pt x="8" y="29"/>
                      </a:lnTo>
                      <a:lnTo>
                        <a:pt x="4" y="29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9"/>
                      </a:lnTo>
                      <a:lnTo>
                        <a:pt x="8" y="29"/>
                      </a:lnTo>
                      <a:lnTo>
                        <a:pt x="13" y="43"/>
                      </a:lnTo>
                      <a:lnTo>
                        <a:pt x="22" y="43"/>
                      </a:lnTo>
                      <a:lnTo>
                        <a:pt x="30" y="43"/>
                      </a:lnTo>
                      <a:lnTo>
                        <a:pt x="45" y="58"/>
                      </a:lnTo>
                      <a:lnTo>
                        <a:pt x="53" y="58"/>
                      </a:lnTo>
                      <a:lnTo>
                        <a:pt x="67" y="58"/>
                      </a:lnTo>
                      <a:lnTo>
                        <a:pt x="80" y="58"/>
                      </a:lnTo>
                      <a:lnTo>
                        <a:pt x="89" y="58"/>
                      </a:lnTo>
                      <a:lnTo>
                        <a:pt x="103" y="72"/>
                      </a:lnTo>
                      <a:lnTo>
                        <a:pt x="112" y="72"/>
                      </a:lnTo>
                      <a:lnTo>
                        <a:pt x="121" y="72"/>
                      </a:lnTo>
                      <a:lnTo>
                        <a:pt x="129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705720" y="5640480"/>
                  <a:ext cx="44640" cy="25920"/>
                </a:xfrm>
                <a:custGeom>
                  <a:avLst/>
                  <a:gdLst/>
                  <a:ahLst/>
                  <a:rect l="0" t="0" r="r" b="b"/>
                  <a:pathLst>
                    <a:path w="124" h="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4"/>
                      </a:lnTo>
                      <a:lnTo>
                        <a:pt x="13" y="14"/>
                      </a:lnTo>
                      <a:lnTo>
                        <a:pt x="22" y="14"/>
                      </a:lnTo>
                      <a:lnTo>
                        <a:pt x="30" y="29"/>
                      </a:lnTo>
                      <a:lnTo>
                        <a:pt x="35" y="29"/>
                      </a:lnTo>
                      <a:lnTo>
                        <a:pt x="44" y="29"/>
                      </a:lnTo>
                      <a:lnTo>
                        <a:pt x="52" y="43"/>
                      </a:lnTo>
                      <a:lnTo>
                        <a:pt x="57" y="43"/>
                      </a:lnTo>
                      <a:lnTo>
                        <a:pt x="67" y="43"/>
                      </a:lnTo>
                      <a:lnTo>
                        <a:pt x="75" y="58"/>
                      </a:lnTo>
                      <a:lnTo>
                        <a:pt x="84" y="58"/>
                      </a:lnTo>
                      <a:lnTo>
                        <a:pt x="93" y="58"/>
                      </a:lnTo>
                      <a:lnTo>
                        <a:pt x="98" y="58"/>
                      </a:lnTo>
                      <a:lnTo>
                        <a:pt x="106" y="72"/>
                      </a:lnTo>
                      <a:lnTo>
                        <a:pt x="115" y="72"/>
                      </a:lnTo>
                      <a:lnTo>
                        <a:pt x="124" y="72"/>
                      </a:lnTo>
                      <a:lnTo>
                        <a:pt x="115" y="72"/>
                      </a:lnTo>
                      <a:lnTo>
                        <a:pt x="106" y="58"/>
                      </a:lnTo>
                      <a:lnTo>
                        <a:pt x="98" y="58"/>
                      </a:lnTo>
                      <a:lnTo>
                        <a:pt x="93" y="58"/>
                      </a:lnTo>
                      <a:lnTo>
                        <a:pt x="84" y="58"/>
                      </a:lnTo>
                      <a:lnTo>
                        <a:pt x="75" y="58"/>
                      </a:lnTo>
                      <a:lnTo>
                        <a:pt x="67" y="43"/>
                      </a:lnTo>
                      <a:lnTo>
                        <a:pt x="57" y="43"/>
                      </a:lnTo>
                      <a:lnTo>
                        <a:pt x="52" y="43"/>
                      </a:lnTo>
                      <a:lnTo>
                        <a:pt x="44" y="29"/>
                      </a:lnTo>
                      <a:lnTo>
                        <a:pt x="35" y="29"/>
                      </a:lnTo>
                      <a:lnTo>
                        <a:pt x="30" y="29"/>
                      </a:lnTo>
                      <a:lnTo>
                        <a:pt x="22" y="14"/>
                      </a:lnTo>
                      <a:lnTo>
                        <a:pt x="13" y="14"/>
                      </a:lnTo>
                      <a:lnTo>
                        <a:pt x="4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96200" y="5618160"/>
                <a:ext cx="836640" cy="4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46" name=""/>
          <p:cNvSpPr/>
          <p:nvPr/>
        </p:nvSpPr>
        <p:spPr>
          <a:xfrm>
            <a:off x="6188040" y="3897360"/>
            <a:ext cx="0" cy="741240"/>
          </a:xfrm>
          <a:prstGeom prst="line">
            <a:avLst/>
          </a:prstGeom>
          <a:ln w="381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2136600" y="256536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5522760" y="2565360"/>
            <a:ext cx="1366920" cy="150804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 txBox="1"/>
          <p:nvPr/>
        </p:nvSpPr>
        <p:spPr>
          <a:xfrm>
            <a:off x="1676520" y="2016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952880" y="20160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2093760" y="1571760"/>
            <a:ext cx="1471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786200" y="1571760"/>
            <a:ext cx="2874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946240" y="4160880"/>
            <a:ext cx="654480" cy="943200"/>
            <a:chOff x="2946240" y="4160880"/>
            <a:chExt cx="654480" cy="943200"/>
          </a:xfrm>
        </p:grpSpPr>
        <p:grpSp>
          <p:nvGrpSpPr>
            <p:cNvPr id="954" name=""/>
            <p:cNvGrpSpPr/>
            <p:nvPr/>
          </p:nvGrpSpPr>
          <p:grpSpPr>
            <a:xfrm>
              <a:off x="2946240" y="4160880"/>
              <a:ext cx="152640" cy="162360"/>
              <a:chOff x="2946240" y="4160880"/>
              <a:chExt cx="152640" cy="162360"/>
            </a:xfrm>
          </p:grpSpPr>
          <p:sp>
            <p:nvSpPr>
              <p:cNvPr id="955" name=""/>
              <p:cNvSpPr/>
              <p:nvPr/>
            </p:nvSpPr>
            <p:spPr>
              <a:xfrm>
                <a:off x="2946240" y="4160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16080" y="4160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2946240" y="4403880"/>
              <a:ext cx="152640" cy="162360"/>
              <a:chOff x="2946240" y="4403880"/>
              <a:chExt cx="152640" cy="162360"/>
            </a:xfrm>
          </p:grpSpPr>
          <p:sp>
            <p:nvSpPr>
              <p:cNvPr id="958" name=""/>
              <p:cNvSpPr/>
              <p:nvPr/>
            </p:nvSpPr>
            <p:spPr>
              <a:xfrm>
                <a:off x="2946240" y="4403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16080" y="4403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3203640" y="4403880"/>
              <a:ext cx="152640" cy="162360"/>
              <a:chOff x="3203640" y="4403880"/>
              <a:chExt cx="152640" cy="162360"/>
            </a:xfrm>
          </p:grpSpPr>
          <p:sp>
            <p:nvSpPr>
              <p:cNvPr id="961" name=""/>
              <p:cNvSpPr/>
              <p:nvPr/>
            </p:nvSpPr>
            <p:spPr>
              <a:xfrm>
                <a:off x="3203640" y="4403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73480" y="4403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448080" y="4403880"/>
              <a:ext cx="152640" cy="162360"/>
              <a:chOff x="3448080" y="4403880"/>
              <a:chExt cx="152640" cy="162360"/>
            </a:xfrm>
          </p:grpSpPr>
          <p:sp>
            <p:nvSpPr>
              <p:cNvPr id="964" name=""/>
              <p:cNvSpPr/>
              <p:nvPr/>
            </p:nvSpPr>
            <p:spPr>
              <a:xfrm>
                <a:off x="3448080" y="4403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517920" y="4403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3448080" y="4699080"/>
              <a:ext cx="152640" cy="162360"/>
              <a:chOff x="3448080" y="4699080"/>
              <a:chExt cx="152640" cy="162360"/>
            </a:xfrm>
          </p:grpSpPr>
          <p:sp>
            <p:nvSpPr>
              <p:cNvPr id="967" name=""/>
              <p:cNvSpPr/>
              <p:nvPr/>
            </p:nvSpPr>
            <p:spPr>
              <a:xfrm>
                <a:off x="3448080" y="46990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517920" y="46990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448080" y="4941720"/>
              <a:ext cx="152640" cy="162360"/>
              <a:chOff x="3448080" y="4941720"/>
              <a:chExt cx="152640" cy="162360"/>
            </a:xfrm>
          </p:grpSpPr>
          <p:sp>
            <p:nvSpPr>
              <p:cNvPr id="970" name=""/>
              <p:cNvSpPr/>
              <p:nvPr/>
            </p:nvSpPr>
            <p:spPr>
              <a:xfrm>
                <a:off x="3448080" y="49417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517920" y="49417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5367240" y="4160880"/>
            <a:ext cx="678240" cy="943200"/>
            <a:chOff x="5367240" y="4160880"/>
            <a:chExt cx="678240" cy="943200"/>
          </a:xfrm>
        </p:grpSpPr>
        <p:grpSp>
          <p:nvGrpSpPr>
            <p:cNvPr id="973" name=""/>
            <p:cNvGrpSpPr/>
            <p:nvPr/>
          </p:nvGrpSpPr>
          <p:grpSpPr>
            <a:xfrm>
              <a:off x="5632560" y="4405320"/>
              <a:ext cx="152640" cy="162360"/>
              <a:chOff x="5632560" y="4405320"/>
              <a:chExt cx="152640" cy="162360"/>
            </a:xfrm>
          </p:grpSpPr>
          <p:sp>
            <p:nvSpPr>
              <p:cNvPr id="974" name=""/>
              <p:cNvSpPr/>
              <p:nvPr/>
            </p:nvSpPr>
            <p:spPr>
              <a:xfrm>
                <a:off x="5632560" y="44053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02400" y="44053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5892840" y="4160880"/>
              <a:ext cx="152640" cy="162360"/>
              <a:chOff x="5892840" y="4160880"/>
              <a:chExt cx="152640" cy="162360"/>
            </a:xfrm>
          </p:grpSpPr>
          <p:sp>
            <p:nvSpPr>
              <p:cNvPr id="977" name=""/>
              <p:cNvSpPr/>
              <p:nvPr/>
            </p:nvSpPr>
            <p:spPr>
              <a:xfrm>
                <a:off x="5892840" y="4160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62680" y="41608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892840" y="4405320"/>
              <a:ext cx="152640" cy="162360"/>
              <a:chOff x="5892840" y="4405320"/>
              <a:chExt cx="152640" cy="162360"/>
            </a:xfrm>
          </p:grpSpPr>
          <p:sp>
            <p:nvSpPr>
              <p:cNvPr id="980" name=""/>
              <p:cNvSpPr/>
              <p:nvPr/>
            </p:nvSpPr>
            <p:spPr>
              <a:xfrm>
                <a:off x="5892840" y="44053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62680" y="44053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5367240" y="4405320"/>
              <a:ext cx="152640" cy="162360"/>
              <a:chOff x="5367240" y="4405320"/>
              <a:chExt cx="152640" cy="162360"/>
            </a:xfrm>
          </p:grpSpPr>
          <p:sp>
            <p:nvSpPr>
              <p:cNvPr id="983" name=""/>
              <p:cNvSpPr/>
              <p:nvPr/>
            </p:nvSpPr>
            <p:spPr>
              <a:xfrm>
                <a:off x="5367240" y="44053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437080" y="44053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5367240" y="4699080"/>
              <a:ext cx="152640" cy="162360"/>
              <a:chOff x="5367240" y="4699080"/>
              <a:chExt cx="152640" cy="162360"/>
            </a:xfrm>
          </p:grpSpPr>
          <p:sp>
            <p:nvSpPr>
              <p:cNvPr id="986" name=""/>
              <p:cNvSpPr/>
              <p:nvPr/>
            </p:nvSpPr>
            <p:spPr>
              <a:xfrm>
                <a:off x="5367240" y="46990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437080" y="469908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5367240" y="4941720"/>
              <a:ext cx="152640" cy="162360"/>
              <a:chOff x="5367240" y="4941720"/>
              <a:chExt cx="152640" cy="162360"/>
            </a:xfrm>
          </p:grpSpPr>
          <p:sp>
            <p:nvSpPr>
              <p:cNvPr id="989" name=""/>
              <p:cNvSpPr/>
              <p:nvPr/>
            </p:nvSpPr>
            <p:spPr>
              <a:xfrm>
                <a:off x="5367240" y="49417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0" y="0"/>
                    </a:moveTo>
                    <a:lnTo>
                      <a:pt x="110" y="0"/>
                    </a:lnTo>
                    <a:lnTo>
                      <a:pt x="230" y="181"/>
                    </a:lnTo>
                    <a:lnTo>
                      <a:pt x="44" y="451"/>
                    </a:lnTo>
                    <a:lnTo>
                      <a:pt x="0" y="451"/>
                    </a:lnTo>
                    <a:lnTo>
                      <a:pt x="155" y="22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37080" y="4941720"/>
                <a:ext cx="82800" cy="162360"/>
              </a:xfrm>
              <a:custGeom>
                <a:avLst/>
                <a:gdLst/>
                <a:ahLst/>
                <a:rect l="0" t="0" r="r" b="b"/>
                <a:pathLst>
                  <a:path w="230" h="451">
                    <a:moveTo>
                      <a:pt x="230" y="451"/>
                    </a:moveTo>
                    <a:lnTo>
                      <a:pt x="120" y="451"/>
                    </a:lnTo>
                    <a:lnTo>
                      <a:pt x="0" y="269"/>
                    </a:lnTo>
                    <a:lnTo>
                      <a:pt x="186" y="0"/>
                    </a:lnTo>
                    <a:lnTo>
                      <a:pt x="230" y="0"/>
                    </a:lnTo>
                    <a:lnTo>
                      <a:pt x="74" y="225"/>
                    </a:lnTo>
                    <a:lnTo>
                      <a:pt x="230" y="4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1" name=""/>
          <p:cNvSpPr/>
          <p:nvPr/>
        </p:nvSpPr>
        <p:spPr>
          <a:xfrm>
            <a:off x="3154320" y="5222880"/>
            <a:ext cx="236520" cy="23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afd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13240" y="5207040"/>
            <a:ext cx="372960" cy="23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afd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828800" y="46483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879640" y="608004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X Desktop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Pro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286000" y="1219320"/>
            <a:ext cx="4114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286000" y="2206800"/>
            <a:ext cx="4114800" cy="1371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00400" y="2209680"/>
            <a:ext cx="3200400" cy="91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506760" y="150804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384800" y="248436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383080" y="3259080"/>
            <a:ext cx="9954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afd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5437080" y="3247920"/>
            <a:ext cx="658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035760" y="3581280"/>
            <a:ext cx="0" cy="517680"/>
          </a:xfrm>
          <a:prstGeom prst="line">
            <a:avLst/>
          </a:prstGeom>
          <a:ln w="381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532240" y="2535120"/>
            <a:ext cx="455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11360" y="4124160"/>
            <a:ext cx="7711920" cy="0"/>
          </a:xfrm>
          <a:prstGeom prst="line">
            <a:avLst/>
          </a:prstGeom>
          <a:ln w="381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078680" y="4119480"/>
            <a:ext cx="0" cy="563760"/>
          </a:xfrm>
          <a:prstGeom prst="line">
            <a:avLst/>
          </a:prstGeom>
          <a:ln w="381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6208560" y="4660920"/>
            <a:ext cx="1685880" cy="1525680"/>
            <a:chOff x="6208560" y="4660920"/>
            <a:chExt cx="1685880" cy="1525680"/>
          </a:xfrm>
        </p:grpSpPr>
        <p:grpSp>
          <p:nvGrpSpPr>
            <p:cNvPr id="1008" name=""/>
            <p:cNvGrpSpPr/>
            <p:nvPr/>
          </p:nvGrpSpPr>
          <p:grpSpPr>
            <a:xfrm>
              <a:off x="6208560" y="5607000"/>
              <a:ext cx="508680" cy="251280"/>
              <a:chOff x="6208560" y="5607000"/>
              <a:chExt cx="508680" cy="2512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535800" y="5619600"/>
                <a:ext cx="155880" cy="39960"/>
              </a:xfrm>
              <a:custGeom>
                <a:avLst/>
                <a:gdLst/>
                <a:ahLst/>
                <a:rect l="0" t="0" r="r" b="b"/>
                <a:pathLst>
                  <a:path w="433" h="111">
                    <a:moveTo>
                      <a:pt x="415" y="0"/>
                    </a:moveTo>
                    <a:lnTo>
                      <a:pt x="406" y="8"/>
                    </a:lnTo>
                    <a:lnTo>
                      <a:pt x="393" y="17"/>
                    </a:lnTo>
                    <a:lnTo>
                      <a:pt x="384" y="22"/>
                    </a:lnTo>
                    <a:lnTo>
                      <a:pt x="375" y="26"/>
                    </a:lnTo>
                    <a:lnTo>
                      <a:pt x="362" y="30"/>
                    </a:lnTo>
                    <a:lnTo>
                      <a:pt x="349" y="35"/>
                    </a:lnTo>
                    <a:lnTo>
                      <a:pt x="331" y="35"/>
                    </a:lnTo>
                    <a:lnTo>
                      <a:pt x="318" y="39"/>
                    </a:lnTo>
                    <a:lnTo>
                      <a:pt x="309" y="44"/>
                    </a:lnTo>
                    <a:lnTo>
                      <a:pt x="296" y="44"/>
                    </a:lnTo>
                    <a:lnTo>
                      <a:pt x="278" y="44"/>
                    </a:lnTo>
                    <a:lnTo>
                      <a:pt x="265" y="48"/>
                    </a:lnTo>
                    <a:lnTo>
                      <a:pt x="252" y="48"/>
                    </a:lnTo>
                    <a:lnTo>
                      <a:pt x="239" y="48"/>
                    </a:lnTo>
                    <a:lnTo>
                      <a:pt x="221" y="48"/>
                    </a:lnTo>
                    <a:lnTo>
                      <a:pt x="211" y="48"/>
                    </a:lnTo>
                    <a:lnTo>
                      <a:pt x="194" y="48"/>
                    </a:lnTo>
                    <a:lnTo>
                      <a:pt x="180" y="48"/>
                    </a:lnTo>
                    <a:lnTo>
                      <a:pt x="167" y="48"/>
                    </a:lnTo>
                    <a:lnTo>
                      <a:pt x="154" y="48"/>
                    </a:lnTo>
                    <a:lnTo>
                      <a:pt x="136" y="52"/>
                    </a:lnTo>
                    <a:lnTo>
                      <a:pt x="123" y="52"/>
                    </a:lnTo>
                    <a:lnTo>
                      <a:pt x="114" y="58"/>
                    </a:lnTo>
                    <a:lnTo>
                      <a:pt x="97" y="58"/>
                    </a:lnTo>
                    <a:lnTo>
                      <a:pt x="83" y="62"/>
                    </a:lnTo>
                    <a:lnTo>
                      <a:pt x="70" y="62"/>
                    </a:lnTo>
                    <a:lnTo>
                      <a:pt x="57" y="67"/>
                    </a:lnTo>
                    <a:lnTo>
                      <a:pt x="48" y="71"/>
                    </a:lnTo>
                    <a:lnTo>
                      <a:pt x="35" y="75"/>
                    </a:lnTo>
                    <a:lnTo>
                      <a:pt x="22" y="80"/>
                    </a:lnTo>
                    <a:lnTo>
                      <a:pt x="13" y="89"/>
                    </a:lnTo>
                    <a:lnTo>
                      <a:pt x="0" y="93"/>
                    </a:lnTo>
                    <a:lnTo>
                      <a:pt x="4" y="98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13" y="106"/>
                    </a:lnTo>
                    <a:lnTo>
                      <a:pt x="17" y="111"/>
                    </a:lnTo>
                    <a:lnTo>
                      <a:pt x="26" y="102"/>
                    </a:lnTo>
                    <a:lnTo>
                      <a:pt x="39" y="98"/>
                    </a:lnTo>
                    <a:lnTo>
                      <a:pt x="48" y="89"/>
                    </a:lnTo>
                    <a:lnTo>
                      <a:pt x="61" y="84"/>
                    </a:lnTo>
                    <a:lnTo>
                      <a:pt x="74" y="80"/>
                    </a:lnTo>
                    <a:lnTo>
                      <a:pt x="88" y="75"/>
                    </a:lnTo>
                    <a:lnTo>
                      <a:pt x="101" y="75"/>
                    </a:lnTo>
                    <a:lnTo>
                      <a:pt x="114" y="71"/>
                    </a:lnTo>
                    <a:lnTo>
                      <a:pt x="123" y="67"/>
                    </a:lnTo>
                    <a:lnTo>
                      <a:pt x="141" y="67"/>
                    </a:lnTo>
                    <a:lnTo>
                      <a:pt x="154" y="67"/>
                    </a:lnTo>
                    <a:lnTo>
                      <a:pt x="167" y="67"/>
                    </a:lnTo>
                    <a:lnTo>
                      <a:pt x="180" y="67"/>
                    </a:lnTo>
                    <a:lnTo>
                      <a:pt x="198" y="62"/>
                    </a:lnTo>
                    <a:lnTo>
                      <a:pt x="211" y="62"/>
                    </a:lnTo>
                    <a:lnTo>
                      <a:pt x="225" y="62"/>
                    </a:lnTo>
                    <a:lnTo>
                      <a:pt x="239" y="62"/>
                    </a:lnTo>
                    <a:lnTo>
                      <a:pt x="256" y="62"/>
                    </a:lnTo>
                    <a:lnTo>
                      <a:pt x="265" y="62"/>
                    </a:lnTo>
                    <a:lnTo>
                      <a:pt x="283" y="62"/>
                    </a:lnTo>
                    <a:lnTo>
                      <a:pt x="296" y="62"/>
                    </a:lnTo>
                    <a:lnTo>
                      <a:pt x="309" y="58"/>
                    </a:lnTo>
                    <a:lnTo>
                      <a:pt x="322" y="58"/>
                    </a:lnTo>
                    <a:lnTo>
                      <a:pt x="336" y="58"/>
                    </a:lnTo>
                    <a:lnTo>
                      <a:pt x="349" y="52"/>
                    </a:lnTo>
                    <a:lnTo>
                      <a:pt x="362" y="48"/>
                    </a:lnTo>
                    <a:lnTo>
                      <a:pt x="375" y="44"/>
                    </a:lnTo>
                    <a:lnTo>
                      <a:pt x="384" y="44"/>
                    </a:lnTo>
                    <a:lnTo>
                      <a:pt x="397" y="35"/>
                    </a:lnTo>
                    <a:lnTo>
                      <a:pt x="411" y="30"/>
                    </a:lnTo>
                    <a:lnTo>
                      <a:pt x="424" y="22"/>
                    </a:lnTo>
                    <a:lnTo>
                      <a:pt x="433" y="17"/>
                    </a:lnTo>
                    <a:lnTo>
                      <a:pt x="428" y="13"/>
                    </a:lnTo>
                    <a:lnTo>
                      <a:pt x="428" y="8"/>
                    </a:lnTo>
                    <a:lnTo>
                      <a:pt x="428" y="8"/>
                    </a:lnTo>
                    <a:lnTo>
                      <a:pt x="424" y="8"/>
                    </a:lnTo>
                    <a:lnTo>
                      <a:pt x="419" y="4"/>
                    </a:lnTo>
                    <a:lnTo>
                      <a:pt x="419" y="4"/>
                    </a:lnTo>
                    <a:lnTo>
                      <a:pt x="415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35800" y="5619600"/>
                <a:ext cx="147960" cy="32040"/>
              </a:xfrm>
              <a:custGeom>
                <a:avLst/>
                <a:gdLst/>
                <a:ahLst/>
                <a:rect l="0" t="0" r="r" b="b"/>
                <a:pathLst>
                  <a:path w="411" h="89">
                    <a:moveTo>
                      <a:pt x="0" y="89"/>
                    </a:moveTo>
                    <a:lnTo>
                      <a:pt x="0" y="84"/>
                    </a:lnTo>
                    <a:lnTo>
                      <a:pt x="13" y="80"/>
                    </a:lnTo>
                    <a:lnTo>
                      <a:pt x="22" y="75"/>
                    </a:lnTo>
                    <a:lnTo>
                      <a:pt x="35" y="67"/>
                    </a:lnTo>
                    <a:lnTo>
                      <a:pt x="44" y="62"/>
                    </a:lnTo>
                    <a:lnTo>
                      <a:pt x="57" y="62"/>
                    </a:lnTo>
                    <a:lnTo>
                      <a:pt x="70" y="53"/>
                    </a:lnTo>
                    <a:lnTo>
                      <a:pt x="83" y="53"/>
                    </a:lnTo>
                    <a:lnTo>
                      <a:pt x="97" y="49"/>
                    </a:lnTo>
                    <a:lnTo>
                      <a:pt x="110" y="49"/>
                    </a:lnTo>
                    <a:lnTo>
                      <a:pt x="123" y="49"/>
                    </a:lnTo>
                    <a:lnTo>
                      <a:pt x="136" y="45"/>
                    </a:lnTo>
                    <a:lnTo>
                      <a:pt x="149" y="45"/>
                    </a:lnTo>
                    <a:lnTo>
                      <a:pt x="163" y="45"/>
                    </a:lnTo>
                    <a:lnTo>
                      <a:pt x="176" y="45"/>
                    </a:lnTo>
                    <a:lnTo>
                      <a:pt x="189" y="45"/>
                    </a:lnTo>
                    <a:lnTo>
                      <a:pt x="208" y="45"/>
                    </a:lnTo>
                    <a:lnTo>
                      <a:pt x="217" y="45"/>
                    </a:lnTo>
                    <a:lnTo>
                      <a:pt x="234" y="45"/>
                    </a:lnTo>
                    <a:lnTo>
                      <a:pt x="247" y="45"/>
                    </a:lnTo>
                    <a:lnTo>
                      <a:pt x="261" y="39"/>
                    </a:lnTo>
                    <a:lnTo>
                      <a:pt x="274" y="39"/>
                    </a:lnTo>
                    <a:lnTo>
                      <a:pt x="287" y="39"/>
                    </a:lnTo>
                    <a:lnTo>
                      <a:pt x="300" y="39"/>
                    </a:lnTo>
                    <a:lnTo>
                      <a:pt x="314" y="35"/>
                    </a:lnTo>
                    <a:lnTo>
                      <a:pt x="327" y="35"/>
                    </a:lnTo>
                    <a:lnTo>
                      <a:pt x="336" y="30"/>
                    </a:lnTo>
                    <a:lnTo>
                      <a:pt x="353" y="26"/>
                    </a:lnTo>
                    <a:lnTo>
                      <a:pt x="362" y="22"/>
                    </a:lnTo>
                    <a:lnTo>
                      <a:pt x="375" y="17"/>
                    </a:lnTo>
                    <a:lnTo>
                      <a:pt x="384" y="13"/>
                    </a:lnTo>
                    <a:lnTo>
                      <a:pt x="397" y="8"/>
                    </a:lnTo>
                    <a:lnTo>
                      <a:pt x="406" y="0"/>
                    </a:lnTo>
                    <a:lnTo>
                      <a:pt x="411" y="4"/>
                    </a:lnTo>
                    <a:lnTo>
                      <a:pt x="397" y="8"/>
                    </a:lnTo>
                    <a:lnTo>
                      <a:pt x="384" y="13"/>
                    </a:lnTo>
                    <a:lnTo>
                      <a:pt x="375" y="17"/>
                    </a:lnTo>
                    <a:lnTo>
                      <a:pt x="367" y="22"/>
                    </a:lnTo>
                    <a:lnTo>
                      <a:pt x="353" y="26"/>
                    </a:lnTo>
                    <a:lnTo>
                      <a:pt x="340" y="35"/>
                    </a:lnTo>
                    <a:lnTo>
                      <a:pt x="327" y="35"/>
                    </a:lnTo>
                    <a:lnTo>
                      <a:pt x="314" y="39"/>
                    </a:lnTo>
                    <a:lnTo>
                      <a:pt x="300" y="39"/>
                    </a:lnTo>
                    <a:lnTo>
                      <a:pt x="287" y="39"/>
                    </a:lnTo>
                    <a:lnTo>
                      <a:pt x="274" y="45"/>
                    </a:lnTo>
                    <a:lnTo>
                      <a:pt x="261" y="45"/>
                    </a:lnTo>
                    <a:lnTo>
                      <a:pt x="247" y="45"/>
                    </a:lnTo>
                    <a:lnTo>
                      <a:pt x="234" y="45"/>
                    </a:lnTo>
                    <a:lnTo>
                      <a:pt x="217" y="45"/>
                    </a:lnTo>
                    <a:lnTo>
                      <a:pt x="208" y="45"/>
                    </a:lnTo>
                    <a:lnTo>
                      <a:pt x="189" y="45"/>
                    </a:lnTo>
                    <a:lnTo>
                      <a:pt x="176" y="45"/>
                    </a:lnTo>
                    <a:lnTo>
                      <a:pt x="163" y="45"/>
                    </a:lnTo>
                    <a:lnTo>
                      <a:pt x="149" y="49"/>
                    </a:lnTo>
                    <a:lnTo>
                      <a:pt x="136" y="49"/>
                    </a:lnTo>
                    <a:lnTo>
                      <a:pt x="123" y="49"/>
                    </a:lnTo>
                    <a:lnTo>
                      <a:pt x="110" y="49"/>
                    </a:lnTo>
                    <a:lnTo>
                      <a:pt x="97" y="53"/>
                    </a:lnTo>
                    <a:lnTo>
                      <a:pt x="83" y="53"/>
                    </a:lnTo>
                    <a:lnTo>
                      <a:pt x="70" y="58"/>
                    </a:lnTo>
                    <a:lnTo>
                      <a:pt x="57" y="62"/>
                    </a:lnTo>
                    <a:lnTo>
                      <a:pt x="44" y="67"/>
                    </a:lnTo>
                    <a:lnTo>
                      <a:pt x="35" y="71"/>
                    </a:lnTo>
                    <a:lnTo>
                      <a:pt x="26" y="75"/>
                    </a:lnTo>
                    <a:lnTo>
                      <a:pt x="13" y="80"/>
                    </a:lnTo>
                    <a:lnTo>
                      <a:pt x="4" y="89"/>
                    </a:lnTo>
                    <a:lnTo>
                      <a:pt x="4" y="84"/>
                    </a:lnTo>
                    <a:lnTo>
                      <a:pt x="4" y="89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527880" y="5659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58" y="53"/>
                    </a:lnTo>
                    <a:lnTo>
                      <a:pt x="43" y="53"/>
                    </a:lnTo>
                    <a:lnTo>
                      <a:pt x="29" y="3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0" y="17"/>
                    </a:lnTo>
                    <a:lnTo>
                      <a:pt x="14" y="0"/>
                    </a:lnTo>
                    <a:lnTo>
                      <a:pt x="14" y="17"/>
                    </a:lnTo>
                    <a:lnTo>
                      <a:pt x="29" y="17"/>
                    </a:lnTo>
                    <a:lnTo>
                      <a:pt x="43" y="36"/>
                    </a:lnTo>
                    <a:lnTo>
                      <a:pt x="58" y="53"/>
                    </a:lnTo>
                    <a:lnTo>
                      <a:pt x="72" y="53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41920" y="5629320"/>
                <a:ext cx="149760" cy="30600"/>
              </a:xfrm>
              <a:custGeom>
                <a:avLst/>
                <a:gdLst/>
                <a:ahLst/>
                <a:rect l="0" t="0" r="r" b="b"/>
                <a:pathLst>
                  <a:path w="416" h="85">
                    <a:moveTo>
                      <a:pt x="416" y="0"/>
                    </a:moveTo>
                    <a:lnTo>
                      <a:pt x="416" y="0"/>
                    </a:lnTo>
                    <a:lnTo>
                      <a:pt x="407" y="8"/>
                    </a:lnTo>
                    <a:lnTo>
                      <a:pt x="394" y="13"/>
                    </a:lnTo>
                    <a:lnTo>
                      <a:pt x="381" y="17"/>
                    </a:lnTo>
                    <a:lnTo>
                      <a:pt x="368" y="23"/>
                    </a:lnTo>
                    <a:lnTo>
                      <a:pt x="359" y="27"/>
                    </a:lnTo>
                    <a:lnTo>
                      <a:pt x="345" y="31"/>
                    </a:lnTo>
                    <a:lnTo>
                      <a:pt x="332" y="31"/>
                    </a:lnTo>
                    <a:lnTo>
                      <a:pt x="319" y="36"/>
                    </a:lnTo>
                    <a:lnTo>
                      <a:pt x="305" y="36"/>
                    </a:lnTo>
                    <a:lnTo>
                      <a:pt x="292" y="40"/>
                    </a:lnTo>
                    <a:lnTo>
                      <a:pt x="278" y="40"/>
                    </a:lnTo>
                    <a:lnTo>
                      <a:pt x="265" y="45"/>
                    </a:lnTo>
                    <a:lnTo>
                      <a:pt x="252" y="45"/>
                    </a:lnTo>
                    <a:lnTo>
                      <a:pt x="239" y="45"/>
                    </a:lnTo>
                    <a:lnTo>
                      <a:pt x="221" y="45"/>
                    </a:lnTo>
                    <a:lnTo>
                      <a:pt x="208" y="45"/>
                    </a:lnTo>
                    <a:lnTo>
                      <a:pt x="195" y="45"/>
                    </a:lnTo>
                    <a:lnTo>
                      <a:pt x="181" y="45"/>
                    </a:lnTo>
                    <a:lnTo>
                      <a:pt x="164" y="45"/>
                    </a:lnTo>
                    <a:lnTo>
                      <a:pt x="155" y="45"/>
                    </a:lnTo>
                    <a:lnTo>
                      <a:pt x="137" y="49"/>
                    </a:lnTo>
                    <a:lnTo>
                      <a:pt x="124" y="49"/>
                    </a:lnTo>
                    <a:lnTo>
                      <a:pt x="111" y="49"/>
                    </a:lnTo>
                    <a:lnTo>
                      <a:pt x="97" y="49"/>
                    </a:lnTo>
                    <a:lnTo>
                      <a:pt x="83" y="53"/>
                    </a:lnTo>
                    <a:lnTo>
                      <a:pt x="70" y="58"/>
                    </a:lnTo>
                    <a:lnTo>
                      <a:pt x="57" y="58"/>
                    </a:lnTo>
                    <a:lnTo>
                      <a:pt x="48" y="62"/>
                    </a:lnTo>
                    <a:lnTo>
                      <a:pt x="35" y="68"/>
                    </a:lnTo>
                    <a:lnTo>
                      <a:pt x="22" y="72"/>
                    </a:lnTo>
                    <a:lnTo>
                      <a:pt x="13" y="76"/>
                    </a:lnTo>
                    <a:lnTo>
                      <a:pt x="0" y="85"/>
                    </a:lnTo>
                    <a:lnTo>
                      <a:pt x="8" y="76"/>
                    </a:lnTo>
                    <a:lnTo>
                      <a:pt x="22" y="72"/>
                    </a:lnTo>
                    <a:lnTo>
                      <a:pt x="35" y="68"/>
                    </a:lnTo>
                    <a:lnTo>
                      <a:pt x="48" y="62"/>
                    </a:lnTo>
                    <a:lnTo>
                      <a:pt x="57" y="58"/>
                    </a:lnTo>
                    <a:lnTo>
                      <a:pt x="70" y="53"/>
                    </a:lnTo>
                    <a:lnTo>
                      <a:pt x="83" y="53"/>
                    </a:lnTo>
                    <a:lnTo>
                      <a:pt x="97" y="49"/>
                    </a:lnTo>
                    <a:lnTo>
                      <a:pt x="111" y="49"/>
                    </a:lnTo>
                    <a:lnTo>
                      <a:pt x="124" y="45"/>
                    </a:lnTo>
                    <a:lnTo>
                      <a:pt x="137" y="45"/>
                    </a:lnTo>
                    <a:lnTo>
                      <a:pt x="155" y="45"/>
                    </a:lnTo>
                    <a:lnTo>
                      <a:pt x="164" y="45"/>
                    </a:lnTo>
                    <a:lnTo>
                      <a:pt x="181" y="45"/>
                    </a:lnTo>
                    <a:lnTo>
                      <a:pt x="195" y="45"/>
                    </a:lnTo>
                    <a:lnTo>
                      <a:pt x="208" y="45"/>
                    </a:lnTo>
                    <a:lnTo>
                      <a:pt x="221" y="40"/>
                    </a:lnTo>
                    <a:lnTo>
                      <a:pt x="239" y="40"/>
                    </a:lnTo>
                    <a:lnTo>
                      <a:pt x="252" y="40"/>
                    </a:lnTo>
                    <a:lnTo>
                      <a:pt x="261" y="40"/>
                    </a:lnTo>
                    <a:lnTo>
                      <a:pt x="278" y="36"/>
                    </a:lnTo>
                    <a:lnTo>
                      <a:pt x="292" y="36"/>
                    </a:lnTo>
                    <a:lnTo>
                      <a:pt x="305" y="36"/>
                    </a:lnTo>
                    <a:lnTo>
                      <a:pt x="319" y="36"/>
                    </a:lnTo>
                    <a:lnTo>
                      <a:pt x="332" y="31"/>
                    </a:lnTo>
                    <a:lnTo>
                      <a:pt x="345" y="27"/>
                    </a:lnTo>
                    <a:lnTo>
                      <a:pt x="359" y="27"/>
                    </a:lnTo>
                    <a:lnTo>
                      <a:pt x="368" y="23"/>
                    </a:lnTo>
                    <a:lnTo>
                      <a:pt x="381" y="17"/>
                    </a:lnTo>
                    <a:lnTo>
                      <a:pt x="394" y="13"/>
                    </a:lnTo>
                    <a:lnTo>
                      <a:pt x="403" y="8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691320" y="5614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36" y="24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72" y="48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216480" y="5607000"/>
                <a:ext cx="359280" cy="225720"/>
              </a:xfrm>
              <a:custGeom>
                <a:avLst/>
                <a:gdLst/>
                <a:ahLst/>
                <a:rect l="0" t="0" r="r" b="b"/>
                <a:pathLst>
                  <a:path w="998" h="627">
                    <a:moveTo>
                      <a:pt x="989" y="304"/>
                    </a:moveTo>
                    <a:lnTo>
                      <a:pt x="358" y="622"/>
                    </a:lnTo>
                    <a:lnTo>
                      <a:pt x="358" y="622"/>
                    </a:lnTo>
                    <a:lnTo>
                      <a:pt x="353" y="622"/>
                    </a:lnTo>
                    <a:lnTo>
                      <a:pt x="353" y="622"/>
                    </a:lnTo>
                    <a:lnTo>
                      <a:pt x="349" y="627"/>
                    </a:lnTo>
                    <a:lnTo>
                      <a:pt x="344" y="627"/>
                    </a:lnTo>
                    <a:lnTo>
                      <a:pt x="340" y="627"/>
                    </a:lnTo>
                    <a:lnTo>
                      <a:pt x="340" y="627"/>
                    </a:lnTo>
                    <a:lnTo>
                      <a:pt x="336" y="627"/>
                    </a:lnTo>
                    <a:lnTo>
                      <a:pt x="331" y="627"/>
                    </a:lnTo>
                    <a:lnTo>
                      <a:pt x="327" y="627"/>
                    </a:lnTo>
                    <a:lnTo>
                      <a:pt x="327" y="627"/>
                    </a:lnTo>
                    <a:lnTo>
                      <a:pt x="322" y="622"/>
                    </a:lnTo>
                    <a:lnTo>
                      <a:pt x="318" y="622"/>
                    </a:lnTo>
                    <a:lnTo>
                      <a:pt x="314" y="622"/>
                    </a:lnTo>
                    <a:lnTo>
                      <a:pt x="8" y="349"/>
                    </a:lnTo>
                    <a:lnTo>
                      <a:pt x="0" y="327"/>
                    </a:lnTo>
                    <a:lnTo>
                      <a:pt x="22" y="207"/>
                    </a:lnTo>
                    <a:lnTo>
                      <a:pt x="70" y="158"/>
                    </a:lnTo>
                    <a:lnTo>
                      <a:pt x="371" y="39"/>
                    </a:lnTo>
                    <a:lnTo>
                      <a:pt x="375" y="39"/>
                    </a:lnTo>
                    <a:lnTo>
                      <a:pt x="389" y="39"/>
                    </a:lnTo>
                    <a:lnTo>
                      <a:pt x="397" y="39"/>
                    </a:lnTo>
                    <a:lnTo>
                      <a:pt x="402" y="39"/>
                    </a:lnTo>
                    <a:lnTo>
                      <a:pt x="415" y="35"/>
                    </a:lnTo>
                    <a:lnTo>
                      <a:pt x="424" y="35"/>
                    </a:lnTo>
                    <a:lnTo>
                      <a:pt x="428" y="35"/>
                    </a:lnTo>
                    <a:lnTo>
                      <a:pt x="441" y="30"/>
                    </a:lnTo>
                    <a:lnTo>
                      <a:pt x="450" y="30"/>
                    </a:lnTo>
                    <a:lnTo>
                      <a:pt x="455" y="30"/>
                    </a:lnTo>
                    <a:lnTo>
                      <a:pt x="468" y="30"/>
                    </a:lnTo>
                    <a:lnTo>
                      <a:pt x="477" y="30"/>
                    </a:lnTo>
                    <a:lnTo>
                      <a:pt x="481" y="30"/>
                    </a:lnTo>
                    <a:lnTo>
                      <a:pt x="494" y="26"/>
                    </a:lnTo>
                    <a:lnTo>
                      <a:pt x="503" y="26"/>
                    </a:lnTo>
                    <a:lnTo>
                      <a:pt x="508" y="22"/>
                    </a:lnTo>
                    <a:lnTo>
                      <a:pt x="516" y="22"/>
                    </a:lnTo>
                    <a:lnTo>
                      <a:pt x="530" y="22"/>
                    </a:lnTo>
                    <a:lnTo>
                      <a:pt x="534" y="17"/>
                    </a:lnTo>
                    <a:lnTo>
                      <a:pt x="543" y="17"/>
                    </a:lnTo>
                    <a:lnTo>
                      <a:pt x="556" y="17"/>
                    </a:lnTo>
                    <a:lnTo>
                      <a:pt x="561" y="17"/>
                    </a:lnTo>
                    <a:lnTo>
                      <a:pt x="569" y="13"/>
                    </a:lnTo>
                    <a:lnTo>
                      <a:pt x="578" y="13"/>
                    </a:lnTo>
                    <a:lnTo>
                      <a:pt x="587" y="8"/>
                    </a:lnTo>
                    <a:lnTo>
                      <a:pt x="596" y="8"/>
                    </a:lnTo>
                    <a:lnTo>
                      <a:pt x="605" y="4"/>
                    </a:lnTo>
                    <a:lnTo>
                      <a:pt x="613" y="4"/>
                    </a:lnTo>
                    <a:lnTo>
                      <a:pt x="622" y="4"/>
                    </a:lnTo>
                    <a:lnTo>
                      <a:pt x="631" y="4"/>
                    </a:lnTo>
                    <a:lnTo>
                      <a:pt x="640" y="0"/>
                    </a:lnTo>
                    <a:lnTo>
                      <a:pt x="644" y="0"/>
                    </a:lnTo>
                    <a:lnTo>
                      <a:pt x="958" y="211"/>
                    </a:lnTo>
                    <a:lnTo>
                      <a:pt x="994" y="251"/>
                    </a:lnTo>
                    <a:lnTo>
                      <a:pt x="998" y="282"/>
                    </a:lnTo>
                    <a:lnTo>
                      <a:pt x="989" y="304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351480" y="5721480"/>
                <a:ext cx="222480" cy="111600"/>
              </a:xfrm>
              <a:custGeom>
                <a:avLst/>
                <a:gdLst/>
                <a:ahLst/>
                <a:rect l="0" t="0" r="r" b="b"/>
                <a:pathLst>
                  <a:path w="618" h="310">
                    <a:moveTo>
                      <a:pt x="0" y="306"/>
                    </a:moveTo>
                    <a:lnTo>
                      <a:pt x="0" y="306"/>
                    </a:lnTo>
                    <a:lnTo>
                      <a:pt x="618" y="0"/>
                    </a:lnTo>
                    <a:lnTo>
                      <a:pt x="0" y="31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334200" y="5832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0" y="7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221520" y="5738760"/>
                <a:ext cx="98640" cy="93960"/>
              </a:xfrm>
              <a:custGeom>
                <a:avLst/>
                <a:gdLst/>
                <a:ahLst/>
                <a:rect l="0" t="0" r="r" b="b"/>
                <a:pathLst>
                  <a:path w="274" h="261">
                    <a:moveTo>
                      <a:pt x="0" y="4"/>
                    </a:moveTo>
                    <a:lnTo>
                      <a:pt x="0" y="0"/>
                    </a:lnTo>
                    <a:lnTo>
                      <a:pt x="274" y="256"/>
                    </a:lnTo>
                    <a:lnTo>
                      <a:pt x="274" y="26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208560" y="572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215040" y="5684760"/>
                <a:ext cx="25920" cy="33840"/>
              </a:xfrm>
              <a:custGeom>
                <a:avLst/>
                <a:gdLst/>
                <a:ahLst/>
                <a:rect l="0" t="0" r="r" b="b"/>
                <a:pathLst>
                  <a:path w="72" h="94">
                    <a:moveTo>
                      <a:pt x="72" y="0"/>
                    </a:moveTo>
                    <a:lnTo>
                      <a:pt x="72" y="0"/>
                    </a:lnTo>
                    <a:lnTo>
                      <a:pt x="0" y="9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227640" y="5670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40600" y="5621400"/>
                <a:ext cx="100440" cy="32040"/>
              </a:xfrm>
              <a:custGeom>
                <a:avLst/>
                <a:gdLst/>
                <a:ahLst/>
                <a:rect l="0" t="0" r="r" b="b"/>
                <a:pathLst>
                  <a:path w="279" h="89">
                    <a:moveTo>
                      <a:pt x="279" y="4"/>
                    </a:moveTo>
                    <a:lnTo>
                      <a:pt x="279" y="4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279" y="0"/>
                    </a:lnTo>
                    <a:lnTo>
                      <a:pt x="27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357960" y="560700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244" y="0"/>
                    </a:moveTo>
                    <a:lnTo>
                      <a:pt x="244" y="0"/>
                    </a:lnTo>
                    <a:lnTo>
                      <a:pt x="240" y="0"/>
                    </a:lnTo>
                    <a:lnTo>
                      <a:pt x="231" y="0"/>
                    </a:lnTo>
                    <a:lnTo>
                      <a:pt x="222" y="0"/>
                    </a:lnTo>
                    <a:lnTo>
                      <a:pt x="213" y="0"/>
                    </a:lnTo>
                    <a:lnTo>
                      <a:pt x="204" y="24"/>
                    </a:lnTo>
                    <a:lnTo>
                      <a:pt x="200" y="24"/>
                    </a:lnTo>
                    <a:lnTo>
                      <a:pt x="191" y="24"/>
                    </a:lnTo>
                    <a:lnTo>
                      <a:pt x="181" y="24"/>
                    </a:lnTo>
                    <a:lnTo>
                      <a:pt x="177" y="24"/>
                    </a:lnTo>
                    <a:lnTo>
                      <a:pt x="168" y="24"/>
                    </a:lnTo>
                    <a:lnTo>
                      <a:pt x="164" y="24"/>
                    </a:lnTo>
                    <a:lnTo>
                      <a:pt x="155" y="24"/>
                    </a:lnTo>
                    <a:lnTo>
                      <a:pt x="146" y="24"/>
                    </a:lnTo>
                    <a:lnTo>
                      <a:pt x="137" y="48"/>
                    </a:lnTo>
                    <a:lnTo>
                      <a:pt x="128" y="48"/>
                    </a:lnTo>
                    <a:lnTo>
                      <a:pt x="124" y="48"/>
                    </a:lnTo>
                    <a:lnTo>
                      <a:pt x="115" y="48"/>
                    </a:lnTo>
                    <a:lnTo>
                      <a:pt x="106" y="48"/>
                    </a:lnTo>
                    <a:lnTo>
                      <a:pt x="98" y="48"/>
                    </a:lnTo>
                    <a:lnTo>
                      <a:pt x="93" y="48"/>
                    </a:lnTo>
                    <a:lnTo>
                      <a:pt x="84" y="48"/>
                    </a:lnTo>
                    <a:lnTo>
                      <a:pt x="75" y="48"/>
                    </a:lnTo>
                    <a:lnTo>
                      <a:pt x="71" y="48"/>
                    </a:lnTo>
                    <a:lnTo>
                      <a:pt x="62" y="72"/>
                    </a:lnTo>
                    <a:lnTo>
                      <a:pt x="52" y="72"/>
                    </a:lnTo>
                    <a:lnTo>
                      <a:pt x="44" y="72"/>
                    </a:lnTo>
                    <a:lnTo>
                      <a:pt x="39" y="72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2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13" y="72"/>
                    </a:lnTo>
                    <a:lnTo>
                      <a:pt x="22" y="72"/>
                    </a:lnTo>
                    <a:lnTo>
                      <a:pt x="30" y="72"/>
                    </a:lnTo>
                    <a:lnTo>
                      <a:pt x="39" y="72"/>
                    </a:lnTo>
                    <a:lnTo>
                      <a:pt x="44" y="72"/>
                    </a:lnTo>
                    <a:lnTo>
                      <a:pt x="52" y="48"/>
                    </a:lnTo>
                    <a:lnTo>
                      <a:pt x="62" y="48"/>
                    </a:lnTo>
                    <a:lnTo>
                      <a:pt x="71" y="48"/>
                    </a:lnTo>
                    <a:lnTo>
                      <a:pt x="75" y="48"/>
                    </a:lnTo>
                    <a:lnTo>
                      <a:pt x="84" y="48"/>
                    </a:lnTo>
                    <a:lnTo>
                      <a:pt x="93" y="48"/>
                    </a:lnTo>
                    <a:lnTo>
                      <a:pt x="98" y="48"/>
                    </a:lnTo>
                    <a:lnTo>
                      <a:pt x="106" y="48"/>
                    </a:lnTo>
                    <a:lnTo>
                      <a:pt x="115" y="48"/>
                    </a:lnTo>
                    <a:lnTo>
                      <a:pt x="124" y="48"/>
                    </a:lnTo>
                    <a:lnTo>
                      <a:pt x="128" y="48"/>
                    </a:lnTo>
                    <a:lnTo>
                      <a:pt x="137" y="24"/>
                    </a:lnTo>
                    <a:lnTo>
                      <a:pt x="146" y="24"/>
                    </a:lnTo>
                    <a:lnTo>
                      <a:pt x="155" y="24"/>
                    </a:lnTo>
                    <a:lnTo>
                      <a:pt x="159" y="24"/>
                    </a:lnTo>
                    <a:lnTo>
                      <a:pt x="168" y="24"/>
                    </a:lnTo>
                    <a:lnTo>
                      <a:pt x="177" y="24"/>
                    </a:lnTo>
                    <a:lnTo>
                      <a:pt x="181" y="24"/>
                    </a:lnTo>
                    <a:lnTo>
                      <a:pt x="191" y="24"/>
                    </a:lnTo>
                    <a:lnTo>
                      <a:pt x="200" y="24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2" y="0"/>
                    </a:lnTo>
                    <a:lnTo>
                      <a:pt x="231" y="0"/>
                    </a:lnTo>
                    <a:lnTo>
                      <a:pt x="240" y="0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456240" y="5607000"/>
                <a:ext cx="105120" cy="68760"/>
              </a:xfrm>
              <a:custGeom>
                <a:avLst/>
                <a:gdLst/>
                <a:ahLst/>
                <a:rect l="0" t="0" r="r" b="b"/>
                <a:pathLst>
                  <a:path w="292" h="191">
                    <a:moveTo>
                      <a:pt x="292" y="191"/>
                    </a:moveTo>
                    <a:lnTo>
                      <a:pt x="292" y="191"/>
                    </a:lnTo>
                    <a:lnTo>
                      <a:pt x="0" y="0"/>
                    </a:lnTo>
                    <a:lnTo>
                      <a:pt x="292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575400" y="568476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75400" y="5702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1" y="72"/>
                    </a:moveTo>
                    <a:lnTo>
                      <a:pt x="51" y="72"/>
                    </a:lnTo>
                    <a:lnTo>
                      <a:pt x="0" y="0"/>
                    </a:lnTo>
                    <a:lnTo>
                      <a:pt x="72" y="72"/>
                    </a:lnTo>
                    <a:lnTo>
                      <a:pt x="5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75400" y="5707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72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16480" y="5716440"/>
                <a:ext cx="359280" cy="116280"/>
              </a:xfrm>
              <a:custGeom>
                <a:avLst/>
                <a:gdLst/>
                <a:ahLst/>
                <a:rect l="0" t="0" r="r" b="b"/>
                <a:pathLst>
                  <a:path w="998" h="323">
                    <a:moveTo>
                      <a:pt x="0" y="39"/>
                    </a:moveTo>
                    <a:lnTo>
                      <a:pt x="318" y="297"/>
                    </a:lnTo>
                    <a:lnTo>
                      <a:pt x="322" y="297"/>
                    </a:lnTo>
                    <a:lnTo>
                      <a:pt x="322" y="301"/>
                    </a:lnTo>
                    <a:lnTo>
                      <a:pt x="327" y="301"/>
                    </a:lnTo>
                    <a:lnTo>
                      <a:pt x="327" y="301"/>
                    </a:lnTo>
                    <a:lnTo>
                      <a:pt x="327" y="301"/>
                    </a:lnTo>
                    <a:lnTo>
                      <a:pt x="331" y="301"/>
                    </a:lnTo>
                    <a:lnTo>
                      <a:pt x="336" y="301"/>
                    </a:lnTo>
                    <a:lnTo>
                      <a:pt x="340" y="301"/>
                    </a:lnTo>
                    <a:lnTo>
                      <a:pt x="340" y="301"/>
                    </a:lnTo>
                    <a:lnTo>
                      <a:pt x="344" y="301"/>
                    </a:lnTo>
                    <a:lnTo>
                      <a:pt x="349" y="301"/>
                    </a:lnTo>
                    <a:lnTo>
                      <a:pt x="353" y="301"/>
                    </a:lnTo>
                    <a:lnTo>
                      <a:pt x="353" y="301"/>
                    </a:lnTo>
                    <a:lnTo>
                      <a:pt x="358" y="297"/>
                    </a:lnTo>
                    <a:lnTo>
                      <a:pt x="362" y="297"/>
                    </a:lnTo>
                    <a:lnTo>
                      <a:pt x="998" y="0"/>
                    </a:lnTo>
                    <a:lnTo>
                      <a:pt x="989" y="17"/>
                    </a:lnTo>
                    <a:lnTo>
                      <a:pt x="358" y="319"/>
                    </a:lnTo>
                    <a:lnTo>
                      <a:pt x="358" y="319"/>
                    </a:lnTo>
                    <a:lnTo>
                      <a:pt x="353" y="319"/>
                    </a:lnTo>
                    <a:lnTo>
                      <a:pt x="353" y="319"/>
                    </a:lnTo>
                    <a:lnTo>
                      <a:pt x="349" y="323"/>
                    </a:lnTo>
                    <a:lnTo>
                      <a:pt x="344" y="323"/>
                    </a:lnTo>
                    <a:lnTo>
                      <a:pt x="340" y="323"/>
                    </a:lnTo>
                    <a:lnTo>
                      <a:pt x="340" y="323"/>
                    </a:lnTo>
                    <a:lnTo>
                      <a:pt x="336" y="323"/>
                    </a:lnTo>
                    <a:lnTo>
                      <a:pt x="331" y="323"/>
                    </a:lnTo>
                    <a:lnTo>
                      <a:pt x="327" y="323"/>
                    </a:lnTo>
                    <a:lnTo>
                      <a:pt x="327" y="323"/>
                    </a:lnTo>
                    <a:lnTo>
                      <a:pt x="322" y="319"/>
                    </a:lnTo>
                    <a:lnTo>
                      <a:pt x="318" y="319"/>
                    </a:lnTo>
                    <a:lnTo>
                      <a:pt x="314" y="319"/>
                    </a:lnTo>
                    <a:lnTo>
                      <a:pt x="8" y="6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16480" y="5730840"/>
                <a:ext cx="106560" cy="90720"/>
              </a:xfrm>
              <a:custGeom>
                <a:avLst/>
                <a:gdLst/>
                <a:ahLst/>
                <a:rect l="0" t="0" r="r" b="b"/>
                <a:pathLst>
                  <a:path w="296" h="252">
                    <a:moveTo>
                      <a:pt x="296" y="252"/>
                    </a:moveTo>
                    <a:lnTo>
                      <a:pt x="296" y="252"/>
                    </a:lnTo>
                    <a:lnTo>
                      <a:pt x="0" y="0"/>
                    </a:lnTo>
                    <a:lnTo>
                      <a:pt x="296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334200" y="5823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7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353280" y="5716440"/>
                <a:ext cx="222480" cy="105120"/>
              </a:xfrm>
              <a:custGeom>
                <a:avLst/>
                <a:gdLst/>
                <a:ahLst/>
                <a:rect l="0" t="0" r="r" b="b"/>
                <a:pathLst>
                  <a:path w="618" h="292">
                    <a:moveTo>
                      <a:pt x="613" y="0"/>
                    </a:moveTo>
                    <a:lnTo>
                      <a:pt x="618" y="0"/>
                    </a:lnTo>
                    <a:lnTo>
                      <a:pt x="0" y="292"/>
                    </a:lnTo>
                    <a:lnTo>
                      <a:pt x="613" y="0"/>
                    </a:lnTo>
                    <a:lnTo>
                      <a:pt x="618" y="0"/>
                    </a:lnTo>
                    <a:lnTo>
                      <a:pt x="6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75400" y="5707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72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721480"/>
                <a:ext cx="222480" cy="111600"/>
              </a:xfrm>
              <a:custGeom>
                <a:avLst/>
                <a:gdLst/>
                <a:ahLst/>
                <a:rect l="0" t="0" r="r" b="b"/>
                <a:pathLst>
                  <a:path w="618" h="310">
                    <a:moveTo>
                      <a:pt x="0" y="306"/>
                    </a:moveTo>
                    <a:lnTo>
                      <a:pt x="0" y="306"/>
                    </a:lnTo>
                    <a:lnTo>
                      <a:pt x="618" y="0"/>
                    </a:lnTo>
                    <a:lnTo>
                      <a:pt x="4" y="31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334200" y="5832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53" y="72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0"/>
                    </a:lnTo>
                    <a:lnTo>
                      <a:pt x="72" y="0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53" y="41"/>
                    </a:lnTo>
                    <a:lnTo>
                      <a:pt x="53" y="72"/>
                    </a:lnTo>
                    <a:lnTo>
                      <a:pt x="53" y="72"/>
                    </a:lnTo>
                    <a:lnTo>
                      <a:pt x="53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221520" y="5742000"/>
                <a:ext cx="98640" cy="90720"/>
              </a:xfrm>
              <a:custGeom>
                <a:avLst/>
                <a:gdLst/>
                <a:ahLst/>
                <a:rect l="0" t="0" r="r" b="b"/>
                <a:pathLst>
                  <a:path w="274" h="252">
                    <a:moveTo>
                      <a:pt x="0" y="0"/>
                    </a:moveTo>
                    <a:lnTo>
                      <a:pt x="0" y="0"/>
                    </a:lnTo>
                    <a:lnTo>
                      <a:pt x="274" y="247"/>
                    </a:lnTo>
                    <a:lnTo>
                      <a:pt x="274" y="2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08560" y="572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227640" y="5670720"/>
                <a:ext cx="348120" cy="105120"/>
              </a:xfrm>
              <a:custGeom>
                <a:avLst/>
                <a:gdLst/>
                <a:ahLst/>
                <a:rect l="0" t="0" r="r" b="b"/>
                <a:pathLst>
                  <a:path w="967" h="292">
                    <a:moveTo>
                      <a:pt x="967" y="83"/>
                    </a:moveTo>
                    <a:lnTo>
                      <a:pt x="340" y="287"/>
                    </a:lnTo>
                    <a:lnTo>
                      <a:pt x="336" y="292"/>
                    </a:lnTo>
                    <a:lnTo>
                      <a:pt x="336" y="292"/>
                    </a:lnTo>
                    <a:lnTo>
                      <a:pt x="331" y="292"/>
                    </a:lnTo>
                    <a:lnTo>
                      <a:pt x="327" y="292"/>
                    </a:lnTo>
                    <a:lnTo>
                      <a:pt x="322" y="292"/>
                    </a:lnTo>
                    <a:lnTo>
                      <a:pt x="322" y="292"/>
                    </a:lnTo>
                    <a:lnTo>
                      <a:pt x="318" y="287"/>
                    </a:lnTo>
                    <a:lnTo>
                      <a:pt x="0" y="44"/>
                    </a:lnTo>
                    <a:lnTo>
                      <a:pt x="44" y="0"/>
                    </a:lnTo>
                    <a:lnTo>
                      <a:pt x="349" y="221"/>
                    </a:lnTo>
                    <a:lnTo>
                      <a:pt x="653" y="101"/>
                    </a:lnTo>
                    <a:lnTo>
                      <a:pt x="662" y="101"/>
                    </a:lnTo>
                    <a:lnTo>
                      <a:pt x="666" y="101"/>
                    </a:lnTo>
                    <a:lnTo>
                      <a:pt x="680" y="101"/>
                    </a:lnTo>
                    <a:lnTo>
                      <a:pt x="688" y="97"/>
                    </a:lnTo>
                    <a:lnTo>
                      <a:pt x="697" y="97"/>
                    </a:lnTo>
                    <a:lnTo>
                      <a:pt x="706" y="97"/>
                    </a:lnTo>
                    <a:lnTo>
                      <a:pt x="715" y="97"/>
                    </a:lnTo>
                    <a:lnTo>
                      <a:pt x="724" y="97"/>
                    </a:lnTo>
                    <a:lnTo>
                      <a:pt x="734" y="92"/>
                    </a:lnTo>
                    <a:lnTo>
                      <a:pt x="742" y="92"/>
                    </a:lnTo>
                    <a:lnTo>
                      <a:pt x="751" y="88"/>
                    </a:lnTo>
                    <a:lnTo>
                      <a:pt x="756" y="88"/>
                    </a:lnTo>
                    <a:lnTo>
                      <a:pt x="769" y="88"/>
                    </a:lnTo>
                    <a:lnTo>
                      <a:pt x="778" y="83"/>
                    </a:lnTo>
                    <a:lnTo>
                      <a:pt x="786" y="83"/>
                    </a:lnTo>
                    <a:lnTo>
                      <a:pt x="795" y="79"/>
                    </a:lnTo>
                    <a:lnTo>
                      <a:pt x="804" y="79"/>
                    </a:lnTo>
                    <a:lnTo>
                      <a:pt x="813" y="79"/>
                    </a:lnTo>
                    <a:lnTo>
                      <a:pt x="822" y="74"/>
                    </a:lnTo>
                    <a:lnTo>
                      <a:pt x="831" y="74"/>
                    </a:lnTo>
                    <a:lnTo>
                      <a:pt x="839" y="70"/>
                    </a:lnTo>
                    <a:lnTo>
                      <a:pt x="848" y="70"/>
                    </a:lnTo>
                    <a:lnTo>
                      <a:pt x="857" y="66"/>
                    </a:lnTo>
                    <a:lnTo>
                      <a:pt x="866" y="66"/>
                    </a:lnTo>
                    <a:lnTo>
                      <a:pt x="870" y="61"/>
                    </a:lnTo>
                    <a:lnTo>
                      <a:pt x="883" y="61"/>
                    </a:lnTo>
                    <a:lnTo>
                      <a:pt x="892" y="61"/>
                    </a:lnTo>
                    <a:lnTo>
                      <a:pt x="897" y="57"/>
                    </a:lnTo>
                    <a:lnTo>
                      <a:pt x="910" y="52"/>
                    </a:lnTo>
                    <a:lnTo>
                      <a:pt x="919" y="52"/>
                    </a:lnTo>
                    <a:lnTo>
                      <a:pt x="923" y="52"/>
                    </a:lnTo>
                    <a:lnTo>
                      <a:pt x="936" y="48"/>
                    </a:lnTo>
                    <a:lnTo>
                      <a:pt x="967" y="83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40600" y="5607000"/>
                <a:ext cx="321120" cy="141480"/>
              </a:xfrm>
              <a:custGeom>
                <a:avLst/>
                <a:gdLst/>
                <a:ahLst/>
                <a:rect l="0" t="0" r="r" b="b"/>
                <a:pathLst>
                  <a:path w="892" h="393">
                    <a:moveTo>
                      <a:pt x="0" y="154"/>
                    </a:moveTo>
                    <a:lnTo>
                      <a:pt x="305" y="393"/>
                    </a:lnTo>
                    <a:lnTo>
                      <a:pt x="609" y="269"/>
                    </a:lnTo>
                    <a:lnTo>
                      <a:pt x="618" y="265"/>
                    </a:lnTo>
                    <a:lnTo>
                      <a:pt x="627" y="265"/>
                    </a:lnTo>
                    <a:lnTo>
                      <a:pt x="636" y="265"/>
                    </a:lnTo>
                    <a:lnTo>
                      <a:pt x="644" y="261"/>
                    </a:lnTo>
                    <a:lnTo>
                      <a:pt x="653" y="261"/>
                    </a:lnTo>
                    <a:lnTo>
                      <a:pt x="662" y="261"/>
                    </a:lnTo>
                    <a:lnTo>
                      <a:pt x="672" y="256"/>
                    </a:lnTo>
                    <a:lnTo>
                      <a:pt x="681" y="256"/>
                    </a:lnTo>
                    <a:lnTo>
                      <a:pt x="689" y="256"/>
                    </a:lnTo>
                    <a:lnTo>
                      <a:pt x="698" y="256"/>
                    </a:lnTo>
                    <a:lnTo>
                      <a:pt x="707" y="252"/>
                    </a:lnTo>
                    <a:lnTo>
                      <a:pt x="716" y="252"/>
                    </a:lnTo>
                    <a:lnTo>
                      <a:pt x="725" y="247"/>
                    </a:lnTo>
                    <a:lnTo>
                      <a:pt x="734" y="247"/>
                    </a:lnTo>
                    <a:lnTo>
                      <a:pt x="742" y="247"/>
                    </a:lnTo>
                    <a:lnTo>
                      <a:pt x="751" y="247"/>
                    </a:lnTo>
                    <a:lnTo>
                      <a:pt x="760" y="243"/>
                    </a:lnTo>
                    <a:lnTo>
                      <a:pt x="769" y="239"/>
                    </a:lnTo>
                    <a:lnTo>
                      <a:pt x="782" y="239"/>
                    </a:lnTo>
                    <a:lnTo>
                      <a:pt x="786" y="234"/>
                    </a:lnTo>
                    <a:lnTo>
                      <a:pt x="795" y="234"/>
                    </a:lnTo>
                    <a:lnTo>
                      <a:pt x="808" y="230"/>
                    </a:lnTo>
                    <a:lnTo>
                      <a:pt x="813" y="230"/>
                    </a:lnTo>
                    <a:lnTo>
                      <a:pt x="822" y="225"/>
                    </a:lnTo>
                    <a:lnTo>
                      <a:pt x="835" y="225"/>
                    </a:lnTo>
                    <a:lnTo>
                      <a:pt x="839" y="225"/>
                    </a:lnTo>
                    <a:lnTo>
                      <a:pt x="848" y="221"/>
                    </a:lnTo>
                    <a:lnTo>
                      <a:pt x="861" y="217"/>
                    </a:lnTo>
                    <a:lnTo>
                      <a:pt x="866" y="212"/>
                    </a:lnTo>
                    <a:lnTo>
                      <a:pt x="875" y="212"/>
                    </a:lnTo>
                    <a:lnTo>
                      <a:pt x="883" y="212"/>
                    </a:lnTo>
                    <a:lnTo>
                      <a:pt x="892" y="208"/>
                    </a:lnTo>
                    <a:lnTo>
                      <a:pt x="578" y="0"/>
                    </a:lnTo>
                    <a:lnTo>
                      <a:pt x="574" y="4"/>
                    </a:lnTo>
                    <a:lnTo>
                      <a:pt x="561" y="4"/>
                    </a:lnTo>
                    <a:lnTo>
                      <a:pt x="552" y="4"/>
                    </a:lnTo>
                    <a:lnTo>
                      <a:pt x="547" y="4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21" y="8"/>
                    </a:lnTo>
                    <a:lnTo>
                      <a:pt x="512" y="13"/>
                    </a:lnTo>
                    <a:lnTo>
                      <a:pt x="503" y="13"/>
                    </a:lnTo>
                    <a:lnTo>
                      <a:pt x="494" y="17"/>
                    </a:lnTo>
                    <a:lnTo>
                      <a:pt x="486" y="17"/>
                    </a:lnTo>
                    <a:lnTo>
                      <a:pt x="477" y="17"/>
                    </a:lnTo>
                    <a:lnTo>
                      <a:pt x="468" y="17"/>
                    </a:lnTo>
                    <a:lnTo>
                      <a:pt x="459" y="22"/>
                    </a:lnTo>
                    <a:lnTo>
                      <a:pt x="450" y="22"/>
                    </a:lnTo>
                    <a:lnTo>
                      <a:pt x="441" y="22"/>
                    </a:lnTo>
                    <a:lnTo>
                      <a:pt x="433" y="26"/>
                    </a:lnTo>
                    <a:lnTo>
                      <a:pt x="424" y="26"/>
                    </a:lnTo>
                    <a:lnTo>
                      <a:pt x="419" y="26"/>
                    </a:lnTo>
                    <a:lnTo>
                      <a:pt x="406" y="26"/>
                    </a:lnTo>
                    <a:lnTo>
                      <a:pt x="397" y="26"/>
                    </a:lnTo>
                    <a:lnTo>
                      <a:pt x="393" y="30"/>
                    </a:lnTo>
                    <a:lnTo>
                      <a:pt x="380" y="30"/>
                    </a:lnTo>
                    <a:lnTo>
                      <a:pt x="371" y="30"/>
                    </a:lnTo>
                    <a:lnTo>
                      <a:pt x="367" y="35"/>
                    </a:lnTo>
                    <a:lnTo>
                      <a:pt x="358" y="35"/>
                    </a:lnTo>
                    <a:lnTo>
                      <a:pt x="344" y="35"/>
                    </a:lnTo>
                    <a:lnTo>
                      <a:pt x="340" y="39"/>
                    </a:lnTo>
                    <a:lnTo>
                      <a:pt x="331" y="39"/>
                    </a:lnTo>
                    <a:lnTo>
                      <a:pt x="318" y="39"/>
                    </a:lnTo>
                    <a:lnTo>
                      <a:pt x="309" y="39"/>
                    </a:lnTo>
                    <a:lnTo>
                      <a:pt x="305" y="39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51480" y="5721480"/>
                <a:ext cx="222480" cy="111600"/>
              </a:xfrm>
              <a:custGeom>
                <a:avLst/>
                <a:gdLst/>
                <a:ahLst/>
                <a:rect l="0" t="0" r="r" b="b"/>
                <a:pathLst>
                  <a:path w="618" h="310">
                    <a:moveTo>
                      <a:pt x="0" y="306"/>
                    </a:moveTo>
                    <a:lnTo>
                      <a:pt x="0" y="306"/>
                    </a:lnTo>
                    <a:lnTo>
                      <a:pt x="618" y="0"/>
                    </a:lnTo>
                    <a:lnTo>
                      <a:pt x="0" y="31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34200" y="5832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41"/>
                    </a:lnTo>
                    <a:lnTo>
                      <a:pt x="72" y="41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0" y="7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21520" y="5738760"/>
                <a:ext cx="98640" cy="93960"/>
              </a:xfrm>
              <a:custGeom>
                <a:avLst/>
                <a:gdLst/>
                <a:ahLst/>
                <a:rect l="0" t="0" r="r" b="b"/>
                <a:pathLst>
                  <a:path w="274" h="261">
                    <a:moveTo>
                      <a:pt x="0" y="4"/>
                    </a:moveTo>
                    <a:lnTo>
                      <a:pt x="0" y="0"/>
                    </a:lnTo>
                    <a:lnTo>
                      <a:pt x="274" y="256"/>
                    </a:lnTo>
                    <a:lnTo>
                      <a:pt x="274" y="26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208560" y="572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215040" y="5684760"/>
                <a:ext cx="25920" cy="33840"/>
              </a:xfrm>
              <a:custGeom>
                <a:avLst/>
                <a:gdLst/>
                <a:ahLst/>
                <a:rect l="0" t="0" r="r" b="b"/>
                <a:pathLst>
                  <a:path w="72" h="94">
                    <a:moveTo>
                      <a:pt x="72" y="0"/>
                    </a:moveTo>
                    <a:lnTo>
                      <a:pt x="72" y="0"/>
                    </a:lnTo>
                    <a:lnTo>
                      <a:pt x="0" y="9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227640" y="5670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0600" y="5621400"/>
                <a:ext cx="100440" cy="32040"/>
              </a:xfrm>
              <a:custGeom>
                <a:avLst/>
                <a:gdLst/>
                <a:ahLst/>
                <a:rect l="0" t="0" r="r" b="b"/>
                <a:pathLst>
                  <a:path w="279" h="89">
                    <a:moveTo>
                      <a:pt x="279" y="4"/>
                    </a:moveTo>
                    <a:lnTo>
                      <a:pt x="279" y="4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279" y="0"/>
                    </a:lnTo>
                    <a:lnTo>
                      <a:pt x="27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357960" y="560700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244" y="0"/>
                    </a:moveTo>
                    <a:lnTo>
                      <a:pt x="244" y="0"/>
                    </a:lnTo>
                    <a:lnTo>
                      <a:pt x="240" y="0"/>
                    </a:lnTo>
                    <a:lnTo>
                      <a:pt x="231" y="0"/>
                    </a:lnTo>
                    <a:lnTo>
                      <a:pt x="222" y="0"/>
                    </a:lnTo>
                    <a:lnTo>
                      <a:pt x="213" y="0"/>
                    </a:lnTo>
                    <a:lnTo>
                      <a:pt x="204" y="24"/>
                    </a:lnTo>
                    <a:lnTo>
                      <a:pt x="200" y="24"/>
                    </a:lnTo>
                    <a:lnTo>
                      <a:pt x="191" y="24"/>
                    </a:lnTo>
                    <a:lnTo>
                      <a:pt x="181" y="24"/>
                    </a:lnTo>
                    <a:lnTo>
                      <a:pt x="177" y="24"/>
                    </a:lnTo>
                    <a:lnTo>
                      <a:pt x="168" y="24"/>
                    </a:lnTo>
                    <a:lnTo>
                      <a:pt x="164" y="24"/>
                    </a:lnTo>
                    <a:lnTo>
                      <a:pt x="155" y="24"/>
                    </a:lnTo>
                    <a:lnTo>
                      <a:pt x="146" y="24"/>
                    </a:lnTo>
                    <a:lnTo>
                      <a:pt x="137" y="48"/>
                    </a:lnTo>
                    <a:lnTo>
                      <a:pt x="128" y="48"/>
                    </a:lnTo>
                    <a:lnTo>
                      <a:pt x="124" y="48"/>
                    </a:lnTo>
                    <a:lnTo>
                      <a:pt x="115" y="48"/>
                    </a:lnTo>
                    <a:lnTo>
                      <a:pt x="106" y="48"/>
                    </a:lnTo>
                    <a:lnTo>
                      <a:pt x="98" y="48"/>
                    </a:lnTo>
                    <a:lnTo>
                      <a:pt x="93" y="48"/>
                    </a:lnTo>
                    <a:lnTo>
                      <a:pt x="84" y="48"/>
                    </a:lnTo>
                    <a:lnTo>
                      <a:pt x="75" y="48"/>
                    </a:lnTo>
                    <a:lnTo>
                      <a:pt x="71" y="48"/>
                    </a:lnTo>
                    <a:lnTo>
                      <a:pt x="62" y="72"/>
                    </a:lnTo>
                    <a:lnTo>
                      <a:pt x="52" y="72"/>
                    </a:lnTo>
                    <a:lnTo>
                      <a:pt x="44" y="72"/>
                    </a:lnTo>
                    <a:lnTo>
                      <a:pt x="39" y="72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2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13" y="72"/>
                    </a:lnTo>
                    <a:lnTo>
                      <a:pt x="22" y="72"/>
                    </a:lnTo>
                    <a:lnTo>
                      <a:pt x="30" y="72"/>
                    </a:lnTo>
                    <a:lnTo>
                      <a:pt x="39" y="72"/>
                    </a:lnTo>
                    <a:lnTo>
                      <a:pt x="44" y="72"/>
                    </a:lnTo>
                    <a:lnTo>
                      <a:pt x="52" y="48"/>
                    </a:lnTo>
                    <a:lnTo>
                      <a:pt x="62" y="48"/>
                    </a:lnTo>
                    <a:lnTo>
                      <a:pt x="71" y="48"/>
                    </a:lnTo>
                    <a:lnTo>
                      <a:pt x="75" y="48"/>
                    </a:lnTo>
                    <a:lnTo>
                      <a:pt x="84" y="48"/>
                    </a:lnTo>
                    <a:lnTo>
                      <a:pt x="93" y="48"/>
                    </a:lnTo>
                    <a:lnTo>
                      <a:pt x="98" y="48"/>
                    </a:lnTo>
                    <a:lnTo>
                      <a:pt x="106" y="48"/>
                    </a:lnTo>
                    <a:lnTo>
                      <a:pt x="115" y="48"/>
                    </a:lnTo>
                    <a:lnTo>
                      <a:pt x="124" y="48"/>
                    </a:lnTo>
                    <a:lnTo>
                      <a:pt x="128" y="48"/>
                    </a:lnTo>
                    <a:lnTo>
                      <a:pt x="137" y="24"/>
                    </a:lnTo>
                    <a:lnTo>
                      <a:pt x="146" y="24"/>
                    </a:lnTo>
                    <a:lnTo>
                      <a:pt x="155" y="24"/>
                    </a:lnTo>
                    <a:lnTo>
                      <a:pt x="159" y="24"/>
                    </a:lnTo>
                    <a:lnTo>
                      <a:pt x="168" y="24"/>
                    </a:lnTo>
                    <a:lnTo>
                      <a:pt x="177" y="24"/>
                    </a:lnTo>
                    <a:lnTo>
                      <a:pt x="181" y="24"/>
                    </a:lnTo>
                    <a:lnTo>
                      <a:pt x="191" y="24"/>
                    </a:lnTo>
                    <a:lnTo>
                      <a:pt x="200" y="24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2" y="0"/>
                    </a:lnTo>
                    <a:lnTo>
                      <a:pt x="231" y="0"/>
                    </a:lnTo>
                    <a:lnTo>
                      <a:pt x="240" y="0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456240" y="5607000"/>
                <a:ext cx="105120" cy="68760"/>
              </a:xfrm>
              <a:custGeom>
                <a:avLst/>
                <a:gdLst/>
                <a:ahLst/>
                <a:rect l="0" t="0" r="r" b="b"/>
                <a:pathLst>
                  <a:path w="292" h="191">
                    <a:moveTo>
                      <a:pt x="292" y="191"/>
                    </a:moveTo>
                    <a:lnTo>
                      <a:pt x="292" y="191"/>
                    </a:lnTo>
                    <a:lnTo>
                      <a:pt x="0" y="0"/>
                    </a:lnTo>
                    <a:lnTo>
                      <a:pt x="292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75400" y="568476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575400" y="5702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1" y="72"/>
                    </a:moveTo>
                    <a:lnTo>
                      <a:pt x="51" y="72"/>
                    </a:lnTo>
                    <a:lnTo>
                      <a:pt x="0" y="0"/>
                    </a:lnTo>
                    <a:lnTo>
                      <a:pt x="72" y="72"/>
                    </a:lnTo>
                    <a:lnTo>
                      <a:pt x="5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75400" y="5707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72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391440" y="5607000"/>
                <a:ext cx="144720" cy="78120"/>
              </a:xfrm>
              <a:custGeom>
                <a:avLst/>
                <a:gdLst/>
                <a:ahLst/>
                <a:rect l="0" t="0" r="r" b="b"/>
                <a:pathLst>
                  <a:path w="402" h="217">
                    <a:moveTo>
                      <a:pt x="402" y="186"/>
                    </a:moveTo>
                    <a:lnTo>
                      <a:pt x="247" y="217"/>
                    </a:lnTo>
                    <a:lnTo>
                      <a:pt x="167" y="164"/>
                    </a:lnTo>
                    <a:lnTo>
                      <a:pt x="176" y="159"/>
                    </a:lnTo>
                    <a:lnTo>
                      <a:pt x="176" y="155"/>
                    </a:lnTo>
                    <a:lnTo>
                      <a:pt x="158" y="159"/>
                    </a:lnTo>
                    <a:lnTo>
                      <a:pt x="83" y="105"/>
                    </a:lnTo>
                    <a:lnTo>
                      <a:pt x="88" y="101"/>
                    </a:lnTo>
                    <a:lnTo>
                      <a:pt x="92" y="97"/>
                    </a:lnTo>
                    <a:lnTo>
                      <a:pt x="74" y="101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9"/>
                    </a:lnTo>
                    <a:lnTo>
                      <a:pt x="101" y="22"/>
                    </a:lnTo>
                    <a:lnTo>
                      <a:pt x="149" y="0"/>
                    </a:lnTo>
                    <a:lnTo>
                      <a:pt x="221" y="44"/>
                    </a:lnTo>
                    <a:lnTo>
                      <a:pt x="225" y="57"/>
                    </a:lnTo>
                    <a:lnTo>
                      <a:pt x="239" y="52"/>
                    </a:lnTo>
                    <a:lnTo>
                      <a:pt x="309" y="101"/>
                    </a:lnTo>
                    <a:lnTo>
                      <a:pt x="314" y="115"/>
                    </a:lnTo>
                    <a:lnTo>
                      <a:pt x="322" y="111"/>
                    </a:lnTo>
                    <a:lnTo>
                      <a:pt x="397" y="159"/>
                    </a:lnTo>
                    <a:lnTo>
                      <a:pt x="402" y="177"/>
                    </a:lnTo>
                    <a:lnTo>
                      <a:pt x="40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488280" y="5684760"/>
                <a:ext cx="47520" cy="0"/>
              </a:xfrm>
              <a:custGeom>
                <a:avLst/>
                <a:gdLst/>
                <a:ahLst/>
                <a:rect l="0" t="0" r="r" b="b"/>
                <a:pathLst>
                  <a:path w="132" h="0">
                    <a:moveTo>
                      <a:pt x="0" y="0"/>
                    </a:moveTo>
                    <a:lnTo>
                      <a:pt x="0" y="0"/>
                    </a:lnTo>
                    <a:lnTo>
                      <a:pt x="1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53360" y="5675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" y="0"/>
                    </a:moveTo>
                    <a:lnTo>
                      <a:pt x="5" y="0"/>
                    </a:lnTo>
                    <a:lnTo>
                      <a:pt x="72" y="7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445080" y="5664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43" y="72"/>
                    </a:lnTo>
                    <a:lnTo>
                      <a:pt x="0" y="72"/>
                    </a:lnTo>
                    <a:lnTo>
                      <a:pt x="4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445080" y="5664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36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445080" y="5664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4" y="36"/>
                    </a:move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0" y="72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24560" y="56498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411960" y="5638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45" y="0"/>
                    </a:lnTo>
                    <a:lnTo>
                      <a:pt x="0" y="72"/>
                    </a:lnTo>
                    <a:lnTo>
                      <a:pt x="45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11960" y="5638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72" y="0"/>
                    </a:lnTo>
                    <a:lnTo>
                      <a:pt x="72" y="4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411960" y="5638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7" y="41"/>
                    </a:moveTo>
                    <a:lnTo>
                      <a:pt x="0" y="41"/>
                    </a:lnTo>
                    <a:lnTo>
                      <a:pt x="72" y="0"/>
                    </a:lnTo>
                    <a:lnTo>
                      <a:pt x="72" y="41"/>
                    </a:lnTo>
                    <a:lnTo>
                      <a:pt x="0" y="72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391440" y="5629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383160" y="5614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4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383160" y="5614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396120" y="5614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429240" y="56070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450120" y="5607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200" y="5619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1" y="72"/>
                    </a:moveTo>
                    <a:lnTo>
                      <a:pt x="41" y="72"/>
                    </a:lnTo>
                    <a:lnTo>
                      <a:pt x="0" y="0"/>
                    </a:lnTo>
                    <a:lnTo>
                      <a:pt x="72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469200" y="5619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481800" y="5629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502320" y="5643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05560" y="5643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3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72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514920" y="5651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535800" y="5670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535800" y="56707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96120" y="5607000"/>
                <a:ext cx="138600" cy="71640"/>
              </a:xfrm>
              <a:custGeom>
                <a:avLst/>
                <a:gdLst/>
                <a:ahLst/>
                <a:rect l="0" t="0" r="r" b="b"/>
                <a:pathLst>
                  <a:path w="385" h="199">
                    <a:moveTo>
                      <a:pt x="212" y="44"/>
                    </a:moveTo>
                    <a:lnTo>
                      <a:pt x="159" y="70"/>
                    </a:lnTo>
                    <a:lnTo>
                      <a:pt x="70" y="88"/>
                    </a:lnTo>
                    <a:lnTo>
                      <a:pt x="0" y="39"/>
                    </a:lnTo>
                    <a:lnTo>
                      <a:pt x="88" y="22"/>
                    </a:lnTo>
                    <a:lnTo>
                      <a:pt x="142" y="0"/>
                    </a:lnTo>
                    <a:lnTo>
                      <a:pt x="212" y="44"/>
                    </a:lnTo>
                    <a:lnTo>
                      <a:pt x="297" y="97"/>
                    </a:lnTo>
                    <a:lnTo>
                      <a:pt x="243" y="124"/>
                    </a:lnTo>
                    <a:lnTo>
                      <a:pt x="155" y="142"/>
                    </a:lnTo>
                    <a:lnTo>
                      <a:pt x="83" y="97"/>
                    </a:lnTo>
                    <a:lnTo>
                      <a:pt x="172" y="79"/>
                    </a:lnTo>
                    <a:lnTo>
                      <a:pt x="225" y="52"/>
                    </a:lnTo>
                    <a:lnTo>
                      <a:pt x="297" y="97"/>
                    </a:lnTo>
                    <a:lnTo>
                      <a:pt x="385" y="155"/>
                    </a:lnTo>
                    <a:lnTo>
                      <a:pt x="332" y="177"/>
                    </a:lnTo>
                    <a:lnTo>
                      <a:pt x="239" y="199"/>
                    </a:lnTo>
                    <a:lnTo>
                      <a:pt x="168" y="150"/>
                    </a:lnTo>
                    <a:lnTo>
                      <a:pt x="261" y="133"/>
                    </a:lnTo>
                    <a:lnTo>
                      <a:pt x="315" y="106"/>
                    </a:lnTo>
                    <a:lnTo>
                      <a:pt x="385" y="155"/>
                    </a:lnTo>
                    <a:lnTo>
                      <a:pt x="212" y="44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56240" y="56275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72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421320" y="563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72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96120" y="56275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96120" y="5614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429240" y="56070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450120" y="5607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67400" y="5629320"/>
                <a:ext cx="25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489720" y="564984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453360" y="5657760"/>
                <a:ext cx="27360" cy="25920"/>
              </a:xfrm>
              <a:custGeom>
                <a:avLst/>
                <a:gdLst/>
                <a:ahLst/>
                <a:rect l="0" t="0" r="r" b="b"/>
                <a:pathLst>
                  <a:path w="76" h="72">
                    <a:moveTo>
                      <a:pt x="0" y="72"/>
                    </a:moveTo>
                    <a:lnTo>
                      <a:pt x="0" y="72"/>
                    </a:lnTo>
                    <a:lnTo>
                      <a:pt x="76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427800" y="56498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427800" y="563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462720" y="56293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81800" y="5629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499080" y="5649840"/>
                <a:ext cx="25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526080" y="56736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489720" y="5678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3"/>
                    </a:moveTo>
                    <a:lnTo>
                      <a:pt x="0" y="53"/>
                    </a:lnTo>
                    <a:lnTo>
                      <a:pt x="72" y="0"/>
                    </a:lnTo>
                    <a:lnTo>
                      <a:pt x="72" y="17"/>
                    </a:lnTo>
                    <a:lnTo>
                      <a:pt x="0" y="72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462720" y="5670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62720" y="5659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99080" y="56498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514920" y="5651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29240" y="561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62720" y="5643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499080" y="566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6496200" y="4660920"/>
              <a:ext cx="1117800" cy="1076760"/>
              <a:chOff x="6496200" y="4660920"/>
              <a:chExt cx="1117800" cy="1076760"/>
            </a:xfrm>
          </p:grpSpPr>
          <p:sp>
            <p:nvSpPr>
              <p:cNvPr id="1099" name=""/>
              <p:cNvSpPr/>
              <p:nvPr/>
            </p:nvSpPr>
            <p:spPr>
              <a:xfrm>
                <a:off x="6496200" y="4664160"/>
                <a:ext cx="1117800" cy="1073520"/>
              </a:xfrm>
              <a:custGeom>
                <a:avLst/>
                <a:gdLst/>
                <a:ahLst/>
                <a:rect l="0" t="0" r="r" b="b"/>
                <a:pathLst>
                  <a:path w="3105" h="2982">
                    <a:moveTo>
                      <a:pt x="366" y="2806"/>
                    </a:moveTo>
                    <a:lnTo>
                      <a:pt x="2258" y="2982"/>
                    </a:lnTo>
                    <a:lnTo>
                      <a:pt x="2558" y="2731"/>
                    </a:lnTo>
                    <a:lnTo>
                      <a:pt x="2558" y="2621"/>
                    </a:lnTo>
                    <a:lnTo>
                      <a:pt x="2007" y="2572"/>
                    </a:lnTo>
                    <a:lnTo>
                      <a:pt x="1980" y="2528"/>
                    </a:lnTo>
                    <a:lnTo>
                      <a:pt x="1989" y="2524"/>
                    </a:lnTo>
                    <a:lnTo>
                      <a:pt x="1998" y="2519"/>
                    </a:lnTo>
                    <a:lnTo>
                      <a:pt x="2003" y="2515"/>
                    </a:lnTo>
                    <a:lnTo>
                      <a:pt x="2003" y="2511"/>
                    </a:lnTo>
                    <a:lnTo>
                      <a:pt x="2011" y="2506"/>
                    </a:lnTo>
                    <a:lnTo>
                      <a:pt x="2016" y="2502"/>
                    </a:lnTo>
                    <a:lnTo>
                      <a:pt x="2025" y="2497"/>
                    </a:lnTo>
                    <a:lnTo>
                      <a:pt x="2029" y="2493"/>
                    </a:lnTo>
                    <a:lnTo>
                      <a:pt x="2033" y="2489"/>
                    </a:lnTo>
                    <a:lnTo>
                      <a:pt x="2042" y="2484"/>
                    </a:lnTo>
                    <a:lnTo>
                      <a:pt x="2042" y="2480"/>
                    </a:lnTo>
                    <a:lnTo>
                      <a:pt x="2047" y="2471"/>
                    </a:lnTo>
                    <a:lnTo>
                      <a:pt x="2051" y="2467"/>
                    </a:lnTo>
                    <a:lnTo>
                      <a:pt x="2060" y="2467"/>
                    </a:lnTo>
                    <a:lnTo>
                      <a:pt x="2064" y="2458"/>
                    </a:lnTo>
                    <a:lnTo>
                      <a:pt x="2069" y="2453"/>
                    </a:lnTo>
                    <a:lnTo>
                      <a:pt x="2558" y="2471"/>
                    </a:lnTo>
                    <a:lnTo>
                      <a:pt x="2862" y="2418"/>
                    </a:lnTo>
                    <a:lnTo>
                      <a:pt x="2867" y="2418"/>
                    </a:lnTo>
                    <a:lnTo>
                      <a:pt x="2871" y="2414"/>
                    </a:lnTo>
                    <a:lnTo>
                      <a:pt x="2876" y="2409"/>
                    </a:lnTo>
                    <a:lnTo>
                      <a:pt x="2884" y="2405"/>
                    </a:lnTo>
                    <a:lnTo>
                      <a:pt x="2889" y="2400"/>
                    </a:lnTo>
                    <a:lnTo>
                      <a:pt x="2893" y="2396"/>
                    </a:lnTo>
                    <a:lnTo>
                      <a:pt x="2898" y="2392"/>
                    </a:lnTo>
                    <a:lnTo>
                      <a:pt x="2902" y="2387"/>
                    </a:lnTo>
                    <a:lnTo>
                      <a:pt x="2907" y="2378"/>
                    </a:lnTo>
                    <a:lnTo>
                      <a:pt x="2907" y="2370"/>
                    </a:lnTo>
                    <a:lnTo>
                      <a:pt x="2907" y="2361"/>
                    </a:lnTo>
                    <a:lnTo>
                      <a:pt x="2911" y="2361"/>
                    </a:lnTo>
                    <a:lnTo>
                      <a:pt x="2911" y="2352"/>
                    </a:lnTo>
                    <a:lnTo>
                      <a:pt x="2911" y="2343"/>
                    </a:lnTo>
                    <a:lnTo>
                      <a:pt x="2911" y="2330"/>
                    </a:lnTo>
                    <a:lnTo>
                      <a:pt x="2911" y="2325"/>
                    </a:lnTo>
                    <a:lnTo>
                      <a:pt x="2911" y="2219"/>
                    </a:lnTo>
                    <a:lnTo>
                      <a:pt x="2920" y="2214"/>
                    </a:lnTo>
                    <a:lnTo>
                      <a:pt x="2924" y="2210"/>
                    </a:lnTo>
                    <a:lnTo>
                      <a:pt x="2933" y="2205"/>
                    </a:lnTo>
                    <a:lnTo>
                      <a:pt x="2937" y="2201"/>
                    </a:lnTo>
                    <a:lnTo>
                      <a:pt x="2942" y="2201"/>
                    </a:lnTo>
                    <a:lnTo>
                      <a:pt x="2946" y="2197"/>
                    </a:lnTo>
                    <a:lnTo>
                      <a:pt x="2955" y="2192"/>
                    </a:lnTo>
                    <a:lnTo>
                      <a:pt x="2964" y="2188"/>
                    </a:lnTo>
                    <a:lnTo>
                      <a:pt x="2968" y="2188"/>
                    </a:lnTo>
                    <a:lnTo>
                      <a:pt x="2977" y="2183"/>
                    </a:lnTo>
                    <a:lnTo>
                      <a:pt x="2977" y="2183"/>
                    </a:lnTo>
                    <a:lnTo>
                      <a:pt x="2981" y="2179"/>
                    </a:lnTo>
                    <a:lnTo>
                      <a:pt x="2986" y="2170"/>
                    </a:lnTo>
                    <a:lnTo>
                      <a:pt x="2990" y="2161"/>
                    </a:lnTo>
                    <a:lnTo>
                      <a:pt x="2995" y="2152"/>
                    </a:lnTo>
                    <a:lnTo>
                      <a:pt x="2995" y="2148"/>
                    </a:lnTo>
                    <a:lnTo>
                      <a:pt x="3105" y="882"/>
                    </a:lnTo>
                    <a:lnTo>
                      <a:pt x="3105" y="874"/>
                    </a:lnTo>
                    <a:lnTo>
                      <a:pt x="3105" y="869"/>
                    </a:lnTo>
                    <a:lnTo>
                      <a:pt x="3105" y="865"/>
                    </a:lnTo>
                    <a:lnTo>
                      <a:pt x="3105" y="856"/>
                    </a:lnTo>
                    <a:lnTo>
                      <a:pt x="3105" y="852"/>
                    </a:lnTo>
                    <a:lnTo>
                      <a:pt x="3101" y="843"/>
                    </a:lnTo>
                    <a:lnTo>
                      <a:pt x="3101" y="838"/>
                    </a:lnTo>
                    <a:lnTo>
                      <a:pt x="3101" y="834"/>
                    </a:lnTo>
                    <a:lnTo>
                      <a:pt x="3096" y="830"/>
                    </a:lnTo>
                    <a:lnTo>
                      <a:pt x="3096" y="821"/>
                    </a:lnTo>
                    <a:lnTo>
                      <a:pt x="3092" y="816"/>
                    </a:lnTo>
                    <a:lnTo>
                      <a:pt x="3087" y="812"/>
                    </a:lnTo>
                    <a:lnTo>
                      <a:pt x="3087" y="803"/>
                    </a:lnTo>
                    <a:lnTo>
                      <a:pt x="3087" y="799"/>
                    </a:lnTo>
                    <a:lnTo>
                      <a:pt x="3083" y="794"/>
                    </a:lnTo>
                    <a:lnTo>
                      <a:pt x="3078" y="790"/>
                    </a:lnTo>
                    <a:lnTo>
                      <a:pt x="2942" y="621"/>
                    </a:lnTo>
                    <a:lnTo>
                      <a:pt x="2929" y="515"/>
                    </a:lnTo>
                    <a:lnTo>
                      <a:pt x="2929" y="370"/>
                    </a:lnTo>
                    <a:lnTo>
                      <a:pt x="2929" y="357"/>
                    </a:lnTo>
                    <a:lnTo>
                      <a:pt x="2924" y="343"/>
                    </a:lnTo>
                    <a:lnTo>
                      <a:pt x="2920" y="335"/>
                    </a:lnTo>
                    <a:lnTo>
                      <a:pt x="2915" y="330"/>
                    </a:lnTo>
                    <a:lnTo>
                      <a:pt x="2911" y="321"/>
                    </a:lnTo>
                    <a:lnTo>
                      <a:pt x="2907" y="313"/>
                    </a:lnTo>
                    <a:lnTo>
                      <a:pt x="2898" y="304"/>
                    </a:lnTo>
                    <a:lnTo>
                      <a:pt x="2889" y="299"/>
                    </a:lnTo>
                    <a:lnTo>
                      <a:pt x="2642" y="149"/>
                    </a:lnTo>
                    <a:lnTo>
                      <a:pt x="2571" y="136"/>
                    </a:lnTo>
                    <a:lnTo>
                      <a:pt x="2501" y="123"/>
                    </a:lnTo>
                    <a:lnTo>
                      <a:pt x="2426" y="119"/>
                    </a:lnTo>
                    <a:lnTo>
                      <a:pt x="2355" y="105"/>
                    </a:lnTo>
                    <a:lnTo>
                      <a:pt x="2280" y="97"/>
                    </a:lnTo>
                    <a:lnTo>
                      <a:pt x="2205" y="88"/>
                    </a:lnTo>
                    <a:lnTo>
                      <a:pt x="2130" y="83"/>
                    </a:lnTo>
                    <a:lnTo>
                      <a:pt x="2055" y="74"/>
                    </a:lnTo>
                    <a:lnTo>
                      <a:pt x="1980" y="66"/>
                    </a:lnTo>
                    <a:lnTo>
                      <a:pt x="1906" y="57"/>
                    </a:lnTo>
                    <a:lnTo>
                      <a:pt x="1831" y="52"/>
                    </a:lnTo>
                    <a:lnTo>
                      <a:pt x="1756" y="48"/>
                    </a:lnTo>
                    <a:lnTo>
                      <a:pt x="1681" y="44"/>
                    </a:lnTo>
                    <a:lnTo>
                      <a:pt x="1606" y="39"/>
                    </a:lnTo>
                    <a:lnTo>
                      <a:pt x="1530" y="30"/>
                    </a:lnTo>
                    <a:lnTo>
                      <a:pt x="1455" y="26"/>
                    </a:lnTo>
                    <a:lnTo>
                      <a:pt x="1380" y="22"/>
                    </a:lnTo>
                    <a:lnTo>
                      <a:pt x="1305" y="17"/>
                    </a:lnTo>
                    <a:lnTo>
                      <a:pt x="1225" y="17"/>
                    </a:lnTo>
                    <a:lnTo>
                      <a:pt x="1150" y="17"/>
                    </a:lnTo>
                    <a:lnTo>
                      <a:pt x="1075" y="13"/>
                    </a:lnTo>
                    <a:lnTo>
                      <a:pt x="1001" y="13"/>
                    </a:lnTo>
                    <a:lnTo>
                      <a:pt x="926" y="8"/>
                    </a:lnTo>
                    <a:lnTo>
                      <a:pt x="851" y="8"/>
                    </a:lnTo>
                    <a:lnTo>
                      <a:pt x="776" y="4"/>
                    </a:lnTo>
                    <a:lnTo>
                      <a:pt x="701" y="4"/>
                    </a:lnTo>
                    <a:lnTo>
                      <a:pt x="630" y="4"/>
                    </a:lnTo>
                    <a:lnTo>
                      <a:pt x="555" y="0"/>
                    </a:lnTo>
                    <a:lnTo>
                      <a:pt x="480" y="0"/>
                    </a:lnTo>
                    <a:lnTo>
                      <a:pt x="405" y="0"/>
                    </a:lnTo>
                    <a:lnTo>
                      <a:pt x="330" y="0"/>
                    </a:lnTo>
                    <a:lnTo>
                      <a:pt x="260" y="0"/>
                    </a:lnTo>
                    <a:lnTo>
                      <a:pt x="246" y="0"/>
                    </a:lnTo>
                    <a:lnTo>
                      <a:pt x="233" y="0"/>
                    </a:lnTo>
                    <a:lnTo>
                      <a:pt x="229" y="4"/>
                    </a:lnTo>
                    <a:lnTo>
                      <a:pt x="220" y="4"/>
                    </a:lnTo>
                    <a:lnTo>
                      <a:pt x="211" y="8"/>
                    </a:lnTo>
                    <a:lnTo>
                      <a:pt x="202" y="13"/>
                    </a:lnTo>
                    <a:lnTo>
                      <a:pt x="198" y="17"/>
                    </a:lnTo>
                    <a:lnTo>
                      <a:pt x="194" y="17"/>
                    </a:lnTo>
                    <a:lnTo>
                      <a:pt x="185" y="22"/>
                    </a:lnTo>
                    <a:lnTo>
                      <a:pt x="180" y="26"/>
                    </a:lnTo>
                    <a:lnTo>
                      <a:pt x="176" y="35"/>
                    </a:lnTo>
                    <a:lnTo>
                      <a:pt x="171" y="39"/>
                    </a:lnTo>
                    <a:lnTo>
                      <a:pt x="167" y="48"/>
                    </a:lnTo>
                    <a:lnTo>
                      <a:pt x="167" y="52"/>
                    </a:lnTo>
                    <a:lnTo>
                      <a:pt x="163" y="57"/>
                    </a:lnTo>
                    <a:lnTo>
                      <a:pt x="163" y="66"/>
                    </a:lnTo>
                    <a:lnTo>
                      <a:pt x="154" y="127"/>
                    </a:lnTo>
                    <a:lnTo>
                      <a:pt x="141" y="194"/>
                    </a:lnTo>
                    <a:lnTo>
                      <a:pt x="127" y="255"/>
                    </a:lnTo>
                    <a:lnTo>
                      <a:pt x="119" y="317"/>
                    </a:lnTo>
                    <a:lnTo>
                      <a:pt x="110" y="379"/>
                    </a:lnTo>
                    <a:lnTo>
                      <a:pt x="97" y="440"/>
                    </a:lnTo>
                    <a:lnTo>
                      <a:pt x="88" y="502"/>
                    </a:lnTo>
                    <a:lnTo>
                      <a:pt x="83" y="564"/>
                    </a:lnTo>
                    <a:lnTo>
                      <a:pt x="74" y="621"/>
                    </a:lnTo>
                    <a:lnTo>
                      <a:pt x="66" y="687"/>
                    </a:lnTo>
                    <a:lnTo>
                      <a:pt x="61" y="746"/>
                    </a:lnTo>
                    <a:lnTo>
                      <a:pt x="52" y="807"/>
                    </a:lnTo>
                    <a:lnTo>
                      <a:pt x="52" y="869"/>
                    </a:lnTo>
                    <a:lnTo>
                      <a:pt x="44" y="931"/>
                    </a:lnTo>
                    <a:lnTo>
                      <a:pt x="39" y="993"/>
                    </a:lnTo>
                    <a:lnTo>
                      <a:pt x="35" y="1050"/>
                    </a:lnTo>
                    <a:lnTo>
                      <a:pt x="30" y="1116"/>
                    </a:lnTo>
                    <a:lnTo>
                      <a:pt x="26" y="1173"/>
                    </a:lnTo>
                    <a:lnTo>
                      <a:pt x="22" y="1235"/>
                    </a:lnTo>
                    <a:lnTo>
                      <a:pt x="17" y="1297"/>
                    </a:lnTo>
                    <a:lnTo>
                      <a:pt x="17" y="1354"/>
                    </a:lnTo>
                    <a:lnTo>
                      <a:pt x="17" y="1416"/>
                    </a:lnTo>
                    <a:lnTo>
                      <a:pt x="17" y="1473"/>
                    </a:lnTo>
                    <a:lnTo>
                      <a:pt x="13" y="1539"/>
                    </a:lnTo>
                    <a:lnTo>
                      <a:pt x="13" y="1597"/>
                    </a:lnTo>
                    <a:lnTo>
                      <a:pt x="8" y="1659"/>
                    </a:lnTo>
                    <a:lnTo>
                      <a:pt x="8" y="1720"/>
                    </a:lnTo>
                    <a:lnTo>
                      <a:pt x="4" y="1782"/>
                    </a:lnTo>
                    <a:lnTo>
                      <a:pt x="4" y="1839"/>
                    </a:lnTo>
                    <a:lnTo>
                      <a:pt x="4" y="1901"/>
                    </a:lnTo>
                    <a:lnTo>
                      <a:pt x="0" y="1963"/>
                    </a:lnTo>
                    <a:lnTo>
                      <a:pt x="0" y="2025"/>
                    </a:lnTo>
                    <a:lnTo>
                      <a:pt x="0" y="2033"/>
                    </a:lnTo>
                    <a:lnTo>
                      <a:pt x="0" y="2042"/>
                    </a:lnTo>
                    <a:lnTo>
                      <a:pt x="0" y="2047"/>
                    </a:lnTo>
                    <a:lnTo>
                      <a:pt x="4" y="2051"/>
                    </a:lnTo>
                    <a:lnTo>
                      <a:pt x="4" y="2060"/>
                    </a:lnTo>
                    <a:lnTo>
                      <a:pt x="8" y="2069"/>
                    </a:lnTo>
                    <a:lnTo>
                      <a:pt x="8" y="2073"/>
                    </a:lnTo>
                    <a:lnTo>
                      <a:pt x="13" y="2077"/>
                    </a:lnTo>
                    <a:lnTo>
                      <a:pt x="17" y="2082"/>
                    </a:lnTo>
                    <a:lnTo>
                      <a:pt x="17" y="2086"/>
                    </a:lnTo>
                    <a:lnTo>
                      <a:pt x="22" y="2095"/>
                    </a:lnTo>
                    <a:lnTo>
                      <a:pt x="30" y="2100"/>
                    </a:lnTo>
                    <a:lnTo>
                      <a:pt x="35" y="2104"/>
                    </a:lnTo>
                    <a:lnTo>
                      <a:pt x="39" y="2108"/>
                    </a:lnTo>
                    <a:lnTo>
                      <a:pt x="48" y="2113"/>
                    </a:lnTo>
                    <a:lnTo>
                      <a:pt x="52" y="2117"/>
                    </a:lnTo>
                    <a:lnTo>
                      <a:pt x="255" y="2259"/>
                    </a:lnTo>
                    <a:lnTo>
                      <a:pt x="877" y="2334"/>
                    </a:lnTo>
                    <a:lnTo>
                      <a:pt x="886" y="2347"/>
                    </a:lnTo>
                    <a:lnTo>
                      <a:pt x="890" y="2356"/>
                    </a:lnTo>
                    <a:lnTo>
                      <a:pt x="899" y="2365"/>
                    </a:lnTo>
                    <a:lnTo>
                      <a:pt x="908" y="2374"/>
                    </a:lnTo>
                    <a:lnTo>
                      <a:pt x="921" y="2387"/>
                    </a:lnTo>
                    <a:lnTo>
                      <a:pt x="926" y="2396"/>
                    </a:lnTo>
                    <a:lnTo>
                      <a:pt x="939" y="2405"/>
                    </a:lnTo>
                    <a:lnTo>
                      <a:pt x="948" y="2414"/>
                    </a:lnTo>
                    <a:lnTo>
                      <a:pt x="956" y="2422"/>
                    </a:lnTo>
                    <a:lnTo>
                      <a:pt x="970" y="2431"/>
                    </a:lnTo>
                    <a:lnTo>
                      <a:pt x="983" y="2440"/>
                    </a:lnTo>
                    <a:lnTo>
                      <a:pt x="992" y="2449"/>
                    </a:lnTo>
                    <a:lnTo>
                      <a:pt x="1001" y="2458"/>
                    </a:lnTo>
                    <a:lnTo>
                      <a:pt x="1014" y="2467"/>
                    </a:lnTo>
                    <a:lnTo>
                      <a:pt x="1027" y="2471"/>
                    </a:lnTo>
                    <a:lnTo>
                      <a:pt x="1036" y="2480"/>
                    </a:lnTo>
                    <a:lnTo>
                      <a:pt x="846" y="2462"/>
                    </a:lnTo>
                    <a:lnTo>
                      <a:pt x="366" y="2713"/>
                    </a:lnTo>
                    <a:lnTo>
                      <a:pt x="366" y="2806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626160" y="5684760"/>
                <a:ext cx="678240" cy="52920"/>
              </a:xfrm>
              <a:custGeom>
                <a:avLst/>
                <a:gdLst/>
                <a:ahLst/>
                <a:rect l="0" t="0" r="r" b="b"/>
                <a:pathLst>
                  <a:path w="1884" h="147">
                    <a:moveTo>
                      <a:pt x="1876" y="143"/>
                    </a:moveTo>
                    <a:lnTo>
                      <a:pt x="1880" y="14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80" y="147"/>
                    </a:lnTo>
                    <a:lnTo>
                      <a:pt x="1884" y="147"/>
                    </a:lnTo>
                    <a:lnTo>
                      <a:pt x="1880" y="147"/>
                    </a:lnTo>
                    <a:lnTo>
                      <a:pt x="1884" y="147"/>
                    </a:lnTo>
                    <a:lnTo>
                      <a:pt x="1884" y="143"/>
                    </a:lnTo>
                    <a:lnTo>
                      <a:pt x="1884" y="143"/>
                    </a:lnTo>
                    <a:lnTo>
                      <a:pt x="1880" y="143"/>
                    </a:lnTo>
                    <a:lnTo>
                      <a:pt x="187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316640" y="5657760"/>
                <a:ext cx="98640" cy="79560"/>
              </a:xfrm>
              <a:custGeom>
                <a:avLst/>
                <a:gdLst/>
                <a:ahLst/>
                <a:rect l="0" t="0" r="r" b="b"/>
                <a:pathLst>
                  <a:path w="274" h="221">
                    <a:moveTo>
                      <a:pt x="265" y="4"/>
                    </a:moveTo>
                    <a:lnTo>
                      <a:pt x="265" y="0"/>
                    </a:lnTo>
                    <a:lnTo>
                      <a:pt x="0" y="212"/>
                    </a:lnTo>
                    <a:lnTo>
                      <a:pt x="8" y="221"/>
                    </a:lnTo>
                    <a:lnTo>
                      <a:pt x="269" y="8"/>
                    </a:lnTo>
                    <a:lnTo>
                      <a:pt x="274" y="4"/>
                    </a:lnTo>
                    <a:lnTo>
                      <a:pt x="269" y="8"/>
                    </a:lnTo>
                    <a:lnTo>
                      <a:pt x="274" y="4"/>
                    </a:lnTo>
                    <a:lnTo>
                      <a:pt x="269" y="0"/>
                    </a:lnTo>
                    <a:lnTo>
                      <a:pt x="265" y="0"/>
                    </a:lnTo>
                    <a:lnTo>
                      <a:pt x="2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15280" y="561492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51" y="8"/>
                    </a:moveTo>
                    <a:lnTo>
                      <a:pt x="72" y="4"/>
                    </a:lnTo>
                    <a:lnTo>
                      <a:pt x="72" y="80"/>
                    </a:lnTo>
                    <a:lnTo>
                      <a:pt x="0" y="80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0" y="4"/>
                    </a:lnTo>
                    <a:lnTo>
                      <a:pt x="21" y="0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4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23040" y="5599080"/>
                <a:ext cx="190800" cy="25920"/>
              </a:xfrm>
              <a:custGeom>
                <a:avLst/>
                <a:gdLst/>
                <a:ahLst/>
                <a:rect l="0" t="0" r="r" b="b"/>
                <a:pathLst>
                  <a:path w="530" h="72">
                    <a:moveTo>
                      <a:pt x="0" y="14"/>
                    </a:moveTo>
                    <a:lnTo>
                      <a:pt x="4" y="14"/>
                    </a:lnTo>
                    <a:lnTo>
                      <a:pt x="530" y="72"/>
                    </a:lnTo>
                    <a:lnTo>
                      <a:pt x="530" y="58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211880" y="5583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24" y="72"/>
                    </a:lnTo>
                    <a:lnTo>
                      <a:pt x="0" y="7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216920" y="5556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66" y="0"/>
                    </a:moveTo>
                    <a:lnTo>
                      <a:pt x="66" y="0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3" y="15"/>
                    </a:lnTo>
                    <a:lnTo>
                      <a:pt x="48" y="15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0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7" y="48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5" y="64"/>
                    </a:lnTo>
                    <a:lnTo>
                      <a:pt x="0" y="64"/>
                    </a:lnTo>
                    <a:lnTo>
                      <a:pt x="5" y="72"/>
                    </a:lnTo>
                    <a:lnTo>
                      <a:pt x="11" y="72"/>
                    </a:lnTo>
                    <a:lnTo>
                      <a:pt x="11" y="64"/>
                    </a:lnTo>
                    <a:lnTo>
                      <a:pt x="17" y="64"/>
                    </a:lnTo>
                    <a:lnTo>
                      <a:pt x="24" y="56"/>
                    </a:lnTo>
                    <a:lnTo>
                      <a:pt x="30" y="56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8" y="32"/>
                    </a:lnTo>
                    <a:lnTo>
                      <a:pt x="53" y="32"/>
                    </a:lnTo>
                    <a:lnTo>
                      <a:pt x="53" y="24"/>
                    </a:lnTo>
                    <a:lnTo>
                      <a:pt x="60" y="24"/>
                    </a:lnTo>
                    <a:lnTo>
                      <a:pt x="66" y="15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50040" y="5549760"/>
                <a:ext cx="165600" cy="25920"/>
              </a:xfrm>
              <a:custGeom>
                <a:avLst/>
                <a:gdLst/>
                <a:ahLst/>
                <a:rect l="0" t="0" r="r" b="b"/>
                <a:pathLst>
                  <a:path w="460" h="72">
                    <a:moveTo>
                      <a:pt x="451" y="17"/>
                    </a:moveTo>
                    <a:lnTo>
                      <a:pt x="451" y="17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451" y="0"/>
                    </a:lnTo>
                    <a:lnTo>
                      <a:pt x="456" y="0"/>
                    </a:lnTo>
                    <a:lnTo>
                      <a:pt x="451" y="0"/>
                    </a:lnTo>
                    <a:lnTo>
                      <a:pt x="456" y="0"/>
                    </a:lnTo>
                    <a:lnTo>
                      <a:pt x="460" y="17"/>
                    </a:lnTo>
                    <a:lnTo>
                      <a:pt x="456" y="17"/>
                    </a:lnTo>
                    <a:lnTo>
                      <a:pt x="45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429680" y="5543640"/>
                <a:ext cx="95760" cy="25920"/>
              </a:xfrm>
              <a:custGeom>
                <a:avLst/>
                <a:gdLst/>
                <a:ahLst/>
                <a:rect l="0" t="0" r="r" b="b"/>
                <a:pathLst>
                  <a:path w="266" h="72">
                    <a:moveTo>
                      <a:pt x="257" y="0"/>
                    </a:moveTo>
                    <a:lnTo>
                      <a:pt x="257" y="0"/>
                    </a:lnTo>
                    <a:lnTo>
                      <a:pt x="0" y="53"/>
                    </a:lnTo>
                    <a:lnTo>
                      <a:pt x="4" y="72"/>
                    </a:lnTo>
                    <a:lnTo>
                      <a:pt x="262" y="17"/>
                    </a:lnTo>
                    <a:lnTo>
                      <a:pt x="266" y="0"/>
                    </a:lnTo>
                    <a:lnTo>
                      <a:pt x="266" y="0"/>
                    </a:lnTo>
                    <a:lnTo>
                      <a:pt x="262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34440" y="55069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58" y="4"/>
                    </a:moveTo>
                    <a:lnTo>
                      <a:pt x="58" y="4"/>
                    </a:lnTo>
                    <a:lnTo>
                      <a:pt x="58" y="8"/>
                    </a:lnTo>
                    <a:lnTo>
                      <a:pt x="58" y="13"/>
                    </a:lnTo>
                    <a:lnTo>
                      <a:pt x="58" y="17"/>
                    </a:lnTo>
                    <a:lnTo>
                      <a:pt x="58" y="27"/>
                    </a:lnTo>
                    <a:lnTo>
                      <a:pt x="58" y="31"/>
                    </a:lnTo>
                    <a:lnTo>
                      <a:pt x="43" y="36"/>
                    </a:lnTo>
                    <a:lnTo>
                      <a:pt x="43" y="40"/>
                    </a:lnTo>
                    <a:lnTo>
                      <a:pt x="43" y="45"/>
                    </a:lnTo>
                    <a:lnTo>
                      <a:pt x="43" y="49"/>
                    </a:lnTo>
                    <a:lnTo>
                      <a:pt x="43" y="53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14" y="63"/>
                    </a:lnTo>
                    <a:lnTo>
                      <a:pt x="14" y="63"/>
                    </a:lnTo>
                    <a:lnTo>
                      <a:pt x="14" y="6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29" y="72"/>
                    </a:lnTo>
                    <a:lnTo>
                      <a:pt x="29" y="63"/>
                    </a:lnTo>
                    <a:lnTo>
                      <a:pt x="43" y="63"/>
                    </a:lnTo>
                    <a:lnTo>
                      <a:pt x="43" y="59"/>
                    </a:lnTo>
                    <a:lnTo>
                      <a:pt x="43" y="53"/>
                    </a:lnTo>
                    <a:lnTo>
                      <a:pt x="58" y="49"/>
                    </a:lnTo>
                    <a:lnTo>
                      <a:pt x="58" y="45"/>
                    </a:lnTo>
                    <a:lnTo>
                      <a:pt x="58" y="40"/>
                    </a:lnTo>
                    <a:lnTo>
                      <a:pt x="58" y="36"/>
                    </a:lnTo>
                    <a:lnTo>
                      <a:pt x="72" y="27"/>
                    </a:lnTo>
                    <a:lnTo>
                      <a:pt x="72" y="23"/>
                    </a:lnTo>
                    <a:lnTo>
                      <a:pt x="72" y="17"/>
                    </a:lnTo>
                    <a:lnTo>
                      <a:pt x="72" y="13"/>
                    </a:lnTo>
                    <a:lnTo>
                      <a:pt x="72" y="4"/>
                    </a:lnTo>
                    <a:lnTo>
                      <a:pt x="72" y="0"/>
                    </a:lnTo>
                    <a:lnTo>
                      <a:pt x="58" y="0"/>
                    </a:lnTo>
                    <a:lnTo>
                      <a:pt x="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42360" y="546876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50" y="4"/>
                    </a:moveTo>
                    <a:lnTo>
                      <a:pt x="72" y="4"/>
                    </a:lnTo>
                    <a:lnTo>
                      <a:pt x="72" y="76"/>
                    </a:lnTo>
                    <a:lnTo>
                      <a:pt x="0" y="76"/>
                    </a:lnTo>
                    <a:lnTo>
                      <a:pt x="0" y="4"/>
                    </a:lnTo>
                    <a:lnTo>
                      <a:pt x="22" y="8"/>
                    </a:lnTo>
                    <a:lnTo>
                      <a:pt x="0" y="4"/>
                    </a:lnTo>
                    <a:lnTo>
                      <a:pt x="22" y="4"/>
                    </a:lnTo>
                    <a:lnTo>
                      <a:pt x="50" y="0"/>
                    </a:lnTo>
                    <a:lnTo>
                      <a:pt x="50" y="4"/>
                    </a:lnTo>
                    <a:lnTo>
                      <a:pt x="72" y="4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58200" y="5443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66" y="0"/>
                    </a:moveTo>
                    <a:lnTo>
                      <a:pt x="66" y="0"/>
                    </a:lnTo>
                    <a:lnTo>
                      <a:pt x="59" y="7"/>
                    </a:lnTo>
                    <a:lnTo>
                      <a:pt x="59" y="15"/>
                    </a:lnTo>
                    <a:lnTo>
                      <a:pt x="59" y="24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6" y="48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12" y="56"/>
                    </a:lnTo>
                    <a:lnTo>
                      <a:pt x="6" y="56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20" y="64"/>
                    </a:lnTo>
                    <a:lnTo>
                      <a:pt x="26" y="56"/>
                    </a:lnTo>
                    <a:lnTo>
                      <a:pt x="33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5" y="48"/>
                    </a:lnTo>
                    <a:lnTo>
                      <a:pt x="52" y="40"/>
                    </a:lnTo>
                    <a:lnTo>
                      <a:pt x="59" y="40"/>
                    </a:lnTo>
                    <a:lnTo>
                      <a:pt x="59" y="32"/>
                    </a:lnTo>
                    <a:lnTo>
                      <a:pt x="66" y="32"/>
                    </a:lnTo>
                    <a:lnTo>
                      <a:pt x="66" y="24"/>
                    </a:lnTo>
                    <a:lnTo>
                      <a:pt x="72" y="15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8080" y="4983120"/>
                <a:ext cx="25920" cy="449640"/>
              </a:xfrm>
              <a:custGeom>
                <a:avLst/>
                <a:gdLst/>
                <a:ahLst/>
                <a:rect l="0" t="0" r="r" b="b"/>
                <a:pathLst>
                  <a:path w="72" h="1249">
                    <a:moveTo>
                      <a:pt x="68" y="4"/>
                    </a:moveTo>
                    <a:lnTo>
                      <a:pt x="68" y="4"/>
                    </a:lnTo>
                    <a:lnTo>
                      <a:pt x="0" y="1249"/>
                    </a:lnTo>
                    <a:lnTo>
                      <a:pt x="8" y="1249"/>
                    </a:lnTo>
                    <a:lnTo>
                      <a:pt x="72" y="4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13640" y="49500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64320" y="4889520"/>
                <a:ext cx="39960" cy="51120"/>
              </a:xfrm>
              <a:custGeom>
                <a:avLst/>
                <a:gdLst/>
                <a:ahLst/>
                <a:rect l="0" t="0" r="r" b="b"/>
                <a:pathLst>
                  <a:path w="111" h="142">
                    <a:moveTo>
                      <a:pt x="0" y="4"/>
                    </a:moveTo>
                    <a:lnTo>
                      <a:pt x="0" y="4"/>
                    </a:lnTo>
                    <a:lnTo>
                      <a:pt x="106" y="142"/>
                    </a:lnTo>
                    <a:lnTo>
                      <a:pt x="111" y="13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58200" y="484992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72" y="4"/>
                    </a:moveTo>
                    <a:lnTo>
                      <a:pt x="72" y="4"/>
                    </a:lnTo>
                    <a:lnTo>
                      <a:pt x="36" y="80"/>
                    </a:lnTo>
                    <a:lnTo>
                      <a:pt x="0" y="7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72" y="0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51720" y="4797360"/>
                <a:ext cx="25920" cy="41760"/>
              </a:xfrm>
              <a:custGeom>
                <a:avLst/>
                <a:gdLst/>
                <a:ahLst/>
                <a:rect l="0" t="0" r="r" b="b"/>
                <a:pathLst>
                  <a:path w="72" h="116">
                    <a:moveTo>
                      <a:pt x="72" y="4"/>
                    </a:moveTo>
                    <a:lnTo>
                      <a:pt x="72" y="4"/>
                    </a:lnTo>
                    <a:lnTo>
                      <a:pt x="72" y="116"/>
                    </a:lnTo>
                    <a:lnTo>
                      <a:pt x="0" y="11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42360" y="4772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8"/>
                    </a:moveTo>
                    <a:lnTo>
                      <a:pt x="0" y="8"/>
                    </a:lnTo>
                    <a:lnTo>
                      <a:pt x="11" y="17"/>
                    </a:lnTo>
                    <a:lnTo>
                      <a:pt x="24" y="27"/>
                    </a:lnTo>
                    <a:lnTo>
                      <a:pt x="36" y="27"/>
                    </a:lnTo>
                    <a:lnTo>
                      <a:pt x="48" y="36"/>
                    </a:lnTo>
                    <a:lnTo>
                      <a:pt x="48" y="45"/>
                    </a:lnTo>
                    <a:lnTo>
                      <a:pt x="60" y="45"/>
                    </a:lnTo>
                    <a:lnTo>
                      <a:pt x="60" y="63"/>
                    </a:lnTo>
                    <a:lnTo>
                      <a:pt x="60" y="72"/>
                    </a:lnTo>
                    <a:lnTo>
                      <a:pt x="72" y="72"/>
                    </a:lnTo>
                    <a:lnTo>
                      <a:pt x="72" y="53"/>
                    </a:lnTo>
                    <a:lnTo>
                      <a:pt x="72" y="45"/>
                    </a:lnTo>
                    <a:lnTo>
                      <a:pt x="72" y="36"/>
                    </a:lnTo>
                    <a:lnTo>
                      <a:pt x="60" y="27"/>
                    </a:lnTo>
                    <a:lnTo>
                      <a:pt x="48" y="27"/>
                    </a:lnTo>
                    <a:lnTo>
                      <a:pt x="36" y="17"/>
                    </a:lnTo>
                    <a:lnTo>
                      <a:pt x="24" y="8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456320" y="4719600"/>
                <a:ext cx="78120" cy="41760"/>
              </a:xfrm>
              <a:custGeom>
                <a:avLst/>
                <a:gdLst/>
                <a:ahLst/>
                <a:rect l="0" t="0" r="r" b="b"/>
                <a:pathLst>
                  <a:path w="217" h="116">
                    <a:moveTo>
                      <a:pt x="4" y="4"/>
                    </a:moveTo>
                    <a:lnTo>
                      <a:pt x="0" y="4"/>
                    </a:lnTo>
                    <a:lnTo>
                      <a:pt x="212" y="116"/>
                    </a:lnTo>
                    <a:lnTo>
                      <a:pt x="217" y="11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586560" y="4660920"/>
                <a:ext cx="859320" cy="44640"/>
              </a:xfrm>
              <a:custGeom>
                <a:avLst/>
                <a:gdLst/>
                <a:ahLst/>
                <a:rect l="0" t="0" r="r" b="b"/>
                <a:pathLst>
                  <a:path w="2387" h="124">
                    <a:moveTo>
                      <a:pt x="8" y="4"/>
                    </a:moveTo>
                    <a:lnTo>
                      <a:pt x="8" y="4"/>
                    </a:lnTo>
                    <a:lnTo>
                      <a:pt x="79" y="4"/>
                    </a:lnTo>
                    <a:lnTo>
                      <a:pt x="154" y="8"/>
                    </a:lnTo>
                    <a:lnTo>
                      <a:pt x="229" y="8"/>
                    </a:lnTo>
                    <a:lnTo>
                      <a:pt x="304" y="8"/>
                    </a:lnTo>
                    <a:lnTo>
                      <a:pt x="374" y="8"/>
                    </a:lnTo>
                    <a:lnTo>
                      <a:pt x="445" y="8"/>
                    </a:lnTo>
                    <a:lnTo>
                      <a:pt x="520" y="13"/>
                    </a:lnTo>
                    <a:lnTo>
                      <a:pt x="600" y="13"/>
                    </a:lnTo>
                    <a:lnTo>
                      <a:pt x="675" y="13"/>
                    </a:lnTo>
                    <a:lnTo>
                      <a:pt x="750" y="17"/>
                    </a:lnTo>
                    <a:lnTo>
                      <a:pt x="825" y="17"/>
                    </a:lnTo>
                    <a:lnTo>
                      <a:pt x="900" y="17"/>
                    </a:lnTo>
                    <a:lnTo>
                      <a:pt x="975" y="22"/>
                    </a:lnTo>
                    <a:lnTo>
                      <a:pt x="1050" y="26"/>
                    </a:lnTo>
                    <a:lnTo>
                      <a:pt x="1125" y="26"/>
                    </a:lnTo>
                    <a:lnTo>
                      <a:pt x="1200" y="30"/>
                    </a:lnTo>
                    <a:lnTo>
                      <a:pt x="1275" y="35"/>
                    </a:lnTo>
                    <a:lnTo>
                      <a:pt x="1354" y="35"/>
                    </a:lnTo>
                    <a:lnTo>
                      <a:pt x="1429" y="39"/>
                    </a:lnTo>
                    <a:lnTo>
                      <a:pt x="1504" y="48"/>
                    </a:lnTo>
                    <a:lnTo>
                      <a:pt x="1579" y="48"/>
                    </a:lnTo>
                    <a:lnTo>
                      <a:pt x="1654" y="57"/>
                    </a:lnTo>
                    <a:lnTo>
                      <a:pt x="1729" y="57"/>
                    </a:lnTo>
                    <a:lnTo>
                      <a:pt x="1801" y="67"/>
                    </a:lnTo>
                    <a:lnTo>
                      <a:pt x="1876" y="71"/>
                    </a:lnTo>
                    <a:lnTo>
                      <a:pt x="1951" y="80"/>
                    </a:lnTo>
                    <a:lnTo>
                      <a:pt x="2026" y="84"/>
                    </a:lnTo>
                    <a:lnTo>
                      <a:pt x="2096" y="93"/>
                    </a:lnTo>
                    <a:lnTo>
                      <a:pt x="2171" y="98"/>
                    </a:lnTo>
                    <a:lnTo>
                      <a:pt x="2242" y="111"/>
                    </a:lnTo>
                    <a:lnTo>
                      <a:pt x="2317" y="115"/>
                    </a:lnTo>
                    <a:lnTo>
                      <a:pt x="2387" y="124"/>
                    </a:lnTo>
                    <a:lnTo>
                      <a:pt x="2387" y="120"/>
                    </a:lnTo>
                    <a:lnTo>
                      <a:pt x="2317" y="111"/>
                    </a:lnTo>
                    <a:lnTo>
                      <a:pt x="2246" y="98"/>
                    </a:lnTo>
                    <a:lnTo>
                      <a:pt x="2171" y="93"/>
                    </a:lnTo>
                    <a:lnTo>
                      <a:pt x="2101" y="84"/>
                    </a:lnTo>
                    <a:lnTo>
                      <a:pt x="2026" y="80"/>
                    </a:lnTo>
                    <a:lnTo>
                      <a:pt x="1951" y="71"/>
                    </a:lnTo>
                    <a:lnTo>
                      <a:pt x="1876" y="67"/>
                    </a:lnTo>
                    <a:lnTo>
                      <a:pt x="1801" y="57"/>
                    </a:lnTo>
                    <a:lnTo>
                      <a:pt x="1729" y="52"/>
                    </a:lnTo>
                    <a:lnTo>
                      <a:pt x="1654" y="48"/>
                    </a:lnTo>
                    <a:lnTo>
                      <a:pt x="1579" y="39"/>
                    </a:lnTo>
                    <a:lnTo>
                      <a:pt x="1504" y="35"/>
                    </a:lnTo>
                    <a:lnTo>
                      <a:pt x="1429" y="35"/>
                    </a:lnTo>
                    <a:lnTo>
                      <a:pt x="1354" y="26"/>
                    </a:lnTo>
                    <a:lnTo>
                      <a:pt x="1279" y="26"/>
                    </a:lnTo>
                    <a:lnTo>
                      <a:pt x="1200" y="22"/>
                    </a:lnTo>
                    <a:lnTo>
                      <a:pt x="1125" y="17"/>
                    </a:lnTo>
                    <a:lnTo>
                      <a:pt x="1050" y="17"/>
                    </a:lnTo>
                    <a:lnTo>
                      <a:pt x="975" y="13"/>
                    </a:lnTo>
                    <a:lnTo>
                      <a:pt x="900" y="8"/>
                    </a:lnTo>
                    <a:lnTo>
                      <a:pt x="825" y="8"/>
                    </a:lnTo>
                    <a:lnTo>
                      <a:pt x="750" y="4"/>
                    </a:lnTo>
                    <a:lnTo>
                      <a:pt x="675" y="4"/>
                    </a:lnTo>
                    <a:lnTo>
                      <a:pt x="600" y="4"/>
                    </a:lnTo>
                    <a:lnTo>
                      <a:pt x="520" y="4"/>
                    </a:lnTo>
                    <a:lnTo>
                      <a:pt x="445" y="0"/>
                    </a:lnTo>
                    <a:lnTo>
                      <a:pt x="374" y="0"/>
                    </a:lnTo>
                    <a:lnTo>
                      <a:pt x="304" y="0"/>
                    </a:lnTo>
                    <a:lnTo>
                      <a:pt x="229" y="0"/>
                    </a:lnTo>
                    <a:lnTo>
                      <a:pt x="154" y="0"/>
                    </a:lnTo>
                    <a:lnTo>
                      <a:pt x="7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51640" y="4660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9" y="72"/>
                    </a:moveTo>
                    <a:lnTo>
                      <a:pt x="9" y="72"/>
                    </a:lnTo>
                    <a:lnTo>
                      <a:pt x="9" y="65"/>
                    </a:lnTo>
                    <a:lnTo>
                      <a:pt x="9" y="58"/>
                    </a:lnTo>
                    <a:lnTo>
                      <a:pt x="14" y="50"/>
                    </a:lnTo>
                    <a:lnTo>
                      <a:pt x="14" y="43"/>
                    </a:lnTo>
                    <a:lnTo>
                      <a:pt x="14" y="36"/>
                    </a:lnTo>
                    <a:lnTo>
                      <a:pt x="19" y="36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29" y="22"/>
                    </a:lnTo>
                    <a:lnTo>
                      <a:pt x="38" y="22"/>
                    </a:lnTo>
                    <a:lnTo>
                      <a:pt x="38" y="14"/>
                    </a:lnTo>
                    <a:lnTo>
                      <a:pt x="43" y="14"/>
                    </a:lnTo>
                    <a:lnTo>
                      <a:pt x="48" y="14"/>
                    </a:lnTo>
                    <a:lnTo>
                      <a:pt x="58" y="14"/>
                    </a:lnTo>
                    <a:lnTo>
                      <a:pt x="63" y="14"/>
                    </a:lnTo>
                    <a:lnTo>
                      <a:pt x="72" y="7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48" y="7"/>
                    </a:lnTo>
                    <a:lnTo>
                      <a:pt x="43" y="7"/>
                    </a:lnTo>
                    <a:lnTo>
                      <a:pt x="38" y="7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4" y="22"/>
                    </a:lnTo>
                    <a:lnTo>
                      <a:pt x="14" y="22"/>
                    </a:lnTo>
                    <a:lnTo>
                      <a:pt x="14" y="29"/>
                    </a:lnTo>
                    <a:lnTo>
                      <a:pt x="9" y="36"/>
                    </a:lnTo>
                    <a:lnTo>
                      <a:pt x="9" y="43"/>
                    </a:lnTo>
                    <a:lnTo>
                      <a:pt x="4" y="43"/>
                    </a:lnTo>
                    <a:lnTo>
                      <a:pt x="4" y="50"/>
                    </a:lnTo>
                    <a:lnTo>
                      <a:pt x="4" y="58"/>
                    </a:lnTo>
                    <a:lnTo>
                      <a:pt x="0" y="65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9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496200" y="4691160"/>
                <a:ext cx="46440" cy="697320"/>
              </a:xfrm>
              <a:custGeom>
                <a:avLst/>
                <a:gdLst/>
                <a:ahLst/>
                <a:rect l="0" t="0" r="r" b="b"/>
                <a:pathLst>
                  <a:path w="129" h="1937">
                    <a:moveTo>
                      <a:pt x="4" y="1933"/>
                    </a:moveTo>
                    <a:lnTo>
                      <a:pt x="4" y="1933"/>
                    </a:lnTo>
                    <a:lnTo>
                      <a:pt x="8" y="1871"/>
                    </a:lnTo>
                    <a:lnTo>
                      <a:pt x="8" y="1814"/>
                    </a:lnTo>
                    <a:lnTo>
                      <a:pt x="8" y="1752"/>
                    </a:lnTo>
                    <a:lnTo>
                      <a:pt x="13" y="1695"/>
                    </a:lnTo>
                    <a:lnTo>
                      <a:pt x="13" y="1633"/>
                    </a:lnTo>
                    <a:lnTo>
                      <a:pt x="13" y="1571"/>
                    </a:lnTo>
                    <a:lnTo>
                      <a:pt x="13" y="1510"/>
                    </a:lnTo>
                    <a:lnTo>
                      <a:pt x="13" y="1451"/>
                    </a:lnTo>
                    <a:lnTo>
                      <a:pt x="17" y="1390"/>
                    </a:lnTo>
                    <a:lnTo>
                      <a:pt x="22" y="1332"/>
                    </a:lnTo>
                    <a:lnTo>
                      <a:pt x="22" y="1271"/>
                    </a:lnTo>
                    <a:lnTo>
                      <a:pt x="22" y="1213"/>
                    </a:lnTo>
                    <a:lnTo>
                      <a:pt x="26" y="1156"/>
                    </a:lnTo>
                    <a:lnTo>
                      <a:pt x="26" y="1094"/>
                    </a:lnTo>
                    <a:lnTo>
                      <a:pt x="30" y="1032"/>
                    </a:lnTo>
                    <a:lnTo>
                      <a:pt x="30" y="971"/>
                    </a:lnTo>
                    <a:lnTo>
                      <a:pt x="36" y="913"/>
                    </a:lnTo>
                    <a:lnTo>
                      <a:pt x="40" y="852"/>
                    </a:lnTo>
                    <a:lnTo>
                      <a:pt x="45" y="794"/>
                    </a:lnTo>
                    <a:lnTo>
                      <a:pt x="49" y="733"/>
                    </a:lnTo>
                    <a:lnTo>
                      <a:pt x="53" y="671"/>
                    </a:lnTo>
                    <a:lnTo>
                      <a:pt x="58" y="613"/>
                    </a:lnTo>
                    <a:lnTo>
                      <a:pt x="62" y="552"/>
                    </a:lnTo>
                    <a:lnTo>
                      <a:pt x="67" y="494"/>
                    </a:lnTo>
                    <a:lnTo>
                      <a:pt x="71" y="427"/>
                    </a:lnTo>
                    <a:lnTo>
                      <a:pt x="80" y="366"/>
                    </a:lnTo>
                    <a:lnTo>
                      <a:pt x="89" y="308"/>
                    </a:lnTo>
                    <a:lnTo>
                      <a:pt x="93" y="246"/>
                    </a:lnTo>
                    <a:lnTo>
                      <a:pt x="103" y="185"/>
                    </a:lnTo>
                    <a:lnTo>
                      <a:pt x="112" y="123"/>
                    </a:lnTo>
                    <a:lnTo>
                      <a:pt x="121" y="66"/>
                    </a:lnTo>
                    <a:lnTo>
                      <a:pt x="129" y="4"/>
                    </a:lnTo>
                    <a:lnTo>
                      <a:pt x="121" y="0"/>
                    </a:lnTo>
                    <a:lnTo>
                      <a:pt x="112" y="61"/>
                    </a:lnTo>
                    <a:lnTo>
                      <a:pt x="103" y="123"/>
                    </a:lnTo>
                    <a:lnTo>
                      <a:pt x="93" y="185"/>
                    </a:lnTo>
                    <a:lnTo>
                      <a:pt x="89" y="246"/>
                    </a:lnTo>
                    <a:lnTo>
                      <a:pt x="80" y="304"/>
                    </a:lnTo>
                    <a:lnTo>
                      <a:pt x="71" y="366"/>
                    </a:lnTo>
                    <a:lnTo>
                      <a:pt x="67" y="427"/>
                    </a:lnTo>
                    <a:lnTo>
                      <a:pt x="62" y="490"/>
                    </a:lnTo>
                    <a:lnTo>
                      <a:pt x="58" y="552"/>
                    </a:lnTo>
                    <a:lnTo>
                      <a:pt x="49" y="613"/>
                    </a:lnTo>
                    <a:lnTo>
                      <a:pt x="45" y="671"/>
                    </a:lnTo>
                    <a:lnTo>
                      <a:pt x="40" y="733"/>
                    </a:lnTo>
                    <a:lnTo>
                      <a:pt x="36" y="790"/>
                    </a:lnTo>
                    <a:lnTo>
                      <a:pt x="30" y="852"/>
                    </a:lnTo>
                    <a:lnTo>
                      <a:pt x="30" y="909"/>
                    </a:lnTo>
                    <a:lnTo>
                      <a:pt x="26" y="971"/>
                    </a:lnTo>
                    <a:lnTo>
                      <a:pt x="22" y="1032"/>
                    </a:lnTo>
                    <a:lnTo>
                      <a:pt x="22" y="1094"/>
                    </a:lnTo>
                    <a:lnTo>
                      <a:pt x="17" y="1151"/>
                    </a:lnTo>
                    <a:lnTo>
                      <a:pt x="13" y="1213"/>
                    </a:lnTo>
                    <a:lnTo>
                      <a:pt x="13" y="1271"/>
                    </a:lnTo>
                    <a:lnTo>
                      <a:pt x="13" y="1332"/>
                    </a:lnTo>
                    <a:lnTo>
                      <a:pt x="8" y="1390"/>
                    </a:lnTo>
                    <a:lnTo>
                      <a:pt x="8" y="1451"/>
                    </a:lnTo>
                    <a:lnTo>
                      <a:pt x="4" y="1510"/>
                    </a:lnTo>
                    <a:lnTo>
                      <a:pt x="4" y="1571"/>
                    </a:lnTo>
                    <a:lnTo>
                      <a:pt x="4" y="1633"/>
                    </a:lnTo>
                    <a:lnTo>
                      <a:pt x="4" y="1695"/>
                    </a:lnTo>
                    <a:lnTo>
                      <a:pt x="4" y="1752"/>
                    </a:lnTo>
                    <a:lnTo>
                      <a:pt x="0" y="1814"/>
                    </a:lnTo>
                    <a:lnTo>
                      <a:pt x="0" y="1871"/>
                    </a:lnTo>
                    <a:lnTo>
                      <a:pt x="0" y="1933"/>
                    </a:lnTo>
                    <a:lnTo>
                      <a:pt x="0" y="1937"/>
                    </a:lnTo>
                    <a:lnTo>
                      <a:pt x="4" y="1937"/>
                    </a:lnTo>
                    <a:lnTo>
                      <a:pt x="4" y="1937"/>
                    </a:lnTo>
                    <a:lnTo>
                      <a:pt x="4" y="19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496200" y="5400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63"/>
                    </a:moveTo>
                    <a:lnTo>
                      <a:pt x="72" y="63"/>
                    </a:lnTo>
                    <a:lnTo>
                      <a:pt x="72" y="63"/>
                    </a:lnTo>
                    <a:lnTo>
                      <a:pt x="53" y="58"/>
                    </a:lnTo>
                    <a:lnTo>
                      <a:pt x="53" y="52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6" y="43"/>
                    </a:lnTo>
                    <a:lnTo>
                      <a:pt x="36" y="38"/>
                    </a:lnTo>
                    <a:lnTo>
                      <a:pt x="17" y="38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7" y="19"/>
                    </a:lnTo>
                    <a:lnTo>
                      <a:pt x="17" y="14"/>
                    </a:lnTo>
                    <a:lnTo>
                      <a:pt x="17" y="9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7" y="29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3"/>
                    </a:lnTo>
                    <a:lnTo>
                      <a:pt x="17" y="48"/>
                    </a:lnTo>
                    <a:lnTo>
                      <a:pt x="36" y="48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53" y="63"/>
                    </a:lnTo>
                    <a:lnTo>
                      <a:pt x="53" y="67"/>
                    </a:lnTo>
                    <a:lnTo>
                      <a:pt x="72" y="67"/>
                    </a:lnTo>
                    <a:lnTo>
                      <a:pt x="72" y="72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512040" y="5435640"/>
                <a:ext cx="63720" cy="39960"/>
              </a:xfrm>
              <a:custGeom>
                <a:avLst/>
                <a:gdLst/>
                <a:ahLst/>
                <a:rect l="0" t="0" r="r" b="b"/>
                <a:pathLst>
                  <a:path w="177" h="111">
                    <a:moveTo>
                      <a:pt x="172" y="102"/>
                    </a:moveTo>
                    <a:lnTo>
                      <a:pt x="172" y="10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72" y="106"/>
                    </a:lnTo>
                    <a:lnTo>
                      <a:pt x="172" y="111"/>
                    </a:lnTo>
                    <a:lnTo>
                      <a:pt x="177" y="106"/>
                    </a:lnTo>
                    <a:lnTo>
                      <a:pt x="177" y="106"/>
                    </a:lnTo>
                    <a:lnTo>
                      <a:pt x="17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586560" y="548496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66"/>
                    </a:moveTo>
                    <a:lnTo>
                      <a:pt x="600" y="66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596" y="72"/>
                    </a:lnTo>
                    <a:lnTo>
                      <a:pt x="591" y="72"/>
                    </a:lnTo>
                    <a:lnTo>
                      <a:pt x="596" y="72"/>
                    </a:lnTo>
                    <a:lnTo>
                      <a:pt x="600" y="72"/>
                    </a:lnTo>
                    <a:lnTo>
                      <a:pt x="605" y="72"/>
                    </a:lnTo>
                    <a:lnTo>
                      <a:pt x="605" y="66"/>
                    </a:lnTo>
                    <a:lnTo>
                      <a:pt x="600" y="66"/>
                    </a:lnTo>
                    <a:lnTo>
                      <a:pt x="60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13720" y="551484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w="124" h="107">
                    <a:moveTo>
                      <a:pt x="120" y="107"/>
                    </a:moveTo>
                    <a:lnTo>
                      <a:pt x="120" y="103"/>
                    </a:lnTo>
                    <a:lnTo>
                      <a:pt x="115" y="94"/>
                    </a:lnTo>
                    <a:lnTo>
                      <a:pt x="106" y="90"/>
                    </a:lnTo>
                    <a:lnTo>
                      <a:pt x="98" y="85"/>
                    </a:lnTo>
                    <a:lnTo>
                      <a:pt x="89" y="81"/>
                    </a:lnTo>
                    <a:lnTo>
                      <a:pt x="80" y="71"/>
                    </a:lnTo>
                    <a:lnTo>
                      <a:pt x="75" y="67"/>
                    </a:lnTo>
                    <a:lnTo>
                      <a:pt x="67" y="58"/>
                    </a:lnTo>
                    <a:lnTo>
                      <a:pt x="57" y="53"/>
                    </a:lnTo>
                    <a:lnTo>
                      <a:pt x="52" y="49"/>
                    </a:lnTo>
                    <a:lnTo>
                      <a:pt x="44" y="40"/>
                    </a:lnTo>
                    <a:lnTo>
                      <a:pt x="35" y="36"/>
                    </a:lnTo>
                    <a:lnTo>
                      <a:pt x="30" y="26"/>
                    </a:lnTo>
                    <a:lnTo>
                      <a:pt x="22" y="17"/>
                    </a:lnTo>
                    <a:lnTo>
                      <a:pt x="17" y="13"/>
                    </a:lnTo>
                    <a:lnTo>
                      <a:pt x="13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4" y="13"/>
                    </a:lnTo>
                    <a:lnTo>
                      <a:pt x="13" y="17"/>
                    </a:lnTo>
                    <a:lnTo>
                      <a:pt x="17" y="26"/>
                    </a:lnTo>
                    <a:lnTo>
                      <a:pt x="26" y="31"/>
                    </a:lnTo>
                    <a:lnTo>
                      <a:pt x="30" y="40"/>
                    </a:lnTo>
                    <a:lnTo>
                      <a:pt x="35" y="45"/>
                    </a:lnTo>
                    <a:lnTo>
                      <a:pt x="44" y="53"/>
                    </a:lnTo>
                    <a:lnTo>
                      <a:pt x="52" y="58"/>
                    </a:lnTo>
                    <a:lnTo>
                      <a:pt x="61" y="67"/>
                    </a:lnTo>
                    <a:lnTo>
                      <a:pt x="71" y="71"/>
                    </a:lnTo>
                    <a:lnTo>
                      <a:pt x="80" y="81"/>
                    </a:lnTo>
                    <a:lnTo>
                      <a:pt x="89" y="85"/>
                    </a:lnTo>
                    <a:lnTo>
                      <a:pt x="93" y="90"/>
                    </a:lnTo>
                    <a:lnTo>
                      <a:pt x="102" y="94"/>
                    </a:lnTo>
                    <a:lnTo>
                      <a:pt x="111" y="103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20" y="107"/>
                    </a:lnTo>
                    <a:lnTo>
                      <a:pt x="120" y="107"/>
                    </a:lnTo>
                    <a:lnTo>
                      <a:pt x="124" y="107"/>
                    </a:lnTo>
                    <a:lnTo>
                      <a:pt x="124" y="103"/>
                    </a:lnTo>
                    <a:lnTo>
                      <a:pt x="120" y="103"/>
                    </a:lnTo>
                    <a:lnTo>
                      <a:pt x="12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00760" y="5553000"/>
                <a:ext cx="57600" cy="25920"/>
              </a:xfrm>
              <a:custGeom>
                <a:avLst/>
                <a:gdLst/>
                <a:ahLst/>
                <a:rect l="0" t="0" r="r" b="b"/>
                <a:pathLst>
                  <a:path w="160" h="72">
                    <a:moveTo>
                      <a:pt x="4" y="53"/>
                    </a:moveTo>
                    <a:lnTo>
                      <a:pt x="4" y="53"/>
                    </a:lnTo>
                    <a:lnTo>
                      <a:pt x="160" y="0"/>
                    </a:lnTo>
                    <a:lnTo>
                      <a:pt x="160" y="17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626160" y="5559480"/>
                <a:ext cx="162360" cy="79560"/>
              </a:xfrm>
              <a:custGeom>
                <a:avLst/>
                <a:gdLst/>
                <a:ahLst/>
                <a:rect l="0" t="0" r="r" b="b"/>
                <a:pathLst>
                  <a:path w="451" h="221">
                    <a:moveTo>
                      <a:pt x="8" y="217"/>
                    </a:moveTo>
                    <a:lnTo>
                      <a:pt x="8" y="221"/>
                    </a:lnTo>
                    <a:lnTo>
                      <a:pt x="451" y="8"/>
                    </a:lnTo>
                    <a:lnTo>
                      <a:pt x="447" y="0"/>
                    </a:lnTo>
                    <a:lnTo>
                      <a:pt x="4" y="212"/>
                    </a:lnTo>
                    <a:lnTo>
                      <a:pt x="0" y="217"/>
                    </a:lnTo>
                    <a:lnTo>
                      <a:pt x="4" y="212"/>
                    </a:lnTo>
                    <a:lnTo>
                      <a:pt x="0" y="212"/>
                    </a:lnTo>
                    <a:lnTo>
                      <a:pt x="0" y="217"/>
                    </a:lnTo>
                    <a:lnTo>
                      <a:pt x="4" y="221"/>
                    </a:lnTo>
                    <a:lnTo>
                      <a:pt x="8" y="221"/>
                    </a:lnTo>
                    <a:lnTo>
                      <a:pt x="8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616800" y="56498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4" y="67"/>
                    </a:moveTo>
                    <a:lnTo>
                      <a:pt x="0" y="67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67"/>
                    </a:lnTo>
                    <a:lnTo>
                      <a:pt x="48" y="72"/>
                    </a:lnTo>
                    <a:lnTo>
                      <a:pt x="72" y="67"/>
                    </a:lnTo>
                    <a:lnTo>
                      <a:pt x="48" y="72"/>
                    </a:lnTo>
                    <a:lnTo>
                      <a:pt x="24" y="72"/>
                    </a:lnTo>
                    <a:lnTo>
                      <a:pt x="0" y="67"/>
                    </a:lnTo>
                    <a:lnTo>
                      <a:pt x="2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496200" y="4664160"/>
                <a:ext cx="968760" cy="811440"/>
              </a:xfrm>
              <a:custGeom>
                <a:avLst/>
                <a:gdLst/>
                <a:ahLst/>
                <a:rect l="0" t="0" r="r" b="b"/>
                <a:pathLst>
                  <a:path w="2691" h="2254">
                    <a:moveTo>
                      <a:pt x="39" y="2029"/>
                    </a:moveTo>
                    <a:lnTo>
                      <a:pt x="2489" y="2254"/>
                    </a:lnTo>
                    <a:lnTo>
                      <a:pt x="2497" y="2197"/>
                    </a:lnTo>
                    <a:lnTo>
                      <a:pt x="2506" y="2135"/>
                    </a:lnTo>
                    <a:lnTo>
                      <a:pt x="2519" y="2073"/>
                    </a:lnTo>
                    <a:lnTo>
                      <a:pt x="2528" y="2016"/>
                    </a:lnTo>
                    <a:lnTo>
                      <a:pt x="2533" y="1954"/>
                    </a:lnTo>
                    <a:lnTo>
                      <a:pt x="2546" y="1892"/>
                    </a:lnTo>
                    <a:lnTo>
                      <a:pt x="2555" y="1831"/>
                    </a:lnTo>
                    <a:lnTo>
                      <a:pt x="2564" y="1764"/>
                    </a:lnTo>
                    <a:lnTo>
                      <a:pt x="2572" y="1703"/>
                    </a:lnTo>
                    <a:lnTo>
                      <a:pt x="2581" y="1641"/>
                    </a:lnTo>
                    <a:lnTo>
                      <a:pt x="2590" y="1579"/>
                    </a:lnTo>
                    <a:lnTo>
                      <a:pt x="2599" y="1517"/>
                    </a:lnTo>
                    <a:lnTo>
                      <a:pt x="2603" y="1456"/>
                    </a:lnTo>
                    <a:lnTo>
                      <a:pt x="2612" y="1390"/>
                    </a:lnTo>
                    <a:lnTo>
                      <a:pt x="2616" y="1328"/>
                    </a:lnTo>
                    <a:lnTo>
                      <a:pt x="2625" y="1262"/>
                    </a:lnTo>
                    <a:lnTo>
                      <a:pt x="2634" y="1196"/>
                    </a:lnTo>
                    <a:lnTo>
                      <a:pt x="2639" y="1129"/>
                    </a:lnTo>
                    <a:lnTo>
                      <a:pt x="2643" y="1067"/>
                    </a:lnTo>
                    <a:lnTo>
                      <a:pt x="2647" y="1001"/>
                    </a:lnTo>
                    <a:lnTo>
                      <a:pt x="2656" y="934"/>
                    </a:lnTo>
                    <a:lnTo>
                      <a:pt x="2661" y="873"/>
                    </a:lnTo>
                    <a:lnTo>
                      <a:pt x="2665" y="806"/>
                    </a:lnTo>
                    <a:lnTo>
                      <a:pt x="2669" y="740"/>
                    </a:lnTo>
                    <a:lnTo>
                      <a:pt x="2674" y="674"/>
                    </a:lnTo>
                    <a:lnTo>
                      <a:pt x="2674" y="612"/>
                    </a:lnTo>
                    <a:lnTo>
                      <a:pt x="2678" y="546"/>
                    </a:lnTo>
                    <a:lnTo>
                      <a:pt x="2683" y="480"/>
                    </a:lnTo>
                    <a:lnTo>
                      <a:pt x="2687" y="414"/>
                    </a:lnTo>
                    <a:lnTo>
                      <a:pt x="2687" y="348"/>
                    </a:lnTo>
                    <a:lnTo>
                      <a:pt x="2691" y="282"/>
                    </a:lnTo>
                    <a:lnTo>
                      <a:pt x="2691" y="216"/>
                    </a:lnTo>
                    <a:lnTo>
                      <a:pt x="2691" y="202"/>
                    </a:lnTo>
                    <a:lnTo>
                      <a:pt x="2687" y="189"/>
                    </a:lnTo>
                    <a:lnTo>
                      <a:pt x="2683" y="185"/>
                    </a:lnTo>
                    <a:lnTo>
                      <a:pt x="2674" y="176"/>
                    </a:lnTo>
                    <a:lnTo>
                      <a:pt x="2669" y="167"/>
                    </a:lnTo>
                    <a:lnTo>
                      <a:pt x="2656" y="158"/>
                    </a:lnTo>
                    <a:lnTo>
                      <a:pt x="2647" y="154"/>
                    </a:lnTo>
                    <a:lnTo>
                      <a:pt x="2639" y="149"/>
                    </a:lnTo>
                    <a:lnTo>
                      <a:pt x="2559" y="136"/>
                    </a:lnTo>
                    <a:lnTo>
                      <a:pt x="2484" y="123"/>
                    </a:lnTo>
                    <a:lnTo>
                      <a:pt x="2414" y="119"/>
                    </a:lnTo>
                    <a:lnTo>
                      <a:pt x="2339" y="105"/>
                    </a:lnTo>
                    <a:lnTo>
                      <a:pt x="2264" y="97"/>
                    </a:lnTo>
                    <a:lnTo>
                      <a:pt x="2193" y="88"/>
                    </a:lnTo>
                    <a:lnTo>
                      <a:pt x="2118" y="83"/>
                    </a:lnTo>
                    <a:lnTo>
                      <a:pt x="2048" y="74"/>
                    </a:lnTo>
                    <a:lnTo>
                      <a:pt x="1972" y="66"/>
                    </a:lnTo>
                    <a:lnTo>
                      <a:pt x="1901" y="57"/>
                    </a:lnTo>
                    <a:lnTo>
                      <a:pt x="1831" y="52"/>
                    </a:lnTo>
                    <a:lnTo>
                      <a:pt x="1760" y="48"/>
                    </a:lnTo>
                    <a:lnTo>
                      <a:pt x="1685" y="44"/>
                    </a:lnTo>
                    <a:lnTo>
                      <a:pt x="1614" y="39"/>
                    </a:lnTo>
                    <a:lnTo>
                      <a:pt x="1544" y="30"/>
                    </a:lnTo>
                    <a:lnTo>
                      <a:pt x="1473" y="26"/>
                    </a:lnTo>
                    <a:lnTo>
                      <a:pt x="1403" y="22"/>
                    </a:lnTo>
                    <a:lnTo>
                      <a:pt x="1332" y="17"/>
                    </a:lnTo>
                    <a:lnTo>
                      <a:pt x="1262" y="17"/>
                    </a:lnTo>
                    <a:lnTo>
                      <a:pt x="1187" y="17"/>
                    </a:lnTo>
                    <a:lnTo>
                      <a:pt x="1116" y="13"/>
                    </a:lnTo>
                    <a:lnTo>
                      <a:pt x="1046" y="13"/>
                    </a:lnTo>
                    <a:lnTo>
                      <a:pt x="975" y="8"/>
                    </a:lnTo>
                    <a:lnTo>
                      <a:pt x="904" y="8"/>
                    </a:lnTo>
                    <a:lnTo>
                      <a:pt x="834" y="4"/>
                    </a:lnTo>
                    <a:lnTo>
                      <a:pt x="759" y="4"/>
                    </a:lnTo>
                    <a:lnTo>
                      <a:pt x="688" y="4"/>
                    </a:lnTo>
                    <a:lnTo>
                      <a:pt x="612" y="0"/>
                    </a:lnTo>
                    <a:lnTo>
                      <a:pt x="537" y="0"/>
                    </a:lnTo>
                    <a:lnTo>
                      <a:pt x="463" y="0"/>
                    </a:lnTo>
                    <a:lnTo>
                      <a:pt x="388" y="0"/>
                    </a:lnTo>
                    <a:lnTo>
                      <a:pt x="313" y="0"/>
                    </a:lnTo>
                    <a:lnTo>
                      <a:pt x="295" y="0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46" y="0"/>
                    </a:lnTo>
                    <a:lnTo>
                      <a:pt x="233" y="4"/>
                    </a:lnTo>
                    <a:lnTo>
                      <a:pt x="224" y="4"/>
                    </a:lnTo>
                    <a:lnTo>
                      <a:pt x="216" y="8"/>
                    </a:lnTo>
                    <a:lnTo>
                      <a:pt x="207" y="8"/>
                    </a:lnTo>
                    <a:lnTo>
                      <a:pt x="198" y="13"/>
                    </a:lnTo>
                    <a:lnTo>
                      <a:pt x="194" y="17"/>
                    </a:lnTo>
                    <a:lnTo>
                      <a:pt x="185" y="22"/>
                    </a:lnTo>
                    <a:lnTo>
                      <a:pt x="180" y="26"/>
                    </a:lnTo>
                    <a:lnTo>
                      <a:pt x="176" y="35"/>
                    </a:lnTo>
                    <a:lnTo>
                      <a:pt x="171" y="48"/>
                    </a:lnTo>
                    <a:lnTo>
                      <a:pt x="167" y="52"/>
                    </a:lnTo>
                    <a:lnTo>
                      <a:pt x="163" y="66"/>
                    </a:lnTo>
                    <a:lnTo>
                      <a:pt x="158" y="101"/>
                    </a:lnTo>
                    <a:lnTo>
                      <a:pt x="149" y="132"/>
                    </a:lnTo>
                    <a:lnTo>
                      <a:pt x="145" y="167"/>
                    </a:lnTo>
                    <a:lnTo>
                      <a:pt x="136" y="198"/>
                    </a:lnTo>
                    <a:lnTo>
                      <a:pt x="132" y="233"/>
                    </a:lnTo>
                    <a:lnTo>
                      <a:pt x="123" y="264"/>
                    </a:lnTo>
                    <a:lnTo>
                      <a:pt x="123" y="295"/>
                    </a:lnTo>
                    <a:lnTo>
                      <a:pt x="114" y="330"/>
                    </a:lnTo>
                    <a:lnTo>
                      <a:pt x="110" y="361"/>
                    </a:lnTo>
                    <a:lnTo>
                      <a:pt x="105" y="396"/>
                    </a:lnTo>
                    <a:lnTo>
                      <a:pt x="97" y="427"/>
                    </a:lnTo>
                    <a:lnTo>
                      <a:pt x="92" y="458"/>
                    </a:lnTo>
                    <a:lnTo>
                      <a:pt x="88" y="493"/>
                    </a:lnTo>
                    <a:lnTo>
                      <a:pt x="88" y="524"/>
                    </a:lnTo>
                    <a:lnTo>
                      <a:pt x="83" y="560"/>
                    </a:lnTo>
                    <a:lnTo>
                      <a:pt x="79" y="590"/>
                    </a:lnTo>
                    <a:lnTo>
                      <a:pt x="74" y="626"/>
                    </a:lnTo>
                    <a:lnTo>
                      <a:pt x="70" y="657"/>
                    </a:lnTo>
                    <a:lnTo>
                      <a:pt x="66" y="687"/>
                    </a:lnTo>
                    <a:lnTo>
                      <a:pt x="61" y="723"/>
                    </a:lnTo>
                    <a:lnTo>
                      <a:pt x="57" y="758"/>
                    </a:lnTo>
                    <a:lnTo>
                      <a:pt x="52" y="789"/>
                    </a:lnTo>
                    <a:lnTo>
                      <a:pt x="52" y="824"/>
                    </a:lnTo>
                    <a:lnTo>
                      <a:pt x="52" y="855"/>
                    </a:lnTo>
                    <a:lnTo>
                      <a:pt x="48" y="890"/>
                    </a:lnTo>
                    <a:lnTo>
                      <a:pt x="44" y="921"/>
                    </a:lnTo>
                    <a:lnTo>
                      <a:pt x="39" y="956"/>
                    </a:lnTo>
                    <a:lnTo>
                      <a:pt x="39" y="987"/>
                    </a:lnTo>
                    <a:lnTo>
                      <a:pt x="35" y="1018"/>
                    </a:lnTo>
                    <a:lnTo>
                      <a:pt x="30" y="1053"/>
                    </a:lnTo>
                    <a:lnTo>
                      <a:pt x="30" y="1084"/>
                    </a:lnTo>
                    <a:lnTo>
                      <a:pt x="26" y="1120"/>
                    </a:lnTo>
                    <a:lnTo>
                      <a:pt x="26" y="1143"/>
                    </a:lnTo>
                    <a:lnTo>
                      <a:pt x="26" y="1169"/>
                    </a:lnTo>
                    <a:lnTo>
                      <a:pt x="22" y="1196"/>
                    </a:lnTo>
                    <a:lnTo>
                      <a:pt x="22" y="1226"/>
                    </a:lnTo>
                    <a:lnTo>
                      <a:pt x="22" y="1248"/>
                    </a:lnTo>
                    <a:lnTo>
                      <a:pt x="17" y="1275"/>
                    </a:lnTo>
                    <a:lnTo>
                      <a:pt x="17" y="1301"/>
                    </a:lnTo>
                    <a:lnTo>
                      <a:pt x="17" y="1328"/>
                    </a:lnTo>
                    <a:lnTo>
                      <a:pt x="17" y="1354"/>
                    </a:lnTo>
                    <a:lnTo>
                      <a:pt x="17" y="1381"/>
                    </a:lnTo>
                    <a:lnTo>
                      <a:pt x="17" y="1407"/>
                    </a:lnTo>
                    <a:lnTo>
                      <a:pt x="17" y="1429"/>
                    </a:lnTo>
                    <a:lnTo>
                      <a:pt x="13" y="1460"/>
                    </a:lnTo>
                    <a:lnTo>
                      <a:pt x="13" y="1487"/>
                    </a:lnTo>
                    <a:lnTo>
                      <a:pt x="13" y="1509"/>
                    </a:lnTo>
                    <a:lnTo>
                      <a:pt x="13" y="1535"/>
                    </a:lnTo>
                    <a:lnTo>
                      <a:pt x="13" y="1566"/>
                    </a:lnTo>
                    <a:lnTo>
                      <a:pt x="8" y="1592"/>
                    </a:lnTo>
                    <a:lnTo>
                      <a:pt x="8" y="1614"/>
                    </a:lnTo>
                    <a:lnTo>
                      <a:pt x="8" y="1641"/>
                    </a:lnTo>
                    <a:lnTo>
                      <a:pt x="8" y="1667"/>
                    </a:lnTo>
                    <a:lnTo>
                      <a:pt x="8" y="1698"/>
                    </a:lnTo>
                    <a:lnTo>
                      <a:pt x="4" y="1720"/>
                    </a:lnTo>
                    <a:lnTo>
                      <a:pt x="4" y="1747"/>
                    </a:lnTo>
                    <a:lnTo>
                      <a:pt x="4" y="1773"/>
                    </a:lnTo>
                    <a:lnTo>
                      <a:pt x="4" y="1800"/>
                    </a:lnTo>
                    <a:lnTo>
                      <a:pt x="4" y="1826"/>
                    </a:lnTo>
                    <a:lnTo>
                      <a:pt x="4" y="1853"/>
                    </a:lnTo>
                    <a:lnTo>
                      <a:pt x="0" y="1879"/>
                    </a:lnTo>
                    <a:lnTo>
                      <a:pt x="0" y="1906"/>
                    </a:lnTo>
                    <a:lnTo>
                      <a:pt x="0" y="1932"/>
                    </a:lnTo>
                    <a:lnTo>
                      <a:pt x="0" y="1958"/>
                    </a:lnTo>
                    <a:lnTo>
                      <a:pt x="0" y="1972"/>
                    </a:lnTo>
                    <a:lnTo>
                      <a:pt x="0" y="1985"/>
                    </a:lnTo>
                    <a:lnTo>
                      <a:pt x="4" y="1998"/>
                    </a:lnTo>
                    <a:lnTo>
                      <a:pt x="8" y="2003"/>
                    </a:lnTo>
                    <a:lnTo>
                      <a:pt x="13" y="2011"/>
                    </a:lnTo>
                    <a:lnTo>
                      <a:pt x="17" y="2020"/>
                    </a:lnTo>
                    <a:lnTo>
                      <a:pt x="26" y="2025"/>
                    </a:lnTo>
                    <a:lnTo>
                      <a:pt x="39" y="20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508800" y="5405400"/>
                <a:ext cx="883080" cy="73440"/>
              </a:xfrm>
              <a:custGeom>
                <a:avLst/>
                <a:gdLst/>
                <a:ahLst/>
                <a:rect l="0" t="0" r="r" b="b"/>
                <a:pathLst>
                  <a:path w="2453" h="204">
                    <a:moveTo>
                      <a:pt x="2444" y="200"/>
                    </a:moveTo>
                    <a:lnTo>
                      <a:pt x="2449" y="196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449" y="204"/>
                    </a:lnTo>
                    <a:lnTo>
                      <a:pt x="2453" y="200"/>
                    </a:lnTo>
                    <a:lnTo>
                      <a:pt x="2449" y="204"/>
                    </a:lnTo>
                    <a:lnTo>
                      <a:pt x="2453" y="200"/>
                    </a:lnTo>
                    <a:lnTo>
                      <a:pt x="2453" y="200"/>
                    </a:lnTo>
                    <a:lnTo>
                      <a:pt x="2449" y="196"/>
                    </a:lnTo>
                    <a:lnTo>
                      <a:pt x="2444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00880" y="4740120"/>
                <a:ext cx="63720" cy="736920"/>
              </a:xfrm>
              <a:custGeom>
                <a:avLst/>
                <a:gdLst/>
                <a:ahLst/>
                <a:rect l="0" t="0" r="r" b="b"/>
                <a:pathLst>
                  <a:path w="177" h="2047">
                    <a:moveTo>
                      <a:pt x="172" y="4"/>
                    </a:moveTo>
                    <a:lnTo>
                      <a:pt x="172" y="4"/>
                    </a:lnTo>
                    <a:lnTo>
                      <a:pt x="168" y="70"/>
                    </a:lnTo>
                    <a:lnTo>
                      <a:pt x="168" y="136"/>
                    </a:lnTo>
                    <a:lnTo>
                      <a:pt x="164" y="202"/>
                    </a:lnTo>
                    <a:lnTo>
                      <a:pt x="159" y="268"/>
                    </a:lnTo>
                    <a:lnTo>
                      <a:pt x="159" y="335"/>
                    </a:lnTo>
                    <a:lnTo>
                      <a:pt x="159" y="396"/>
                    </a:lnTo>
                    <a:lnTo>
                      <a:pt x="155" y="463"/>
                    </a:lnTo>
                    <a:lnTo>
                      <a:pt x="150" y="529"/>
                    </a:lnTo>
                    <a:lnTo>
                      <a:pt x="146" y="595"/>
                    </a:lnTo>
                    <a:lnTo>
                      <a:pt x="146" y="661"/>
                    </a:lnTo>
                    <a:lnTo>
                      <a:pt x="137" y="723"/>
                    </a:lnTo>
                    <a:lnTo>
                      <a:pt x="133" y="789"/>
                    </a:lnTo>
                    <a:lnTo>
                      <a:pt x="133" y="855"/>
                    </a:lnTo>
                    <a:lnTo>
                      <a:pt x="124" y="921"/>
                    </a:lnTo>
                    <a:lnTo>
                      <a:pt x="120" y="987"/>
                    </a:lnTo>
                    <a:lnTo>
                      <a:pt x="115" y="1050"/>
                    </a:lnTo>
                    <a:lnTo>
                      <a:pt x="106" y="1116"/>
                    </a:lnTo>
                    <a:lnTo>
                      <a:pt x="102" y="1178"/>
                    </a:lnTo>
                    <a:lnTo>
                      <a:pt x="93" y="1240"/>
                    </a:lnTo>
                    <a:lnTo>
                      <a:pt x="93" y="1306"/>
                    </a:lnTo>
                    <a:lnTo>
                      <a:pt x="83" y="1368"/>
                    </a:lnTo>
                    <a:lnTo>
                      <a:pt x="74" y="1429"/>
                    </a:lnTo>
                    <a:lnTo>
                      <a:pt x="70" y="1491"/>
                    </a:lnTo>
                    <a:lnTo>
                      <a:pt x="61" y="1557"/>
                    </a:lnTo>
                    <a:lnTo>
                      <a:pt x="57" y="1619"/>
                    </a:lnTo>
                    <a:lnTo>
                      <a:pt x="48" y="1681"/>
                    </a:lnTo>
                    <a:lnTo>
                      <a:pt x="39" y="1742"/>
                    </a:lnTo>
                    <a:lnTo>
                      <a:pt x="30" y="1800"/>
                    </a:lnTo>
                    <a:lnTo>
                      <a:pt x="22" y="1861"/>
                    </a:lnTo>
                    <a:lnTo>
                      <a:pt x="17" y="1923"/>
                    </a:lnTo>
                    <a:lnTo>
                      <a:pt x="4" y="1985"/>
                    </a:lnTo>
                    <a:lnTo>
                      <a:pt x="0" y="2042"/>
                    </a:lnTo>
                    <a:lnTo>
                      <a:pt x="4" y="2047"/>
                    </a:lnTo>
                    <a:lnTo>
                      <a:pt x="17" y="1985"/>
                    </a:lnTo>
                    <a:lnTo>
                      <a:pt x="22" y="1928"/>
                    </a:lnTo>
                    <a:lnTo>
                      <a:pt x="30" y="1861"/>
                    </a:lnTo>
                    <a:lnTo>
                      <a:pt x="39" y="1804"/>
                    </a:lnTo>
                    <a:lnTo>
                      <a:pt x="48" y="1742"/>
                    </a:lnTo>
                    <a:lnTo>
                      <a:pt x="57" y="1681"/>
                    </a:lnTo>
                    <a:lnTo>
                      <a:pt x="61" y="1623"/>
                    </a:lnTo>
                    <a:lnTo>
                      <a:pt x="70" y="1562"/>
                    </a:lnTo>
                    <a:lnTo>
                      <a:pt x="79" y="1495"/>
                    </a:lnTo>
                    <a:lnTo>
                      <a:pt x="83" y="1429"/>
                    </a:lnTo>
                    <a:lnTo>
                      <a:pt x="93" y="1368"/>
                    </a:lnTo>
                    <a:lnTo>
                      <a:pt x="98" y="1306"/>
                    </a:lnTo>
                    <a:lnTo>
                      <a:pt x="106" y="1244"/>
                    </a:lnTo>
                    <a:lnTo>
                      <a:pt x="111" y="1178"/>
                    </a:lnTo>
                    <a:lnTo>
                      <a:pt x="120" y="1116"/>
                    </a:lnTo>
                    <a:lnTo>
                      <a:pt x="120" y="1050"/>
                    </a:lnTo>
                    <a:lnTo>
                      <a:pt x="128" y="987"/>
                    </a:lnTo>
                    <a:lnTo>
                      <a:pt x="133" y="921"/>
                    </a:lnTo>
                    <a:lnTo>
                      <a:pt x="137" y="855"/>
                    </a:lnTo>
                    <a:lnTo>
                      <a:pt x="146" y="789"/>
                    </a:lnTo>
                    <a:lnTo>
                      <a:pt x="146" y="723"/>
                    </a:lnTo>
                    <a:lnTo>
                      <a:pt x="150" y="661"/>
                    </a:lnTo>
                    <a:lnTo>
                      <a:pt x="159" y="595"/>
                    </a:lnTo>
                    <a:lnTo>
                      <a:pt x="159" y="529"/>
                    </a:lnTo>
                    <a:lnTo>
                      <a:pt x="164" y="463"/>
                    </a:lnTo>
                    <a:lnTo>
                      <a:pt x="168" y="401"/>
                    </a:lnTo>
                    <a:lnTo>
                      <a:pt x="168" y="335"/>
                    </a:lnTo>
                    <a:lnTo>
                      <a:pt x="172" y="268"/>
                    </a:lnTo>
                    <a:lnTo>
                      <a:pt x="172" y="202"/>
                    </a:lnTo>
                    <a:lnTo>
                      <a:pt x="177" y="136"/>
                    </a:lnTo>
                    <a:lnTo>
                      <a:pt x="177" y="70"/>
                    </a:lnTo>
                    <a:lnTo>
                      <a:pt x="177" y="4"/>
                    </a:lnTo>
                    <a:lnTo>
                      <a:pt x="177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56320" y="4719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11"/>
                    </a:moveTo>
                    <a:lnTo>
                      <a:pt x="0" y="11"/>
                    </a:lnTo>
                    <a:lnTo>
                      <a:pt x="14" y="11"/>
                    </a:lnTo>
                    <a:lnTo>
                      <a:pt x="29" y="24"/>
                    </a:lnTo>
                    <a:lnTo>
                      <a:pt x="43" y="24"/>
                    </a:lnTo>
                    <a:lnTo>
                      <a:pt x="43" y="36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8" y="60"/>
                    </a:lnTo>
                    <a:lnTo>
                      <a:pt x="58" y="72"/>
                    </a:lnTo>
                    <a:lnTo>
                      <a:pt x="72" y="72"/>
                    </a:lnTo>
                    <a:lnTo>
                      <a:pt x="72" y="60"/>
                    </a:lnTo>
                    <a:lnTo>
                      <a:pt x="72" y="48"/>
                    </a:lnTo>
                    <a:lnTo>
                      <a:pt x="58" y="36"/>
                    </a:lnTo>
                    <a:lnTo>
                      <a:pt x="58" y="24"/>
                    </a:lnTo>
                    <a:lnTo>
                      <a:pt x="43" y="24"/>
                    </a:lnTo>
                    <a:lnTo>
                      <a:pt x="29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605640" y="4660920"/>
                <a:ext cx="840240" cy="44640"/>
              </a:xfrm>
              <a:custGeom>
                <a:avLst/>
                <a:gdLst/>
                <a:ahLst/>
                <a:rect l="0" t="0" r="r" b="b"/>
                <a:pathLst>
                  <a:path w="2334" h="124">
                    <a:moveTo>
                      <a:pt x="8" y="4"/>
                    </a:moveTo>
                    <a:lnTo>
                      <a:pt x="8" y="4"/>
                    </a:lnTo>
                    <a:lnTo>
                      <a:pt x="83" y="4"/>
                    </a:lnTo>
                    <a:lnTo>
                      <a:pt x="158" y="8"/>
                    </a:lnTo>
                    <a:lnTo>
                      <a:pt x="233" y="8"/>
                    </a:lnTo>
                    <a:lnTo>
                      <a:pt x="304" y="8"/>
                    </a:lnTo>
                    <a:lnTo>
                      <a:pt x="379" y="8"/>
                    </a:lnTo>
                    <a:lnTo>
                      <a:pt x="449" y="8"/>
                    </a:lnTo>
                    <a:lnTo>
                      <a:pt x="524" y="13"/>
                    </a:lnTo>
                    <a:lnTo>
                      <a:pt x="596" y="13"/>
                    </a:lnTo>
                    <a:lnTo>
                      <a:pt x="671" y="13"/>
                    </a:lnTo>
                    <a:lnTo>
                      <a:pt x="741" y="17"/>
                    </a:lnTo>
                    <a:lnTo>
                      <a:pt x="812" y="17"/>
                    </a:lnTo>
                    <a:lnTo>
                      <a:pt x="882" y="17"/>
                    </a:lnTo>
                    <a:lnTo>
                      <a:pt x="957" y="22"/>
                    </a:lnTo>
                    <a:lnTo>
                      <a:pt x="1028" y="26"/>
                    </a:lnTo>
                    <a:lnTo>
                      <a:pt x="1099" y="26"/>
                    </a:lnTo>
                    <a:lnTo>
                      <a:pt x="1169" y="30"/>
                    </a:lnTo>
                    <a:lnTo>
                      <a:pt x="1240" y="35"/>
                    </a:lnTo>
                    <a:lnTo>
                      <a:pt x="1310" y="35"/>
                    </a:lnTo>
                    <a:lnTo>
                      <a:pt x="1381" y="39"/>
                    </a:lnTo>
                    <a:lnTo>
                      <a:pt x="1456" y="48"/>
                    </a:lnTo>
                    <a:lnTo>
                      <a:pt x="1526" y="48"/>
                    </a:lnTo>
                    <a:lnTo>
                      <a:pt x="1597" y="57"/>
                    </a:lnTo>
                    <a:lnTo>
                      <a:pt x="1667" y="57"/>
                    </a:lnTo>
                    <a:lnTo>
                      <a:pt x="1742" y="67"/>
                    </a:lnTo>
                    <a:lnTo>
                      <a:pt x="1814" y="71"/>
                    </a:lnTo>
                    <a:lnTo>
                      <a:pt x="1884" y="80"/>
                    </a:lnTo>
                    <a:lnTo>
                      <a:pt x="1959" y="84"/>
                    </a:lnTo>
                    <a:lnTo>
                      <a:pt x="2034" y="93"/>
                    </a:lnTo>
                    <a:lnTo>
                      <a:pt x="2105" y="98"/>
                    </a:lnTo>
                    <a:lnTo>
                      <a:pt x="2180" y="111"/>
                    </a:lnTo>
                    <a:lnTo>
                      <a:pt x="2255" y="115"/>
                    </a:lnTo>
                    <a:lnTo>
                      <a:pt x="2330" y="124"/>
                    </a:lnTo>
                    <a:lnTo>
                      <a:pt x="2334" y="120"/>
                    </a:lnTo>
                    <a:lnTo>
                      <a:pt x="2259" y="111"/>
                    </a:lnTo>
                    <a:lnTo>
                      <a:pt x="2184" y="98"/>
                    </a:lnTo>
                    <a:lnTo>
                      <a:pt x="2109" y="93"/>
                    </a:lnTo>
                    <a:lnTo>
                      <a:pt x="2034" y="84"/>
                    </a:lnTo>
                    <a:lnTo>
                      <a:pt x="1959" y="80"/>
                    </a:lnTo>
                    <a:lnTo>
                      <a:pt x="1889" y="71"/>
                    </a:lnTo>
                    <a:lnTo>
                      <a:pt x="1814" y="67"/>
                    </a:lnTo>
                    <a:lnTo>
                      <a:pt x="1742" y="57"/>
                    </a:lnTo>
                    <a:lnTo>
                      <a:pt x="1667" y="52"/>
                    </a:lnTo>
                    <a:lnTo>
                      <a:pt x="1597" y="48"/>
                    </a:lnTo>
                    <a:lnTo>
                      <a:pt x="1526" y="39"/>
                    </a:lnTo>
                    <a:lnTo>
                      <a:pt x="1456" y="35"/>
                    </a:lnTo>
                    <a:lnTo>
                      <a:pt x="1385" y="35"/>
                    </a:lnTo>
                    <a:lnTo>
                      <a:pt x="1310" y="26"/>
                    </a:lnTo>
                    <a:lnTo>
                      <a:pt x="1240" y="26"/>
                    </a:lnTo>
                    <a:lnTo>
                      <a:pt x="1169" y="22"/>
                    </a:lnTo>
                    <a:lnTo>
                      <a:pt x="1099" y="17"/>
                    </a:lnTo>
                    <a:lnTo>
                      <a:pt x="1028" y="17"/>
                    </a:lnTo>
                    <a:lnTo>
                      <a:pt x="957" y="13"/>
                    </a:lnTo>
                    <a:lnTo>
                      <a:pt x="882" y="13"/>
                    </a:lnTo>
                    <a:lnTo>
                      <a:pt x="812" y="8"/>
                    </a:lnTo>
                    <a:lnTo>
                      <a:pt x="741" y="4"/>
                    </a:lnTo>
                    <a:lnTo>
                      <a:pt x="671" y="4"/>
                    </a:lnTo>
                    <a:lnTo>
                      <a:pt x="596" y="4"/>
                    </a:lnTo>
                    <a:lnTo>
                      <a:pt x="524" y="4"/>
                    </a:lnTo>
                    <a:lnTo>
                      <a:pt x="449" y="4"/>
                    </a:lnTo>
                    <a:lnTo>
                      <a:pt x="379" y="0"/>
                    </a:lnTo>
                    <a:lnTo>
                      <a:pt x="304" y="0"/>
                    </a:lnTo>
                    <a:lnTo>
                      <a:pt x="233" y="0"/>
                    </a:lnTo>
                    <a:lnTo>
                      <a:pt x="158" y="0"/>
                    </a:lnTo>
                    <a:lnTo>
                      <a:pt x="83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551640" y="466092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8" y="72"/>
                    </a:moveTo>
                    <a:lnTo>
                      <a:pt x="8" y="72"/>
                    </a:lnTo>
                    <a:lnTo>
                      <a:pt x="13" y="64"/>
                    </a:lnTo>
                    <a:lnTo>
                      <a:pt x="13" y="48"/>
                    </a:lnTo>
                    <a:lnTo>
                      <a:pt x="17" y="40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30" y="24"/>
                    </a:lnTo>
                    <a:lnTo>
                      <a:pt x="30" y="15"/>
                    </a:lnTo>
                    <a:lnTo>
                      <a:pt x="39" y="15"/>
                    </a:lnTo>
                    <a:lnTo>
                      <a:pt x="44" y="15"/>
                    </a:lnTo>
                    <a:lnTo>
                      <a:pt x="48" y="7"/>
                    </a:lnTo>
                    <a:lnTo>
                      <a:pt x="62" y="7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3" y="7"/>
                    </a:lnTo>
                    <a:lnTo>
                      <a:pt x="106" y="7"/>
                    </a:lnTo>
                    <a:lnTo>
                      <a:pt x="120" y="7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3" y="0"/>
                    </a:lnTo>
                    <a:lnTo>
                      <a:pt x="80" y="0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2" y="15"/>
                    </a:lnTo>
                    <a:lnTo>
                      <a:pt x="17" y="24"/>
                    </a:lnTo>
                    <a:lnTo>
                      <a:pt x="13" y="32"/>
                    </a:lnTo>
                    <a:lnTo>
                      <a:pt x="13" y="40"/>
                    </a:lnTo>
                    <a:lnTo>
                      <a:pt x="4" y="48"/>
                    </a:lnTo>
                    <a:lnTo>
                      <a:pt x="4" y="56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05560" y="4691160"/>
                <a:ext cx="36720" cy="370080"/>
              </a:xfrm>
              <a:custGeom>
                <a:avLst/>
                <a:gdLst/>
                <a:ahLst/>
                <a:rect l="0" t="0" r="r" b="b"/>
                <a:pathLst>
                  <a:path w="102" h="1028">
                    <a:moveTo>
                      <a:pt x="8" y="1024"/>
                    </a:moveTo>
                    <a:lnTo>
                      <a:pt x="8" y="1024"/>
                    </a:lnTo>
                    <a:lnTo>
                      <a:pt x="8" y="988"/>
                    </a:lnTo>
                    <a:lnTo>
                      <a:pt x="8" y="962"/>
                    </a:lnTo>
                    <a:lnTo>
                      <a:pt x="13" y="927"/>
                    </a:lnTo>
                    <a:lnTo>
                      <a:pt x="13" y="896"/>
                    </a:lnTo>
                    <a:lnTo>
                      <a:pt x="17" y="865"/>
                    </a:lnTo>
                    <a:lnTo>
                      <a:pt x="17" y="830"/>
                    </a:lnTo>
                    <a:lnTo>
                      <a:pt x="17" y="799"/>
                    </a:lnTo>
                    <a:lnTo>
                      <a:pt x="22" y="772"/>
                    </a:lnTo>
                    <a:lnTo>
                      <a:pt x="26" y="737"/>
                    </a:lnTo>
                    <a:lnTo>
                      <a:pt x="26" y="706"/>
                    </a:lnTo>
                    <a:lnTo>
                      <a:pt x="26" y="671"/>
                    </a:lnTo>
                    <a:lnTo>
                      <a:pt x="30" y="640"/>
                    </a:lnTo>
                    <a:lnTo>
                      <a:pt x="30" y="609"/>
                    </a:lnTo>
                    <a:lnTo>
                      <a:pt x="35" y="578"/>
                    </a:lnTo>
                    <a:lnTo>
                      <a:pt x="39" y="547"/>
                    </a:lnTo>
                    <a:lnTo>
                      <a:pt x="39" y="511"/>
                    </a:lnTo>
                    <a:lnTo>
                      <a:pt x="44" y="480"/>
                    </a:lnTo>
                    <a:lnTo>
                      <a:pt x="48" y="449"/>
                    </a:lnTo>
                    <a:lnTo>
                      <a:pt x="48" y="418"/>
                    </a:lnTo>
                    <a:lnTo>
                      <a:pt x="53" y="388"/>
                    </a:lnTo>
                    <a:lnTo>
                      <a:pt x="58" y="352"/>
                    </a:lnTo>
                    <a:lnTo>
                      <a:pt x="62" y="321"/>
                    </a:lnTo>
                    <a:lnTo>
                      <a:pt x="62" y="286"/>
                    </a:lnTo>
                    <a:lnTo>
                      <a:pt x="71" y="255"/>
                    </a:lnTo>
                    <a:lnTo>
                      <a:pt x="71" y="229"/>
                    </a:lnTo>
                    <a:lnTo>
                      <a:pt x="75" y="194"/>
                    </a:lnTo>
                    <a:lnTo>
                      <a:pt x="80" y="163"/>
                    </a:lnTo>
                    <a:lnTo>
                      <a:pt x="84" y="127"/>
                    </a:lnTo>
                    <a:lnTo>
                      <a:pt x="89" y="97"/>
                    </a:lnTo>
                    <a:lnTo>
                      <a:pt x="93" y="66"/>
                    </a:lnTo>
                    <a:lnTo>
                      <a:pt x="98" y="35"/>
                    </a:lnTo>
                    <a:lnTo>
                      <a:pt x="102" y="4"/>
                    </a:lnTo>
                    <a:lnTo>
                      <a:pt x="93" y="0"/>
                    </a:lnTo>
                    <a:lnTo>
                      <a:pt x="93" y="35"/>
                    </a:lnTo>
                    <a:lnTo>
                      <a:pt x="84" y="66"/>
                    </a:lnTo>
                    <a:lnTo>
                      <a:pt x="80" y="92"/>
                    </a:lnTo>
                    <a:lnTo>
                      <a:pt x="75" y="127"/>
                    </a:lnTo>
                    <a:lnTo>
                      <a:pt x="71" y="158"/>
                    </a:lnTo>
                    <a:lnTo>
                      <a:pt x="71" y="194"/>
                    </a:lnTo>
                    <a:lnTo>
                      <a:pt x="62" y="224"/>
                    </a:lnTo>
                    <a:lnTo>
                      <a:pt x="62" y="255"/>
                    </a:lnTo>
                    <a:lnTo>
                      <a:pt x="58" y="286"/>
                    </a:lnTo>
                    <a:lnTo>
                      <a:pt x="53" y="317"/>
                    </a:lnTo>
                    <a:lnTo>
                      <a:pt x="48" y="352"/>
                    </a:lnTo>
                    <a:lnTo>
                      <a:pt x="48" y="383"/>
                    </a:lnTo>
                    <a:lnTo>
                      <a:pt x="44" y="418"/>
                    </a:lnTo>
                    <a:lnTo>
                      <a:pt x="39" y="445"/>
                    </a:lnTo>
                    <a:lnTo>
                      <a:pt x="39" y="480"/>
                    </a:lnTo>
                    <a:lnTo>
                      <a:pt x="35" y="511"/>
                    </a:lnTo>
                    <a:lnTo>
                      <a:pt x="30" y="543"/>
                    </a:lnTo>
                    <a:lnTo>
                      <a:pt x="30" y="578"/>
                    </a:lnTo>
                    <a:lnTo>
                      <a:pt x="26" y="609"/>
                    </a:lnTo>
                    <a:lnTo>
                      <a:pt x="26" y="640"/>
                    </a:lnTo>
                    <a:lnTo>
                      <a:pt x="22" y="671"/>
                    </a:lnTo>
                    <a:lnTo>
                      <a:pt x="17" y="706"/>
                    </a:lnTo>
                    <a:lnTo>
                      <a:pt x="17" y="737"/>
                    </a:lnTo>
                    <a:lnTo>
                      <a:pt x="13" y="768"/>
                    </a:lnTo>
                    <a:lnTo>
                      <a:pt x="13" y="799"/>
                    </a:lnTo>
                    <a:lnTo>
                      <a:pt x="8" y="830"/>
                    </a:lnTo>
                    <a:lnTo>
                      <a:pt x="8" y="865"/>
                    </a:lnTo>
                    <a:lnTo>
                      <a:pt x="4" y="896"/>
                    </a:lnTo>
                    <a:lnTo>
                      <a:pt x="4" y="927"/>
                    </a:lnTo>
                    <a:lnTo>
                      <a:pt x="4" y="962"/>
                    </a:lnTo>
                    <a:lnTo>
                      <a:pt x="4" y="988"/>
                    </a:lnTo>
                    <a:lnTo>
                      <a:pt x="0" y="1019"/>
                    </a:lnTo>
                    <a:lnTo>
                      <a:pt x="0" y="1024"/>
                    </a:lnTo>
                    <a:lnTo>
                      <a:pt x="4" y="1028"/>
                    </a:lnTo>
                    <a:lnTo>
                      <a:pt x="4" y="1028"/>
                    </a:lnTo>
                    <a:lnTo>
                      <a:pt x="8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496200" y="5073480"/>
                <a:ext cx="0" cy="291960"/>
              </a:xfrm>
              <a:custGeom>
                <a:avLst/>
                <a:gdLst/>
                <a:ahLst/>
                <a:rect l="0" t="0" r="r" b="b"/>
                <a:pathLst>
                  <a:path w="0" h="811">
                    <a:moveTo>
                      <a:pt x="0" y="806"/>
                    </a:moveTo>
                    <a:lnTo>
                      <a:pt x="0" y="806"/>
                    </a:lnTo>
                    <a:lnTo>
                      <a:pt x="0" y="780"/>
                    </a:lnTo>
                    <a:lnTo>
                      <a:pt x="0" y="758"/>
                    </a:lnTo>
                    <a:lnTo>
                      <a:pt x="0" y="732"/>
                    </a:lnTo>
                    <a:lnTo>
                      <a:pt x="0" y="705"/>
                    </a:lnTo>
                    <a:lnTo>
                      <a:pt x="0" y="679"/>
                    </a:lnTo>
                    <a:lnTo>
                      <a:pt x="0" y="652"/>
                    </a:lnTo>
                    <a:lnTo>
                      <a:pt x="0" y="630"/>
                    </a:lnTo>
                    <a:lnTo>
                      <a:pt x="0" y="604"/>
                    </a:lnTo>
                    <a:lnTo>
                      <a:pt x="0" y="577"/>
                    </a:lnTo>
                    <a:lnTo>
                      <a:pt x="0" y="555"/>
                    </a:lnTo>
                    <a:lnTo>
                      <a:pt x="0" y="529"/>
                    </a:lnTo>
                    <a:lnTo>
                      <a:pt x="0" y="502"/>
                    </a:lnTo>
                    <a:lnTo>
                      <a:pt x="0" y="480"/>
                    </a:lnTo>
                    <a:lnTo>
                      <a:pt x="0" y="454"/>
                    </a:lnTo>
                    <a:lnTo>
                      <a:pt x="0" y="432"/>
                    </a:lnTo>
                    <a:lnTo>
                      <a:pt x="0" y="405"/>
                    </a:lnTo>
                    <a:lnTo>
                      <a:pt x="0" y="379"/>
                    </a:lnTo>
                    <a:lnTo>
                      <a:pt x="0" y="357"/>
                    </a:lnTo>
                    <a:lnTo>
                      <a:pt x="0" y="330"/>
                    </a:lnTo>
                    <a:lnTo>
                      <a:pt x="0" y="304"/>
                    </a:lnTo>
                    <a:lnTo>
                      <a:pt x="0" y="282"/>
                    </a:lnTo>
                    <a:lnTo>
                      <a:pt x="0" y="255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7"/>
                    </a:lnTo>
                    <a:lnTo>
                      <a:pt x="0" y="105"/>
                    </a:lnTo>
                    <a:lnTo>
                      <a:pt x="0" y="79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52"/>
                    </a:lnTo>
                    <a:lnTo>
                      <a:pt x="0" y="79"/>
                    </a:lnTo>
                    <a:lnTo>
                      <a:pt x="0" y="105"/>
                    </a:lnTo>
                    <a:lnTo>
                      <a:pt x="0" y="127"/>
                    </a:lnTo>
                    <a:lnTo>
                      <a:pt x="0" y="154"/>
                    </a:lnTo>
                    <a:lnTo>
                      <a:pt x="0" y="180"/>
                    </a:lnTo>
                    <a:lnTo>
                      <a:pt x="0" y="202"/>
                    </a:lnTo>
                    <a:lnTo>
                      <a:pt x="0" y="229"/>
                    </a:lnTo>
                    <a:lnTo>
                      <a:pt x="0" y="255"/>
                    </a:lnTo>
                    <a:lnTo>
                      <a:pt x="0" y="282"/>
                    </a:lnTo>
                    <a:lnTo>
                      <a:pt x="0" y="304"/>
                    </a:lnTo>
                    <a:lnTo>
                      <a:pt x="0" y="330"/>
                    </a:lnTo>
                    <a:lnTo>
                      <a:pt x="0" y="357"/>
                    </a:lnTo>
                    <a:lnTo>
                      <a:pt x="0" y="379"/>
                    </a:lnTo>
                    <a:lnTo>
                      <a:pt x="0" y="405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0" y="480"/>
                    </a:lnTo>
                    <a:lnTo>
                      <a:pt x="0" y="502"/>
                    </a:lnTo>
                    <a:lnTo>
                      <a:pt x="0" y="529"/>
                    </a:lnTo>
                    <a:lnTo>
                      <a:pt x="0" y="555"/>
                    </a:lnTo>
                    <a:lnTo>
                      <a:pt x="0" y="577"/>
                    </a:lnTo>
                    <a:lnTo>
                      <a:pt x="0" y="604"/>
                    </a:lnTo>
                    <a:lnTo>
                      <a:pt x="0" y="630"/>
                    </a:lnTo>
                    <a:lnTo>
                      <a:pt x="0" y="652"/>
                    </a:lnTo>
                    <a:lnTo>
                      <a:pt x="0" y="679"/>
                    </a:lnTo>
                    <a:lnTo>
                      <a:pt x="0" y="705"/>
                    </a:lnTo>
                    <a:lnTo>
                      <a:pt x="0" y="732"/>
                    </a:lnTo>
                    <a:lnTo>
                      <a:pt x="0" y="758"/>
                    </a:lnTo>
                    <a:lnTo>
                      <a:pt x="0" y="780"/>
                    </a:lnTo>
                    <a:lnTo>
                      <a:pt x="0" y="806"/>
                    </a:lnTo>
                    <a:lnTo>
                      <a:pt x="0" y="811"/>
                    </a:lnTo>
                    <a:lnTo>
                      <a:pt x="0" y="811"/>
                    </a:lnTo>
                    <a:lnTo>
                      <a:pt x="0" y="811"/>
                    </a:lnTo>
                    <a:lnTo>
                      <a:pt x="0" y="8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496200" y="5378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58"/>
                    </a:moveTo>
                    <a:lnTo>
                      <a:pt x="72" y="58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36" y="50"/>
                    </a:lnTo>
                    <a:lnTo>
                      <a:pt x="36" y="43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72" y="72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568920" y="4757760"/>
                <a:ext cx="797400" cy="628920"/>
              </a:xfrm>
              <a:custGeom>
                <a:avLst/>
                <a:gdLst/>
                <a:ahLst/>
                <a:rect l="0" t="0" r="r" b="b"/>
                <a:pathLst>
                  <a:path w="2215" h="1747">
                    <a:moveTo>
                      <a:pt x="136" y="57"/>
                    </a:moveTo>
                    <a:lnTo>
                      <a:pt x="127" y="101"/>
                    </a:lnTo>
                    <a:lnTo>
                      <a:pt x="123" y="141"/>
                    </a:lnTo>
                    <a:lnTo>
                      <a:pt x="123" y="185"/>
                    </a:lnTo>
                    <a:lnTo>
                      <a:pt x="114" y="229"/>
                    </a:lnTo>
                    <a:lnTo>
                      <a:pt x="110" y="268"/>
                    </a:lnTo>
                    <a:lnTo>
                      <a:pt x="105" y="317"/>
                    </a:lnTo>
                    <a:lnTo>
                      <a:pt x="97" y="361"/>
                    </a:lnTo>
                    <a:lnTo>
                      <a:pt x="92" y="401"/>
                    </a:lnTo>
                    <a:lnTo>
                      <a:pt x="88" y="449"/>
                    </a:lnTo>
                    <a:lnTo>
                      <a:pt x="83" y="493"/>
                    </a:lnTo>
                    <a:lnTo>
                      <a:pt x="79" y="533"/>
                    </a:lnTo>
                    <a:lnTo>
                      <a:pt x="70" y="582"/>
                    </a:lnTo>
                    <a:lnTo>
                      <a:pt x="66" y="621"/>
                    </a:lnTo>
                    <a:lnTo>
                      <a:pt x="61" y="670"/>
                    </a:lnTo>
                    <a:lnTo>
                      <a:pt x="57" y="714"/>
                    </a:lnTo>
                    <a:lnTo>
                      <a:pt x="52" y="758"/>
                    </a:lnTo>
                    <a:lnTo>
                      <a:pt x="48" y="806"/>
                    </a:lnTo>
                    <a:lnTo>
                      <a:pt x="44" y="846"/>
                    </a:lnTo>
                    <a:lnTo>
                      <a:pt x="39" y="896"/>
                    </a:lnTo>
                    <a:lnTo>
                      <a:pt x="35" y="940"/>
                    </a:lnTo>
                    <a:lnTo>
                      <a:pt x="30" y="984"/>
                    </a:lnTo>
                    <a:lnTo>
                      <a:pt x="26" y="1032"/>
                    </a:lnTo>
                    <a:lnTo>
                      <a:pt x="22" y="1076"/>
                    </a:lnTo>
                    <a:lnTo>
                      <a:pt x="17" y="1125"/>
                    </a:lnTo>
                    <a:lnTo>
                      <a:pt x="17" y="1169"/>
                    </a:lnTo>
                    <a:lnTo>
                      <a:pt x="13" y="1218"/>
                    </a:lnTo>
                    <a:lnTo>
                      <a:pt x="13" y="1257"/>
                    </a:lnTo>
                    <a:lnTo>
                      <a:pt x="8" y="1306"/>
                    </a:lnTo>
                    <a:lnTo>
                      <a:pt x="4" y="1350"/>
                    </a:lnTo>
                    <a:lnTo>
                      <a:pt x="4" y="1398"/>
                    </a:lnTo>
                    <a:lnTo>
                      <a:pt x="0" y="1447"/>
                    </a:lnTo>
                    <a:lnTo>
                      <a:pt x="0" y="1491"/>
                    </a:lnTo>
                    <a:lnTo>
                      <a:pt x="0" y="1504"/>
                    </a:lnTo>
                    <a:lnTo>
                      <a:pt x="0" y="1513"/>
                    </a:lnTo>
                    <a:lnTo>
                      <a:pt x="4" y="1526"/>
                    </a:lnTo>
                    <a:lnTo>
                      <a:pt x="4" y="1535"/>
                    </a:lnTo>
                    <a:lnTo>
                      <a:pt x="8" y="1544"/>
                    </a:lnTo>
                    <a:lnTo>
                      <a:pt x="8" y="1553"/>
                    </a:lnTo>
                    <a:lnTo>
                      <a:pt x="13" y="1562"/>
                    </a:lnTo>
                    <a:lnTo>
                      <a:pt x="17" y="1570"/>
                    </a:lnTo>
                    <a:lnTo>
                      <a:pt x="17" y="1570"/>
                    </a:lnTo>
                    <a:lnTo>
                      <a:pt x="22" y="1579"/>
                    </a:lnTo>
                    <a:lnTo>
                      <a:pt x="26" y="1584"/>
                    </a:lnTo>
                    <a:lnTo>
                      <a:pt x="35" y="1588"/>
                    </a:lnTo>
                    <a:lnTo>
                      <a:pt x="44" y="1592"/>
                    </a:lnTo>
                    <a:lnTo>
                      <a:pt x="52" y="1597"/>
                    </a:lnTo>
                    <a:lnTo>
                      <a:pt x="57" y="1597"/>
                    </a:lnTo>
                    <a:lnTo>
                      <a:pt x="66" y="1601"/>
                    </a:lnTo>
                    <a:lnTo>
                      <a:pt x="1968" y="1747"/>
                    </a:lnTo>
                    <a:lnTo>
                      <a:pt x="1986" y="1747"/>
                    </a:lnTo>
                    <a:lnTo>
                      <a:pt x="1995" y="1747"/>
                    </a:lnTo>
                    <a:lnTo>
                      <a:pt x="2008" y="1742"/>
                    </a:lnTo>
                    <a:lnTo>
                      <a:pt x="2021" y="1738"/>
                    </a:lnTo>
                    <a:lnTo>
                      <a:pt x="2030" y="1734"/>
                    </a:lnTo>
                    <a:lnTo>
                      <a:pt x="2039" y="1729"/>
                    </a:lnTo>
                    <a:lnTo>
                      <a:pt x="2048" y="1720"/>
                    </a:lnTo>
                    <a:lnTo>
                      <a:pt x="2056" y="1711"/>
                    </a:lnTo>
                    <a:lnTo>
                      <a:pt x="2061" y="1703"/>
                    </a:lnTo>
                    <a:lnTo>
                      <a:pt x="2070" y="1694"/>
                    </a:lnTo>
                    <a:lnTo>
                      <a:pt x="2074" y="1685"/>
                    </a:lnTo>
                    <a:lnTo>
                      <a:pt x="2078" y="1672"/>
                    </a:lnTo>
                    <a:lnTo>
                      <a:pt x="2083" y="1663"/>
                    </a:lnTo>
                    <a:lnTo>
                      <a:pt x="2087" y="1650"/>
                    </a:lnTo>
                    <a:lnTo>
                      <a:pt x="2092" y="1637"/>
                    </a:lnTo>
                    <a:lnTo>
                      <a:pt x="2092" y="1628"/>
                    </a:lnTo>
                    <a:lnTo>
                      <a:pt x="2215" y="242"/>
                    </a:lnTo>
                    <a:lnTo>
                      <a:pt x="2215" y="233"/>
                    </a:lnTo>
                    <a:lnTo>
                      <a:pt x="2215" y="216"/>
                    </a:lnTo>
                    <a:lnTo>
                      <a:pt x="2215" y="207"/>
                    </a:lnTo>
                    <a:lnTo>
                      <a:pt x="2215" y="194"/>
                    </a:lnTo>
                    <a:lnTo>
                      <a:pt x="2215" y="185"/>
                    </a:lnTo>
                    <a:lnTo>
                      <a:pt x="2215" y="176"/>
                    </a:lnTo>
                    <a:lnTo>
                      <a:pt x="2211" y="163"/>
                    </a:lnTo>
                    <a:lnTo>
                      <a:pt x="2211" y="154"/>
                    </a:lnTo>
                    <a:lnTo>
                      <a:pt x="2206" y="145"/>
                    </a:lnTo>
                    <a:lnTo>
                      <a:pt x="2202" y="141"/>
                    </a:lnTo>
                    <a:lnTo>
                      <a:pt x="2198" y="132"/>
                    </a:lnTo>
                    <a:lnTo>
                      <a:pt x="2193" y="123"/>
                    </a:lnTo>
                    <a:lnTo>
                      <a:pt x="2189" y="119"/>
                    </a:lnTo>
                    <a:lnTo>
                      <a:pt x="2180" y="114"/>
                    </a:lnTo>
                    <a:lnTo>
                      <a:pt x="2167" y="110"/>
                    </a:lnTo>
                    <a:lnTo>
                      <a:pt x="2162" y="110"/>
                    </a:lnTo>
                    <a:lnTo>
                      <a:pt x="2105" y="101"/>
                    </a:lnTo>
                    <a:lnTo>
                      <a:pt x="2048" y="92"/>
                    </a:lnTo>
                    <a:lnTo>
                      <a:pt x="1990" y="83"/>
                    </a:lnTo>
                    <a:lnTo>
                      <a:pt x="1933" y="79"/>
                    </a:lnTo>
                    <a:lnTo>
                      <a:pt x="1876" y="70"/>
                    </a:lnTo>
                    <a:lnTo>
                      <a:pt x="1814" y="66"/>
                    </a:lnTo>
                    <a:lnTo>
                      <a:pt x="1761" y="57"/>
                    </a:lnTo>
                    <a:lnTo>
                      <a:pt x="1704" y="48"/>
                    </a:lnTo>
                    <a:lnTo>
                      <a:pt x="1641" y="48"/>
                    </a:lnTo>
                    <a:lnTo>
                      <a:pt x="1584" y="44"/>
                    </a:lnTo>
                    <a:lnTo>
                      <a:pt x="1526" y="35"/>
                    </a:lnTo>
                    <a:lnTo>
                      <a:pt x="1460" y="30"/>
                    </a:lnTo>
                    <a:lnTo>
                      <a:pt x="1403" y="26"/>
                    </a:lnTo>
                    <a:lnTo>
                      <a:pt x="1345" y="22"/>
                    </a:lnTo>
                    <a:lnTo>
                      <a:pt x="1284" y="17"/>
                    </a:lnTo>
                    <a:lnTo>
                      <a:pt x="1222" y="17"/>
                    </a:lnTo>
                    <a:lnTo>
                      <a:pt x="1165" y="17"/>
                    </a:lnTo>
                    <a:lnTo>
                      <a:pt x="1107" y="13"/>
                    </a:lnTo>
                    <a:lnTo>
                      <a:pt x="1041" y="8"/>
                    </a:lnTo>
                    <a:lnTo>
                      <a:pt x="984" y="8"/>
                    </a:lnTo>
                    <a:lnTo>
                      <a:pt x="922" y="4"/>
                    </a:lnTo>
                    <a:lnTo>
                      <a:pt x="860" y="4"/>
                    </a:lnTo>
                    <a:lnTo>
                      <a:pt x="799" y="4"/>
                    </a:lnTo>
                    <a:lnTo>
                      <a:pt x="741" y="0"/>
                    </a:lnTo>
                    <a:lnTo>
                      <a:pt x="680" y="0"/>
                    </a:lnTo>
                    <a:lnTo>
                      <a:pt x="618" y="0"/>
                    </a:lnTo>
                    <a:lnTo>
                      <a:pt x="561" y="0"/>
                    </a:lnTo>
                    <a:lnTo>
                      <a:pt x="498" y="0"/>
                    </a:lnTo>
                    <a:lnTo>
                      <a:pt x="440" y="0"/>
                    </a:lnTo>
                    <a:lnTo>
                      <a:pt x="374" y="0"/>
                    </a:lnTo>
                    <a:lnTo>
                      <a:pt x="317" y="4"/>
                    </a:lnTo>
                    <a:lnTo>
                      <a:pt x="260" y="4"/>
                    </a:lnTo>
                    <a:lnTo>
                      <a:pt x="246" y="4"/>
                    </a:lnTo>
                    <a:lnTo>
                      <a:pt x="233" y="4"/>
                    </a:lnTo>
                    <a:lnTo>
                      <a:pt x="224" y="4"/>
                    </a:lnTo>
                    <a:lnTo>
                      <a:pt x="211" y="4"/>
                    </a:lnTo>
                    <a:lnTo>
                      <a:pt x="198" y="8"/>
                    </a:lnTo>
                    <a:lnTo>
                      <a:pt x="194" y="8"/>
                    </a:lnTo>
                    <a:lnTo>
                      <a:pt x="185" y="13"/>
                    </a:lnTo>
                    <a:lnTo>
                      <a:pt x="171" y="17"/>
                    </a:lnTo>
                    <a:lnTo>
                      <a:pt x="167" y="17"/>
                    </a:lnTo>
                    <a:lnTo>
                      <a:pt x="158" y="22"/>
                    </a:lnTo>
                    <a:lnTo>
                      <a:pt x="154" y="26"/>
                    </a:lnTo>
                    <a:lnTo>
                      <a:pt x="149" y="30"/>
                    </a:lnTo>
                    <a:lnTo>
                      <a:pt x="145" y="35"/>
                    </a:lnTo>
                    <a:lnTo>
                      <a:pt x="141" y="44"/>
                    </a:lnTo>
                    <a:lnTo>
                      <a:pt x="136" y="48"/>
                    </a:lnTo>
                    <a:lnTo>
                      <a:pt x="136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68920" y="4775040"/>
                <a:ext cx="36720" cy="519480"/>
              </a:xfrm>
              <a:custGeom>
                <a:avLst/>
                <a:gdLst/>
                <a:ahLst/>
                <a:rect l="0" t="0" r="r" b="b"/>
                <a:pathLst>
                  <a:path w="102" h="1443">
                    <a:moveTo>
                      <a:pt x="4" y="1435"/>
                    </a:moveTo>
                    <a:lnTo>
                      <a:pt x="4" y="1435"/>
                    </a:lnTo>
                    <a:lnTo>
                      <a:pt x="8" y="1391"/>
                    </a:lnTo>
                    <a:lnTo>
                      <a:pt x="8" y="1342"/>
                    </a:lnTo>
                    <a:lnTo>
                      <a:pt x="8" y="1298"/>
                    </a:lnTo>
                    <a:lnTo>
                      <a:pt x="8" y="1249"/>
                    </a:lnTo>
                    <a:lnTo>
                      <a:pt x="13" y="1205"/>
                    </a:lnTo>
                    <a:lnTo>
                      <a:pt x="17" y="1161"/>
                    </a:lnTo>
                    <a:lnTo>
                      <a:pt x="17" y="1113"/>
                    </a:lnTo>
                    <a:lnTo>
                      <a:pt x="17" y="1068"/>
                    </a:lnTo>
                    <a:lnTo>
                      <a:pt x="22" y="1019"/>
                    </a:lnTo>
                    <a:lnTo>
                      <a:pt x="26" y="975"/>
                    </a:lnTo>
                    <a:lnTo>
                      <a:pt x="26" y="931"/>
                    </a:lnTo>
                    <a:lnTo>
                      <a:pt x="30" y="887"/>
                    </a:lnTo>
                    <a:lnTo>
                      <a:pt x="30" y="838"/>
                    </a:lnTo>
                    <a:lnTo>
                      <a:pt x="35" y="794"/>
                    </a:lnTo>
                    <a:lnTo>
                      <a:pt x="39" y="750"/>
                    </a:lnTo>
                    <a:lnTo>
                      <a:pt x="44" y="706"/>
                    </a:lnTo>
                    <a:lnTo>
                      <a:pt x="48" y="662"/>
                    </a:lnTo>
                    <a:lnTo>
                      <a:pt x="48" y="613"/>
                    </a:lnTo>
                    <a:lnTo>
                      <a:pt x="53" y="569"/>
                    </a:lnTo>
                    <a:lnTo>
                      <a:pt x="58" y="525"/>
                    </a:lnTo>
                    <a:lnTo>
                      <a:pt x="62" y="481"/>
                    </a:lnTo>
                    <a:lnTo>
                      <a:pt x="62" y="437"/>
                    </a:lnTo>
                    <a:lnTo>
                      <a:pt x="71" y="393"/>
                    </a:lnTo>
                    <a:lnTo>
                      <a:pt x="71" y="348"/>
                    </a:lnTo>
                    <a:lnTo>
                      <a:pt x="75" y="304"/>
                    </a:lnTo>
                    <a:lnTo>
                      <a:pt x="80" y="264"/>
                    </a:lnTo>
                    <a:lnTo>
                      <a:pt x="84" y="216"/>
                    </a:lnTo>
                    <a:lnTo>
                      <a:pt x="89" y="171"/>
                    </a:lnTo>
                    <a:lnTo>
                      <a:pt x="93" y="132"/>
                    </a:lnTo>
                    <a:lnTo>
                      <a:pt x="93" y="88"/>
                    </a:lnTo>
                    <a:lnTo>
                      <a:pt x="98" y="48"/>
                    </a:lnTo>
                    <a:lnTo>
                      <a:pt x="102" y="4"/>
                    </a:lnTo>
                    <a:lnTo>
                      <a:pt x="93" y="0"/>
                    </a:lnTo>
                    <a:lnTo>
                      <a:pt x="93" y="44"/>
                    </a:lnTo>
                    <a:lnTo>
                      <a:pt x="89" y="88"/>
                    </a:lnTo>
                    <a:lnTo>
                      <a:pt x="84" y="132"/>
                    </a:lnTo>
                    <a:lnTo>
                      <a:pt x="80" y="171"/>
                    </a:lnTo>
                    <a:lnTo>
                      <a:pt x="75" y="216"/>
                    </a:lnTo>
                    <a:lnTo>
                      <a:pt x="71" y="260"/>
                    </a:lnTo>
                    <a:lnTo>
                      <a:pt x="71" y="304"/>
                    </a:lnTo>
                    <a:lnTo>
                      <a:pt x="67" y="348"/>
                    </a:lnTo>
                    <a:lnTo>
                      <a:pt x="62" y="393"/>
                    </a:lnTo>
                    <a:lnTo>
                      <a:pt x="58" y="437"/>
                    </a:lnTo>
                    <a:lnTo>
                      <a:pt x="53" y="481"/>
                    </a:lnTo>
                    <a:lnTo>
                      <a:pt x="48" y="525"/>
                    </a:lnTo>
                    <a:lnTo>
                      <a:pt x="48" y="569"/>
                    </a:lnTo>
                    <a:lnTo>
                      <a:pt x="44" y="613"/>
                    </a:lnTo>
                    <a:lnTo>
                      <a:pt x="39" y="658"/>
                    </a:lnTo>
                    <a:lnTo>
                      <a:pt x="35" y="706"/>
                    </a:lnTo>
                    <a:lnTo>
                      <a:pt x="30" y="750"/>
                    </a:lnTo>
                    <a:lnTo>
                      <a:pt x="30" y="794"/>
                    </a:lnTo>
                    <a:lnTo>
                      <a:pt x="26" y="838"/>
                    </a:lnTo>
                    <a:lnTo>
                      <a:pt x="26" y="887"/>
                    </a:lnTo>
                    <a:lnTo>
                      <a:pt x="22" y="927"/>
                    </a:lnTo>
                    <a:lnTo>
                      <a:pt x="17" y="975"/>
                    </a:lnTo>
                    <a:lnTo>
                      <a:pt x="13" y="1019"/>
                    </a:lnTo>
                    <a:lnTo>
                      <a:pt x="8" y="1068"/>
                    </a:lnTo>
                    <a:lnTo>
                      <a:pt x="8" y="1113"/>
                    </a:lnTo>
                    <a:lnTo>
                      <a:pt x="8" y="1157"/>
                    </a:lnTo>
                    <a:lnTo>
                      <a:pt x="4" y="1205"/>
                    </a:lnTo>
                    <a:lnTo>
                      <a:pt x="4" y="1249"/>
                    </a:lnTo>
                    <a:lnTo>
                      <a:pt x="4" y="1298"/>
                    </a:lnTo>
                    <a:lnTo>
                      <a:pt x="0" y="1342"/>
                    </a:lnTo>
                    <a:lnTo>
                      <a:pt x="0" y="1391"/>
                    </a:lnTo>
                    <a:lnTo>
                      <a:pt x="0" y="1435"/>
                    </a:lnTo>
                    <a:lnTo>
                      <a:pt x="0" y="1439"/>
                    </a:lnTo>
                    <a:lnTo>
                      <a:pt x="4" y="1443"/>
                    </a:lnTo>
                    <a:lnTo>
                      <a:pt x="4" y="1439"/>
                    </a:lnTo>
                    <a:lnTo>
                      <a:pt x="4" y="1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568920" y="530856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72" y="72"/>
                    </a:moveTo>
                    <a:lnTo>
                      <a:pt x="72" y="72"/>
                    </a:lnTo>
                    <a:lnTo>
                      <a:pt x="58" y="68"/>
                    </a:lnTo>
                    <a:lnTo>
                      <a:pt x="50" y="68"/>
                    </a:lnTo>
                    <a:lnTo>
                      <a:pt x="43" y="68"/>
                    </a:lnTo>
                    <a:lnTo>
                      <a:pt x="43" y="63"/>
                    </a:lnTo>
                    <a:lnTo>
                      <a:pt x="36" y="59"/>
                    </a:lnTo>
                    <a:lnTo>
                      <a:pt x="29" y="59"/>
                    </a:lnTo>
                    <a:lnTo>
                      <a:pt x="29" y="53"/>
                    </a:lnTo>
                    <a:lnTo>
                      <a:pt x="22" y="49"/>
                    </a:lnTo>
                    <a:lnTo>
                      <a:pt x="22" y="45"/>
                    </a:lnTo>
                    <a:lnTo>
                      <a:pt x="14" y="40"/>
                    </a:lnTo>
                    <a:lnTo>
                      <a:pt x="14" y="36"/>
                    </a:lnTo>
                    <a:lnTo>
                      <a:pt x="14" y="27"/>
                    </a:lnTo>
                    <a:lnTo>
                      <a:pt x="14" y="23"/>
                    </a:lnTo>
                    <a:lnTo>
                      <a:pt x="14" y="17"/>
                    </a:lnTo>
                    <a:lnTo>
                      <a:pt x="14" y="8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7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14" y="49"/>
                    </a:lnTo>
                    <a:lnTo>
                      <a:pt x="14" y="53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9" y="68"/>
                    </a:lnTo>
                    <a:lnTo>
                      <a:pt x="36" y="68"/>
                    </a:lnTo>
                    <a:lnTo>
                      <a:pt x="43" y="72"/>
                    </a:lnTo>
                    <a:lnTo>
                      <a:pt x="50" y="72"/>
                    </a:lnTo>
                    <a:lnTo>
                      <a:pt x="58" y="76"/>
                    </a:lnTo>
                    <a:lnTo>
                      <a:pt x="65" y="76"/>
                    </a:lnTo>
                    <a:lnTo>
                      <a:pt x="72" y="76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593040" y="5346720"/>
                <a:ext cx="684720" cy="41760"/>
              </a:xfrm>
              <a:custGeom>
                <a:avLst/>
                <a:gdLst/>
                <a:ahLst/>
                <a:rect l="0" t="0" r="r" b="b"/>
                <a:pathLst>
                  <a:path w="1902" h="116">
                    <a:moveTo>
                      <a:pt x="1898" y="112"/>
                    </a:moveTo>
                    <a:lnTo>
                      <a:pt x="1898" y="11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93" y="116"/>
                    </a:lnTo>
                    <a:lnTo>
                      <a:pt x="1898" y="116"/>
                    </a:lnTo>
                    <a:lnTo>
                      <a:pt x="1902" y="112"/>
                    </a:lnTo>
                    <a:lnTo>
                      <a:pt x="1902" y="112"/>
                    </a:lnTo>
                    <a:lnTo>
                      <a:pt x="1898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289640" y="5357880"/>
                <a:ext cx="33840" cy="33840"/>
              </a:xfrm>
              <a:custGeom>
                <a:avLst/>
                <a:gdLst/>
                <a:ahLst/>
                <a:rect l="0" t="0" r="r" b="b"/>
                <a:pathLst>
                  <a:path w="94" h="94">
                    <a:moveTo>
                      <a:pt x="85" y="4"/>
                    </a:moveTo>
                    <a:lnTo>
                      <a:pt x="85" y="4"/>
                    </a:lnTo>
                    <a:lnTo>
                      <a:pt x="85" y="8"/>
                    </a:lnTo>
                    <a:lnTo>
                      <a:pt x="81" y="17"/>
                    </a:lnTo>
                    <a:lnTo>
                      <a:pt x="81" y="27"/>
                    </a:lnTo>
                    <a:lnTo>
                      <a:pt x="76" y="31"/>
                    </a:lnTo>
                    <a:lnTo>
                      <a:pt x="76" y="40"/>
                    </a:lnTo>
                    <a:lnTo>
                      <a:pt x="72" y="49"/>
                    </a:lnTo>
                    <a:lnTo>
                      <a:pt x="67" y="53"/>
                    </a:lnTo>
                    <a:lnTo>
                      <a:pt x="58" y="62"/>
                    </a:lnTo>
                    <a:lnTo>
                      <a:pt x="53" y="67"/>
                    </a:lnTo>
                    <a:lnTo>
                      <a:pt x="49" y="72"/>
                    </a:lnTo>
                    <a:lnTo>
                      <a:pt x="45" y="76"/>
                    </a:lnTo>
                    <a:lnTo>
                      <a:pt x="36" y="81"/>
                    </a:lnTo>
                    <a:lnTo>
                      <a:pt x="27" y="85"/>
                    </a:lnTo>
                    <a:lnTo>
                      <a:pt x="17" y="85"/>
                    </a:lnTo>
                    <a:lnTo>
                      <a:pt x="13" y="85"/>
                    </a:lnTo>
                    <a:lnTo>
                      <a:pt x="4" y="85"/>
                    </a:lnTo>
                    <a:lnTo>
                      <a:pt x="0" y="90"/>
                    </a:lnTo>
                    <a:lnTo>
                      <a:pt x="13" y="94"/>
                    </a:lnTo>
                    <a:lnTo>
                      <a:pt x="22" y="90"/>
                    </a:lnTo>
                    <a:lnTo>
                      <a:pt x="31" y="90"/>
                    </a:lnTo>
                    <a:lnTo>
                      <a:pt x="40" y="85"/>
                    </a:lnTo>
                    <a:lnTo>
                      <a:pt x="49" y="85"/>
                    </a:lnTo>
                    <a:lnTo>
                      <a:pt x="53" y="76"/>
                    </a:lnTo>
                    <a:lnTo>
                      <a:pt x="58" y="72"/>
                    </a:lnTo>
                    <a:lnTo>
                      <a:pt x="67" y="67"/>
                    </a:lnTo>
                    <a:lnTo>
                      <a:pt x="72" y="62"/>
                    </a:lnTo>
                    <a:lnTo>
                      <a:pt x="76" y="53"/>
                    </a:lnTo>
                    <a:lnTo>
                      <a:pt x="81" y="45"/>
                    </a:lnTo>
                    <a:lnTo>
                      <a:pt x="85" y="36"/>
                    </a:lnTo>
                    <a:lnTo>
                      <a:pt x="90" y="27"/>
                    </a:lnTo>
                    <a:lnTo>
                      <a:pt x="90" y="17"/>
                    </a:lnTo>
                    <a:lnTo>
                      <a:pt x="90" y="8"/>
                    </a:lnTo>
                    <a:lnTo>
                      <a:pt x="94" y="4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329600" y="4844880"/>
                <a:ext cx="36720" cy="497160"/>
              </a:xfrm>
              <a:custGeom>
                <a:avLst/>
                <a:gdLst/>
                <a:ahLst/>
                <a:rect l="0" t="0" r="r" b="b"/>
                <a:pathLst>
                  <a:path w="102" h="1381">
                    <a:moveTo>
                      <a:pt x="93" y="4"/>
                    </a:moveTo>
                    <a:lnTo>
                      <a:pt x="93" y="4"/>
                    </a:lnTo>
                    <a:lnTo>
                      <a:pt x="0" y="1381"/>
                    </a:lnTo>
                    <a:lnTo>
                      <a:pt x="8" y="1381"/>
                    </a:lnTo>
                    <a:lnTo>
                      <a:pt x="102" y="4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356600" y="479736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0" y="8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21" y="8"/>
                    </a:lnTo>
                    <a:lnTo>
                      <a:pt x="31" y="13"/>
                    </a:lnTo>
                    <a:lnTo>
                      <a:pt x="31" y="17"/>
                    </a:lnTo>
                    <a:lnTo>
                      <a:pt x="41" y="22"/>
                    </a:lnTo>
                    <a:lnTo>
                      <a:pt x="51" y="26"/>
                    </a:lnTo>
                    <a:lnTo>
                      <a:pt x="51" y="30"/>
                    </a:lnTo>
                    <a:lnTo>
                      <a:pt x="51" y="35"/>
                    </a:lnTo>
                    <a:lnTo>
                      <a:pt x="51" y="39"/>
                    </a:lnTo>
                    <a:lnTo>
                      <a:pt x="62" y="48"/>
                    </a:lnTo>
                    <a:lnTo>
                      <a:pt x="62" y="58"/>
                    </a:lnTo>
                    <a:lnTo>
                      <a:pt x="62" y="62"/>
                    </a:lnTo>
                    <a:lnTo>
                      <a:pt x="62" y="71"/>
                    </a:lnTo>
                    <a:lnTo>
                      <a:pt x="62" y="80"/>
                    </a:lnTo>
                    <a:lnTo>
                      <a:pt x="51" y="89"/>
                    </a:lnTo>
                    <a:lnTo>
                      <a:pt x="51" y="98"/>
                    </a:lnTo>
                    <a:lnTo>
                      <a:pt x="72" y="98"/>
                    </a:lnTo>
                    <a:lnTo>
                      <a:pt x="72" y="89"/>
                    </a:lnTo>
                    <a:lnTo>
                      <a:pt x="72" y="80"/>
                    </a:lnTo>
                    <a:lnTo>
                      <a:pt x="72" y="71"/>
                    </a:lnTo>
                    <a:lnTo>
                      <a:pt x="72" y="62"/>
                    </a:lnTo>
                    <a:lnTo>
                      <a:pt x="72" y="53"/>
                    </a:lnTo>
                    <a:lnTo>
                      <a:pt x="72" y="48"/>
                    </a:lnTo>
                    <a:lnTo>
                      <a:pt x="72" y="39"/>
                    </a:lnTo>
                    <a:lnTo>
                      <a:pt x="62" y="35"/>
                    </a:lnTo>
                    <a:lnTo>
                      <a:pt x="62" y="26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41" y="8"/>
                    </a:lnTo>
                    <a:lnTo>
                      <a:pt x="3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62880" y="4757760"/>
                <a:ext cx="679680" cy="30600"/>
              </a:xfrm>
              <a:custGeom>
                <a:avLst/>
                <a:gdLst/>
                <a:ahLst/>
                <a:rect l="0" t="0" r="r" b="b"/>
                <a:pathLst>
                  <a:path w="1888" h="85">
                    <a:moveTo>
                      <a:pt x="8" y="8"/>
                    </a:moveTo>
                    <a:lnTo>
                      <a:pt x="8" y="8"/>
                    </a:lnTo>
                    <a:lnTo>
                      <a:pt x="66" y="8"/>
                    </a:lnTo>
                    <a:lnTo>
                      <a:pt x="123" y="8"/>
                    </a:lnTo>
                    <a:lnTo>
                      <a:pt x="185" y="4"/>
                    </a:lnTo>
                    <a:lnTo>
                      <a:pt x="242" y="4"/>
                    </a:lnTo>
                    <a:lnTo>
                      <a:pt x="304" y="4"/>
                    </a:lnTo>
                    <a:lnTo>
                      <a:pt x="366" y="4"/>
                    </a:lnTo>
                    <a:lnTo>
                      <a:pt x="423" y="4"/>
                    </a:lnTo>
                    <a:lnTo>
                      <a:pt x="485" y="8"/>
                    </a:lnTo>
                    <a:lnTo>
                      <a:pt x="542" y="8"/>
                    </a:lnTo>
                    <a:lnTo>
                      <a:pt x="604" y="8"/>
                    </a:lnTo>
                    <a:lnTo>
                      <a:pt x="661" y="8"/>
                    </a:lnTo>
                    <a:lnTo>
                      <a:pt x="723" y="8"/>
                    </a:lnTo>
                    <a:lnTo>
                      <a:pt x="784" y="13"/>
                    </a:lnTo>
                    <a:lnTo>
                      <a:pt x="846" y="13"/>
                    </a:lnTo>
                    <a:lnTo>
                      <a:pt x="903" y="17"/>
                    </a:lnTo>
                    <a:lnTo>
                      <a:pt x="962" y="17"/>
                    </a:lnTo>
                    <a:lnTo>
                      <a:pt x="1019" y="17"/>
                    </a:lnTo>
                    <a:lnTo>
                      <a:pt x="1081" y="23"/>
                    </a:lnTo>
                    <a:lnTo>
                      <a:pt x="1138" y="27"/>
                    </a:lnTo>
                    <a:lnTo>
                      <a:pt x="1200" y="31"/>
                    </a:lnTo>
                    <a:lnTo>
                      <a:pt x="1257" y="31"/>
                    </a:lnTo>
                    <a:lnTo>
                      <a:pt x="1319" y="36"/>
                    </a:lnTo>
                    <a:lnTo>
                      <a:pt x="1376" y="40"/>
                    </a:lnTo>
                    <a:lnTo>
                      <a:pt x="1434" y="45"/>
                    </a:lnTo>
                    <a:lnTo>
                      <a:pt x="1491" y="45"/>
                    </a:lnTo>
                    <a:lnTo>
                      <a:pt x="1548" y="53"/>
                    </a:lnTo>
                    <a:lnTo>
                      <a:pt x="1606" y="58"/>
                    </a:lnTo>
                    <a:lnTo>
                      <a:pt x="1663" y="58"/>
                    </a:lnTo>
                    <a:lnTo>
                      <a:pt x="1716" y="68"/>
                    </a:lnTo>
                    <a:lnTo>
                      <a:pt x="1778" y="72"/>
                    </a:lnTo>
                    <a:lnTo>
                      <a:pt x="1831" y="76"/>
                    </a:lnTo>
                    <a:lnTo>
                      <a:pt x="1888" y="85"/>
                    </a:lnTo>
                    <a:lnTo>
                      <a:pt x="1888" y="76"/>
                    </a:lnTo>
                    <a:lnTo>
                      <a:pt x="1835" y="72"/>
                    </a:lnTo>
                    <a:lnTo>
                      <a:pt x="1778" y="68"/>
                    </a:lnTo>
                    <a:lnTo>
                      <a:pt x="1720" y="58"/>
                    </a:lnTo>
                    <a:lnTo>
                      <a:pt x="1663" y="53"/>
                    </a:lnTo>
                    <a:lnTo>
                      <a:pt x="1606" y="49"/>
                    </a:lnTo>
                    <a:lnTo>
                      <a:pt x="1553" y="45"/>
                    </a:lnTo>
                    <a:lnTo>
                      <a:pt x="1491" y="40"/>
                    </a:lnTo>
                    <a:lnTo>
                      <a:pt x="1434" y="36"/>
                    </a:lnTo>
                    <a:lnTo>
                      <a:pt x="1376" y="31"/>
                    </a:lnTo>
                    <a:lnTo>
                      <a:pt x="1319" y="27"/>
                    </a:lnTo>
                    <a:lnTo>
                      <a:pt x="1262" y="27"/>
                    </a:lnTo>
                    <a:lnTo>
                      <a:pt x="1200" y="23"/>
                    </a:lnTo>
                    <a:lnTo>
                      <a:pt x="1138" y="17"/>
                    </a:lnTo>
                    <a:lnTo>
                      <a:pt x="1081" y="17"/>
                    </a:lnTo>
                    <a:lnTo>
                      <a:pt x="1024" y="13"/>
                    </a:lnTo>
                    <a:lnTo>
                      <a:pt x="962" y="8"/>
                    </a:lnTo>
                    <a:lnTo>
                      <a:pt x="903" y="8"/>
                    </a:lnTo>
                    <a:lnTo>
                      <a:pt x="846" y="4"/>
                    </a:lnTo>
                    <a:lnTo>
                      <a:pt x="784" y="4"/>
                    </a:lnTo>
                    <a:lnTo>
                      <a:pt x="723" y="4"/>
                    </a:lnTo>
                    <a:lnTo>
                      <a:pt x="661" y="4"/>
                    </a:lnTo>
                    <a:lnTo>
                      <a:pt x="604" y="0"/>
                    </a:lnTo>
                    <a:lnTo>
                      <a:pt x="542" y="0"/>
                    </a:lnTo>
                    <a:lnTo>
                      <a:pt x="485" y="0"/>
                    </a:lnTo>
                    <a:lnTo>
                      <a:pt x="423" y="0"/>
                    </a:lnTo>
                    <a:lnTo>
                      <a:pt x="366" y="0"/>
                    </a:lnTo>
                    <a:lnTo>
                      <a:pt x="304" y="0"/>
                    </a:lnTo>
                    <a:lnTo>
                      <a:pt x="242" y="0"/>
                    </a:lnTo>
                    <a:lnTo>
                      <a:pt x="185" y="0"/>
                    </a:lnTo>
                    <a:lnTo>
                      <a:pt x="123" y="0"/>
                    </a:lnTo>
                    <a:lnTo>
                      <a:pt x="6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616800" y="47577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8" y="72"/>
                    </a:moveTo>
                    <a:lnTo>
                      <a:pt x="8" y="72"/>
                    </a:lnTo>
                    <a:lnTo>
                      <a:pt x="8" y="58"/>
                    </a:lnTo>
                    <a:lnTo>
                      <a:pt x="13" y="58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22" y="43"/>
                    </a:lnTo>
                    <a:lnTo>
                      <a:pt x="26" y="29"/>
                    </a:lnTo>
                    <a:lnTo>
                      <a:pt x="30" y="29"/>
                    </a:lnTo>
                    <a:lnTo>
                      <a:pt x="35" y="29"/>
                    </a:lnTo>
                    <a:lnTo>
                      <a:pt x="39" y="14"/>
                    </a:lnTo>
                    <a:lnTo>
                      <a:pt x="48" y="14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71" y="14"/>
                    </a:lnTo>
                    <a:lnTo>
                      <a:pt x="80" y="14"/>
                    </a:lnTo>
                    <a:lnTo>
                      <a:pt x="89" y="14"/>
                    </a:lnTo>
                    <a:lnTo>
                      <a:pt x="98" y="14"/>
                    </a:lnTo>
                    <a:lnTo>
                      <a:pt x="98" y="0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3" y="14"/>
                    </a:lnTo>
                    <a:lnTo>
                      <a:pt x="48" y="14"/>
                    </a:lnTo>
                    <a:lnTo>
                      <a:pt x="39" y="14"/>
                    </a:lnTo>
                    <a:lnTo>
                      <a:pt x="30" y="14"/>
                    </a:lnTo>
                    <a:lnTo>
                      <a:pt x="26" y="14"/>
                    </a:lnTo>
                    <a:lnTo>
                      <a:pt x="22" y="14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43"/>
                    </a:lnTo>
                    <a:lnTo>
                      <a:pt x="4" y="43"/>
                    </a:lnTo>
                    <a:lnTo>
                      <a:pt x="4" y="58"/>
                    </a:lnTo>
                    <a:lnTo>
                      <a:pt x="0" y="58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03840" y="4773600"/>
                <a:ext cx="752760" cy="592560"/>
              </a:xfrm>
              <a:custGeom>
                <a:avLst/>
                <a:gdLst/>
                <a:ahLst/>
                <a:rect l="0" t="0" r="r" b="b"/>
                <a:pathLst>
                  <a:path w="2091" h="1646">
                    <a:moveTo>
                      <a:pt x="127" y="48"/>
                    </a:moveTo>
                    <a:lnTo>
                      <a:pt x="119" y="92"/>
                    </a:lnTo>
                    <a:lnTo>
                      <a:pt x="119" y="132"/>
                    </a:lnTo>
                    <a:lnTo>
                      <a:pt x="114" y="171"/>
                    </a:lnTo>
                    <a:lnTo>
                      <a:pt x="110" y="216"/>
                    </a:lnTo>
                    <a:lnTo>
                      <a:pt x="105" y="255"/>
                    </a:lnTo>
                    <a:lnTo>
                      <a:pt x="97" y="295"/>
                    </a:lnTo>
                    <a:lnTo>
                      <a:pt x="92" y="335"/>
                    </a:lnTo>
                    <a:lnTo>
                      <a:pt x="88" y="379"/>
                    </a:lnTo>
                    <a:lnTo>
                      <a:pt x="83" y="419"/>
                    </a:lnTo>
                    <a:lnTo>
                      <a:pt x="79" y="464"/>
                    </a:lnTo>
                    <a:lnTo>
                      <a:pt x="74" y="508"/>
                    </a:lnTo>
                    <a:lnTo>
                      <a:pt x="70" y="543"/>
                    </a:lnTo>
                    <a:lnTo>
                      <a:pt x="61" y="587"/>
                    </a:lnTo>
                    <a:lnTo>
                      <a:pt x="57" y="631"/>
                    </a:lnTo>
                    <a:lnTo>
                      <a:pt x="52" y="671"/>
                    </a:lnTo>
                    <a:lnTo>
                      <a:pt x="52" y="715"/>
                    </a:lnTo>
                    <a:lnTo>
                      <a:pt x="48" y="759"/>
                    </a:lnTo>
                    <a:lnTo>
                      <a:pt x="39" y="799"/>
                    </a:lnTo>
                    <a:lnTo>
                      <a:pt x="35" y="843"/>
                    </a:lnTo>
                    <a:lnTo>
                      <a:pt x="30" y="887"/>
                    </a:lnTo>
                    <a:lnTo>
                      <a:pt x="26" y="927"/>
                    </a:lnTo>
                    <a:lnTo>
                      <a:pt x="22" y="975"/>
                    </a:lnTo>
                    <a:lnTo>
                      <a:pt x="22" y="1015"/>
                    </a:lnTo>
                    <a:lnTo>
                      <a:pt x="17" y="1059"/>
                    </a:lnTo>
                    <a:lnTo>
                      <a:pt x="17" y="1103"/>
                    </a:lnTo>
                    <a:lnTo>
                      <a:pt x="13" y="1143"/>
                    </a:lnTo>
                    <a:lnTo>
                      <a:pt x="8" y="1187"/>
                    </a:lnTo>
                    <a:lnTo>
                      <a:pt x="8" y="1231"/>
                    </a:lnTo>
                    <a:lnTo>
                      <a:pt x="4" y="1276"/>
                    </a:lnTo>
                    <a:lnTo>
                      <a:pt x="4" y="1320"/>
                    </a:lnTo>
                    <a:lnTo>
                      <a:pt x="0" y="1364"/>
                    </a:lnTo>
                    <a:lnTo>
                      <a:pt x="0" y="1408"/>
                    </a:lnTo>
                    <a:lnTo>
                      <a:pt x="0" y="1417"/>
                    </a:lnTo>
                    <a:lnTo>
                      <a:pt x="0" y="1430"/>
                    </a:lnTo>
                    <a:lnTo>
                      <a:pt x="4" y="1439"/>
                    </a:lnTo>
                    <a:lnTo>
                      <a:pt x="4" y="1448"/>
                    </a:lnTo>
                    <a:lnTo>
                      <a:pt x="4" y="1457"/>
                    </a:lnTo>
                    <a:lnTo>
                      <a:pt x="8" y="1466"/>
                    </a:lnTo>
                    <a:lnTo>
                      <a:pt x="13" y="1474"/>
                    </a:lnTo>
                    <a:lnTo>
                      <a:pt x="13" y="1474"/>
                    </a:lnTo>
                    <a:lnTo>
                      <a:pt x="17" y="1483"/>
                    </a:lnTo>
                    <a:lnTo>
                      <a:pt x="17" y="1488"/>
                    </a:lnTo>
                    <a:lnTo>
                      <a:pt x="26" y="1492"/>
                    </a:lnTo>
                    <a:lnTo>
                      <a:pt x="30" y="1496"/>
                    </a:lnTo>
                    <a:lnTo>
                      <a:pt x="39" y="1501"/>
                    </a:lnTo>
                    <a:lnTo>
                      <a:pt x="48" y="1505"/>
                    </a:lnTo>
                    <a:lnTo>
                      <a:pt x="52" y="1505"/>
                    </a:lnTo>
                    <a:lnTo>
                      <a:pt x="66" y="1505"/>
                    </a:lnTo>
                    <a:lnTo>
                      <a:pt x="1857" y="1646"/>
                    </a:lnTo>
                    <a:lnTo>
                      <a:pt x="1870" y="1646"/>
                    </a:lnTo>
                    <a:lnTo>
                      <a:pt x="1883" y="1646"/>
                    </a:lnTo>
                    <a:lnTo>
                      <a:pt x="1897" y="1646"/>
                    </a:lnTo>
                    <a:lnTo>
                      <a:pt x="1901" y="1638"/>
                    </a:lnTo>
                    <a:lnTo>
                      <a:pt x="1914" y="1633"/>
                    </a:lnTo>
                    <a:lnTo>
                      <a:pt x="1923" y="1629"/>
                    </a:lnTo>
                    <a:lnTo>
                      <a:pt x="1932" y="1624"/>
                    </a:lnTo>
                    <a:lnTo>
                      <a:pt x="1936" y="1615"/>
                    </a:lnTo>
                    <a:lnTo>
                      <a:pt x="1945" y="1607"/>
                    </a:lnTo>
                    <a:lnTo>
                      <a:pt x="1950" y="1598"/>
                    </a:lnTo>
                    <a:lnTo>
                      <a:pt x="1958" y="1589"/>
                    </a:lnTo>
                    <a:lnTo>
                      <a:pt x="1963" y="1576"/>
                    </a:lnTo>
                    <a:lnTo>
                      <a:pt x="1967" y="1567"/>
                    </a:lnTo>
                    <a:lnTo>
                      <a:pt x="1967" y="1558"/>
                    </a:lnTo>
                    <a:lnTo>
                      <a:pt x="1972" y="1545"/>
                    </a:lnTo>
                    <a:lnTo>
                      <a:pt x="1972" y="1536"/>
                    </a:lnTo>
                    <a:lnTo>
                      <a:pt x="2086" y="229"/>
                    </a:lnTo>
                    <a:lnTo>
                      <a:pt x="2086" y="216"/>
                    </a:lnTo>
                    <a:lnTo>
                      <a:pt x="2091" y="202"/>
                    </a:lnTo>
                    <a:lnTo>
                      <a:pt x="2091" y="194"/>
                    </a:lnTo>
                    <a:lnTo>
                      <a:pt x="2091" y="180"/>
                    </a:lnTo>
                    <a:lnTo>
                      <a:pt x="2091" y="171"/>
                    </a:lnTo>
                    <a:lnTo>
                      <a:pt x="2086" y="163"/>
                    </a:lnTo>
                    <a:lnTo>
                      <a:pt x="2086" y="154"/>
                    </a:lnTo>
                    <a:lnTo>
                      <a:pt x="2082" y="141"/>
                    </a:lnTo>
                    <a:lnTo>
                      <a:pt x="2082" y="136"/>
                    </a:lnTo>
                    <a:lnTo>
                      <a:pt x="2077" y="127"/>
                    </a:lnTo>
                    <a:lnTo>
                      <a:pt x="2073" y="123"/>
                    </a:lnTo>
                    <a:lnTo>
                      <a:pt x="2069" y="114"/>
                    </a:lnTo>
                    <a:lnTo>
                      <a:pt x="2064" y="110"/>
                    </a:lnTo>
                    <a:lnTo>
                      <a:pt x="2055" y="110"/>
                    </a:lnTo>
                    <a:lnTo>
                      <a:pt x="2047" y="105"/>
                    </a:lnTo>
                    <a:lnTo>
                      <a:pt x="2038" y="105"/>
                    </a:lnTo>
                    <a:lnTo>
                      <a:pt x="1985" y="92"/>
                    </a:lnTo>
                    <a:lnTo>
                      <a:pt x="1932" y="83"/>
                    </a:lnTo>
                    <a:lnTo>
                      <a:pt x="1875" y="79"/>
                    </a:lnTo>
                    <a:lnTo>
                      <a:pt x="1822" y="74"/>
                    </a:lnTo>
                    <a:lnTo>
                      <a:pt x="1764" y="66"/>
                    </a:lnTo>
                    <a:lnTo>
                      <a:pt x="1711" y="57"/>
                    </a:lnTo>
                    <a:lnTo>
                      <a:pt x="1659" y="52"/>
                    </a:lnTo>
                    <a:lnTo>
                      <a:pt x="1601" y="48"/>
                    </a:lnTo>
                    <a:lnTo>
                      <a:pt x="1548" y="44"/>
                    </a:lnTo>
                    <a:lnTo>
                      <a:pt x="1491" y="39"/>
                    </a:lnTo>
                    <a:lnTo>
                      <a:pt x="1438" y="30"/>
                    </a:lnTo>
                    <a:lnTo>
                      <a:pt x="1381" y="26"/>
                    </a:lnTo>
                    <a:lnTo>
                      <a:pt x="1323" y="22"/>
                    </a:lnTo>
                    <a:lnTo>
                      <a:pt x="1266" y="17"/>
                    </a:lnTo>
                    <a:lnTo>
                      <a:pt x="1213" y="17"/>
                    </a:lnTo>
                    <a:lnTo>
                      <a:pt x="1151" y="17"/>
                    </a:lnTo>
                    <a:lnTo>
                      <a:pt x="1099" y="13"/>
                    </a:lnTo>
                    <a:lnTo>
                      <a:pt x="1040" y="8"/>
                    </a:lnTo>
                    <a:lnTo>
                      <a:pt x="983" y="8"/>
                    </a:lnTo>
                    <a:lnTo>
                      <a:pt x="926" y="4"/>
                    </a:lnTo>
                    <a:lnTo>
                      <a:pt x="873" y="4"/>
                    </a:lnTo>
                    <a:lnTo>
                      <a:pt x="811" y="0"/>
                    </a:lnTo>
                    <a:lnTo>
                      <a:pt x="754" y="0"/>
                    </a:lnTo>
                    <a:lnTo>
                      <a:pt x="701" y="0"/>
                    </a:lnTo>
                    <a:lnTo>
                      <a:pt x="639" y="0"/>
                    </a:lnTo>
                    <a:lnTo>
                      <a:pt x="582" y="0"/>
                    </a:lnTo>
                    <a:lnTo>
                      <a:pt x="529" y="0"/>
                    </a:lnTo>
                    <a:lnTo>
                      <a:pt x="467" y="0"/>
                    </a:lnTo>
                    <a:lnTo>
                      <a:pt x="414" y="0"/>
                    </a:lnTo>
                    <a:lnTo>
                      <a:pt x="357" y="0"/>
                    </a:lnTo>
                    <a:lnTo>
                      <a:pt x="299" y="0"/>
                    </a:lnTo>
                    <a:lnTo>
                      <a:pt x="242" y="0"/>
                    </a:lnTo>
                    <a:lnTo>
                      <a:pt x="229" y="0"/>
                    </a:lnTo>
                    <a:lnTo>
                      <a:pt x="220" y="4"/>
                    </a:lnTo>
                    <a:lnTo>
                      <a:pt x="211" y="4"/>
                    </a:lnTo>
                    <a:lnTo>
                      <a:pt x="198" y="4"/>
                    </a:lnTo>
                    <a:lnTo>
                      <a:pt x="189" y="4"/>
                    </a:lnTo>
                    <a:lnTo>
                      <a:pt x="180" y="8"/>
                    </a:lnTo>
                    <a:lnTo>
                      <a:pt x="171" y="8"/>
                    </a:lnTo>
                    <a:lnTo>
                      <a:pt x="163" y="13"/>
                    </a:lnTo>
                    <a:lnTo>
                      <a:pt x="154" y="17"/>
                    </a:lnTo>
                    <a:lnTo>
                      <a:pt x="154" y="17"/>
                    </a:lnTo>
                    <a:lnTo>
                      <a:pt x="145" y="22"/>
                    </a:lnTo>
                    <a:lnTo>
                      <a:pt x="141" y="26"/>
                    </a:lnTo>
                    <a:lnTo>
                      <a:pt x="136" y="30"/>
                    </a:lnTo>
                    <a:lnTo>
                      <a:pt x="132" y="39"/>
                    </a:lnTo>
                    <a:lnTo>
                      <a:pt x="127" y="4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603840" y="4791240"/>
                <a:ext cx="35280" cy="489240"/>
              </a:xfrm>
              <a:custGeom>
                <a:avLst/>
                <a:gdLst/>
                <a:ahLst/>
                <a:rect l="0" t="0" r="r" b="b"/>
                <a:pathLst>
                  <a:path w="98" h="1359">
                    <a:moveTo>
                      <a:pt x="4" y="1354"/>
                    </a:moveTo>
                    <a:lnTo>
                      <a:pt x="4" y="1354"/>
                    </a:lnTo>
                    <a:lnTo>
                      <a:pt x="8" y="1315"/>
                    </a:lnTo>
                    <a:lnTo>
                      <a:pt x="8" y="1266"/>
                    </a:lnTo>
                    <a:lnTo>
                      <a:pt x="13" y="1222"/>
                    </a:lnTo>
                    <a:lnTo>
                      <a:pt x="13" y="1182"/>
                    </a:lnTo>
                    <a:lnTo>
                      <a:pt x="13" y="1138"/>
                    </a:lnTo>
                    <a:lnTo>
                      <a:pt x="13" y="1094"/>
                    </a:lnTo>
                    <a:lnTo>
                      <a:pt x="17" y="1050"/>
                    </a:lnTo>
                    <a:lnTo>
                      <a:pt x="17" y="1006"/>
                    </a:lnTo>
                    <a:lnTo>
                      <a:pt x="22" y="966"/>
                    </a:lnTo>
                    <a:lnTo>
                      <a:pt x="26" y="922"/>
                    </a:lnTo>
                    <a:lnTo>
                      <a:pt x="26" y="878"/>
                    </a:lnTo>
                    <a:lnTo>
                      <a:pt x="30" y="834"/>
                    </a:lnTo>
                    <a:lnTo>
                      <a:pt x="35" y="790"/>
                    </a:lnTo>
                    <a:lnTo>
                      <a:pt x="35" y="750"/>
                    </a:lnTo>
                    <a:lnTo>
                      <a:pt x="39" y="706"/>
                    </a:lnTo>
                    <a:lnTo>
                      <a:pt x="39" y="665"/>
                    </a:lnTo>
                    <a:lnTo>
                      <a:pt x="44" y="621"/>
                    </a:lnTo>
                    <a:lnTo>
                      <a:pt x="48" y="577"/>
                    </a:lnTo>
                    <a:lnTo>
                      <a:pt x="53" y="537"/>
                    </a:lnTo>
                    <a:lnTo>
                      <a:pt x="58" y="498"/>
                    </a:lnTo>
                    <a:lnTo>
                      <a:pt x="58" y="454"/>
                    </a:lnTo>
                    <a:lnTo>
                      <a:pt x="62" y="414"/>
                    </a:lnTo>
                    <a:lnTo>
                      <a:pt x="67" y="370"/>
                    </a:lnTo>
                    <a:lnTo>
                      <a:pt x="71" y="326"/>
                    </a:lnTo>
                    <a:lnTo>
                      <a:pt x="71" y="291"/>
                    </a:lnTo>
                    <a:lnTo>
                      <a:pt x="75" y="246"/>
                    </a:lnTo>
                    <a:lnTo>
                      <a:pt x="80" y="202"/>
                    </a:lnTo>
                    <a:lnTo>
                      <a:pt x="84" y="167"/>
                    </a:lnTo>
                    <a:lnTo>
                      <a:pt x="84" y="123"/>
                    </a:lnTo>
                    <a:lnTo>
                      <a:pt x="93" y="83"/>
                    </a:lnTo>
                    <a:lnTo>
                      <a:pt x="93" y="44"/>
                    </a:lnTo>
                    <a:lnTo>
                      <a:pt x="98" y="4"/>
                    </a:lnTo>
                    <a:lnTo>
                      <a:pt x="89" y="0"/>
                    </a:lnTo>
                    <a:lnTo>
                      <a:pt x="84" y="44"/>
                    </a:lnTo>
                    <a:lnTo>
                      <a:pt x="84" y="79"/>
                    </a:lnTo>
                    <a:lnTo>
                      <a:pt x="80" y="123"/>
                    </a:lnTo>
                    <a:lnTo>
                      <a:pt x="80" y="163"/>
                    </a:lnTo>
                    <a:lnTo>
                      <a:pt x="71" y="202"/>
                    </a:lnTo>
                    <a:lnTo>
                      <a:pt x="71" y="246"/>
                    </a:lnTo>
                    <a:lnTo>
                      <a:pt x="67" y="286"/>
                    </a:lnTo>
                    <a:lnTo>
                      <a:pt x="62" y="326"/>
                    </a:lnTo>
                    <a:lnTo>
                      <a:pt x="58" y="370"/>
                    </a:lnTo>
                    <a:lnTo>
                      <a:pt x="58" y="414"/>
                    </a:lnTo>
                    <a:lnTo>
                      <a:pt x="53" y="449"/>
                    </a:lnTo>
                    <a:lnTo>
                      <a:pt x="48" y="493"/>
                    </a:lnTo>
                    <a:lnTo>
                      <a:pt x="44" y="537"/>
                    </a:lnTo>
                    <a:lnTo>
                      <a:pt x="39" y="577"/>
                    </a:lnTo>
                    <a:lnTo>
                      <a:pt x="39" y="621"/>
                    </a:lnTo>
                    <a:lnTo>
                      <a:pt x="35" y="665"/>
                    </a:lnTo>
                    <a:lnTo>
                      <a:pt x="30" y="706"/>
                    </a:lnTo>
                    <a:lnTo>
                      <a:pt x="26" y="750"/>
                    </a:lnTo>
                    <a:lnTo>
                      <a:pt x="26" y="790"/>
                    </a:lnTo>
                    <a:lnTo>
                      <a:pt x="22" y="834"/>
                    </a:lnTo>
                    <a:lnTo>
                      <a:pt x="17" y="878"/>
                    </a:lnTo>
                    <a:lnTo>
                      <a:pt x="17" y="918"/>
                    </a:lnTo>
                    <a:lnTo>
                      <a:pt x="13" y="966"/>
                    </a:lnTo>
                    <a:lnTo>
                      <a:pt x="13" y="1006"/>
                    </a:lnTo>
                    <a:lnTo>
                      <a:pt x="13" y="1050"/>
                    </a:lnTo>
                    <a:lnTo>
                      <a:pt x="8" y="1094"/>
                    </a:lnTo>
                    <a:lnTo>
                      <a:pt x="4" y="1134"/>
                    </a:lnTo>
                    <a:lnTo>
                      <a:pt x="4" y="1182"/>
                    </a:lnTo>
                    <a:lnTo>
                      <a:pt x="4" y="1222"/>
                    </a:lnTo>
                    <a:lnTo>
                      <a:pt x="4" y="1266"/>
                    </a:lnTo>
                    <a:lnTo>
                      <a:pt x="0" y="1315"/>
                    </a:lnTo>
                    <a:lnTo>
                      <a:pt x="0" y="1354"/>
                    </a:lnTo>
                    <a:lnTo>
                      <a:pt x="0" y="1359"/>
                    </a:lnTo>
                    <a:lnTo>
                      <a:pt x="4" y="1359"/>
                    </a:lnTo>
                    <a:lnTo>
                      <a:pt x="4" y="1359"/>
                    </a:lnTo>
                    <a:lnTo>
                      <a:pt x="4" y="1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03840" y="52927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72" y="68"/>
                    </a:moveTo>
                    <a:lnTo>
                      <a:pt x="72" y="68"/>
                    </a:lnTo>
                    <a:lnTo>
                      <a:pt x="53" y="68"/>
                    </a:lnTo>
                    <a:lnTo>
                      <a:pt x="45" y="68"/>
                    </a:lnTo>
                    <a:lnTo>
                      <a:pt x="45" y="63"/>
                    </a:lnTo>
                    <a:lnTo>
                      <a:pt x="36" y="59"/>
                    </a:lnTo>
                    <a:lnTo>
                      <a:pt x="36" y="59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17" y="49"/>
                    </a:lnTo>
                    <a:lnTo>
                      <a:pt x="17" y="45"/>
                    </a:lnTo>
                    <a:lnTo>
                      <a:pt x="17" y="40"/>
                    </a:lnTo>
                    <a:lnTo>
                      <a:pt x="17" y="31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17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8" y="40"/>
                    </a:lnTo>
                    <a:lnTo>
                      <a:pt x="8" y="45"/>
                    </a:lnTo>
                    <a:lnTo>
                      <a:pt x="8" y="53"/>
                    </a:lnTo>
                    <a:lnTo>
                      <a:pt x="17" y="53"/>
                    </a:lnTo>
                    <a:lnTo>
                      <a:pt x="27" y="59"/>
                    </a:lnTo>
                    <a:lnTo>
                      <a:pt x="27" y="63"/>
                    </a:lnTo>
                    <a:lnTo>
                      <a:pt x="36" y="68"/>
                    </a:lnTo>
                    <a:lnTo>
                      <a:pt x="36" y="68"/>
                    </a:lnTo>
                    <a:lnTo>
                      <a:pt x="45" y="72"/>
                    </a:lnTo>
                    <a:lnTo>
                      <a:pt x="53" y="72"/>
                    </a:lnTo>
                    <a:lnTo>
                      <a:pt x="63" y="76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626160" y="5326200"/>
                <a:ext cx="644760" cy="41760"/>
              </a:xfrm>
              <a:custGeom>
                <a:avLst/>
                <a:gdLst/>
                <a:ahLst/>
                <a:rect l="0" t="0" r="r" b="b"/>
                <a:pathLst>
                  <a:path w="1791" h="116">
                    <a:moveTo>
                      <a:pt x="1782" y="107"/>
                    </a:moveTo>
                    <a:lnTo>
                      <a:pt x="1782" y="107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782" y="116"/>
                    </a:lnTo>
                    <a:lnTo>
                      <a:pt x="1786" y="112"/>
                    </a:lnTo>
                    <a:lnTo>
                      <a:pt x="1791" y="112"/>
                    </a:lnTo>
                    <a:lnTo>
                      <a:pt x="1786" y="112"/>
                    </a:lnTo>
                    <a:lnTo>
                      <a:pt x="1782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284960" y="5335560"/>
                <a:ext cx="30600" cy="32040"/>
              </a:xfrm>
              <a:custGeom>
                <a:avLst/>
                <a:gdLst/>
                <a:ahLst/>
                <a:rect l="0" t="0" r="r" b="b"/>
                <a:pathLst>
                  <a:path w="85" h="89">
                    <a:moveTo>
                      <a:pt x="76" y="4"/>
                    </a:moveTo>
                    <a:lnTo>
                      <a:pt x="76" y="4"/>
                    </a:lnTo>
                    <a:lnTo>
                      <a:pt x="76" y="8"/>
                    </a:lnTo>
                    <a:lnTo>
                      <a:pt x="76" y="17"/>
                    </a:lnTo>
                    <a:lnTo>
                      <a:pt x="76" y="26"/>
                    </a:lnTo>
                    <a:lnTo>
                      <a:pt x="68" y="35"/>
                    </a:lnTo>
                    <a:lnTo>
                      <a:pt x="68" y="39"/>
                    </a:lnTo>
                    <a:lnTo>
                      <a:pt x="62" y="49"/>
                    </a:lnTo>
                    <a:lnTo>
                      <a:pt x="58" y="53"/>
                    </a:lnTo>
                    <a:lnTo>
                      <a:pt x="53" y="58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0" y="71"/>
                    </a:lnTo>
                    <a:lnTo>
                      <a:pt x="31" y="75"/>
                    </a:lnTo>
                    <a:lnTo>
                      <a:pt x="27" y="80"/>
                    </a:lnTo>
                    <a:lnTo>
                      <a:pt x="17" y="80"/>
                    </a:lnTo>
                    <a:lnTo>
                      <a:pt x="8" y="80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8" y="89"/>
                    </a:lnTo>
                    <a:lnTo>
                      <a:pt x="17" y="84"/>
                    </a:lnTo>
                    <a:lnTo>
                      <a:pt x="27" y="84"/>
                    </a:lnTo>
                    <a:lnTo>
                      <a:pt x="36" y="84"/>
                    </a:lnTo>
                    <a:lnTo>
                      <a:pt x="45" y="80"/>
                    </a:lnTo>
                    <a:lnTo>
                      <a:pt x="49" y="75"/>
                    </a:lnTo>
                    <a:lnTo>
                      <a:pt x="53" y="71"/>
                    </a:lnTo>
                    <a:lnTo>
                      <a:pt x="58" y="67"/>
                    </a:lnTo>
                    <a:lnTo>
                      <a:pt x="68" y="58"/>
                    </a:lnTo>
                    <a:lnTo>
                      <a:pt x="68" y="53"/>
                    </a:lnTo>
                    <a:lnTo>
                      <a:pt x="76" y="45"/>
                    </a:lnTo>
                    <a:lnTo>
                      <a:pt x="76" y="35"/>
                    </a:lnTo>
                    <a:lnTo>
                      <a:pt x="81" y="30"/>
                    </a:lnTo>
                    <a:lnTo>
                      <a:pt x="81" y="22"/>
                    </a:lnTo>
                    <a:lnTo>
                      <a:pt x="81" y="13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1" y="0"/>
                    </a:lnTo>
                    <a:lnTo>
                      <a:pt x="81" y="4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323120" y="4856040"/>
                <a:ext cx="33840" cy="470160"/>
              </a:xfrm>
              <a:custGeom>
                <a:avLst/>
                <a:gdLst/>
                <a:ahLst/>
                <a:rect l="0" t="0" r="r" b="b"/>
                <a:pathLst>
                  <a:path w="94" h="1306">
                    <a:moveTo>
                      <a:pt x="85" y="4"/>
                    </a:moveTo>
                    <a:lnTo>
                      <a:pt x="85" y="4"/>
                    </a:lnTo>
                    <a:lnTo>
                      <a:pt x="0" y="1306"/>
                    </a:lnTo>
                    <a:lnTo>
                      <a:pt x="8" y="1306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348680" y="480996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0" y="8"/>
                    </a:moveTo>
                    <a:lnTo>
                      <a:pt x="0" y="8"/>
                    </a:lnTo>
                    <a:lnTo>
                      <a:pt x="14" y="8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26"/>
                    </a:lnTo>
                    <a:lnTo>
                      <a:pt x="43" y="30"/>
                    </a:lnTo>
                    <a:lnTo>
                      <a:pt x="58" y="35"/>
                    </a:lnTo>
                    <a:lnTo>
                      <a:pt x="58" y="39"/>
                    </a:lnTo>
                    <a:lnTo>
                      <a:pt x="58" y="48"/>
                    </a:lnTo>
                    <a:lnTo>
                      <a:pt x="58" y="58"/>
                    </a:lnTo>
                    <a:lnTo>
                      <a:pt x="58" y="62"/>
                    </a:lnTo>
                    <a:lnTo>
                      <a:pt x="58" y="71"/>
                    </a:lnTo>
                    <a:lnTo>
                      <a:pt x="58" y="80"/>
                    </a:lnTo>
                    <a:lnTo>
                      <a:pt x="58" y="84"/>
                    </a:lnTo>
                    <a:lnTo>
                      <a:pt x="58" y="93"/>
                    </a:lnTo>
                    <a:lnTo>
                      <a:pt x="72" y="98"/>
                    </a:lnTo>
                    <a:lnTo>
                      <a:pt x="72" y="84"/>
                    </a:lnTo>
                    <a:lnTo>
                      <a:pt x="72" y="80"/>
                    </a:lnTo>
                    <a:lnTo>
                      <a:pt x="72" y="71"/>
                    </a:lnTo>
                    <a:lnTo>
                      <a:pt x="72" y="62"/>
                    </a:lnTo>
                    <a:lnTo>
                      <a:pt x="72" y="58"/>
                    </a:lnTo>
                    <a:lnTo>
                      <a:pt x="72" y="48"/>
                    </a:lnTo>
                    <a:lnTo>
                      <a:pt x="72" y="39"/>
                    </a:lnTo>
                    <a:lnTo>
                      <a:pt x="72" y="35"/>
                    </a:lnTo>
                    <a:lnTo>
                      <a:pt x="58" y="26"/>
                    </a:lnTo>
                    <a:lnTo>
                      <a:pt x="58" y="22"/>
                    </a:lnTo>
                    <a:lnTo>
                      <a:pt x="58" y="17"/>
                    </a:lnTo>
                    <a:lnTo>
                      <a:pt x="43" y="13"/>
                    </a:lnTo>
                    <a:lnTo>
                      <a:pt x="43" y="8"/>
                    </a:lnTo>
                    <a:lnTo>
                      <a:pt x="29" y="4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91320" y="4772160"/>
                <a:ext cx="644760" cy="27360"/>
              </a:xfrm>
              <a:custGeom>
                <a:avLst/>
                <a:gdLst/>
                <a:ahLst/>
                <a:rect l="0" t="0" r="r" b="b"/>
                <a:pathLst>
                  <a:path w="1791" h="76">
                    <a:moveTo>
                      <a:pt x="4" y="8"/>
                    </a:moveTo>
                    <a:lnTo>
                      <a:pt x="4" y="8"/>
                    </a:lnTo>
                    <a:lnTo>
                      <a:pt x="61" y="8"/>
                    </a:lnTo>
                    <a:lnTo>
                      <a:pt x="114" y="8"/>
                    </a:lnTo>
                    <a:lnTo>
                      <a:pt x="176" y="8"/>
                    </a:lnTo>
                    <a:lnTo>
                      <a:pt x="229" y="8"/>
                    </a:lnTo>
                    <a:lnTo>
                      <a:pt x="286" y="8"/>
                    </a:lnTo>
                    <a:lnTo>
                      <a:pt x="343" y="8"/>
                    </a:lnTo>
                    <a:lnTo>
                      <a:pt x="401" y="8"/>
                    </a:lnTo>
                    <a:lnTo>
                      <a:pt x="458" y="8"/>
                    </a:lnTo>
                    <a:lnTo>
                      <a:pt x="515" y="8"/>
                    </a:lnTo>
                    <a:lnTo>
                      <a:pt x="573" y="8"/>
                    </a:lnTo>
                    <a:lnTo>
                      <a:pt x="630" y="8"/>
                    </a:lnTo>
                    <a:lnTo>
                      <a:pt x="683" y="13"/>
                    </a:lnTo>
                    <a:lnTo>
                      <a:pt x="745" y="13"/>
                    </a:lnTo>
                    <a:lnTo>
                      <a:pt x="798" y="13"/>
                    </a:lnTo>
                    <a:lnTo>
                      <a:pt x="855" y="13"/>
                    </a:lnTo>
                    <a:lnTo>
                      <a:pt x="913" y="17"/>
                    </a:lnTo>
                    <a:lnTo>
                      <a:pt x="971" y="23"/>
                    </a:lnTo>
                    <a:lnTo>
                      <a:pt x="1024" y="23"/>
                    </a:lnTo>
                    <a:lnTo>
                      <a:pt x="1081" y="27"/>
                    </a:lnTo>
                    <a:lnTo>
                      <a:pt x="1138" y="27"/>
                    </a:lnTo>
                    <a:lnTo>
                      <a:pt x="1191" y="31"/>
                    </a:lnTo>
                    <a:lnTo>
                      <a:pt x="1248" y="31"/>
                    </a:lnTo>
                    <a:lnTo>
                      <a:pt x="1306" y="36"/>
                    </a:lnTo>
                    <a:lnTo>
                      <a:pt x="1359" y="40"/>
                    </a:lnTo>
                    <a:lnTo>
                      <a:pt x="1412" y="45"/>
                    </a:lnTo>
                    <a:lnTo>
                      <a:pt x="1469" y="49"/>
                    </a:lnTo>
                    <a:lnTo>
                      <a:pt x="1522" y="49"/>
                    </a:lnTo>
                    <a:lnTo>
                      <a:pt x="1575" y="53"/>
                    </a:lnTo>
                    <a:lnTo>
                      <a:pt x="1632" y="63"/>
                    </a:lnTo>
                    <a:lnTo>
                      <a:pt x="1685" y="68"/>
                    </a:lnTo>
                    <a:lnTo>
                      <a:pt x="1738" y="72"/>
                    </a:lnTo>
                    <a:lnTo>
                      <a:pt x="1791" y="76"/>
                    </a:lnTo>
                    <a:lnTo>
                      <a:pt x="1791" y="68"/>
                    </a:lnTo>
                    <a:lnTo>
                      <a:pt x="1742" y="63"/>
                    </a:lnTo>
                    <a:lnTo>
                      <a:pt x="1685" y="59"/>
                    </a:lnTo>
                    <a:lnTo>
                      <a:pt x="1632" y="53"/>
                    </a:lnTo>
                    <a:lnTo>
                      <a:pt x="1575" y="49"/>
                    </a:lnTo>
                    <a:lnTo>
                      <a:pt x="1526" y="45"/>
                    </a:lnTo>
                    <a:lnTo>
                      <a:pt x="1473" y="40"/>
                    </a:lnTo>
                    <a:lnTo>
                      <a:pt x="1416" y="40"/>
                    </a:lnTo>
                    <a:lnTo>
                      <a:pt x="1359" y="31"/>
                    </a:lnTo>
                    <a:lnTo>
                      <a:pt x="1306" y="31"/>
                    </a:lnTo>
                    <a:lnTo>
                      <a:pt x="1248" y="27"/>
                    </a:lnTo>
                    <a:lnTo>
                      <a:pt x="1196" y="23"/>
                    </a:lnTo>
                    <a:lnTo>
                      <a:pt x="1138" y="23"/>
                    </a:lnTo>
                    <a:lnTo>
                      <a:pt x="1081" y="17"/>
                    </a:lnTo>
                    <a:lnTo>
                      <a:pt x="1024" y="13"/>
                    </a:lnTo>
                    <a:lnTo>
                      <a:pt x="971" y="13"/>
                    </a:lnTo>
                    <a:lnTo>
                      <a:pt x="913" y="8"/>
                    </a:lnTo>
                    <a:lnTo>
                      <a:pt x="855" y="8"/>
                    </a:lnTo>
                    <a:lnTo>
                      <a:pt x="798" y="8"/>
                    </a:lnTo>
                    <a:lnTo>
                      <a:pt x="745" y="4"/>
                    </a:lnTo>
                    <a:lnTo>
                      <a:pt x="683" y="4"/>
                    </a:lnTo>
                    <a:lnTo>
                      <a:pt x="630" y="4"/>
                    </a:lnTo>
                    <a:lnTo>
                      <a:pt x="573" y="4"/>
                    </a:lnTo>
                    <a:lnTo>
                      <a:pt x="515" y="4"/>
                    </a:lnTo>
                    <a:lnTo>
                      <a:pt x="458" y="4"/>
                    </a:lnTo>
                    <a:lnTo>
                      <a:pt x="401" y="0"/>
                    </a:lnTo>
                    <a:lnTo>
                      <a:pt x="343" y="0"/>
                    </a:lnTo>
                    <a:lnTo>
                      <a:pt x="286" y="0"/>
                    </a:lnTo>
                    <a:lnTo>
                      <a:pt x="229" y="0"/>
                    </a:lnTo>
                    <a:lnTo>
                      <a:pt x="176" y="0"/>
                    </a:lnTo>
                    <a:lnTo>
                      <a:pt x="114" y="4"/>
                    </a:lnTo>
                    <a:lnTo>
                      <a:pt x="61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47040" y="477216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8" y="72"/>
                    </a:moveTo>
                    <a:lnTo>
                      <a:pt x="8" y="72"/>
                    </a:lnTo>
                    <a:lnTo>
                      <a:pt x="8" y="60"/>
                    </a:lnTo>
                    <a:lnTo>
                      <a:pt x="13" y="60"/>
                    </a:lnTo>
                    <a:lnTo>
                      <a:pt x="13" y="48"/>
                    </a:lnTo>
                    <a:lnTo>
                      <a:pt x="17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6" y="24"/>
                    </a:lnTo>
                    <a:lnTo>
                      <a:pt x="35" y="24"/>
                    </a:lnTo>
                    <a:lnTo>
                      <a:pt x="35" y="24"/>
                    </a:lnTo>
                    <a:lnTo>
                      <a:pt x="45" y="24"/>
                    </a:lnTo>
                    <a:lnTo>
                      <a:pt x="53" y="24"/>
                    </a:lnTo>
                    <a:lnTo>
                      <a:pt x="58" y="11"/>
                    </a:lnTo>
                    <a:lnTo>
                      <a:pt x="67" y="11"/>
                    </a:lnTo>
                    <a:lnTo>
                      <a:pt x="71" y="11"/>
                    </a:lnTo>
                    <a:lnTo>
                      <a:pt x="80" y="11"/>
                    </a:lnTo>
                    <a:lnTo>
                      <a:pt x="89" y="11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45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26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6"/>
                    </a:lnTo>
                    <a:lnTo>
                      <a:pt x="8" y="36"/>
                    </a:lnTo>
                    <a:lnTo>
                      <a:pt x="4" y="48"/>
                    </a:lnTo>
                    <a:lnTo>
                      <a:pt x="4" y="60"/>
                    </a:lnTo>
                    <a:lnTo>
                      <a:pt x="0" y="60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813720" y="5514840"/>
                <a:ext cx="422640" cy="81360"/>
              </a:xfrm>
              <a:custGeom>
                <a:avLst/>
                <a:gdLst/>
                <a:ahLst/>
                <a:rect l="0" t="0" r="r" b="b"/>
                <a:pathLst>
                  <a:path w="1174" h="226">
                    <a:moveTo>
                      <a:pt x="0" y="0"/>
                    </a:moveTo>
                    <a:lnTo>
                      <a:pt x="1174" y="102"/>
                    </a:lnTo>
                    <a:lnTo>
                      <a:pt x="1157" y="115"/>
                    </a:lnTo>
                    <a:lnTo>
                      <a:pt x="1148" y="128"/>
                    </a:lnTo>
                    <a:lnTo>
                      <a:pt x="1130" y="137"/>
                    </a:lnTo>
                    <a:lnTo>
                      <a:pt x="1117" y="150"/>
                    </a:lnTo>
                    <a:lnTo>
                      <a:pt x="1100" y="159"/>
                    </a:lnTo>
                    <a:lnTo>
                      <a:pt x="1082" y="168"/>
                    </a:lnTo>
                    <a:lnTo>
                      <a:pt x="1064" y="178"/>
                    </a:lnTo>
                    <a:lnTo>
                      <a:pt x="1051" y="182"/>
                    </a:lnTo>
                    <a:lnTo>
                      <a:pt x="1033" y="191"/>
                    </a:lnTo>
                    <a:lnTo>
                      <a:pt x="1016" y="196"/>
                    </a:lnTo>
                    <a:lnTo>
                      <a:pt x="998" y="200"/>
                    </a:lnTo>
                    <a:lnTo>
                      <a:pt x="980" y="209"/>
                    </a:lnTo>
                    <a:lnTo>
                      <a:pt x="963" y="209"/>
                    </a:lnTo>
                    <a:lnTo>
                      <a:pt x="945" y="213"/>
                    </a:lnTo>
                    <a:lnTo>
                      <a:pt x="928" y="218"/>
                    </a:lnTo>
                    <a:lnTo>
                      <a:pt x="905" y="222"/>
                    </a:lnTo>
                    <a:lnTo>
                      <a:pt x="888" y="222"/>
                    </a:lnTo>
                    <a:lnTo>
                      <a:pt x="874" y="222"/>
                    </a:lnTo>
                    <a:lnTo>
                      <a:pt x="852" y="226"/>
                    </a:lnTo>
                    <a:lnTo>
                      <a:pt x="834" y="226"/>
                    </a:lnTo>
                    <a:lnTo>
                      <a:pt x="812" y="226"/>
                    </a:lnTo>
                    <a:lnTo>
                      <a:pt x="790" y="226"/>
                    </a:lnTo>
                    <a:lnTo>
                      <a:pt x="772" y="226"/>
                    </a:lnTo>
                    <a:lnTo>
                      <a:pt x="750" y="226"/>
                    </a:lnTo>
                    <a:lnTo>
                      <a:pt x="733" y="226"/>
                    </a:lnTo>
                    <a:lnTo>
                      <a:pt x="715" y="226"/>
                    </a:lnTo>
                    <a:lnTo>
                      <a:pt x="693" y="226"/>
                    </a:lnTo>
                    <a:lnTo>
                      <a:pt x="671" y="226"/>
                    </a:lnTo>
                    <a:lnTo>
                      <a:pt x="649" y="226"/>
                    </a:lnTo>
                    <a:lnTo>
                      <a:pt x="631" y="222"/>
                    </a:lnTo>
                    <a:lnTo>
                      <a:pt x="609" y="222"/>
                    </a:lnTo>
                    <a:lnTo>
                      <a:pt x="587" y="222"/>
                    </a:lnTo>
                    <a:lnTo>
                      <a:pt x="565" y="222"/>
                    </a:lnTo>
                    <a:lnTo>
                      <a:pt x="543" y="222"/>
                    </a:lnTo>
                    <a:lnTo>
                      <a:pt x="525" y="222"/>
                    </a:lnTo>
                    <a:lnTo>
                      <a:pt x="499" y="222"/>
                    </a:lnTo>
                    <a:lnTo>
                      <a:pt x="481" y="218"/>
                    </a:lnTo>
                    <a:lnTo>
                      <a:pt x="459" y="213"/>
                    </a:lnTo>
                    <a:lnTo>
                      <a:pt x="433" y="213"/>
                    </a:lnTo>
                    <a:lnTo>
                      <a:pt x="415" y="209"/>
                    </a:lnTo>
                    <a:lnTo>
                      <a:pt x="397" y="204"/>
                    </a:lnTo>
                    <a:lnTo>
                      <a:pt x="371" y="200"/>
                    </a:lnTo>
                    <a:lnTo>
                      <a:pt x="353" y="196"/>
                    </a:lnTo>
                    <a:lnTo>
                      <a:pt x="331" y="191"/>
                    </a:lnTo>
                    <a:lnTo>
                      <a:pt x="309" y="187"/>
                    </a:lnTo>
                    <a:lnTo>
                      <a:pt x="291" y="182"/>
                    </a:lnTo>
                    <a:lnTo>
                      <a:pt x="268" y="173"/>
                    </a:lnTo>
                    <a:lnTo>
                      <a:pt x="251" y="168"/>
                    </a:lnTo>
                    <a:lnTo>
                      <a:pt x="233" y="159"/>
                    </a:lnTo>
                    <a:lnTo>
                      <a:pt x="216" y="150"/>
                    </a:lnTo>
                    <a:lnTo>
                      <a:pt x="198" y="142"/>
                    </a:lnTo>
                    <a:lnTo>
                      <a:pt x="176" y="133"/>
                    </a:lnTo>
                    <a:lnTo>
                      <a:pt x="163" y="128"/>
                    </a:lnTo>
                    <a:lnTo>
                      <a:pt x="141" y="115"/>
                    </a:lnTo>
                    <a:lnTo>
                      <a:pt x="127" y="106"/>
                    </a:lnTo>
                    <a:lnTo>
                      <a:pt x="110" y="98"/>
                    </a:lnTo>
                    <a:lnTo>
                      <a:pt x="97" y="89"/>
                    </a:lnTo>
                    <a:lnTo>
                      <a:pt x="79" y="75"/>
                    </a:lnTo>
                    <a:lnTo>
                      <a:pt x="66" y="62"/>
                    </a:lnTo>
                    <a:lnTo>
                      <a:pt x="52" y="52"/>
                    </a:lnTo>
                    <a:lnTo>
                      <a:pt x="39" y="39"/>
                    </a:lnTo>
                    <a:lnTo>
                      <a:pt x="26" y="26"/>
                    </a:lnTo>
                    <a:lnTo>
                      <a:pt x="1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813720" y="5510160"/>
                <a:ext cx="422640" cy="36720"/>
              </a:xfrm>
              <a:custGeom>
                <a:avLst/>
                <a:gdLst/>
                <a:ahLst/>
                <a:rect l="0" t="0" r="r" b="b"/>
                <a:pathLst>
                  <a:path w="1174" h="102">
                    <a:moveTo>
                      <a:pt x="1174" y="98"/>
                    </a:moveTo>
                    <a:lnTo>
                      <a:pt x="1170" y="9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170" y="102"/>
                    </a:lnTo>
                    <a:lnTo>
                      <a:pt x="1166" y="93"/>
                    </a:lnTo>
                    <a:lnTo>
                      <a:pt x="1170" y="102"/>
                    </a:lnTo>
                    <a:lnTo>
                      <a:pt x="1174" y="98"/>
                    </a:lnTo>
                    <a:lnTo>
                      <a:pt x="1174" y="98"/>
                    </a:lnTo>
                    <a:lnTo>
                      <a:pt x="1174" y="93"/>
                    </a:lnTo>
                    <a:lnTo>
                      <a:pt x="1170" y="93"/>
                    </a:lnTo>
                    <a:lnTo>
                      <a:pt x="1174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029360" y="5556240"/>
                <a:ext cx="206640" cy="43200"/>
              </a:xfrm>
              <a:custGeom>
                <a:avLst/>
                <a:gdLst/>
                <a:ahLst/>
                <a:rect l="0" t="0" r="r" b="b"/>
                <a:pathLst>
                  <a:path w="574" h="120">
                    <a:moveTo>
                      <a:pt x="8" y="115"/>
                    </a:moveTo>
                    <a:lnTo>
                      <a:pt x="8" y="115"/>
                    </a:lnTo>
                    <a:lnTo>
                      <a:pt x="26" y="115"/>
                    </a:lnTo>
                    <a:lnTo>
                      <a:pt x="48" y="115"/>
                    </a:lnTo>
                    <a:lnTo>
                      <a:pt x="66" y="115"/>
                    </a:lnTo>
                    <a:lnTo>
                      <a:pt x="83" y="115"/>
                    </a:lnTo>
                    <a:lnTo>
                      <a:pt x="105" y="115"/>
                    </a:lnTo>
                    <a:lnTo>
                      <a:pt x="127" y="120"/>
                    </a:lnTo>
                    <a:lnTo>
                      <a:pt x="145" y="120"/>
                    </a:lnTo>
                    <a:lnTo>
                      <a:pt x="163" y="120"/>
                    </a:lnTo>
                    <a:lnTo>
                      <a:pt x="180" y="120"/>
                    </a:lnTo>
                    <a:lnTo>
                      <a:pt x="202" y="120"/>
                    </a:lnTo>
                    <a:lnTo>
                      <a:pt x="224" y="120"/>
                    </a:lnTo>
                    <a:lnTo>
                      <a:pt x="242" y="115"/>
                    </a:lnTo>
                    <a:lnTo>
                      <a:pt x="260" y="115"/>
                    </a:lnTo>
                    <a:lnTo>
                      <a:pt x="277" y="115"/>
                    </a:lnTo>
                    <a:lnTo>
                      <a:pt x="296" y="115"/>
                    </a:lnTo>
                    <a:lnTo>
                      <a:pt x="314" y="111"/>
                    </a:lnTo>
                    <a:lnTo>
                      <a:pt x="331" y="111"/>
                    </a:lnTo>
                    <a:lnTo>
                      <a:pt x="349" y="106"/>
                    </a:lnTo>
                    <a:lnTo>
                      <a:pt x="371" y="102"/>
                    </a:lnTo>
                    <a:lnTo>
                      <a:pt x="384" y="98"/>
                    </a:lnTo>
                    <a:lnTo>
                      <a:pt x="402" y="98"/>
                    </a:lnTo>
                    <a:lnTo>
                      <a:pt x="419" y="89"/>
                    </a:lnTo>
                    <a:lnTo>
                      <a:pt x="437" y="84"/>
                    </a:lnTo>
                    <a:lnTo>
                      <a:pt x="455" y="80"/>
                    </a:lnTo>
                    <a:lnTo>
                      <a:pt x="468" y="71"/>
                    </a:lnTo>
                    <a:lnTo>
                      <a:pt x="486" y="67"/>
                    </a:lnTo>
                    <a:lnTo>
                      <a:pt x="499" y="57"/>
                    </a:lnTo>
                    <a:lnTo>
                      <a:pt x="512" y="48"/>
                    </a:lnTo>
                    <a:lnTo>
                      <a:pt x="534" y="39"/>
                    </a:lnTo>
                    <a:lnTo>
                      <a:pt x="547" y="30"/>
                    </a:lnTo>
                    <a:lnTo>
                      <a:pt x="561" y="17"/>
                    </a:lnTo>
                    <a:lnTo>
                      <a:pt x="574" y="4"/>
                    </a:lnTo>
                    <a:lnTo>
                      <a:pt x="565" y="0"/>
                    </a:lnTo>
                    <a:lnTo>
                      <a:pt x="556" y="13"/>
                    </a:lnTo>
                    <a:lnTo>
                      <a:pt x="538" y="22"/>
                    </a:lnTo>
                    <a:lnTo>
                      <a:pt x="525" y="30"/>
                    </a:lnTo>
                    <a:lnTo>
                      <a:pt x="512" y="44"/>
                    </a:lnTo>
                    <a:lnTo>
                      <a:pt x="494" y="48"/>
                    </a:lnTo>
                    <a:lnTo>
                      <a:pt x="481" y="57"/>
                    </a:lnTo>
                    <a:lnTo>
                      <a:pt x="468" y="67"/>
                    </a:lnTo>
                    <a:lnTo>
                      <a:pt x="446" y="71"/>
                    </a:lnTo>
                    <a:lnTo>
                      <a:pt x="433" y="80"/>
                    </a:lnTo>
                    <a:lnTo>
                      <a:pt x="419" y="84"/>
                    </a:lnTo>
                    <a:lnTo>
                      <a:pt x="397" y="89"/>
                    </a:lnTo>
                    <a:lnTo>
                      <a:pt x="384" y="93"/>
                    </a:lnTo>
                    <a:lnTo>
                      <a:pt x="367" y="98"/>
                    </a:lnTo>
                    <a:lnTo>
                      <a:pt x="349" y="98"/>
                    </a:lnTo>
                    <a:lnTo>
                      <a:pt x="331" y="102"/>
                    </a:lnTo>
                    <a:lnTo>
                      <a:pt x="314" y="106"/>
                    </a:lnTo>
                    <a:lnTo>
                      <a:pt x="296" y="106"/>
                    </a:lnTo>
                    <a:lnTo>
                      <a:pt x="273" y="106"/>
                    </a:lnTo>
                    <a:lnTo>
                      <a:pt x="255" y="106"/>
                    </a:lnTo>
                    <a:lnTo>
                      <a:pt x="242" y="111"/>
                    </a:lnTo>
                    <a:lnTo>
                      <a:pt x="224" y="111"/>
                    </a:lnTo>
                    <a:lnTo>
                      <a:pt x="202" y="111"/>
                    </a:lnTo>
                    <a:lnTo>
                      <a:pt x="180" y="111"/>
                    </a:lnTo>
                    <a:lnTo>
                      <a:pt x="163" y="111"/>
                    </a:lnTo>
                    <a:lnTo>
                      <a:pt x="145" y="111"/>
                    </a:lnTo>
                    <a:lnTo>
                      <a:pt x="127" y="111"/>
                    </a:lnTo>
                    <a:lnTo>
                      <a:pt x="105" y="111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48" y="106"/>
                    </a:lnTo>
                    <a:lnTo>
                      <a:pt x="26" y="106"/>
                    </a:lnTo>
                    <a:lnTo>
                      <a:pt x="8" y="106"/>
                    </a:lnTo>
                    <a:lnTo>
                      <a:pt x="4" y="106"/>
                    </a:lnTo>
                    <a:lnTo>
                      <a:pt x="0" y="111"/>
                    </a:lnTo>
                    <a:lnTo>
                      <a:pt x="4" y="115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813720" y="5510160"/>
                <a:ext cx="203400" cy="86040"/>
              </a:xfrm>
              <a:custGeom>
                <a:avLst/>
                <a:gdLst/>
                <a:ahLst/>
                <a:rect l="0" t="0" r="r" b="b"/>
                <a:pathLst>
                  <a:path w="565" h="239">
                    <a:moveTo>
                      <a:pt x="4" y="0"/>
                    </a:moveTo>
                    <a:lnTo>
                      <a:pt x="0" y="8"/>
                    </a:lnTo>
                    <a:lnTo>
                      <a:pt x="13" y="22"/>
                    </a:lnTo>
                    <a:lnTo>
                      <a:pt x="26" y="35"/>
                    </a:lnTo>
                    <a:lnTo>
                      <a:pt x="35" y="48"/>
                    </a:lnTo>
                    <a:lnTo>
                      <a:pt x="52" y="61"/>
                    </a:lnTo>
                    <a:lnTo>
                      <a:pt x="61" y="70"/>
                    </a:lnTo>
                    <a:lnTo>
                      <a:pt x="79" y="88"/>
                    </a:lnTo>
                    <a:lnTo>
                      <a:pt x="92" y="97"/>
                    </a:lnTo>
                    <a:lnTo>
                      <a:pt x="105" y="105"/>
                    </a:lnTo>
                    <a:lnTo>
                      <a:pt x="123" y="120"/>
                    </a:lnTo>
                    <a:lnTo>
                      <a:pt x="141" y="128"/>
                    </a:lnTo>
                    <a:lnTo>
                      <a:pt x="154" y="137"/>
                    </a:lnTo>
                    <a:lnTo>
                      <a:pt x="171" y="150"/>
                    </a:lnTo>
                    <a:lnTo>
                      <a:pt x="189" y="155"/>
                    </a:lnTo>
                    <a:lnTo>
                      <a:pt x="207" y="168"/>
                    </a:lnTo>
                    <a:lnTo>
                      <a:pt x="224" y="172"/>
                    </a:lnTo>
                    <a:lnTo>
                      <a:pt x="242" y="181"/>
                    </a:lnTo>
                    <a:lnTo>
                      <a:pt x="260" y="186"/>
                    </a:lnTo>
                    <a:lnTo>
                      <a:pt x="283" y="195"/>
                    </a:lnTo>
                    <a:lnTo>
                      <a:pt x="300" y="199"/>
                    </a:lnTo>
                    <a:lnTo>
                      <a:pt x="318" y="208"/>
                    </a:lnTo>
                    <a:lnTo>
                      <a:pt x="340" y="212"/>
                    </a:lnTo>
                    <a:lnTo>
                      <a:pt x="358" y="217"/>
                    </a:lnTo>
                    <a:lnTo>
                      <a:pt x="375" y="221"/>
                    </a:lnTo>
                    <a:lnTo>
                      <a:pt x="397" y="225"/>
                    </a:lnTo>
                    <a:lnTo>
                      <a:pt x="419" y="230"/>
                    </a:lnTo>
                    <a:lnTo>
                      <a:pt x="441" y="230"/>
                    </a:lnTo>
                    <a:lnTo>
                      <a:pt x="464" y="230"/>
                    </a:lnTo>
                    <a:lnTo>
                      <a:pt x="481" y="234"/>
                    </a:lnTo>
                    <a:lnTo>
                      <a:pt x="503" y="239"/>
                    </a:lnTo>
                    <a:lnTo>
                      <a:pt x="521" y="239"/>
                    </a:lnTo>
                    <a:lnTo>
                      <a:pt x="543" y="239"/>
                    </a:lnTo>
                    <a:lnTo>
                      <a:pt x="565" y="239"/>
                    </a:lnTo>
                    <a:lnTo>
                      <a:pt x="565" y="230"/>
                    </a:lnTo>
                    <a:lnTo>
                      <a:pt x="543" y="230"/>
                    </a:lnTo>
                    <a:lnTo>
                      <a:pt x="521" y="230"/>
                    </a:lnTo>
                    <a:lnTo>
                      <a:pt x="503" y="230"/>
                    </a:lnTo>
                    <a:lnTo>
                      <a:pt x="481" y="230"/>
                    </a:lnTo>
                    <a:lnTo>
                      <a:pt x="464" y="225"/>
                    </a:lnTo>
                    <a:lnTo>
                      <a:pt x="441" y="221"/>
                    </a:lnTo>
                    <a:lnTo>
                      <a:pt x="419" y="217"/>
                    </a:lnTo>
                    <a:lnTo>
                      <a:pt x="397" y="217"/>
                    </a:lnTo>
                    <a:lnTo>
                      <a:pt x="380" y="212"/>
                    </a:lnTo>
                    <a:lnTo>
                      <a:pt x="362" y="208"/>
                    </a:lnTo>
                    <a:lnTo>
                      <a:pt x="340" y="199"/>
                    </a:lnTo>
                    <a:lnTo>
                      <a:pt x="322" y="199"/>
                    </a:lnTo>
                    <a:lnTo>
                      <a:pt x="305" y="190"/>
                    </a:lnTo>
                    <a:lnTo>
                      <a:pt x="283" y="186"/>
                    </a:lnTo>
                    <a:lnTo>
                      <a:pt x="264" y="181"/>
                    </a:lnTo>
                    <a:lnTo>
                      <a:pt x="246" y="172"/>
                    </a:lnTo>
                    <a:lnTo>
                      <a:pt x="229" y="164"/>
                    </a:lnTo>
                    <a:lnTo>
                      <a:pt x="211" y="155"/>
                    </a:lnTo>
                    <a:lnTo>
                      <a:pt x="194" y="150"/>
                    </a:lnTo>
                    <a:lnTo>
                      <a:pt x="176" y="137"/>
                    </a:lnTo>
                    <a:lnTo>
                      <a:pt x="158" y="133"/>
                    </a:lnTo>
                    <a:lnTo>
                      <a:pt x="145" y="120"/>
                    </a:lnTo>
                    <a:lnTo>
                      <a:pt x="127" y="110"/>
                    </a:lnTo>
                    <a:lnTo>
                      <a:pt x="114" y="101"/>
                    </a:lnTo>
                    <a:lnTo>
                      <a:pt x="101" y="88"/>
                    </a:lnTo>
                    <a:lnTo>
                      <a:pt x="83" y="79"/>
                    </a:lnTo>
                    <a:lnTo>
                      <a:pt x="70" y="66"/>
                    </a:lnTo>
                    <a:lnTo>
                      <a:pt x="57" y="57"/>
                    </a:lnTo>
                    <a:lnTo>
                      <a:pt x="44" y="39"/>
                    </a:lnTo>
                    <a:lnTo>
                      <a:pt x="35" y="30"/>
                    </a:lnTo>
                    <a:lnTo>
                      <a:pt x="22" y="17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586560" y="5450040"/>
                <a:ext cx="717840" cy="282960"/>
              </a:xfrm>
              <a:custGeom>
                <a:avLst/>
                <a:gdLst/>
                <a:ahLst/>
                <a:rect l="0" t="0" r="r" b="b"/>
                <a:pathLst>
                  <a:path w="1994" h="786">
                    <a:moveTo>
                      <a:pt x="123" y="534"/>
                    </a:moveTo>
                    <a:lnTo>
                      <a:pt x="1994" y="698"/>
                    </a:lnTo>
                    <a:lnTo>
                      <a:pt x="1994" y="786"/>
                    </a:lnTo>
                    <a:lnTo>
                      <a:pt x="123" y="614"/>
                    </a:lnTo>
                    <a:lnTo>
                      <a:pt x="123" y="534"/>
                    </a:lnTo>
                    <a:lnTo>
                      <a:pt x="8" y="0"/>
                    </a:lnTo>
                    <a:lnTo>
                      <a:pt x="1958" y="176"/>
                    </a:lnTo>
                    <a:lnTo>
                      <a:pt x="1945" y="265"/>
                    </a:lnTo>
                    <a:lnTo>
                      <a:pt x="0" y="79"/>
                    </a:lnTo>
                    <a:lnTo>
                      <a:pt x="8" y="0"/>
                    </a:lnTo>
                    <a:lnTo>
                      <a:pt x="123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858000" y="5580000"/>
                <a:ext cx="368640" cy="63720"/>
              </a:xfrm>
              <a:custGeom>
                <a:avLst/>
                <a:gdLst/>
                <a:ahLst/>
                <a:rect l="0" t="0" r="r" b="b"/>
                <a:pathLst>
                  <a:path w="1024" h="177">
                    <a:moveTo>
                      <a:pt x="88" y="0"/>
                    </a:moveTo>
                    <a:lnTo>
                      <a:pt x="4" y="102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4" y="115"/>
                    </a:lnTo>
                    <a:lnTo>
                      <a:pt x="8" y="120"/>
                    </a:lnTo>
                    <a:lnTo>
                      <a:pt x="13" y="124"/>
                    </a:lnTo>
                    <a:lnTo>
                      <a:pt x="17" y="128"/>
                    </a:lnTo>
                    <a:lnTo>
                      <a:pt x="30" y="128"/>
                    </a:lnTo>
                    <a:lnTo>
                      <a:pt x="44" y="133"/>
                    </a:lnTo>
                    <a:lnTo>
                      <a:pt x="52" y="137"/>
                    </a:lnTo>
                    <a:lnTo>
                      <a:pt x="66" y="137"/>
                    </a:lnTo>
                    <a:lnTo>
                      <a:pt x="79" y="142"/>
                    </a:lnTo>
                    <a:lnTo>
                      <a:pt x="97" y="146"/>
                    </a:lnTo>
                    <a:lnTo>
                      <a:pt x="114" y="150"/>
                    </a:lnTo>
                    <a:lnTo>
                      <a:pt x="136" y="150"/>
                    </a:lnTo>
                    <a:lnTo>
                      <a:pt x="154" y="155"/>
                    </a:lnTo>
                    <a:lnTo>
                      <a:pt x="171" y="159"/>
                    </a:lnTo>
                    <a:lnTo>
                      <a:pt x="194" y="159"/>
                    </a:lnTo>
                    <a:lnTo>
                      <a:pt x="211" y="159"/>
                    </a:lnTo>
                    <a:lnTo>
                      <a:pt x="233" y="164"/>
                    </a:lnTo>
                    <a:lnTo>
                      <a:pt x="255" y="168"/>
                    </a:lnTo>
                    <a:lnTo>
                      <a:pt x="277" y="168"/>
                    </a:lnTo>
                    <a:lnTo>
                      <a:pt x="299" y="172"/>
                    </a:lnTo>
                    <a:lnTo>
                      <a:pt x="321" y="172"/>
                    </a:lnTo>
                    <a:lnTo>
                      <a:pt x="343" y="172"/>
                    </a:lnTo>
                    <a:lnTo>
                      <a:pt x="366" y="172"/>
                    </a:lnTo>
                    <a:lnTo>
                      <a:pt x="388" y="177"/>
                    </a:lnTo>
                    <a:lnTo>
                      <a:pt x="410" y="177"/>
                    </a:lnTo>
                    <a:lnTo>
                      <a:pt x="432" y="177"/>
                    </a:lnTo>
                    <a:lnTo>
                      <a:pt x="454" y="177"/>
                    </a:lnTo>
                    <a:lnTo>
                      <a:pt x="471" y="177"/>
                    </a:lnTo>
                    <a:lnTo>
                      <a:pt x="493" y="177"/>
                    </a:lnTo>
                    <a:lnTo>
                      <a:pt x="511" y="177"/>
                    </a:lnTo>
                    <a:lnTo>
                      <a:pt x="530" y="177"/>
                    </a:lnTo>
                    <a:lnTo>
                      <a:pt x="547" y="177"/>
                    </a:lnTo>
                    <a:lnTo>
                      <a:pt x="565" y="177"/>
                    </a:lnTo>
                    <a:lnTo>
                      <a:pt x="587" y="177"/>
                    </a:lnTo>
                    <a:lnTo>
                      <a:pt x="609" y="177"/>
                    </a:lnTo>
                    <a:lnTo>
                      <a:pt x="627" y="172"/>
                    </a:lnTo>
                    <a:lnTo>
                      <a:pt x="649" y="172"/>
                    </a:lnTo>
                    <a:lnTo>
                      <a:pt x="671" y="172"/>
                    </a:lnTo>
                    <a:lnTo>
                      <a:pt x="693" y="172"/>
                    </a:lnTo>
                    <a:lnTo>
                      <a:pt x="715" y="172"/>
                    </a:lnTo>
                    <a:lnTo>
                      <a:pt x="737" y="168"/>
                    </a:lnTo>
                    <a:lnTo>
                      <a:pt x="759" y="168"/>
                    </a:lnTo>
                    <a:lnTo>
                      <a:pt x="781" y="164"/>
                    </a:lnTo>
                    <a:lnTo>
                      <a:pt x="799" y="164"/>
                    </a:lnTo>
                    <a:lnTo>
                      <a:pt x="825" y="159"/>
                    </a:lnTo>
                    <a:lnTo>
                      <a:pt x="843" y="159"/>
                    </a:lnTo>
                    <a:lnTo>
                      <a:pt x="860" y="159"/>
                    </a:lnTo>
                    <a:lnTo>
                      <a:pt x="882" y="155"/>
                    </a:lnTo>
                    <a:lnTo>
                      <a:pt x="900" y="150"/>
                    </a:lnTo>
                    <a:lnTo>
                      <a:pt x="918" y="150"/>
                    </a:lnTo>
                    <a:lnTo>
                      <a:pt x="935" y="146"/>
                    </a:lnTo>
                    <a:lnTo>
                      <a:pt x="949" y="142"/>
                    </a:lnTo>
                    <a:lnTo>
                      <a:pt x="966" y="137"/>
                    </a:lnTo>
                    <a:lnTo>
                      <a:pt x="979" y="137"/>
                    </a:lnTo>
                    <a:lnTo>
                      <a:pt x="988" y="133"/>
                    </a:lnTo>
                    <a:lnTo>
                      <a:pt x="1002" y="128"/>
                    </a:lnTo>
                    <a:lnTo>
                      <a:pt x="1010" y="128"/>
                    </a:lnTo>
                    <a:lnTo>
                      <a:pt x="1015" y="120"/>
                    </a:lnTo>
                    <a:lnTo>
                      <a:pt x="1019" y="115"/>
                    </a:lnTo>
                    <a:lnTo>
                      <a:pt x="1024" y="115"/>
                    </a:lnTo>
                    <a:lnTo>
                      <a:pt x="1024" y="111"/>
                    </a:lnTo>
                    <a:lnTo>
                      <a:pt x="1024" y="106"/>
                    </a:lnTo>
                    <a:lnTo>
                      <a:pt x="957" y="8"/>
                    </a:lnTo>
                    <a:lnTo>
                      <a:pt x="949" y="13"/>
                    </a:lnTo>
                    <a:lnTo>
                      <a:pt x="935" y="17"/>
                    </a:lnTo>
                    <a:lnTo>
                      <a:pt x="922" y="22"/>
                    </a:lnTo>
                    <a:lnTo>
                      <a:pt x="913" y="26"/>
                    </a:lnTo>
                    <a:lnTo>
                      <a:pt x="900" y="26"/>
                    </a:lnTo>
                    <a:lnTo>
                      <a:pt x="887" y="30"/>
                    </a:lnTo>
                    <a:lnTo>
                      <a:pt x="874" y="35"/>
                    </a:lnTo>
                    <a:lnTo>
                      <a:pt x="860" y="39"/>
                    </a:lnTo>
                    <a:lnTo>
                      <a:pt x="847" y="39"/>
                    </a:lnTo>
                    <a:lnTo>
                      <a:pt x="834" y="44"/>
                    </a:lnTo>
                    <a:lnTo>
                      <a:pt x="825" y="44"/>
                    </a:lnTo>
                    <a:lnTo>
                      <a:pt x="807" y="48"/>
                    </a:lnTo>
                    <a:lnTo>
                      <a:pt x="799" y="48"/>
                    </a:lnTo>
                    <a:lnTo>
                      <a:pt x="781" y="48"/>
                    </a:lnTo>
                    <a:lnTo>
                      <a:pt x="768" y="52"/>
                    </a:lnTo>
                    <a:lnTo>
                      <a:pt x="755" y="52"/>
                    </a:lnTo>
                    <a:lnTo>
                      <a:pt x="737" y="52"/>
                    </a:lnTo>
                    <a:lnTo>
                      <a:pt x="728" y="57"/>
                    </a:lnTo>
                    <a:lnTo>
                      <a:pt x="710" y="57"/>
                    </a:lnTo>
                    <a:lnTo>
                      <a:pt x="697" y="61"/>
                    </a:lnTo>
                    <a:lnTo>
                      <a:pt x="684" y="61"/>
                    </a:lnTo>
                    <a:lnTo>
                      <a:pt x="671" y="61"/>
                    </a:lnTo>
                    <a:lnTo>
                      <a:pt x="653" y="61"/>
                    </a:lnTo>
                    <a:lnTo>
                      <a:pt x="644" y="61"/>
                    </a:lnTo>
                    <a:lnTo>
                      <a:pt x="627" y="61"/>
                    </a:lnTo>
                    <a:lnTo>
                      <a:pt x="618" y="61"/>
                    </a:lnTo>
                    <a:lnTo>
                      <a:pt x="600" y="61"/>
                    </a:lnTo>
                    <a:lnTo>
                      <a:pt x="587" y="61"/>
                    </a:lnTo>
                    <a:lnTo>
                      <a:pt x="574" y="61"/>
                    </a:lnTo>
                    <a:lnTo>
                      <a:pt x="556" y="61"/>
                    </a:lnTo>
                    <a:lnTo>
                      <a:pt x="543" y="61"/>
                    </a:lnTo>
                    <a:lnTo>
                      <a:pt x="530" y="61"/>
                    </a:lnTo>
                    <a:lnTo>
                      <a:pt x="516" y="61"/>
                    </a:lnTo>
                    <a:lnTo>
                      <a:pt x="498" y="61"/>
                    </a:lnTo>
                    <a:lnTo>
                      <a:pt x="480" y="61"/>
                    </a:lnTo>
                    <a:lnTo>
                      <a:pt x="467" y="61"/>
                    </a:lnTo>
                    <a:lnTo>
                      <a:pt x="445" y="61"/>
                    </a:lnTo>
                    <a:lnTo>
                      <a:pt x="427" y="61"/>
                    </a:lnTo>
                    <a:lnTo>
                      <a:pt x="405" y="61"/>
                    </a:lnTo>
                    <a:lnTo>
                      <a:pt x="388" y="61"/>
                    </a:lnTo>
                    <a:lnTo>
                      <a:pt x="370" y="61"/>
                    </a:lnTo>
                    <a:lnTo>
                      <a:pt x="348" y="61"/>
                    </a:lnTo>
                    <a:lnTo>
                      <a:pt x="326" y="61"/>
                    </a:lnTo>
                    <a:lnTo>
                      <a:pt x="308" y="57"/>
                    </a:lnTo>
                    <a:lnTo>
                      <a:pt x="286" y="57"/>
                    </a:lnTo>
                    <a:lnTo>
                      <a:pt x="268" y="52"/>
                    </a:lnTo>
                    <a:lnTo>
                      <a:pt x="255" y="52"/>
                    </a:lnTo>
                    <a:lnTo>
                      <a:pt x="233" y="48"/>
                    </a:lnTo>
                    <a:lnTo>
                      <a:pt x="216" y="48"/>
                    </a:lnTo>
                    <a:lnTo>
                      <a:pt x="198" y="48"/>
                    </a:lnTo>
                    <a:lnTo>
                      <a:pt x="185" y="44"/>
                    </a:lnTo>
                    <a:lnTo>
                      <a:pt x="167" y="44"/>
                    </a:lnTo>
                    <a:lnTo>
                      <a:pt x="154" y="39"/>
                    </a:lnTo>
                    <a:lnTo>
                      <a:pt x="136" y="39"/>
                    </a:lnTo>
                    <a:lnTo>
                      <a:pt x="127" y="35"/>
                    </a:lnTo>
                    <a:lnTo>
                      <a:pt x="114" y="30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2" y="22"/>
                    </a:lnTo>
                    <a:lnTo>
                      <a:pt x="88" y="17"/>
                    </a:lnTo>
                    <a:lnTo>
                      <a:pt x="83" y="13"/>
                    </a:lnTo>
                    <a:lnTo>
                      <a:pt x="83" y="8"/>
                    </a:lnTo>
                    <a:lnTo>
                      <a:pt x="83" y="4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858000" y="558000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10" y="93"/>
                    </a:moveTo>
                    <a:lnTo>
                      <a:pt x="10" y="93"/>
                    </a:lnTo>
                    <a:lnTo>
                      <a:pt x="72" y="4"/>
                    </a:lnTo>
                    <a:lnTo>
                      <a:pt x="67" y="0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5" y="93"/>
                    </a:lnTo>
                    <a:lnTo>
                      <a:pt x="5" y="98"/>
                    </a:lnTo>
                    <a:lnTo>
                      <a:pt x="1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858000" y="5627520"/>
                <a:ext cx="179640" cy="25920"/>
              </a:xfrm>
              <a:custGeom>
                <a:avLst/>
                <a:gdLst/>
                <a:ahLst/>
                <a:rect l="0" t="0" r="r" b="b"/>
                <a:pathLst>
                  <a:path w="499" h="72">
                    <a:moveTo>
                      <a:pt x="490" y="62"/>
                    </a:moveTo>
                    <a:lnTo>
                      <a:pt x="490" y="62"/>
                    </a:lnTo>
                    <a:lnTo>
                      <a:pt x="472" y="62"/>
                    </a:lnTo>
                    <a:lnTo>
                      <a:pt x="455" y="62"/>
                    </a:lnTo>
                    <a:lnTo>
                      <a:pt x="437" y="62"/>
                    </a:lnTo>
                    <a:lnTo>
                      <a:pt x="415" y="62"/>
                    </a:lnTo>
                    <a:lnTo>
                      <a:pt x="397" y="62"/>
                    </a:lnTo>
                    <a:lnTo>
                      <a:pt x="375" y="62"/>
                    </a:lnTo>
                    <a:lnTo>
                      <a:pt x="358" y="62"/>
                    </a:lnTo>
                    <a:lnTo>
                      <a:pt x="336" y="57"/>
                    </a:lnTo>
                    <a:lnTo>
                      <a:pt x="314" y="57"/>
                    </a:lnTo>
                    <a:lnTo>
                      <a:pt x="292" y="57"/>
                    </a:lnTo>
                    <a:lnTo>
                      <a:pt x="269" y="57"/>
                    </a:lnTo>
                    <a:lnTo>
                      <a:pt x="252" y="51"/>
                    </a:lnTo>
                    <a:lnTo>
                      <a:pt x="229" y="51"/>
                    </a:lnTo>
                    <a:lnTo>
                      <a:pt x="207" y="51"/>
                    </a:lnTo>
                    <a:lnTo>
                      <a:pt x="185" y="46"/>
                    </a:lnTo>
                    <a:lnTo>
                      <a:pt x="167" y="46"/>
                    </a:lnTo>
                    <a:lnTo>
                      <a:pt x="149" y="46"/>
                    </a:lnTo>
                    <a:lnTo>
                      <a:pt x="132" y="41"/>
                    </a:lnTo>
                    <a:lnTo>
                      <a:pt x="114" y="41"/>
                    </a:lnTo>
                    <a:lnTo>
                      <a:pt x="97" y="36"/>
                    </a:lnTo>
                    <a:lnTo>
                      <a:pt x="83" y="31"/>
                    </a:lnTo>
                    <a:lnTo>
                      <a:pt x="70" y="31"/>
                    </a:lnTo>
                    <a:lnTo>
                      <a:pt x="52" y="26"/>
                    </a:lnTo>
                    <a:lnTo>
                      <a:pt x="44" y="26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17" y="15"/>
                    </a:lnTo>
                    <a:lnTo>
                      <a:pt x="13" y="15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8" y="21"/>
                    </a:lnTo>
                    <a:lnTo>
                      <a:pt x="13" y="21"/>
                    </a:lnTo>
                    <a:lnTo>
                      <a:pt x="22" y="26"/>
                    </a:lnTo>
                    <a:lnTo>
                      <a:pt x="30" y="26"/>
                    </a:lnTo>
                    <a:lnTo>
                      <a:pt x="39" y="31"/>
                    </a:lnTo>
                    <a:lnTo>
                      <a:pt x="52" y="36"/>
                    </a:lnTo>
                    <a:lnTo>
                      <a:pt x="66" y="41"/>
                    </a:lnTo>
                    <a:lnTo>
                      <a:pt x="79" y="41"/>
                    </a:lnTo>
                    <a:lnTo>
                      <a:pt x="97" y="46"/>
                    </a:lnTo>
                    <a:lnTo>
                      <a:pt x="114" y="46"/>
                    </a:lnTo>
                    <a:lnTo>
                      <a:pt x="127" y="51"/>
                    </a:lnTo>
                    <a:lnTo>
                      <a:pt x="145" y="51"/>
                    </a:lnTo>
                    <a:lnTo>
                      <a:pt x="163" y="51"/>
                    </a:lnTo>
                    <a:lnTo>
                      <a:pt x="185" y="57"/>
                    </a:lnTo>
                    <a:lnTo>
                      <a:pt x="207" y="57"/>
                    </a:lnTo>
                    <a:lnTo>
                      <a:pt x="229" y="57"/>
                    </a:lnTo>
                    <a:lnTo>
                      <a:pt x="246" y="62"/>
                    </a:lnTo>
                    <a:lnTo>
                      <a:pt x="269" y="62"/>
                    </a:lnTo>
                    <a:lnTo>
                      <a:pt x="292" y="62"/>
                    </a:lnTo>
                    <a:lnTo>
                      <a:pt x="314" y="67"/>
                    </a:lnTo>
                    <a:lnTo>
                      <a:pt x="336" y="67"/>
                    </a:lnTo>
                    <a:lnTo>
                      <a:pt x="353" y="67"/>
                    </a:lnTo>
                    <a:lnTo>
                      <a:pt x="375" y="67"/>
                    </a:lnTo>
                    <a:lnTo>
                      <a:pt x="397" y="67"/>
                    </a:lnTo>
                    <a:lnTo>
                      <a:pt x="415" y="67"/>
                    </a:lnTo>
                    <a:lnTo>
                      <a:pt x="437" y="72"/>
                    </a:lnTo>
                    <a:lnTo>
                      <a:pt x="455" y="72"/>
                    </a:lnTo>
                    <a:lnTo>
                      <a:pt x="472" y="72"/>
                    </a:lnTo>
                    <a:lnTo>
                      <a:pt x="490" y="72"/>
                    </a:lnTo>
                    <a:lnTo>
                      <a:pt x="494" y="67"/>
                    </a:lnTo>
                    <a:lnTo>
                      <a:pt x="499" y="67"/>
                    </a:lnTo>
                    <a:lnTo>
                      <a:pt x="494" y="62"/>
                    </a:lnTo>
                    <a:lnTo>
                      <a:pt x="4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050240" y="5627520"/>
                <a:ext cx="179640" cy="25920"/>
              </a:xfrm>
              <a:custGeom>
                <a:avLst/>
                <a:gdLst/>
                <a:ahLst/>
                <a:rect l="0" t="0" r="r" b="b"/>
                <a:pathLst>
                  <a:path w="499" h="72">
                    <a:moveTo>
                      <a:pt x="490" y="5"/>
                    </a:moveTo>
                    <a:lnTo>
                      <a:pt x="486" y="5"/>
                    </a:lnTo>
                    <a:lnTo>
                      <a:pt x="490" y="5"/>
                    </a:lnTo>
                    <a:lnTo>
                      <a:pt x="486" y="10"/>
                    </a:lnTo>
                    <a:lnTo>
                      <a:pt x="486" y="10"/>
                    </a:lnTo>
                    <a:lnTo>
                      <a:pt x="486" y="15"/>
                    </a:lnTo>
                    <a:lnTo>
                      <a:pt x="477" y="15"/>
                    </a:lnTo>
                    <a:lnTo>
                      <a:pt x="468" y="21"/>
                    </a:lnTo>
                    <a:lnTo>
                      <a:pt x="459" y="26"/>
                    </a:lnTo>
                    <a:lnTo>
                      <a:pt x="446" y="26"/>
                    </a:lnTo>
                    <a:lnTo>
                      <a:pt x="437" y="31"/>
                    </a:lnTo>
                    <a:lnTo>
                      <a:pt x="419" y="31"/>
                    </a:lnTo>
                    <a:lnTo>
                      <a:pt x="406" y="36"/>
                    </a:lnTo>
                    <a:lnTo>
                      <a:pt x="393" y="41"/>
                    </a:lnTo>
                    <a:lnTo>
                      <a:pt x="375" y="41"/>
                    </a:lnTo>
                    <a:lnTo>
                      <a:pt x="358" y="46"/>
                    </a:lnTo>
                    <a:lnTo>
                      <a:pt x="340" y="46"/>
                    </a:lnTo>
                    <a:lnTo>
                      <a:pt x="322" y="46"/>
                    </a:lnTo>
                    <a:lnTo>
                      <a:pt x="300" y="51"/>
                    </a:lnTo>
                    <a:lnTo>
                      <a:pt x="278" y="51"/>
                    </a:lnTo>
                    <a:lnTo>
                      <a:pt x="256" y="51"/>
                    </a:lnTo>
                    <a:lnTo>
                      <a:pt x="238" y="57"/>
                    </a:lnTo>
                    <a:lnTo>
                      <a:pt x="216" y="57"/>
                    </a:lnTo>
                    <a:lnTo>
                      <a:pt x="198" y="57"/>
                    </a:lnTo>
                    <a:lnTo>
                      <a:pt x="176" y="57"/>
                    </a:lnTo>
                    <a:lnTo>
                      <a:pt x="154" y="57"/>
                    </a:lnTo>
                    <a:lnTo>
                      <a:pt x="132" y="62"/>
                    </a:lnTo>
                    <a:lnTo>
                      <a:pt x="110" y="62"/>
                    </a:lnTo>
                    <a:lnTo>
                      <a:pt x="92" y="62"/>
                    </a:lnTo>
                    <a:lnTo>
                      <a:pt x="70" y="62"/>
                    </a:lnTo>
                    <a:lnTo>
                      <a:pt x="52" y="62"/>
                    </a:lnTo>
                    <a:lnTo>
                      <a:pt x="35" y="62"/>
                    </a:lnTo>
                    <a:lnTo>
                      <a:pt x="17" y="6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17" y="72"/>
                    </a:lnTo>
                    <a:lnTo>
                      <a:pt x="35" y="72"/>
                    </a:lnTo>
                    <a:lnTo>
                      <a:pt x="52" y="72"/>
                    </a:lnTo>
                    <a:lnTo>
                      <a:pt x="70" y="67"/>
                    </a:lnTo>
                    <a:lnTo>
                      <a:pt x="92" y="67"/>
                    </a:lnTo>
                    <a:lnTo>
                      <a:pt x="110" y="67"/>
                    </a:lnTo>
                    <a:lnTo>
                      <a:pt x="132" y="67"/>
                    </a:lnTo>
                    <a:lnTo>
                      <a:pt x="154" y="67"/>
                    </a:lnTo>
                    <a:lnTo>
                      <a:pt x="176" y="67"/>
                    </a:lnTo>
                    <a:lnTo>
                      <a:pt x="198" y="62"/>
                    </a:lnTo>
                    <a:lnTo>
                      <a:pt x="216" y="62"/>
                    </a:lnTo>
                    <a:lnTo>
                      <a:pt x="238" y="62"/>
                    </a:lnTo>
                    <a:lnTo>
                      <a:pt x="261" y="62"/>
                    </a:lnTo>
                    <a:lnTo>
                      <a:pt x="278" y="57"/>
                    </a:lnTo>
                    <a:lnTo>
                      <a:pt x="300" y="57"/>
                    </a:lnTo>
                    <a:lnTo>
                      <a:pt x="322" y="57"/>
                    </a:lnTo>
                    <a:lnTo>
                      <a:pt x="340" y="51"/>
                    </a:lnTo>
                    <a:lnTo>
                      <a:pt x="358" y="51"/>
                    </a:lnTo>
                    <a:lnTo>
                      <a:pt x="375" y="46"/>
                    </a:lnTo>
                    <a:lnTo>
                      <a:pt x="393" y="46"/>
                    </a:lnTo>
                    <a:lnTo>
                      <a:pt x="411" y="41"/>
                    </a:lnTo>
                    <a:lnTo>
                      <a:pt x="424" y="41"/>
                    </a:lnTo>
                    <a:lnTo>
                      <a:pt x="441" y="36"/>
                    </a:lnTo>
                    <a:lnTo>
                      <a:pt x="450" y="31"/>
                    </a:lnTo>
                    <a:lnTo>
                      <a:pt x="464" y="31"/>
                    </a:lnTo>
                    <a:lnTo>
                      <a:pt x="472" y="26"/>
                    </a:lnTo>
                    <a:lnTo>
                      <a:pt x="486" y="26"/>
                    </a:lnTo>
                    <a:lnTo>
                      <a:pt x="486" y="21"/>
                    </a:lnTo>
                    <a:lnTo>
                      <a:pt x="494" y="15"/>
                    </a:lnTo>
                    <a:lnTo>
                      <a:pt x="499" y="15"/>
                    </a:lnTo>
                    <a:lnTo>
                      <a:pt x="499" y="10"/>
                    </a:lnTo>
                    <a:lnTo>
                      <a:pt x="499" y="5"/>
                    </a:lnTo>
                    <a:lnTo>
                      <a:pt x="499" y="0"/>
                    </a:lnTo>
                    <a:lnTo>
                      <a:pt x="499" y="5"/>
                    </a:lnTo>
                    <a:lnTo>
                      <a:pt x="494" y="0"/>
                    </a:lnTo>
                    <a:lnTo>
                      <a:pt x="490" y="0"/>
                    </a:lnTo>
                    <a:lnTo>
                      <a:pt x="490" y="5"/>
                    </a:lnTo>
                    <a:lnTo>
                      <a:pt x="486" y="5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216920" y="5583240"/>
                <a:ext cx="25920" cy="32040"/>
              </a:xfrm>
              <a:custGeom>
                <a:avLst/>
                <a:gdLst/>
                <a:ahLst/>
                <a:rect l="0" t="0" r="r" b="b"/>
                <a:pathLst>
                  <a:path w="72" h="89">
                    <a:moveTo>
                      <a:pt x="8" y="4"/>
                    </a:moveTo>
                    <a:lnTo>
                      <a:pt x="0" y="4"/>
                    </a:lnTo>
                    <a:lnTo>
                      <a:pt x="63" y="89"/>
                    </a:lnTo>
                    <a:lnTo>
                      <a:pt x="72" y="8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054920" y="5583240"/>
                <a:ext cx="149760" cy="25920"/>
              </a:xfrm>
              <a:custGeom>
                <a:avLst/>
                <a:gdLst/>
                <a:ahLst/>
                <a:rect l="0" t="0" r="r" b="b"/>
                <a:pathLst>
                  <a:path w="416" h="72">
                    <a:moveTo>
                      <a:pt x="8" y="72"/>
                    </a:moveTo>
                    <a:lnTo>
                      <a:pt x="8" y="72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8" y="72"/>
                    </a:lnTo>
                    <a:lnTo>
                      <a:pt x="57" y="72"/>
                    </a:lnTo>
                    <a:lnTo>
                      <a:pt x="70" y="72"/>
                    </a:lnTo>
                    <a:lnTo>
                      <a:pt x="88" y="72"/>
                    </a:lnTo>
                    <a:lnTo>
                      <a:pt x="97" y="72"/>
                    </a:lnTo>
                    <a:lnTo>
                      <a:pt x="115" y="72"/>
                    </a:lnTo>
                    <a:lnTo>
                      <a:pt x="128" y="72"/>
                    </a:lnTo>
                    <a:lnTo>
                      <a:pt x="137" y="63"/>
                    </a:lnTo>
                    <a:lnTo>
                      <a:pt x="155" y="63"/>
                    </a:lnTo>
                    <a:lnTo>
                      <a:pt x="168" y="63"/>
                    </a:lnTo>
                    <a:lnTo>
                      <a:pt x="177" y="63"/>
                    </a:lnTo>
                    <a:lnTo>
                      <a:pt x="195" y="63"/>
                    </a:lnTo>
                    <a:lnTo>
                      <a:pt x="208" y="63"/>
                    </a:lnTo>
                    <a:lnTo>
                      <a:pt x="217" y="53"/>
                    </a:lnTo>
                    <a:lnTo>
                      <a:pt x="234" y="53"/>
                    </a:lnTo>
                    <a:lnTo>
                      <a:pt x="243" y="53"/>
                    </a:lnTo>
                    <a:lnTo>
                      <a:pt x="261" y="53"/>
                    </a:lnTo>
                    <a:lnTo>
                      <a:pt x="269" y="53"/>
                    </a:lnTo>
                    <a:lnTo>
                      <a:pt x="283" y="53"/>
                    </a:lnTo>
                    <a:lnTo>
                      <a:pt x="296" y="45"/>
                    </a:lnTo>
                    <a:lnTo>
                      <a:pt x="309" y="45"/>
                    </a:lnTo>
                    <a:lnTo>
                      <a:pt x="323" y="45"/>
                    </a:lnTo>
                    <a:lnTo>
                      <a:pt x="337" y="36"/>
                    </a:lnTo>
                    <a:lnTo>
                      <a:pt x="345" y="36"/>
                    </a:lnTo>
                    <a:lnTo>
                      <a:pt x="359" y="36"/>
                    </a:lnTo>
                    <a:lnTo>
                      <a:pt x="368" y="27"/>
                    </a:lnTo>
                    <a:lnTo>
                      <a:pt x="385" y="17"/>
                    </a:lnTo>
                    <a:lnTo>
                      <a:pt x="394" y="17"/>
                    </a:lnTo>
                    <a:lnTo>
                      <a:pt x="407" y="17"/>
                    </a:lnTo>
                    <a:lnTo>
                      <a:pt x="416" y="8"/>
                    </a:lnTo>
                    <a:lnTo>
                      <a:pt x="412" y="0"/>
                    </a:lnTo>
                    <a:lnTo>
                      <a:pt x="403" y="0"/>
                    </a:lnTo>
                    <a:lnTo>
                      <a:pt x="390" y="8"/>
                    </a:lnTo>
                    <a:lnTo>
                      <a:pt x="381" y="17"/>
                    </a:lnTo>
                    <a:lnTo>
                      <a:pt x="368" y="17"/>
                    </a:lnTo>
                    <a:lnTo>
                      <a:pt x="354" y="17"/>
                    </a:lnTo>
                    <a:lnTo>
                      <a:pt x="345" y="27"/>
                    </a:lnTo>
                    <a:lnTo>
                      <a:pt x="332" y="27"/>
                    </a:lnTo>
                    <a:lnTo>
                      <a:pt x="323" y="36"/>
                    </a:lnTo>
                    <a:lnTo>
                      <a:pt x="305" y="36"/>
                    </a:lnTo>
                    <a:lnTo>
                      <a:pt x="296" y="36"/>
                    </a:lnTo>
                    <a:lnTo>
                      <a:pt x="278" y="36"/>
                    </a:lnTo>
                    <a:lnTo>
                      <a:pt x="269" y="45"/>
                    </a:lnTo>
                    <a:lnTo>
                      <a:pt x="256" y="45"/>
                    </a:lnTo>
                    <a:lnTo>
                      <a:pt x="243" y="45"/>
                    </a:lnTo>
                    <a:lnTo>
                      <a:pt x="230" y="45"/>
                    </a:lnTo>
                    <a:lnTo>
                      <a:pt x="217" y="53"/>
                    </a:lnTo>
                    <a:lnTo>
                      <a:pt x="203" y="53"/>
                    </a:lnTo>
                    <a:lnTo>
                      <a:pt x="195" y="53"/>
                    </a:lnTo>
                    <a:lnTo>
                      <a:pt x="177" y="53"/>
                    </a:lnTo>
                    <a:lnTo>
                      <a:pt x="164" y="53"/>
                    </a:lnTo>
                    <a:lnTo>
                      <a:pt x="155" y="53"/>
                    </a:lnTo>
                    <a:lnTo>
                      <a:pt x="137" y="53"/>
                    </a:lnTo>
                    <a:lnTo>
                      <a:pt x="124" y="53"/>
                    </a:lnTo>
                    <a:lnTo>
                      <a:pt x="115" y="53"/>
                    </a:lnTo>
                    <a:lnTo>
                      <a:pt x="97" y="53"/>
                    </a:lnTo>
                    <a:lnTo>
                      <a:pt x="83" y="53"/>
                    </a:lnTo>
                    <a:lnTo>
                      <a:pt x="70" y="53"/>
                    </a:lnTo>
                    <a:lnTo>
                      <a:pt x="57" y="63"/>
                    </a:lnTo>
                    <a:lnTo>
                      <a:pt x="48" y="63"/>
                    </a:lnTo>
                    <a:lnTo>
                      <a:pt x="30" y="63"/>
                    </a:lnTo>
                    <a:lnTo>
                      <a:pt x="17" y="63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63"/>
                    </a:lnTo>
                    <a:lnTo>
                      <a:pt x="4" y="72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891480" y="5580000"/>
                <a:ext cx="151200" cy="25920"/>
              </a:xfrm>
              <a:custGeom>
                <a:avLst/>
                <a:gdLst/>
                <a:ahLst/>
                <a:rect l="0" t="0" r="r" b="b"/>
                <a:pathLst>
                  <a:path w="420" h="72">
                    <a:moveTo>
                      <a:pt x="13" y="7"/>
                    </a:moveTo>
                    <a:lnTo>
                      <a:pt x="8" y="0"/>
                    </a:lnTo>
                    <a:lnTo>
                      <a:pt x="4" y="7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8" y="29"/>
                    </a:lnTo>
                    <a:lnTo>
                      <a:pt x="17" y="29"/>
                    </a:lnTo>
                    <a:lnTo>
                      <a:pt x="26" y="36"/>
                    </a:lnTo>
                    <a:lnTo>
                      <a:pt x="35" y="36"/>
                    </a:lnTo>
                    <a:lnTo>
                      <a:pt x="44" y="43"/>
                    </a:lnTo>
                    <a:lnTo>
                      <a:pt x="57" y="43"/>
                    </a:lnTo>
                    <a:lnTo>
                      <a:pt x="66" y="50"/>
                    </a:lnTo>
                    <a:lnTo>
                      <a:pt x="83" y="50"/>
                    </a:lnTo>
                    <a:lnTo>
                      <a:pt x="97" y="50"/>
                    </a:lnTo>
                    <a:lnTo>
                      <a:pt x="111" y="50"/>
                    </a:lnTo>
                    <a:lnTo>
                      <a:pt x="128" y="58"/>
                    </a:lnTo>
                    <a:lnTo>
                      <a:pt x="146" y="58"/>
                    </a:lnTo>
                    <a:lnTo>
                      <a:pt x="159" y="58"/>
                    </a:lnTo>
                    <a:lnTo>
                      <a:pt x="177" y="65"/>
                    </a:lnTo>
                    <a:lnTo>
                      <a:pt x="195" y="65"/>
                    </a:lnTo>
                    <a:lnTo>
                      <a:pt x="212" y="65"/>
                    </a:lnTo>
                    <a:lnTo>
                      <a:pt x="230" y="65"/>
                    </a:lnTo>
                    <a:lnTo>
                      <a:pt x="252" y="65"/>
                    </a:lnTo>
                    <a:lnTo>
                      <a:pt x="269" y="72"/>
                    </a:lnTo>
                    <a:lnTo>
                      <a:pt x="287" y="72"/>
                    </a:lnTo>
                    <a:lnTo>
                      <a:pt x="305" y="72"/>
                    </a:lnTo>
                    <a:lnTo>
                      <a:pt x="323" y="72"/>
                    </a:lnTo>
                    <a:lnTo>
                      <a:pt x="341" y="72"/>
                    </a:lnTo>
                    <a:lnTo>
                      <a:pt x="359" y="72"/>
                    </a:lnTo>
                    <a:lnTo>
                      <a:pt x="376" y="72"/>
                    </a:lnTo>
                    <a:lnTo>
                      <a:pt x="394" y="72"/>
                    </a:lnTo>
                    <a:lnTo>
                      <a:pt x="407" y="72"/>
                    </a:lnTo>
                    <a:lnTo>
                      <a:pt x="420" y="72"/>
                    </a:lnTo>
                    <a:lnTo>
                      <a:pt x="420" y="65"/>
                    </a:lnTo>
                    <a:lnTo>
                      <a:pt x="407" y="65"/>
                    </a:lnTo>
                    <a:lnTo>
                      <a:pt x="394" y="65"/>
                    </a:lnTo>
                    <a:lnTo>
                      <a:pt x="376" y="65"/>
                    </a:lnTo>
                    <a:lnTo>
                      <a:pt x="359" y="65"/>
                    </a:lnTo>
                    <a:lnTo>
                      <a:pt x="341" y="65"/>
                    </a:lnTo>
                    <a:lnTo>
                      <a:pt x="323" y="65"/>
                    </a:lnTo>
                    <a:lnTo>
                      <a:pt x="305" y="58"/>
                    </a:lnTo>
                    <a:lnTo>
                      <a:pt x="287" y="58"/>
                    </a:lnTo>
                    <a:lnTo>
                      <a:pt x="269" y="58"/>
                    </a:lnTo>
                    <a:lnTo>
                      <a:pt x="252" y="58"/>
                    </a:lnTo>
                    <a:lnTo>
                      <a:pt x="234" y="58"/>
                    </a:lnTo>
                    <a:lnTo>
                      <a:pt x="212" y="58"/>
                    </a:lnTo>
                    <a:lnTo>
                      <a:pt x="195" y="50"/>
                    </a:lnTo>
                    <a:lnTo>
                      <a:pt x="181" y="50"/>
                    </a:lnTo>
                    <a:lnTo>
                      <a:pt x="164" y="50"/>
                    </a:lnTo>
                    <a:lnTo>
                      <a:pt x="146" y="50"/>
                    </a:lnTo>
                    <a:lnTo>
                      <a:pt x="128" y="50"/>
                    </a:lnTo>
                    <a:lnTo>
                      <a:pt x="115" y="50"/>
                    </a:lnTo>
                    <a:lnTo>
                      <a:pt x="101" y="43"/>
                    </a:lnTo>
                    <a:lnTo>
                      <a:pt x="83" y="43"/>
                    </a:lnTo>
                    <a:lnTo>
                      <a:pt x="70" y="43"/>
                    </a:lnTo>
                    <a:lnTo>
                      <a:pt x="61" y="36"/>
                    </a:lnTo>
                    <a:lnTo>
                      <a:pt x="48" y="36"/>
                    </a:lnTo>
                    <a:lnTo>
                      <a:pt x="39" y="29"/>
                    </a:lnTo>
                    <a:lnTo>
                      <a:pt x="26" y="29"/>
                    </a:lnTo>
                    <a:lnTo>
                      <a:pt x="26" y="22"/>
                    </a:lnTo>
                    <a:lnTo>
                      <a:pt x="17" y="22"/>
                    </a:lnTo>
                    <a:lnTo>
                      <a:pt x="13" y="2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7"/>
                    </a:lnTo>
                    <a:lnTo>
                      <a:pt x="13" y="7"/>
                    </a:lnTo>
                    <a:lnTo>
                      <a:pt x="8" y="0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92920" y="5580000"/>
                <a:ext cx="71640" cy="25920"/>
              </a:xfrm>
              <a:custGeom>
                <a:avLst/>
                <a:gdLst/>
                <a:ahLst/>
                <a:rect l="0" t="0" r="r" b="b"/>
                <a:pathLst>
                  <a:path w="199" h="72">
                    <a:moveTo>
                      <a:pt x="4" y="0"/>
                    </a:moveTo>
                    <a:lnTo>
                      <a:pt x="0" y="10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13" y="31"/>
                    </a:lnTo>
                    <a:lnTo>
                      <a:pt x="22" y="41"/>
                    </a:lnTo>
                    <a:lnTo>
                      <a:pt x="35" y="41"/>
                    </a:lnTo>
                    <a:lnTo>
                      <a:pt x="48" y="51"/>
                    </a:lnTo>
                    <a:lnTo>
                      <a:pt x="66" y="51"/>
                    </a:lnTo>
                    <a:lnTo>
                      <a:pt x="79" y="51"/>
                    </a:lnTo>
                    <a:lnTo>
                      <a:pt x="102" y="62"/>
                    </a:lnTo>
                    <a:lnTo>
                      <a:pt x="120" y="62"/>
                    </a:lnTo>
                    <a:lnTo>
                      <a:pt x="137" y="62"/>
                    </a:lnTo>
                    <a:lnTo>
                      <a:pt x="155" y="72"/>
                    </a:lnTo>
                    <a:lnTo>
                      <a:pt x="172" y="72"/>
                    </a:lnTo>
                    <a:lnTo>
                      <a:pt x="186" y="72"/>
                    </a:lnTo>
                    <a:lnTo>
                      <a:pt x="199" y="72"/>
                    </a:lnTo>
                    <a:lnTo>
                      <a:pt x="186" y="72"/>
                    </a:lnTo>
                    <a:lnTo>
                      <a:pt x="172" y="72"/>
                    </a:lnTo>
                    <a:lnTo>
                      <a:pt x="159" y="62"/>
                    </a:lnTo>
                    <a:lnTo>
                      <a:pt x="150" y="62"/>
                    </a:lnTo>
                    <a:lnTo>
                      <a:pt x="137" y="51"/>
                    </a:lnTo>
                    <a:lnTo>
                      <a:pt x="124" y="51"/>
                    </a:lnTo>
                    <a:lnTo>
                      <a:pt x="111" y="51"/>
                    </a:lnTo>
                    <a:lnTo>
                      <a:pt x="97" y="41"/>
                    </a:lnTo>
                    <a:lnTo>
                      <a:pt x="88" y="41"/>
                    </a:lnTo>
                    <a:lnTo>
                      <a:pt x="74" y="31"/>
                    </a:lnTo>
                    <a:lnTo>
                      <a:pt x="61" y="31"/>
                    </a:lnTo>
                    <a:lnTo>
                      <a:pt x="52" y="21"/>
                    </a:lnTo>
                    <a:lnTo>
                      <a:pt x="39" y="21"/>
                    </a:lnTo>
                    <a:lnTo>
                      <a:pt x="30" y="10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892920" y="5580000"/>
                <a:ext cx="71640" cy="25920"/>
              </a:xfrm>
              <a:custGeom>
                <a:avLst/>
                <a:gdLst/>
                <a:ahLst/>
                <a:rect l="0" t="0" r="r" b="b"/>
                <a:pathLst>
                  <a:path w="199" h="72">
                    <a:moveTo>
                      <a:pt x="199" y="72"/>
                    </a:moveTo>
                    <a:lnTo>
                      <a:pt x="199" y="72"/>
                    </a:lnTo>
                    <a:lnTo>
                      <a:pt x="186" y="72"/>
                    </a:lnTo>
                    <a:lnTo>
                      <a:pt x="172" y="72"/>
                    </a:lnTo>
                    <a:lnTo>
                      <a:pt x="155" y="62"/>
                    </a:lnTo>
                    <a:lnTo>
                      <a:pt x="137" y="62"/>
                    </a:lnTo>
                    <a:lnTo>
                      <a:pt x="120" y="62"/>
                    </a:lnTo>
                    <a:lnTo>
                      <a:pt x="102" y="62"/>
                    </a:lnTo>
                    <a:lnTo>
                      <a:pt x="79" y="62"/>
                    </a:lnTo>
                    <a:lnTo>
                      <a:pt x="66" y="51"/>
                    </a:lnTo>
                    <a:lnTo>
                      <a:pt x="48" y="51"/>
                    </a:lnTo>
                    <a:lnTo>
                      <a:pt x="35" y="41"/>
                    </a:lnTo>
                    <a:lnTo>
                      <a:pt x="22" y="41"/>
                    </a:lnTo>
                    <a:lnTo>
                      <a:pt x="13" y="31"/>
                    </a:lnTo>
                    <a:lnTo>
                      <a:pt x="4" y="31"/>
                    </a:lnTo>
                    <a:lnTo>
                      <a:pt x="4" y="21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4" y="31"/>
                    </a:lnTo>
                    <a:lnTo>
                      <a:pt x="13" y="31"/>
                    </a:lnTo>
                    <a:lnTo>
                      <a:pt x="22" y="41"/>
                    </a:lnTo>
                    <a:lnTo>
                      <a:pt x="35" y="41"/>
                    </a:lnTo>
                    <a:lnTo>
                      <a:pt x="48" y="51"/>
                    </a:lnTo>
                    <a:lnTo>
                      <a:pt x="66" y="51"/>
                    </a:lnTo>
                    <a:lnTo>
                      <a:pt x="79" y="62"/>
                    </a:lnTo>
                    <a:lnTo>
                      <a:pt x="102" y="62"/>
                    </a:lnTo>
                    <a:lnTo>
                      <a:pt x="120" y="62"/>
                    </a:lnTo>
                    <a:lnTo>
                      <a:pt x="137" y="62"/>
                    </a:lnTo>
                    <a:lnTo>
                      <a:pt x="155" y="72"/>
                    </a:lnTo>
                    <a:lnTo>
                      <a:pt x="172" y="72"/>
                    </a:lnTo>
                    <a:lnTo>
                      <a:pt x="186" y="72"/>
                    </a:lnTo>
                    <a:lnTo>
                      <a:pt x="199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894360" y="5580000"/>
                <a:ext cx="70200" cy="25920"/>
              </a:xfrm>
              <a:custGeom>
                <a:avLst/>
                <a:gdLst/>
                <a:ahLst/>
                <a:rect l="0" t="0" r="r" b="b"/>
                <a:pathLst>
                  <a:path w="195" h="72">
                    <a:moveTo>
                      <a:pt x="0" y="0"/>
                    </a:moveTo>
                    <a:lnTo>
                      <a:pt x="0" y="0"/>
                    </a:lnTo>
                    <a:lnTo>
                      <a:pt x="8" y="10"/>
                    </a:lnTo>
                    <a:lnTo>
                      <a:pt x="22" y="10"/>
                    </a:lnTo>
                    <a:lnTo>
                      <a:pt x="30" y="21"/>
                    </a:lnTo>
                    <a:lnTo>
                      <a:pt x="44" y="31"/>
                    </a:lnTo>
                    <a:lnTo>
                      <a:pt x="57" y="31"/>
                    </a:lnTo>
                    <a:lnTo>
                      <a:pt x="70" y="31"/>
                    </a:lnTo>
                    <a:lnTo>
                      <a:pt x="83" y="41"/>
                    </a:lnTo>
                    <a:lnTo>
                      <a:pt x="92" y="41"/>
                    </a:lnTo>
                    <a:lnTo>
                      <a:pt x="106" y="51"/>
                    </a:lnTo>
                    <a:lnTo>
                      <a:pt x="120" y="51"/>
                    </a:lnTo>
                    <a:lnTo>
                      <a:pt x="133" y="62"/>
                    </a:lnTo>
                    <a:lnTo>
                      <a:pt x="146" y="62"/>
                    </a:lnTo>
                    <a:lnTo>
                      <a:pt x="155" y="62"/>
                    </a:lnTo>
                    <a:lnTo>
                      <a:pt x="168" y="72"/>
                    </a:lnTo>
                    <a:lnTo>
                      <a:pt x="181" y="72"/>
                    </a:lnTo>
                    <a:lnTo>
                      <a:pt x="195" y="72"/>
                    </a:lnTo>
                    <a:lnTo>
                      <a:pt x="181" y="72"/>
                    </a:lnTo>
                    <a:lnTo>
                      <a:pt x="168" y="62"/>
                    </a:lnTo>
                    <a:lnTo>
                      <a:pt x="155" y="62"/>
                    </a:lnTo>
                    <a:lnTo>
                      <a:pt x="146" y="62"/>
                    </a:lnTo>
                    <a:lnTo>
                      <a:pt x="133" y="62"/>
                    </a:lnTo>
                    <a:lnTo>
                      <a:pt x="120" y="51"/>
                    </a:lnTo>
                    <a:lnTo>
                      <a:pt x="106" y="51"/>
                    </a:lnTo>
                    <a:lnTo>
                      <a:pt x="92" y="41"/>
                    </a:lnTo>
                    <a:lnTo>
                      <a:pt x="83" y="41"/>
                    </a:lnTo>
                    <a:lnTo>
                      <a:pt x="70" y="31"/>
                    </a:lnTo>
                    <a:lnTo>
                      <a:pt x="57" y="31"/>
                    </a:lnTo>
                    <a:lnTo>
                      <a:pt x="44" y="31"/>
                    </a:lnTo>
                    <a:lnTo>
                      <a:pt x="30" y="21"/>
                    </a:lnTo>
                    <a:lnTo>
                      <a:pt x="22" y="10"/>
                    </a:lnTo>
                    <a:lnTo>
                      <a:pt x="8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70" name="" descr=""/>
            <p:cNvPicPr/>
            <p:nvPr/>
          </p:nvPicPr>
          <p:blipFill>
            <a:blip r:embed="rId1"/>
            <a:stretch/>
          </p:blipFill>
          <p:spPr>
            <a:xfrm>
              <a:off x="6561000" y="5543640"/>
              <a:ext cx="1333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1" name=""/>
          <p:cNvSpPr txBox="1"/>
          <p:nvPr/>
        </p:nvSpPr>
        <p:spPr>
          <a:xfrm>
            <a:off x="711360" y="3879720"/>
            <a:ext cx="13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914400" y="4262400"/>
            <a:ext cx="5334120" cy="20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deo Devic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284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visible to applic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284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s standard, stable NT driver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284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Offloads graphics from NT to deskt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284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es high-level X graphics,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bit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284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vides Pentium-class performan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6146640" y="3616200"/>
            <a:ext cx="721080" cy="1038600"/>
            <a:chOff x="6146640" y="3616200"/>
            <a:chExt cx="721080" cy="1038600"/>
          </a:xfrm>
        </p:grpSpPr>
        <p:grpSp>
          <p:nvGrpSpPr>
            <p:cNvPr id="1174" name=""/>
            <p:cNvGrpSpPr/>
            <p:nvPr/>
          </p:nvGrpSpPr>
          <p:grpSpPr>
            <a:xfrm>
              <a:off x="6146640" y="3616200"/>
              <a:ext cx="168840" cy="178200"/>
              <a:chOff x="6146640" y="3616200"/>
              <a:chExt cx="168840" cy="178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6146640" y="3616200"/>
                <a:ext cx="90720" cy="178200"/>
              </a:xfrm>
              <a:custGeom>
                <a:avLst/>
                <a:gdLst/>
                <a:ahLst/>
                <a:rect l="0" t="0" r="r" b="b"/>
                <a:pathLst>
                  <a:path w="252" h="495">
                    <a:moveTo>
                      <a:pt x="0" y="0"/>
                    </a:moveTo>
                    <a:lnTo>
                      <a:pt x="119" y="0"/>
                    </a:lnTo>
                    <a:lnTo>
                      <a:pt x="252" y="199"/>
                    </a:lnTo>
                    <a:lnTo>
                      <a:pt x="48" y="495"/>
                    </a:lnTo>
                    <a:lnTo>
                      <a:pt x="0" y="495"/>
                    </a:lnTo>
                    <a:lnTo>
                      <a:pt x="172" y="247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222960" y="3616200"/>
                <a:ext cx="92520" cy="178200"/>
              </a:xfrm>
              <a:custGeom>
                <a:avLst/>
                <a:gdLst/>
                <a:ahLst/>
                <a:rect l="0" t="0" r="r" b="b"/>
                <a:pathLst>
                  <a:path w="257" h="495">
                    <a:moveTo>
                      <a:pt x="257" y="495"/>
                    </a:moveTo>
                    <a:lnTo>
                      <a:pt x="133" y="495"/>
                    </a:lnTo>
                    <a:lnTo>
                      <a:pt x="0" y="296"/>
                    </a:lnTo>
                    <a:lnTo>
                      <a:pt x="204" y="0"/>
                    </a:lnTo>
                    <a:lnTo>
                      <a:pt x="257" y="0"/>
                    </a:lnTo>
                    <a:lnTo>
                      <a:pt x="84" y="247"/>
                    </a:lnTo>
                    <a:lnTo>
                      <a:pt x="257" y="4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6146640" y="3882960"/>
              <a:ext cx="168840" cy="179640"/>
              <a:chOff x="6146640" y="3882960"/>
              <a:chExt cx="168840" cy="179640"/>
            </a:xfrm>
          </p:grpSpPr>
          <p:sp>
            <p:nvSpPr>
              <p:cNvPr id="1178" name=""/>
              <p:cNvSpPr/>
              <p:nvPr/>
            </p:nvSpPr>
            <p:spPr>
              <a:xfrm>
                <a:off x="6146640" y="3882960"/>
                <a:ext cx="90720" cy="179640"/>
              </a:xfrm>
              <a:custGeom>
                <a:avLst/>
                <a:gdLst/>
                <a:ahLst/>
                <a:rect l="0" t="0" r="r" b="b"/>
                <a:pathLst>
                  <a:path w="252" h="499">
                    <a:moveTo>
                      <a:pt x="0" y="0"/>
                    </a:moveTo>
                    <a:lnTo>
                      <a:pt x="119" y="0"/>
                    </a:lnTo>
                    <a:lnTo>
                      <a:pt x="252" y="198"/>
                    </a:lnTo>
                    <a:lnTo>
                      <a:pt x="48" y="499"/>
                    </a:lnTo>
                    <a:lnTo>
                      <a:pt x="0" y="499"/>
                    </a:lnTo>
                    <a:lnTo>
                      <a:pt x="172" y="25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22960" y="3882960"/>
                <a:ext cx="92520" cy="179640"/>
              </a:xfrm>
              <a:custGeom>
                <a:avLst/>
                <a:gdLst/>
                <a:ahLst/>
                <a:rect l="0" t="0" r="r" b="b"/>
                <a:pathLst>
                  <a:path w="257" h="499">
                    <a:moveTo>
                      <a:pt x="257" y="499"/>
                    </a:moveTo>
                    <a:lnTo>
                      <a:pt x="133" y="499"/>
                    </a:lnTo>
                    <a:lnTo>
                      <a:pt x="0" y="300"/>
                    </a:lnTo>
                    <a:lnTo>
                      <a:pt x="204" y="0"/>
                    </a:lnTo>
                    <a:lnTo>
                      <a:pt x="257" y="0"/>
                    </a:lnTo>
                    <a:lnTo>
                      <a:pt x="84" y="252"/>
                    </a:lnTo>
                    <a:lnTo>
                      <a:pt x="257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6431040" y="3882960"/>
              <a:ext cx="166680" cy="179640"/>
              <a:chOff x="6431040" y="3882960"/>
              <a:chExt cx="166680" cy="179640"/>
            </a:xfrm>
          </p:grpSpPr>
          <p:sp>
            <p:nvSpPr>
              <p:cNvPr id="1181" name=""/>
              <p:cNvSpPr/>
              <p:nvPr/>
            </p:nvSpPr>
            <p:spPr>
              <a:xfrm>
                <a:off x="6431040" y="3882960"/>
                <a:ext cx="90720" cy="179640"/>
              </a:xfrm>
              <a:custGeom>
                <a:avLst/>
                <a:gdLst/>
                <a:ahLst/>
                <a:rect l="0" t="0" r="r" b="b"/>
                <a:pathLst>
                  <a:path w="252" h="499">
                    <a:moveTo>
                      <a:pt x="0" y="0"/>
                    </a:moveTo>
                    <a:lnTo>
                      <a:pt x="119" y="0"/>
                    </a:lnTo>
                    <a:lnTo>
                      <a:pt x="252" y="198"/>
                    </a:lnTo>
                    <a:lnTo>
                      <a:pt x="48" y="499"/>
                    </a:lnTo>
                    <a:lnTo>
                      <a:pt x="0" y="499"/>
                    </a:lnTo>
                    <a:lnTo>
                      <a:pt x="172" y="25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07000" y="3882960"/>
                <a:ext cx="90720" cy="179640"/>
              </a:xfrm>
              <a:custGeom>
                <a:avLst/>
                <a:gdLst/>
                <a:ahLst/>
                <a:rect l="0" t="0" r="r" b="b"/>
                <a:pathLst>
                  <a:path w="252" h="499">
                    <a:moveTo>
                      <a:pt x="252" y="499"/>
                    </a:moveTo>
                    <a:lnTo>
                      <a:pt x="133" y="499"/>
                    </a:lnTo>
                    <a:lnTo>
                      <a:pt x="0" y="300"/>
                    </a:lnTo>
                    <a:lnTo>
                      <a:pt x="203" y="0"/>
                    </a:lnTo>
                    <a:lnTo>
                      <a:pt x="252" y="0"/>
                    </a:lnTo>
                    <a:lnTo>
                      <a:pt x="79" y="252"/>
                    </a:lnTo>
                    <a:lnTo>
                      <a:pt x="252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699240" y="3882960"/>
              <a:ext cx="168480" cy="179640"/>
              <a:chOff x="6699240" y="3882960"/>
              <a:chExt cx="168480" cy="179640"/>
            </a:xfrm>
          </p:grpSpPr>
          <p:sp>
            <p:nvSpPr>
              <p:cNvPr id="1184" name=""/>
              <p:cNvSpPr/>
              <p:nvPr/>
            </p:nvSpPr>
            <p:spPr>
              <a:xfrm>
                <a:off x="6699240" y="3882960"/>
                <a:ext cx="92520" cy="179640"/>
              </a:xfrm>
              <a:custGeom>
                <a:avLst/>
                <a:gdLst/>
                <a:ahLst/>
                <a:rect l="0" t="0" r="r" b="b"/>
                <a:pathLst>
                  <a:path w="257" h="499">
                    <a:moveTo>
                      <a:pt x="0" y="0"/>
                    </a:moveTo>
                    <a:lnTo>
                      <a:pt x="124" y="0"/>
                    </a:lnTo>
                    <a:lnTo>
                      <a:pt x="257" y="198"/>
                    </a:lnTo>
                    <a:lnTo>
                      <a:pt x="52" y="499"/>
                    </a:lnTo>
                    <a:lnTo>
                      <a:pt x="0" y="499"/>
                    </a:lnTo>
                    <a:lnTo>
                      <a:pt x="172" y="25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777000" y="3882960"/>
                <a:ext cx="90720" cy="179640"/>
              </a:xfrm>
              <a:custGeom>
                <a:avLst/>
                <a:gdLst/>
                <a:ahLst/>
                <a:rect l="0" t="0" r="r" b="b"/>
                <a:pathLst>
                  <a:path w="252" h="499">
                    <a:moveTo>
                      <a:pt x="252" y="499"/>
                    </a:moveTo>
                    <a:lnTo>
                      <a:pt x="133" y="499"/>
                    </a:lnTo>
                    <a:lnTo>
                      <a:pt x="0" y="300"/>
                    </a:lnTo>
                    <a:lnTo>
                      <a:pt x="203" y="0"/>
                    </a:lnTo>
                    <a:lnTo>
                      <a:pt x="252" y="0"/>
                    </a:lnTo>
                    <a:lnTo>
                      <a:pt x="79" y="252"/>
                    </a:lnTo>
                    <a:lnTo>
                      <a:pt x="252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6699240" y="4208400"/>
              <a:ext cx="168480" cy="179640"/>
              <a:chOff x="6699240" y="4208400"/>
              <a:chExt cx="168480" cy="179640"/>
            </a:xfrm>
          </p:grpSpPr>
          <p:sp>
            <p:nvSpPr>
              <p:cNvPr id="1187" name=""/>
              <p:cNvSpPr/>
              <p:nvPr/>
            </p:nvSpPr>
            <p:spPr>
              <a:xfrm>
                <a:off x="6699240" y="4208400"/>
                <a:ext cx="92520" cy="179640"/>
              </a:xfrm>
              <a:custGeom>
                <a:avLst/>
                <a:gdLst/>
                <a:ahLst/>
                <a:rect l="0" t="0" r="r" b="b"/>
                <a:pathLst>
                  <a:path w="257" h="499">
                    <a:moveTo>
                      <a:pt x="0" y="0"/>
                    </a:moveTo>
                    <a:lnTo>
                      <a:pt x="124" y="0"/>
                    </a:lnTo>
                    <a:lnTo>
                      <a:pt x="257" y="198"/>
                    </a:lnTo>
                    <a:lnTo>
                      <a:pt x="52" y="499"/>
                    </a:lnTo>
                    <a:lnTo>
                      <a:pt x="0" y="499"/>
                    </a:lnTo>
                    <a:lnTo>
                      <a:pt x="172" y="25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777000" y="4208400"/>
                <a:ext cx="90720" cy="179640"/>
              </a:xfrm>
              <a:custGeom>
                <a:avLst/>
                <a:gdLst/>
                <a:ahLst/>
                <a:rect l="0" t="0" r="r" b="b"/>
                <a:pathLst>
                  <a:path w="252" h="499">
                    <a:moveTo>
                      <a:pt x="252" y="499"/>
                    </a:moveTo>
                    <a:lnTo>
                      <a:pt x="133" y="499"/>
                    </a:lnTo>
                    <a:lnTo>
                      <a:pt x="0" y="300"/>
                    </a:lnTo>
                    <a:lnTo>
                      <a:pt x="203" y="0"/>
                    </a:lnTo>
                    <a:lnTo>
                      <a:pt x="252" y="0"/>
                    </a:lnTo>
                    <a:lnTo>
                      <a:pt x="79" y="252"/>
                    </a:lnTo>
                    <a:lnTo>
                      <a:pt x="252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6699240" y="4476600"/>
              <a:ext cx="168480" cy="178200"/>
              <a:chOff x="6699240" y="4476600"/>
              <a:chExt cx="168480" cy="178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6699240" y="4476600"/>
                <a:ext cx="92520" cy="178200"/>
              </a:xfrm>
              <a:custGeom>
                <a:avLst/>
                <a:gdLst/>
                <a:ahLst/>
                <a:rect l="0" t="0" r="r" b="b"/>
                <a:pathLst>
                  <a:path w="257" h="495">
                    <a:moveTo>
                      <a:pt x="0" y="0"/>
                    </a:moveTo>
                    <a:lnTo>
                      <a:pt x="124" y="0"/>
                    </a:lnTo>
                    <a:lnTo>
                      <a:pt x="257" y="199"/>
                    </a:lnTo>
                    <a:lnTo>
                      <a:pt x="52" y="495"/>
                    </a:lnTo>
                    <a:lnTo>
                      <a:pt x="0" y="495"/>
                    </a:lnTo>
                    <a:lnTo>
                      <a:pt x="172" y="247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777000" y="4476600"/>
                <a:ext cx="90720" cy="178200"/>
              </a:xfrm>
              <a:custGeom>
                <a:avLst/>
                <a:gdLst/>
                <a:ahLst/>
                <a:rect l="0" t="0" r="r" b="b"/>
                <a:pathLst>
                  <a:path w="252" h="495">
                    <a:moveTo>
                      <a:pt x="252" y="495"/>
                    </a:moveTo>
                    <a:lnTo>
                      <a:pt x="133" y="495"/>
                    </a:lnTo>
                    <a:lnTo>
                      <a:pt x="0" y="296"/>
                    </a:lnTo>
                    <a:lnTo>
                      <a:pt x="203" y="0"/>
                    </a:lnTo>
                    <a:lnTo>
                      <a:pt x="252" y="0"/>
                    </a:lnTo>
                    <a:lnTo>
                      <a:pt x="79" y="247"/>
                    </a:lnTo>
                    <a:lnTo>
                      <a:pt x="252" y="4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fd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2" name=""/>
          <p:cNvGrpSpPr/>
          <p:nvPr/>
        </p:nvGrpSpPr>
        <p:grpSpPr>
          <a:xfrm>
            <a:off x="2300400" y="3259080"/>
            <a:ext cx="1371600" cy="304920"/>
            <a:chOff x="2300400" y="3259080"/>
            <a:chExt cx="1371600" cy="304920"/>
          </a:xfrm>
        </p:grpSpPr>
        <p:sp>
          <p:nvSpPr>
            <p:cNvPr id="1193" name=""/>
            <p:cNvSpPr/>
            <p:nvPr/>
          </p:nvSpPr>
          <p:spPr>
            <a:xfrm>
              <a:off x="2300400" y="3259080"/>
              <a:ext cx="1371600" cy="30492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2637000" y="3308400"/>
              <a:ext cx="700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6754680" y="4911840"/>
            <a:ext cx="447840" cy="32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afd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823080" y="4960800"/>
            <a:ext cx="353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s in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pecific text re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fonts are arbitrarily transform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servers render text best with text requ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nt Service Protocol allows for dynamic list of fo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Center creates X fonts from NT fo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peed text using native NT fo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Text Rendering in WinCent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is one of the most important graphics prim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ing using just core protoc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ke format bit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scan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 existing X fonts, or create static list of NT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Why not use Core 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ide rendering is too expen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s NT host CPU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transmission of glyphs takes network bandwid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slower X graphics prim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ing existing X fonts results in incorrect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list doesn’t handle affine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key Mouse</dc:creator>
  <dc:description/>
  <dc:language>en-US</dc:language>
  <cp:lastModifiedBy>Mickey Mouse</cp:lastModifiedBy>
  <cp:revision>0</cp:revision>
  <dc:subject/>
  <dc:title>Recommending a Strategy</dc:title>
</cp:coreProperties>
</file>